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724-D9D9-4FA0-B680-FDF66393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32E-3520-4ABE-A1A2-AD8D5B0B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52E-BB89-4BD2-9669-147B6004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BB1-AE85-4F88-9C17-E7481BD3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CB70C-A189-4D15-8B0F-DC836847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789A8-4A61-47E6-B7AE-479B19F4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7276F-244B-4C00-9EA6-DDDD067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B74CA-07E6-411B-B1A7-4CA0E479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98EEC-A570-4FE4-8B59-DF031754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3B093-9BBD-4F1E-ADE7-FAC37819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E8F1A-55E5-4BA9-9885-DEED66F2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F23-7F33-4641-AFB5-2D2E09D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612DC-F4E2-494B-A7AF-2301AAC3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1F885-2E31-4148-8E6D-C9D30B82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006AA-9C39-408A-AB38-0C390D47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8FBA7-80D8-4F84-B4E5-E151BE42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D369D-5FCE-49E5-B7DF-E8BDD7B5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A3E-4F9B-4EA8-A448-6971EA79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914-D1F4-4DFF-8E5D-26319C09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19B-0407-4FF5-A4A7-9CCB7E47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0B8-2251-4892-9185-8F4825A2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EC2-A428-4DE9-BFC2-43FD1B1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C11-626D-408B-88D4-0A6655D2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1A4-3C1A-44C4-830B-CD2CCF4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FCBA-A79E-4834-9168-A2870E48E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E643-0A9A-4512-8465-B978CCACE6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99640" y="765000"/>
            <a:ext cx="7304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были вы красив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не были плаксив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 в руках любое де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ужно спорилось, горел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громче пелись песн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ь, чтоб было интересне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ужно сильным быть, здоров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истины не но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артинка 24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86920" y="260280"/>
            <a:ext cx="6480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здоровым дружит спорт.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он, бассейн и кор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л, каток- везде вам ра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старание в награ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дут кубки и рекор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ут мышцы наши твер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лько помните, спортсм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день свой непре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грают с дремой в прят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чинают с физзаряд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Картинка 52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Картинка 149 из 345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Картинка 11 из 121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артинка 2 из 15501"/>
          <p:cNvPicPr/>
          <p:nvPr/>
        </p:nvPicPr>
        <p:blipFill>
          <a:blip r:embed="rId1"/>
          <a:stretch/>
        </p:blipFill>
        <p:spPr>
          <a:xfrm>
            <a:off x="179280" y="620640"/>
            <a:ext cx="87966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Картинка 22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22" descr="Картинка 7 из 116348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доровье дороже дене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доров будешь- всего добудеш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епок телом- богат дел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н- лечись, а здоров берегис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Живи разумом, так и доктора не над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здоровом теле здоровый ду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Тест «Твоё здоровь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У меня часто болит го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У меня часто бывает насмор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У меня больные зуб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Иногда у меня болит ух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У меня нередко болит гор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Каждый год я болею грипп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Иногда меня тошни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Некоторые продукты и лекарства вызывают у меня аллерг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.Ко мне легко прилипают всякие боле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.Плохо засыпаю по ноч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258920" y="1916280"/>
            <a:ext cx="7273800" cy="38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475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уть к доброму здоровью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564000" y="422100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к классному часу «Путь к доброму здоровь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Проскурина Алла Владимировна, учитель начальных классов, техн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«СОШ №27 с углубленным изучением отдельных предмет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Старый Оско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78b2ddb2ca3b7136db4f3c07e242fd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Картинка 9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Картинка 85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Картинка 80 из 123348"/>
          <p:cNvPicPr/>
          <p:nvPr/>
        </p:nvPicPr>
        <p:blipFill>
          <a:blip r:embed="rId1"/>
          <a:stretch/>
        </p:blipFill>
        <p:spPr>
          <a:xfrm>
            <a:off x="0" y="0"/>
            <a:ext cx="4751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 rot="20214600">
            <a:off x="3850920" y="1773360"/>
            <a:ext cx="4851360" cy="26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выбираю спотр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 залог здоровь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Картинка 19 из 126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Картинка 71 из 126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Картинка 3 из 126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15640" y="260280"/>
            <a:ext cx="5915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епким стать нельзя мгновен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о закаля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ром бег и душ бодря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для взрослых, настоящи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ночь окна открыва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жим воздухом дыш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ги мыть водой холод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огда микроб голод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с во век не одоле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так не делает- боле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ё полезно вам всем зна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летом нужно загор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це лучами кожу ласк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жа от солнца у вас загор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д влиянием солнца луч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- витамин образуется в н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3:55:29Z</dcterms:created>
  <dc:creator>Admin</dc:creator>
  <dc:description/>
  <dc:language>en-US</dc:language>
  <cp:lastModifiedBy>Алла и Рома</cp:lastModifiedBy>
  <dcterms:modified xsi:type="dcterms:W3CDTF">2015-02-01T17:28:37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