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6D6-FEF5-4C70-8702-968BD781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42A-BD9F-4661-88B8-87CCDD6C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785-B0F5-48CD-8DB9-6F51D01A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AE9-2EC0-46A9-8234-96FC68BE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B3BCE-3FE0-4D2A-8EC3-1879B706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E6CC3-0DBB-4644-868D-4E22C216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23078-B3F4-4C22-B000-B3F3100E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FF8BD-1F62-470F-9BF2-D1D7CDF2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1E985-95D6-48B9-AC96-FE59AE6B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8B74D-61EA-4DD7-AD9A-0E197AA9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1E2C5-4C09-4F1D-B0BC-5DBCD90C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CDD-8018-4B23-9DE7-0B5BE133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484D7-4F58-4FFA-811A-B5E622C9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5D9FB-A143-4D8E-9A56-BA0841B8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B34AB-4599-402C-B35F-4B64FAF3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48657-FB26-4A1E-A68D-C367B5B7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E249C-3C88-4003-8CDC-074105BD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BEC-AE36-4B0D-AF10-7F09B8B8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54D-669F-40CD-8F64-5CC0E8C6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323-1690-4577-86C4-88D7F99A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5E6-072A-403B-86B0-87B92E7B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F3E-0E7A-44D9-B6EB-33F7539D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06D-24C3-4C10-8868-EAC3752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3AA-7251-473A-8A63-ECB2940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EB7C-652E-4D19-BDFC-51C3BA20D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FFD1-2A00-4A66-B1BC-1E907560DF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99640" y="765000"/>
            <a:ext cx="7304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были вы красив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не были плаксив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 в руках любое де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ужно спорилось, горел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громче пелись песн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ть, чтоб было интересне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ужно сильным быть, здоров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истины не но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артинка 24 из 123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86920" y="260280"/>
            <a:ext cx="6480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здоровым дружит спорт.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он, бассейн и кор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л, каток- везде вам ра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старание в награ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дут кубки и рекорд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ут мышцы наши твер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лько помните, спортсм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день свой непремен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грают с дремой в прят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чинают с физзаряд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Картинка 52 из 123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Картинка 149 из 345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Картинка 11 из 121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Картинка 2 из 15501"/>
          <p:cNvPicPr/>
          <p:nvPr/>
        </p:nvPicPr>
        <p:blipFill>
          <a:blip r:embed="rId1"/>
          <a:stretch/>
        </p:blipFill>
        <p:spPr>
          <a:xfrm>
            <a:off x="179280" y="620640"/>
            <a:ext cx="87966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Картинка 22 из 123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22" descr="Картинка 7 из 116348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доровье дороже дене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доров будешь- всего добудеш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репок телом- богат дел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н- лечись, а здоров берегис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Живи разумом, так и доктора не над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здоровом теле здоровый ду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Тест «Твоё здоровь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У меня часто болит го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У меня часто бывает насмор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У меня больные зуб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Иногда у меня болит ух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У меня нередко болит гор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Каждый год я болею грипп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Иногда меня тошни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.Некоторые продукты и лекарства вызывают у меня аллерг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.Ко мне легко прилипают всякие боле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0.Плохо засыпаю по ноч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258920" y="1916280"/>
            <a:ext cx="7273800" cy="38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475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уть к доброму здоровью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564000" y="422100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зентация к классному часу «Путь к доброму здоровью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: Проскурина Алла Владимировна, учитель начальных классов, техн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БОУ «СОШ №27 с углубленным изучением отдельных предмет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Старый Оско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78b2ddb2ca3b7136db4f3c07e242fd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Картинка 9 из 123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Картинка 85 из 123348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Картинка 80 из 123348"/>
          <p:cNvPicPr/>
          <p:nvPr/>
        </p:nvPicPr>
        <p:blipFill>
          <a:blip r:embed="rId1"/>
          <a:stretch/>
        </p:blipFill>
        <p:spPr>
          <a:xfrm>
            <a:off x="0" y="0"/>
            <a:ext cx="4751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 txBox="1"/>
          <p:nvPr/>
        </p:nvSpPr>
        <p:spPr>
          <a:xfrm rot="20214600">
            <a:off x="3850920" y="1773360"/>
            <a:ext cx="4851360" cy="26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выбираю спотр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 залог здоровья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Картинка 19 из 126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Картинка 71 из 126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Картинка 3 из 126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15640" y="260280"/>
            <a:ext cx="5915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епким стать нельзя мгновен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о закаля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ром бег и душ бодря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для взрослых, настоящи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ночь окна открыва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жим воздухом дыш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ги мыть водой холод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огда микроб голод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с во век не одоле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так не делает- боле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ё полезно вам всем зна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летом нужно загор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нце лучами кожу ласк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жа от солнца у вас загор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д влиянием солнца луч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- витамин образуется в н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3:55:29Z</dcterms:created>
  <dc:creator>Admin</dc:creator>
  <dc:description/>
  <dc:language>en-US</dc:language>
  <cp:lastModifiedBy>Алла и Рома</cp:lastModifiedBy>
  <dcterms:modified xsi:type="dcterms:W3CDTF">2015-02-01T17:28:37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