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A3B-9250-4041-B4DA-D97D674C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B56-1827-4F8A-96DE-8A7D5DB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4B9-E7B6-4184-B9B7-394CE7C9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7E0-FC09-4B3A-9703-61CBA616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F59-3544-4C5C-B7F4-7D325896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2208-A075-4DFA-8DC9-D2DCBADA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49BC-FAD4-4C9B-A54E-08DF52F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A2C-EF55-457C-92CF-0B2EF06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8CF0-24C1-4707-9F0B-489EC1C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809F-5854-4EB2-B6E1-67CE5423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7EB-6B46-427A-AF47-59039046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DE9-BBD1-45E2-A8ED-192299C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E43A-CCB8-4AB1-9B4D-24E4E8CD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8F00-25EF-4ACA-AF2E-A225D5B1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0ADA-8FBD-486E-BA45-3801B94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DC7F-5F07-4968-B276-B05B0AEB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B573-56BC-4AC9-B485-F0056CFF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94F-7A1A-4AFA-BFA2-5E49082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26F-75AF-4EE1-BD1A-7C1A368E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786-4B29-4791-9B25-CEE1941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3D9-72A8-42F6-B5DF-C7523B1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8B1-DEC5-49DC-9D00-4B0086C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BDB-40C0-47F6-8CB1-964A55C7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DA9-88BD-447D-9369-806D114A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8F8-298A-4588-A228-EED720920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418-EEB1-4C53-A3A8-A1D385A149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Выполнил проект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ученик 3Б класса Багдатов А</a:t>
            </a:r>
            <a:r>
              <a:rPr b="0" i="1" lang="en-US" sz="2400" spc="-1" strike="noStrike">
                <a:solidFill>
                  <a:srgbClr val="ffffb7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М</a:t>
            </a:r>
            <a:r>
              <a:rPr b="0" i="1" lang="en-US" sz="2400" spc="-1" strike="noStrike">
                <a:solidFill>
                  <a:srgbClr val="ffffb7"/>
                </a:solidFill>
                <a:latin typeface="Times New Roman"/>
              </a:rPr>
              <a:t>.</a:t>
            </a:r>
            <a:br>
              <a:rPr sz="2400"/>
            </a:b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Цель проекта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узнать какие танки защищали нашу Родину во время Великой Отечественой войны 1941 – 1945 г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Задача проекта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смастерить новый бронированный танк, у которого будет 4 дула, он будет стрелять в четырех направлениях и будет сливаться с природо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ля моего танка понадобится бумага, карандаш, ножницы, клей и краски с кисточ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начала на бумаге нарисуем детали, затем вырежем их и склеим. Клей высох, можно и покрасить танк в зеленый цвет, а люки и гусеницы в коричневый цв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DSC03839"/>
          <p:cNvPicPr/>
          <p:nvPr/>
        </p:nvPicPr>
        <p:blipFill>
          <a:blip r:embed="rId1"/>
          <a:stretch/>
        </p:blipFill>
        <p:spPr>
          <a:xfrm>
            <a:off x="152280" y="2057400"/>
            <a:ext cx="2819520" cy="212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03840"/>
          <p:cNvPicPr/>
          <p:nvPr/>
        </p:nvPicPr>
        <p:blipFill>
          <a:blip r:embed="rId2"/>
          <a:stretch/>
        </p:blipFill>
        <p:spPr>
          <a:xfrm>
            <a:off x="3048120" y="2971800"/>
            <a:ext cx="2743200" cy="21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DSC03841"/>
          <p:cNvPicPr/>
          <p:nvPr/>
        </p:nvPicPr>
        <p:blipFill>
          <a:blip r:embed="rId3"/>
          <a:stretch/>
        </p:blipFill>
        <p:spPr>
          <a:xfrm>
            <a:off x="5943600" y="411480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48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т и готов мой танк, но я хочу чтобы на земле был мир и мой танк останься всего лишь бумажным маке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пасибо за в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Точечный рисунок"/>
          <p:cNvPicPr/>
          <p:nvPr/>
        </p:nvPicPr>
        <p:blipFill>
          <a:blip r:embed="rId1"/>
          <a:stretch/>
        </p:blipFill>
        <p:spPr>
          <a:xfrm>
            <a:off x="1143000" y="304920"/>
            <a:ext cx="67816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%D0%9F%D1%80%D0%BE%D1%82%D0%BE%D1%82%D0%B8%D0%BF_%D0%A2-28"/>
          <p:cNvPicPr/>
          <p:nvPr/>
        </p:nvPicPr>
        <p:blipFill>
          <a:blip r:embed="rId1"/>
          <a:stretch/>
        </p:blipFill>
        <p:spPr>
          <a:xfrm>
            <a:off x="2057400" y="3657600"/>
            <a:ext cx="4724280" cy="2793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Танки</a:t>
            </a:r>
            <a:br>
              <a:rPr sz="2800"/>
            </a:b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Великой Отечественной войны</a:t>
            </a:r>
            <a:br>
              <a:rPr sz="28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е нравится смотреть старые фильмы про войну, как наши бабушки и дедушки сражались за победу. Наш враг был хорошо вооружен и у них солдат было больше, но русские солдаты были мужественны и отважнее. А порой один советский танк побеждал целые батальоны немецких танков потому, что брали находчивостью, смекалкой и не жалели своей жизни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&amp;Fcy;&amp;acy;&amp;jcy;&amp;lcy;:IS photo 2.jpg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-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IS-3-latrun-2"/>
          <p:cNvPicPr/>
          <p:nvPr/>
        </p:nvPicPr>
        <p:blipFill>
          <a:blip r:embed="rId1"/>
          <a:stretch/>
        </p:blipFill>
        <p:spPr>
          <a:xfrm>
            <a:off x="304920" y="1447920"/>
            <a:ext cx="850896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В-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1280px-KV-1"/>
          <p:cNvPicPr/>
          <p:nvPr/>
        </p:nvPicPr>
        <p:blipFill>
          <a:blip r:embed="rId1"/>
          <a:stretch/>
        </p:blipFill>
        <p:spPr>
          <a:xfrm>
            <a:off x="1143000" y="1295280"/>
            <a:ext cx="68961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b7"/>
                </a:solidFill>
                <a:latin typeface="Arial Black"/>
              </a:rPr>
              <a:t>Танк, потерянный в Сталинградском сражении. Броня имеет многочисленные вмятин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undesarchiv_Bild_169-0441%2C_Russland%2C_bei_Stalingrad%2C_Panzer_KW-1"/>
          <p:cNvPicPr/>
          <p:nvPr/>
        </p:nvPicPr>
        <p:blipFill>
          <a:blip r:embed="rId1"/>
          <a:stretch/>
        </p:blipFill>
        <p:spPr>
          <a:xfrm>
            <a:off x="380880" y="1523880"/>
            <a:ext cx="762012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В-1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1280px-KV-1s"/>
          <p:cNvPicPr/>
          <p:nvPr/>
        </p:nvPicPr>
        <p:blipFill>
          <a:blip r:embed="rId1"/>
          <a:stretch/>
        </p:blipFill>
        <p:spPr>
          <a:xfrm>
            <a:off x="1219320" y="137160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Точечный рисунок (2)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е захотелось придумать танк, который будет стрелять в четырех направлениях и солдатам не надо будет крутить башню потому, что за это время на них нападал враг. В башне будут 4 солдата по 4 сторона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переди и сзади сидят танкисты -  один машинист, а другой связ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DSC03846"/>
          <p:cNvPicPr/>
          <p:nvPr/>
        </p:nvPicPr>
        <p:blipFill>
          <a:blip r:embed="rId1"/>
          <a:stretch/>
        </p:blipFill>
        <p:spPr>
          <a:xfrm>
            <a:off x="1219320" y="2209680"/>
            <a:ext cx="7467480" cy="404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ьбиночка</cp:lastModifiedBy>
  <dcterms:modified xsi:type="dcterms:W3CDTF">2014-12-04T04:19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