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5.png" ContentType="image/png"/>
  <Override PartName="/ppt/media/image14.png" ContentType="image/png"/>
  <Override PartName="/ppt/media/image9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12.jpeg" ContentType="image/jpeg"/>
  <Override PartName="/ppt/media/image11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E53AC-1B0B-456F-A59C-7A1679CCD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D0E0B-151B-49D7-B955-80A0D546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2827DD-60A0-407F-8CFF-00E665A6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EAAE7C-2D29-4CFC-BB50-5C5C9E01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2FF6CD-96C9-476B-A7FD-D310B81F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667BC5-DDEE-4AEF-9653-1DC5354B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94CD4F-B462-449E-B3B4-FC2105FA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85C7F4-5E16-4FEE-8D39-311DD660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DBFBA2-5588-4DE7-AA70-093523A9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9A1D65-DF2D-4E73-8042-9B8D040D4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69940D-68CD-4947-BC4D-ACE2F9389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EAB5A1-D0EB-4869-A274-CA91DBE93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48BF1-874C-492F-A238-E4DEE6A65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F3EBD3-C71A-4F43-96F8-674EDBA3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4D01FE-2778-4C6B-9AC4-307B7D75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2493E8-3AD8-4100-9680-E2E834E0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4EAC82-6A11-4CE7-B461-7AC6F8C5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40A38E-D11A-4BCA-B316-A8003207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529231-D338-4B7F-92E0-8A774978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13A793-FBD2-4547-99B1-7D2F251B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D6C30E-A6CF-42AB-AF64-9452D5C0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02AB55-65E8-409A-89E7-7914FF5E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FFC97D-39D2-46EB-8E7F-F675DD7C5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2D875-1751-49C7-BEBB-405827635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CA26D7-F14A-4DFE-97FD-EB1CD6F7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42F074-5040-42C8-AB4D-363BC42A2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4D7FEB9-0D6E-48DD-AF60-297782C8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7D525F-0FC1-415C-8D4B-98FCDC80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BDF742F-E7FA-468F-8098-861F43EB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18C8C7-B979-4D7F-811B-DAD22ADB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D40D76-DD01-413E-9038-2ED1BF47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206E8A-1830-4F75-A575-2BF09062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A64713F-84B7-4BED-9055-BDE5EA04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299FA5-1FAE-47EC-AC44-E71A67E3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0BDD-A664-4C4F-816F-F45F3C76C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E3FECB-F5D1-4F1C-81AC-BD9F3FC3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6018A0-C908-4EAA-B1AF-AC617857B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5D5BF5-188C-4A18-91AB-35A472F25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6AECEA3-F30C-49F7-A7CE-8D2561327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E050DD-EB61-4790-BB40-8DC90337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609BA8-C3E5-4DF8-9192-B5EFDD10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FD4E7C-2A7A-4946-93A1-240D10B9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7A6B179-3D74-4065-9A67-FF0DB6AC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5BD42C-F953-4BDF-86F2-D75E91DE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3407D54-E67D-4A60-BA58-8215EF1D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8E1C-CEF1-439D-8889-4FA6B2CA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ED17BC4-2370-41C2-8519-F8E30E96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B4787BB-77D1-4C1C-89B0-DA49ED75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BB89C26-0333-4E83-8A67-533BFCCC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1969118-1FE2-4245-ABF3-DB9A1CAE7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739154-A210-483D-86C7-04712ED1F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805184-C7B7-44F3-BDD8-5DD906AF3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7D41AC-1B43-4711-A395-FFF744EB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8D6AE0-27AE-4C48-8B74-3638D55F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AB6425-4227-419B-ABC8-341EF91C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D33533-27F1-43AB-B6CA-BC22B820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9FD5-C66C-4EB8-A35A-36864C52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B8A933-5DF3-4008-91DC-83BEB41C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79348D-BF40-401B-ACA1-8D509DD1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F7295E-E384-4376-ABA6-00107EA2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0D5BA1-4348-4305-8ED1-1ED59A57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66FA24-3E4D-4B35-A363-EFB25B0E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9096E2-A4C8-4DF5-BE68-E23DE7798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D01234-65DE-4D2A-84CC-F81AA1E64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334A97-1888-494F-816A-58BE6D4D5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93ADEA-EF83-496B-938B-AEA7FA78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3DB80F-C109-47B1-B43F-9B571054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322E-D843-4BF2-A1A4-44086BC1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35FB32-9EBA-4299-A308-83096E29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B8BC67-31FF-4013-BF12-69D44E0C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AB8E1A-EC5C-4EDC-BAAE-45248779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14CDF1-0595-4AAA-8454-831AD54A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7A2D04-98C2-4F85-B838-61CE763A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42F47C-B0FA-4678-AED3-07B71964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EA6ED2-7298-4390-BED3-E128FE57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D46741-9F09-4A16-849F-432A25151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18D977-C697-4FD0-84A0-AA42E994C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50A1E3-42A1-4708-B06C-A78A7A561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667E-F2C3-455F-902C-09819B94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4F8E59-015E-4B06-89B1-67EF1353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C1F78D-935F-4420-AD07-9A5A9C0C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CEBE4A-F746-4455-9B38-92E1908B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72D9CC-3709-4E1F-AA98-2EF37098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BF8E8E-6369-49CF-AC21-EBDB6668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4E434C-651F-4897-BBB0-131A0BB6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208DA0-020F-4CA4-B13F-C9F5FE0B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7DA625-01D0-4077-986E-9FD1D9C9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35C364-2EEE-4ACA-B325-31C50883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96F67D-3721-49BE-AAE0-81828411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9648-9A34-4F42-8888-0D4141F6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116EBB-27FC-4D8A-B387-E9A13B352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1E1C51-3A60-4C9E-AD8D-B24DE59BD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7B3DBC-720F-4DDB-8C82-E8186754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247DD6-5471-4ABF-8290-587D57B3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D0F35E-2E7E-4AE5-9901-FD79E27B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25A041-F7D9-4CE8-8CF0-009009A8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CF49AA-2CC7-4C36-A51B-C0890EA3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CB7AB8-5B97-4A34-B797-676596D8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A1DE52-AB91-4711-B7BF-DB6021C6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795867-E251-4E72-B94C-BB31403A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8873-86CC-416A-AB18-1876AEBA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D92F8D-B199-41A1-9FDC-A2B09F15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D18F7F-516C-4764-9328-A7BCF1416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B6503D-CC6F-4715-82C5-EC89B2932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E12CDE-84DD-4A95-BAF4-F5F91C1AE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93C08F-6736-4C46-B7A7-35C2D32D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42639C-DBD4-4829-821E-DEC7194B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39BF11-3CC3-4483-93FB-FB5D8E55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2C0B2C-FD07-4505-8E26-E3018A40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F05FD1-10EE-4FCA-80ED-1CAC7669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AA8BFC-FD80-4953-B1D9-7C352FB2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35269-3CD9-4299-B9C9-C74B8882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D507-0035-4AEF-BEA2-68D3CA32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72B8DE-6AE3-4F0B-B461-1C3EE8D8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145768-036E-4621-B883-EDF9F071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BA53C7-ADEC-4BA1-9B0E-18E740F5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75E215-7528-4DA1-AAB0-7A73F9B14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877A6C-1ADE-4298-98EB-413F7544B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5AEC07-7AFB-4E58-8FE4-6361CD312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DE5965-FF0D-4B68-9D0B-D4C3CD45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53DC43-4A9A-4BCC-A1FB-4929F7CF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CD3777-3C4D-4BC1-8B1C-117CFE55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2BEB02-670D-480D-BCD0-719DFF8E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AFC1-0552-49EF-8EEA-3943643C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69BB46-F17F-4F6C-9C1C-AEA06E81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452DF4-6347-427B-B71A-9F6135D3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3250A1-8E52-4576-B2CB-57C7ABD9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BA85F5-114D-4836-B559-7839AD32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7BFEF7-2F51-477A-874D-1E32F920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5A5560-50C5-4A48-845C-6B3B96051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E53935-995A-408A-AD11-1A1497FC1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1D30C0-27BA-4CA8-BF2D-52719A3AD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BF3353-1A75-415F-A052-68E79F18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587813-FE85-4758-AF9D-99DC68CC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BB0F-A692-454C-AC1B-664FA7F1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705A14-772A-4F07-A6F8-FD0507FD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C20EB6-C759-4855-9094-18746C85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1E0222-7DA8-481C-98C8-02CC56EC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76886B-F1E2-4772-A607-664788D2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64C577-C23C-4B9C-83CD-4E2A6E52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B0A7DD-8202-4DBF-8BEE-9817E462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5D6412-F250-4222-9C69-FE2D8D87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A486E8-5138-4FF9-943B-490801593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1D099E-0C24-446B-8910-E0F0BF2A2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4D8EFA-773B-4F42-A989-A5E05F624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8F6F-A269-451F-BE8A-22DAB2DB1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A2502C-CE34-48D7-8237-48ED6C85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776EED-EA62-4688-8CBB-6E39446F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DB28A0-AAF8-4214-89E9-C85D0BFB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F4D1C6-67F3-4EE0-855D-2C9C79C1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8AB185-36D8-4E67-B670-D7D4821D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B84F2A-E00C-4F58-BBB0-80100FCE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FA15F9-57D1-4BB8-84C6-03401791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D2ECDA-62DF-4781-8312-35FE9A84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79DE71-F37C-4966-9179-0FD56361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CB5314-9B07-4772-BB01-A3F2F16F0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E887-5A03-49A2-85C1-35EE4015B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E363BC-D209-4F3A-8873-A8BEBD839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E34BE9-BE24-4495-9ADD-9030D0BA2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ADEB0B-61DE-4297-9B1D-2F600A0E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A21F1D-E0DF-4498-B7FB-576FBB00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FB7589-DA3D-4781-9345-27237B80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635D8F-8B82-4515-A81F-313B0AB7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BE2EF5-AC64-405B-8B99-D5887EFD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25896C-AAA7-4FFA-ADA6-44492228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005937-E8E3-4333-A55E-577AB904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87DFA8-C901-4AF4-904F-CBF7A6B5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4B54D-163F-4D7D-82F8-4B03A04A2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E025EA-A863-4714-B84C-8233481C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55E458-EE4B-429A-8A8C-D2FF35B6F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2CEEC8-DF6F-4555-B136-452DFF77F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2DB563-82A5-4DAC-A7C0-E1F72D8FE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A08685-5758-4E2A-9BCC-831CFDF3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74A372-347B-4B2B-8C72-D363A8F1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FDF423-D882-47CB-A00C-D3410194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6126F4-6D01-4805-A439-F954F6E1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DEF1D1-8CC8-444C-9422-F99E3118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E0D3D4-39EC-49AF-8150-80E25597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FFB31-ECED-4580-B959-608E4A76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89F3D1-76A8-43C0-B1FC-F04334BB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70A318-760D-41C9-99FF-A2FFBD9B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FDFA24-D416-4975-B8CD-028E07D6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08E850-C374-417A-9ABB-A307B72ED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95F7D9-5805-4C55-A210-34165DB42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0EFB48-824D-4097-8EF9-4FD09ABD8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0D4B75-1843-41BD-9881-F27C69A3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18269B-0643-4522-87D7-A93B6BE3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1D924F-2904-4B3D-9716-16F1E314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0F89CC-3331-42AC-8527-E42FC7DB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6E14C-F97E-4197-90DC-D97E6DD2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065608-F745-4A19-A443-9F77F167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E61E85-C90A-4CE0-B714-A76623E4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CCD8B3-189E-4746-8CB9-7274CB5E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867A5A-42BE-4448-A7BA-15F2AF01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9AF264-8866-4200-8123-E735C7CB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0F7414-A83D-4C38-97A8-637C66F98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C7E076-BDDE-43BD-AD05-6FB093EEA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3D7FDB-8E4F-4BB2-99E2-BFDF60AAE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BCD089-1241-401B-813A-9B0A8BF3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74AAA9-45D4-48F7-A3B4-B26D2ED8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C46A1-1760-4145-904F-18CDF707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A96CA7-9F8F-44D4-9A49-2C6435CB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87904A-9385-4705-849E-1E47F67C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192479-9830-4B87-BC3A-AC564797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76B823-BA9A-4D7F-B717-F4628FC5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72472F-DDF7-4F54-9383-5C4EDE2B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1B24E70-6297-4C9B-A54B-BCFEA613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5B6C83-C950-494A-8D78-6D134727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D3EF76-BE5A-491C-925C-B518EF718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C9D41D-81D5-40D8-B2A7-3AD6B9796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05CA2-0D45-44C2-BAB2-7EEA662B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AA8EC-1484-4781-9D98-153121D4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129D1-390A-4A09-95F4-176BAA3B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751BC-76C3-49D1-B4D6-D50DE816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67A59-C70B-4FCA-B488-2EBDD0B7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719DF-9317-4ACE-8015-B03D4EA4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5905F-14A6-4FE3-B03D-B8E747EC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CF910-0116-469B-9231-07F9DFA95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EE8B1-EB46-49E4-B068-2E57BCBD3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B4039E-2093-4132-B683-24AB90522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F5DFBA-9007-4EE1-9AC8-811E3F0D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3D0C5D-E3A5-49F0-98EC-D7084BD9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D098A-F75A-48C0-A575-E31ADF03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21505A-BB93-4B8B-B15B-078D5A08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B9C924-F22E-4D66-BCD1-3881400C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276979-0389-47BF-B123-5CC4AD13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A279FB-825C-4C95-972F-33EE3A78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2175EA-4C6A-4982-94A1-246DF2FD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5AEB28-F630-4077-8772-50E9DECB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70EF6E-86B6-4F5A-8728-F35FEDDD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85405F-BEFF-4A7B-AD06-7C506DAC6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EC069B-A730-4EB8-A706-6E54F29F5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34303D-5F12-4487-971D-C35C98A72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D4BC7-807D-49F2-A7EA-D4AA7722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678A33-B35D-4D8E-9959-93A0E918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8DAC08-B022-4D04-92ED-ED356054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4B5C6E-B5D3-40DC-9E1E-987ED750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1DD3F1-8777-44C2-A919-573EF7D7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B8691A-BEFC-4D8F-9ABF-D6457352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93F3CC-DC93-41C1-AED7-AB63174F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3755E1-0209-4E0B-9181-5BA51C5D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932871-9970-4C5F-B8D5-D7978AAB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D67EE1-1B73-4AB5-AE90-488A57B9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E0F8A2-0C70-4F53-B55A-5ECFAE5D4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D243F-BCB5-474E-9BF5-9714B625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C4350C-8476-40C6-8B7E-6A959C5C0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3B0894-9219-4A91-BF47-9DFEF81B5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8D8765-FEE6-456B-A97F-A7F4C6EA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7CCDAE-0663-4C9A-B0C6-74638E9E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DDEB02-1FC2-4579-AFB1-25618A66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59A0E8-FF70-46CA-931F-CA61CCC5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78D20E-DC96-4D8B-B4E2-2D5A10A2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0DCA62-C6E6-4934-8A3D-D018B3BB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6BBB9B-90CC-4480-9A1C-8DD6BBB3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1B4679-D3F8-4495-A04B-A252956D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846F1-FD0C-48D9-B829-B6D5DD52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0C9EAF-B35B-4BBF-8F28-B417B4F8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DD7E29-D212-4E0C-9256-966E5FAED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BD7EED-04F8-43D3-BE25-85916B4FA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B1BA6D-F1A1-4754-8CBB-D014103C5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4E44A5-6919-43A8-B391-CD7D866A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4ADA94-5904-45A8-95C6-24C52FFF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4E1EA9-595B-4FFD-8504-F86E912A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818D7F-5FCD-4CE4-A6F7-D49FCE05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4D488F-A6B2-40BA-AC37-9870B8DB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57F408-9752-4ABD-A286-83D20D4D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3AE26-ACDE-4DBF-8FD0-B0568C93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646FD5-EC7A-4A34-81B0-BEE07666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B167D7-BCD1-46FE-99CE-E815736A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BB86E9-7FB9-423F-AC52-85F82FAC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809BA2-627A-4707-9A14-3FC0F68EE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DD1C48-4EDA-4BF2-9DBC-0871A70A1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E497D7-F8A9-4517-AAD4-F98B6958E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99AD8A-7841-4DF5-86E1-9E042F93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F9411B-2EF5-46A5-80F0-EAA81D0F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5825D6-D455-4BD6-A78D-933D3DAC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CEA958-3176-4C45-9CBE-BE3EC0FA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BF1C1-9F38-4353-8F12-FDE37FE0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C347D5-6D63-41F6-8786-1D35EC5F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8A4AD5-BFC9-49D4-B1B5-137082F4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AA3077-7EE7-48CE-9729-BFEFA648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B057BD-46FB-4A50-8ECC-4CF0B674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CFCBFD-887E-44B9-B9FF-EE7D7F94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26E868-3EC8-42C2-90AC-C5C08DD7E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B290F7-E454-4709-9B08-7C15E5B2A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8895E1-BA0E-4A24-953C-0EA4996D9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3739A5-F1A1-4BED-8856-842207C7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D41D36-FCD3-4214-AF76-D9ACEDEF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57.xml"/><Relationship Id="rId35" Type="http://schemas.openxmlformats.org/officeDocument/2006/relationships/slideLayout" Target="../slideLayouts/slideLayout158.xml"/><Relationship Id="rId36" Type="http://schemas.openxmlformats.org/officeDocument/2006/relationships/slideLayout" Target="../slideLayouts/slideLayout159.xml"/><Relationship Id="rId37" Type="http://schemas.openxmlformats.org/officeDocument/2006/relationships/slideLayout" Target="../slideLayouts/slideLayout160.xml"/><Relationship Id="rId38" Type="http://schemas.openxmlformats.org/officeDocument/2006/relationships/slideLayout" Target="../slideLayouts/slideLayout161.xml"/><Relationship Id="rId39" Type="http://schemas.openxmlformats.org/officeDocument/2006/relationships/slideLayout" Target="../slideLayouts/slideLayout162.xml"/><Relationship Id="rId40" Type="http://schemas.openxmlformats.org/officeDocument/2006/relationships/slideLayout" Target="../slideLayouts/slideLayout163.xml"/><Relationship Id="rId41" Type="http://schemas.openxmlformats.org/officeDocument/2006/relationships/slideLayout" Target="../slideLayouts/slideLayout164.xml"/><Relationship Id="rId42" Type="http://schemas.openxmlformats.org/officeDocument/2006/relationships/slideLayout" Target="../slideLayouts/slideLayout165.xml"/><Relationship Id="rId43" Type="http://schemas.openxmlformats.org/officeDocument/2006/relationships/slideLayout" Target="../slideLayouts/slideLayout166.xml"/><Relationship Id="rId44" Type="http://schemas.openxmlformats.org/officeDocument/2006/relationships/slideLayout" Target="../slideLayouts/slideLayout167.xml"/><Relationship Id="rId4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4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BD18-3C7E-424C-88CB-3CB614037A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4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8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BACD-E207-43E3-8526-F035E98AEB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ftr" idx="3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4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AE07-8D01-4279-BAD4-AD4F8AEAF3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4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F4D8-1A8B-46B3-99C0-34B287AF67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ftr" idx="3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4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015E-F0FB-44AC-8036-8887585663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0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61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1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1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1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1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p:txBody>
                </p:sp>
                <p:sp>
                  <p:nvSpPr>
                    <p:cNvPr id="61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p:txBody>
                </p:sp>
              </p:grpSp>
              <p:sp>
                <p:nvSpPr>
                  <p:cNvPr id="61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617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i="1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618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i="1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619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i="1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62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i="1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62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i="1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</p:grpSp>
            <p:pic>
              <p:nvPicPr>
                <p:cNvPr id="62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3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3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5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4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4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4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3487-5776-4936-93D1-21F29EC9698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4"/>
    <p:sldLayoutId id="2147483819" r:id="rId35"/>
    <p:sldLayoutId id="2147483820" r:id="rId36"/>
    <p:sldLayoutId id="2147483821" r:id="rId37"/>
    <p:sldLayoutId id="2147483822" r:id="rId38"/>
    <p:sldLayoutId id="2147483823" r:id="rId39"/>
    <p:sldLayoutId id="2147483824" r:id="rId40"/>
    <p:sldLayoutId id="2147483825" r:id="rId41"/>
    <p:sldLayoutId id="2147483826" r:id="rId42"/>
    <p:sldLayoutId id="2147483827" r:id="rId43"/>
    <p:sldLayoutId id="2147483828" r:id="rId44"/>
    <p:sldLayoutId id="2147483829" r:id="rId4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4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4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E9FF-9F8B-43F6-8640-6651FFC496F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4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4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4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2C4B-DE88-4E04-B540-D9BFB39242E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4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FA10-A270-4E74-8F6A-F4447BD6E3F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5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ftr" idx="5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sldNum" idx="5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5463-D783-4985-AE2D-4F6D7963348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5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5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5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B34C-1090-4689-B82A-8128FCA7F2E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5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p:txBody>
                </p:sp>
                <p:sp>
                  <p:nvSpPr>
                    <p:cNvPr id="5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p:txBody>
                </p:sp>
              </p:grpSp>
              <p:sp>
                <p:nvSpPr>
                  <p:cNvPr id="6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6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i="1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6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i="1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6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i="1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6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i="1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6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i="1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</p:grpSp>
            <p:pic>
              <p:nvPicPr>
                <p:cNvPr id="6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7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9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0AFE-0A67-4E94-89F7-5991E04DD2D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 type="dt" idx="5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 type="ftr" idx="5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 type="sldNum" idx="6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5AE4-3F58-416B-BCD5-A77ADC87177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 type="dt" idx="6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 type="ftr" idx="6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 type="sldNum" idx="6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13CC-9AAC-49A7-A279-944178679C2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6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ftr" idx="6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 type="sldNum" idx="6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FC38-9986-4714-941C-EA6873693B2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dt" idx="6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ftr" idx="6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 type="sldNum" idx="6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6F70-CAFF-459B-AF92-B800321B346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 type="dt" idx="7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 type="ftr" idx="7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 type="sldNum" idx="7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BD83-275F-4A3D-8F1A-B8801C3B75BA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4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7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8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9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0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1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2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53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20CB-9370-4C74-9C5D-3EB37A7657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4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C83E-E490-4542-9554-2C61669C9D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4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3A09-3FBB-4D0B-994D-6D7E45E054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4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D5EC-C266-41DF-ACD6-62E6B4B56A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4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3A5F-CABA-4222-8348-86F8489C37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4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CAB1-20A4-487A-8366-8A512BC3D0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4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8464-C258-4985-B86C-1820E02A01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5e5ff"/>
                </a:solidFill>
                <a:latin typeface="Garamond"/>
              </a:rPr>
              <a:t>Тема :</a:t>
            </a:r>
            <a:br>
              <a:rPr sz="4800"/>
            </a:b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i="1" lang="ru-RU" sz="4800" spc="-1" strike="noStrike">
                <a:solidFill>
                  <a:srgbClr val="e5e5ff"/>
                </a:solidFill>
                <a:latin typeface="Garamond"/>
              </a:rPr>
              <a:t>Театрализованная игра как средство социально-личностного развития дошкольника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 txBox="1"/>
          <p:nvPr/>
        </p:nvSpPr>
        <p:spPr>
          <a:xfrm>
            <a:off x="250920" y="692280"/>
            <a:ext cx="7386480" cy="54720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настольный театр игрушек или картинок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теневой театр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альчиковый  театр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игры –драматизации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театр на фланелеграфе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инсценирование фрагментов из сказок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игра-имитация образо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ролевой диалог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режиссерская игр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"/>
          <p:cNvSpPr txBox="1"/>
          <p:nvPr/>
        </p:nvSpPr>
        <p:spPr>
          <a:xfrm>
            <a:off x="263520" y="765000"/>
            <a:ext cx="7386480" cy="5330880"/>
          </a:xfrm>
          <a:prstGeom prst="rect">
            <a:avLst/>
          </a:prstGeom>
          <a:solidFill>
            <a:srgbClr val="0316c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dc1f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16dc1f"/>
                </a:solidFill>
                <a:latin typeface="Arial"/>
              </a:rPr>
              <a:t>Творческая мастерская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125" name="Picture 2" descr="C:\Program Files\Microsoft Office\MEDIA\CAGCAT10\j0216516.wmf"/>
          <p:cNvPicPr/>
          <p:nvPr/>
        </p:nvPicPr>
        <p:blipFill>
          <a:blip r:embed="rId1"/>
          <a:stretch/>
        </p:blipFill>
        <p:spPr>
          <a:xfrm>
            <a:off x="1692360" y="2519280"/>
            <a:ext cx="366552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Picture 4" descr="12"/>
          <p:cNvPicPr/>
          <p:nvPr/>
        </p:nvPicPr>
        <p:blipFill>
          <a:blip r:embed="rId1"/>
          <a:stretch/>
        </p:blipFill>
        <p:spPr>
          <a:xfrm>
            <a:off x="0" y="115920"/>
            <a:ext cx="4363920" cy="495756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5" descr=""/>
          <p:cNvPicPr/>
          <p:nvPr/>
        </p:nvPicPr>
        <p:blipFill>
          <a:blip r:embed="rId2">
            <a:lum bright="-12000"/>
          </a:blip>
          <a:srcRect l="5413" t="2096" r="15538" b="777"/>
          <a:stretch/>
        </p:blipFill>
        <p:spPr>
          <a:xfrm>
            <a:off x="4356000" y="3162240"/>
            <a:ext cx="4788000" cy="3695760"/>
          </a:xfrm>
          <a:prstGeom prst="rect">
            <a:avLst/>
          </a:prstGeom>
          <a:ln w="0">
            <a:noFill/>
          </a:ln>
        </p:spPr>
      </p:pic>
      <p:sp>
        <p:nvSpPr>
          <p:cNvPr id="1128" name="Rectangle 6"/>
          <p:cNvSpPr/>
          <p:nvPr/>
        </p:nvSpPr>
        <p:spPr>
          <a:xfrm>
            <a:off x="4602960" y="400680"/>
            <a:ext cx="4507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ети представляют </a:t>
            </a:r>
            <a:endParaRPr b="0" i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пектакль</a:t>
            </a:r>
            <a:endParaRPr b="0" i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ами как артисты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i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Picture 4" descr="IMG_0417"/>
          <p:cNvPicPr/>
          <p:nvPr/>
        </p:nvPicPr>
        <p:blipFill>
          <a:blip r:embed="rId1"/>
          <a:stretch/>
        </p:blipFill>
        <p:spPr>
          <a:xfrm>
            <a:off x="395280" y="1125360"/>
            <a:ext cx="8209080" cy="5723280"/>
          </a:xfrm>
          <a:prstGeom prst="rect">
            <a:avLst/>
          </a:prstGeom>
          <a:ln w="0">
            <a:noFill/>
          </a:ln>
        </p:spPr>
      </p:pic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Настольный театр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" dur="1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Picture 5" descr=""/>
          <p:cNvPicPr/>
          <p:nvPr/>
        </p:nvPicPr>
        <p:blipFill>
          <a:blip r:embed="rId1"/>
          <a:stretch/>
        </p:blipFill>
        <p:spPr>
          <a:xfrm>
            <a:off x="0" y="-25560"/>
            <a:ext cx="9252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0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Picture 4" descr=""/>
          <p:cNvPicPr/>
          <p:nvPr/>
        </p:nvPicPr>
        <p:blipFill>
          <a:blip r:embed="rId1"/>
          <a:srcRect l="1952" t="2909" r="-552" b="3041"/>
          <a:stretch/>
        </p:blipFill>
        <p:spPr>
          <a:xfrm>
            <a:off x="611280" y="1341360"/>
            <a:ext cx="8028000" cy="5281560"/>
          </a:xfrm>
          <a:prstGeom prst="rect">
            <a:avLst/>
          </a:prstGeom>
          <a:ln w="0">
            <a:noFill/>
          </a:ln>
        </p:spPr>
      </p:pic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Стендовые театрализованные игры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r>
              <a:rPr b="1" i="1" lang="ru-RU" sz="2800" spc="-1" strike="noStrike">
                <a:solidFill>
                  <a:srgbClr val="e5e5ff"/>
                </a:solidFill>
                <a:latin typeface="Garamond"/>
              </a:rPr>
              <a:t>Театр на фланелеграфе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274644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Т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е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н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е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в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о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й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т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е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а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т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р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5" name="Picture 4" descr="8"/>
          <p:cNvPicPr/>
          <p:nvPr/>
        </p:nvPicPr>
        <p:blipFill>
          <a:blip r:embed="rId1"/>
          <a:stretch/>
        </p:blipFill>
        <p:spPr>
          <a:xfrm>
            <a:off x="3492360" y="115920"/>
            <a:ext cx="504036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6" name="Picture 10" descr="2"/>
          <p:cNvPicPr/>
          <p:nvPr/>
        </p:nvPicPr>
        <p:blipFill>
          <a:blip r:embed="rId1"/>
          <a:stretch/>
        </p:blipFill>
        <p:spPr>
          <a:xfrm>
            <a:off x="0" y="0"/>
            <a:ext cx="3708360" cy="4437000"/>
          </a:xfrm>
          <a:prstGeom prst="rect">
            <a:avLst/>
          </a:prstGeom>
          <a:ln w="0">
            <a:noFill/>
          </a:ln>
        </p:spPr>
      </p:pic>
      <p:sp>
        <p:nvSpPr>
          <p:cNvPr id="1137" name="Rectangle 11"/>
          <p:cNvSpPr/>
          <p:nvPr/>
        </p:nvSpPr>
        <p:spPr>
          <a:xfrm>
            <a:off x="4284000" y="835560"/>
            <a:ext cx="46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альчиковый театр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8" name="Picture 4" descr="IMG_04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79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Picture 4" descr=""/>
          <p:cNvPicPr/>
          <p:nvPr/>
        </p:nvPicPr>
        <p:blipFill>
          <a:blip r:embed="rId1"/>
          <a:srcRect l="0" t="8336" r="0" b="0"/>
          <a:stretch/>
        </p:blipFill>
        <p:spPr>
          <a:xfrm>
            <a:off x="179280" y="260280"/>
            <a:ext cx="87854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86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Rectangle 4"/>
          <p:cNvSpPr/>
          <p:nvPr/>
        </p:nvSpPr>
        <p:spPr>
          <a:xfrm>
            <a:off x="395280" y="620640"/>
            <a:ext cx="8352000" cy="90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5e5ff"/>
                </a:solidFill>
                <a:latin typeface="Garamond"/>
              </a:rPr>
              <a:t>Цель:</a:t>
            </a: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развивать у детей интерес к театру, как к виду искусства,</a:t>
            </a:r>
            <a:endParaRPr b="0" i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включать ребенка в культурное пространство через развивающую предметную среду, формировать положительные качества личностной позиции ребенка, направленные на свободные выражения творческих замыслов. </a:t>
            </a:r>
            <a:endParaRPr b="0" i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5e5ff"/>
                </a:solidFill>
                <a:latin typeface="Garamond"/>
              </a:rPr>
              <a:t>Задачи: 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развивать творческие способности через разные виды литературных жанров и предметную среду группы; познакомить с устным народным творчеством; развивать и активизировать речь детей; научить детей замечать художественную форму, выражающую содержание, богатство языка, осваивать его, обогащать свою речь образными выражениями: жест, поза, мимика, пантомима, интонация; развивать память, внимание, мышление.</a:t>
            </a:r>
            <a:br>
              <a:rPr sz="2800"/>
            </a:br>
            <a:endParaRPr b="0" i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0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1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1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1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5"/>
          <p:cNvSpPr/>
          <p:nvPr/>
        </p:nvSpPr>
        <p:spPr>
          <a:xfrm>
            <a:off x="2268360" y="240840"/>
            <a:ext cx="504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Calibri"/>
                <a:ea typeface="Calibri"/>
              </a:rPr>
              <a:t>Литература:</a:t>
            </a:r>
            <a:endParaRPr b="0" i="1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1" name="Rectangle 7"/>
          <p:cNvSpPr/>
          <p:nvPr/>
        </p:nvSpPr>
        <p:spPr>
          <a:xfrm>
            <a:off x="1258920" y="1167480"/>
            <a:ext cx="6626160" cy="56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Брызгалова А.Н,, М.А.Калиновская </a:t>
            </a:r>
            <a:r>
              <a:rPr b="0" i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«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Театрально </a:t>
            </a:r>
            <a:r>
              <a:rPr b="0" i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игровая деятельность дошкольников</a:t>
            </a:r>
            <a:r>
              <a:rPr b="0" i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»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. Минск </a:t>
            </a:r>
            <a:r>
              <a:rPr b="0" i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«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Изд.Юнипресс</a:t>
            </a:r>
            <a:r>
              <a:rPr b="0" i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»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2006г.</a:t>
            </a: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2.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Дронова.Т.Н., Играем в театр. Театрализованная деятельность детей 4-6 лет. М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 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: Просвещение, 2005.</a:t>
            </a: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Картушина. М.Ю., </a:t>
            </a:r>
            <a:r>
              <a:rPr b="0" i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«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Забавы для малышей</a:t>
            </a:r>
            <a:r>
              <a:rPr b="0" i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»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(Театрализованные развлечения) М. </a:t>
            </a:r>
            <a:r>
              <a:rPr b="0" i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«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Сфера</a:t>
            </a:r>
            <a:r>
              <a:rPr b="0" i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»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2008г.</a:t>
            </a: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ffff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4.Мигунова. Е.В., Организация театрализованной деятельности в детском саду. 2006</a:t>
            </a: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5. Петрова Т.И., Сергеева Е.Л., Петрова Е.С. Театрализованные игры в детском саду: Разработки занятий для всех возрастных групп. 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М.: Школьная Пресса, 2000. 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С.56-58</a:t>
            </a: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6. Сорокина Н.Ф. 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«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Играем в кукольный театр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»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М., 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«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Аркти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»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1999г</a:t>
            </a:r>
            <a:endParaRPr b="0" i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лан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онятие  театрализованная игра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Значение театрализованной игры в социально-личностном развити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иды театрализованных игр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едагогическая творческая мастерск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1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1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1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345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i="1" lang="ru-RU" sz="4800" spc="-1" strike="noStrike">
                <a:solidFill>
                  <a:srgbClr val="e5e5ff"/>
                </a:solidFill>
                <a:latin typeface="Garamond"/>
              </a:rPr>
              <a:t>Понятийный аппарат: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1187280" y="2205000"/>
            <a:ext cx="6400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Воображени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Творчество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Креативность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Творческая игр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45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Garamond"/>
              </a:rPr>
              <a:t>Театрализованная игра</a:t>
            </a:r>
            <a:r>
              <a:rPr b="1" i="1" lang="ru-RU" sz="4400" spc="-1" strike="noStrike">
                <a:solidFill>
                  <a:srgbClr val="e5e5ff"/>
                </a:solidFill>
                <a:latin typeface="Garamond"/>
              </a:rPr>
              <a:t> – это разыгрывание в лицах литературных произведений (сказок, рассказов, специально написанных инсценировок)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1"/>
          <p:cNvSpPr/>
          <p:nvPr/>
        </p:nvSpPr>
        <p:spPr>
          <a:xfrm>
            <a:off x="971640" y="547920"/>
            <a:ext cx="6840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Театрализованная деятельность, как игровая деятельность имеет огромное значение для социально 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—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личностного развития ребенка.</a:t>
            </a:r>
            <a:endParaRPr b="0" i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В процессе этой деятельности через коммуникацию происходит приобщение к общепринятым нормам и правилам существования в социуме; знакомство с произведениями разных жанров искусства (литературного, изобразительного, музыкального и др.); овладение начальными знаниями об истории человечества; развитие всех компонентов устной речи; практическое овладение навыками устной речи; развитие общей и мелкой моторики.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i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1"/>
          <p:cNvSpPr/>
          <p:nvPr/>
        </p:nvSpPr>
        <p:spPr>
          <a:xfrm>
            <a:off x="468360" y="-604800"/>
            <a:ext cx="81360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В своей работе мы используем инсценирование и драматизацию отрывков, как из фольклорных, так и авторских произведений; разучивание стихов; развиваем артистические способности в подвижных играх имитационного характера; рисование иллюстраций к художественным произведениям; лепку сказочных животных; а также другие виды художественно — продуктивной деятельности (изготовление декораций, реквизита, элементов костюмов к разным театральным постановкам). В результате включения театрализованной игры и ее элементов в различные виды детской деятельности (игровой, познавательной, воспитательной, экспериментальной, спортивной и др.) у наших детей  формируются различные навыки, умения, формируются и развиваются интегративные качества. Таким образом, театрализованная деятельность способствует всестороннему развитию ребенка</a:t>
            </a:r>
            <a:endParaRPr b="0" i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4"/>
          <p:cNvSpPr/>
          <p:nvPr/>
        </p:nvSpPr>
        <p:spPr>
          <a:xfrm>
            <a:off x="539640" y="699840"/>
            <a:ext cx="8064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Чтобы веселиться чужим весельем, сочувствовать чужому горю нужно уметь с помощью воображения перенестись в положение другого человека, мысленно стать на его место.</a:t>
            </a:r>
            <a:endParaRPr b="0" i="1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                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Б. М. Теплов</a:t>
            </a:r>
            <a:endParaRPr b="0" i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7200720" cy="47530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иды театрализованных игр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263520" y="549360"/>
            <a:ext cx="73864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5:43:27Z</dcterms:created>
  <dc:creator>LPC_cab_31_new</dc:creator>
  <dc:description/>
  <dc:language>en-US</dc:language>
  <cp:lastModifiedBy>Алексей</cp:lastModifiedBy>
  <dcterms:modified xsi:type="dcterms:W3CDTF">2015-01-04T17:13:58Z</dcterms:modified>
  <cp:revision>42</cp:revision>
  <dc:subject/>
  <dc:title>Слайд 1</dc:title>
</cp:coreProperties>
</file>