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5.png" ContentType="image/png"/>
  <Override PartName="/ppt/media/image14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2.jpeg" ContentType="image/jpeg"/>
  <Override PartName="/ppt/media/image11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E26B8-F686-4538-9C9C-9E122487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0B9B1-9E92-4AC6-BB6D-D103D065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F9C226-0077-48EB-AB46-BE18033E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C7FBBC-0BDB-48C4-B45E-A84A287D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F77E14-81B1-41E4-80B4-2FB8B6AA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4B8F70-20E2-47E9-8E5E-79B33152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BEF82F-9045-4FE9-B027-E4FA14C9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FFE369-AC1F-4161-9A82-CA827387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E54F96-771A-4D22-8BB9-ED655BBD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D0F3AF-51EC-474C-B528-D4032246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578A69-AEB3-4A8A-847A-291988C7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EB18AD-6EDF-4F38-A1B9-264C2E2C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78B84-D313-4B3C-B650-379FE430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0B4D83-501A-4D73-BF79-D7D41736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61EC4F-4216-4BB7-B95F-6151A69E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4FBC3B-4656-43DD-8CAD-3B34CC2E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5EC300-0FB0-4060-8708-542BFB4F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2BD780-DB36-499B-9DE9-326D8A5E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10C2AA-1A99-400E-A982-2D18AF83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26DC94-CCDA-460A-A5F8-28286B16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221488-FD95-4324-93A2-0B6FF514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E22885-EEC2-49C8-AFB0-0D8CB4A8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BE6264-F2F1-4729-A972-1EA7E200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239EA-0E3C-4748-90C9-1A81FCBD6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9F668D-A2C3-45D4-960A-F028B142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1A7E25-432E-4A5A-91B7-8B2B49F6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DDF5E0-B7A3-481C-AD3F-A8E0AE88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281006-48C5-4B8A-A0BA-E413F0F5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9D621E-44CA-4CEF-A528-6EE80D5E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781EE6-14F5-490B-A495-DA7FBD9D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3A2B24-A194-4A7B-885C-A322E48C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3C6470-6FAE-4FC1-9BC3-144D7550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287508-334C-4B8F-9056-1206E7DA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7BA47A-F304-4D5F-8AD9-C36090B3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DA11-4C22-4499-B816-1DA99A9E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21F6E9-8C01-4260-9DA2-75731BFC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A54193-B4E5-4D15-A70D-61BBA979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EE3A8B-86F6-43A4-9F55-68BE8391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FBEAFB-EFA3-413E-A045-5B1B22C3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BD57EE-22C6-480E-8CB7-25BB83BC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92B061-16AB-42A6-B33A-ED2193A0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DF8EE4-C59C-4B57-8CBF-176F77AE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179624-2AD5-4E90-A287-1CAB0F98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1556B1-84C0-4039-A8D9-B3D96698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FF66EE-BC8A-4B5C-9EF8-09CF8974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024E-CFB9-42FE-AFE0-4200AB24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571CB9-009E-400E-8C77-95E05FFE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8293B2-64D6-473E-8D90-6CFD7623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973DF2-C198-467E-8DFB-8B18336F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C8D437-1F1A-4C03-BBC4-2697B195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67CBFE-AFEE-48E7-B5AC-2E307C78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622662-A498-4AE9-8FD6-99A98BAB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6D72F0-A8E0-435A-974B-4635E02B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20FBF1-1A9F-491E-8410-BED79359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809947-F98A-487A-91DC-DB7D49B2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C8D78D-E5A6-43A6-980F-DADA842E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C335-922E-4962-B6D8-DA9C499E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0035D9-6E74-4B95-8EDA-33E75788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224E51-C8A8-48A9-B13C-3B078AC5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BBA60A-695D-4DAE-BBD5-9DD26FE7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38E33F-843F-4CC3-BFAC-D6DCBE1A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57A03B-ABB8-4592-89C9-4CC31B55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0EE80A-F778-4972-868A-6F19D5F2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AE0B68-FD7D-402A-A654-8BB0B5B4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65B820-8883-4883-8FD4-BF6D45D4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4B95E5-8D99-49DC-8B79-04778170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FC59AF-C053-4B3F-96AA-C5C7B491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D7B0-C5CC-44E4-BA53-0A233A34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489A43-D6B7-47EB-94CA-418A6DD1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22664F-3ECE-468E-914D-18319CB4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2F9FB6-C488-40E7-AB44-017AD901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0A9898-AF84-4482-A943-26CC4C24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666F6B-2F38-4C88-9B94-415F7A94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BA29AB-34AA-4579-927C-311FAC6C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05B5BF-D47F-4731-B32F-1295FC40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C2F563-66A4-4C6F-8E9F-B440B89E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96750E-BDBF-4D77-A2E0-1B8314D9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2E0218-8AED-4E95-BA63-01F3C713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7861-A993-4D85-A350-A2D368C8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5F04F0-4A6C-4766-84A7-C51CB36B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E0C423-9ACB-45A1-8EF7-C178C4E3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6C4872-29B6-461D-B345-CAFC5031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8C8D36-161C-4CB9-95F1-4F501DBD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7BBDDE-ECD3-4DDA-A516-EA9D711B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141BF0-2250-457B-8EF6-E91C69D3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15C3D2-866B-4569-A63E-3AE12CC6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99629A-F591-4A5A-9F6E-97EF7A6D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BC0361-84D4-4452-B21E-E4B3D9F4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F5AFA5-BC65-45CD-8FB4-C3D6ED13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262A-560F-4635-85CE-C9366851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ACF4E0-338C-4BE5-BC3A-29A85CD2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87D64A-DFC7-48E4-BCA9-7ACC44F9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637F90-E54B-4A7B-9BCD-26E9AE5A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E667B1-9C67-45B5-A57A-1CFEE1E9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DD7A43-C7BC-4B51-9D0B-1C79F102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1B3D74-D7EA-4D03-8A06-61305653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01BDC7-4E97-458E-B484-0BFDC6C2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9E38F5-2B01-4369-8BC8-5B9BA1ED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E5A7B2-BEE1-49F9-8B89-1D365CDC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E4FB88-C613-4AD6-B5A4-AF8D9F72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5414-5825-4B74-B3E4-4BB4FF5D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B061FE-0919-4BD0-AD8F-771775E3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3C099C-6FBE-41F8-AC15-F82DB636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F5FA8F-9039-4E09-A7C6-05BA7522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BE3733-9532-4A10-AE5A-51C4A49B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F3FDC3-2D03-436B-B6ED-831511E1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02D40D-ED35-4758-90B1-1EA29564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078353-D0BC-4727-B03B-59E2E31D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A1D295-E9C9-442E-BC58-4F3AF611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180A4A-825C-411D-BB29-CC6096C2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D4E5DC-E278-42A3-B96E-500955A8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A6D2D-EC6F-4D68-B3A8-C17AAEB3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4709-FC0B-498B-A047-22C154D9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E173FF-18DF-4C34-B3CC-26013540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C5EBB3-687D-4CD4-B2A7-B080BC54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F425FA-6C6B-4795-B3D4-96291D34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C2DACD-3224-4C44-A923-61E507A1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5956D4-1451-4231-B0F2-9BAB7D3F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ADEC9F-08AE-40F5-A114-04525586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5BE552-622D-40FC-97D5-2991A3C6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5F78E8-6B08-4AC6-9B2E-EC726C45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5C7B55-4F64-42B7-ACD2-8D7C6970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65BE1B-1211-4490-BAE8-DC60AB68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88D6-A01C-4AC3-A5CB-E8BB6580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72A0BC-529D-481B-BE80-BAA1BBC4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787070-5BE8-4FEA-A4EB-73BC913B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D86608-6925-4B07-A3AD-E525B875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23A783-432A-457F-A2F7-B5780853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6DF426-2028-4700-8174-AF1680A5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9CAE14-09E4-4894-8F56-08A564AF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C34824-1F5E-4EEE-8D2C-4FB69D0F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F47DD0-4494-484A-AB65-9FABA5D8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822274-9CFD-4528-8561-C858DE8D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CDED87-2EF6-410F-A2E3-BD16AD1D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A35D-AA66-4E0F-80F7-A96DA2A6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8496E3-226C-4D3A-9A7D-17821D1A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E6602E-B640-4174-8AF3-778F13C1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8586FE-4783-45C8-9D3D-8A622976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8CBD2D-535E-4683-B332-9544CADC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72E86C-6B8D-4261-A94D-02853B1F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B11CBE-879D-47D0-831D-D69AFF60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9D322A-079C-4744-BFF2-C43062B0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886AE5-326C-4BF2-9A5C-E947BCC6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8E93CD-63F6-434F-922E-8CFB9096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1805B1-862D-4263-8167-FA60C67A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F92B-7482-41BE-A04A-28C61495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114EFB-6A1E-493C-BB7B-4AF0B686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807E85-9781-463B-A424-914C6700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73DEF7-B911-4E69-ADB2-DFABE741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CE7EAD-F50B-4895-8514-F03CE258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AFA927-1659-4BB1-A1EC-C32A8982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C29D6E-4A03-4E1E-920F-304CC223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E3F39E-25D5-442F-8490-21D0FDBE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F22387-4EFB-458D-B973-EC8B9EA0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59E4C2-BA0C-4298-A083-DDEE099F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08ADA5-F0D3-408D-8E42-377B0BAA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F763-7548-450D-A665-9F554627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D1A0A4-598A-46D0-BF07-A32864BF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1ABD76-96DC-4A84-AC91-12CA7168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27904E-FCEC-4F4D-8C0A-50FFA320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DF1DEA-BDAF-4E5A-A27B-FB435BF1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1A6884-5DF3-47CB-B211-275056CA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1E3A8E-6A58-4997-ACDC-DB5525D9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C3BF1C-CA63-41F5-8076-76DDA52F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250F6D-47F5-4D55-B35B-893572B0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3E1172-7353-4A7B-8CF5-0A5D67AB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44FACB-EF71-465D-816B-D93DDFA4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11C31-BAEE-4D0C-9AB3-809F3405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F7BCBB-1124-4AAF-89FB-90774108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CAF205-9047-40FF-844D-FDC30703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FA5CBC-C1DA-4E2F-8AEC-E03C8A43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1FC01E-9DCD-4B42-A7E2-26945B58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30E16D-D7D3-49BD-BCBB-56311BB9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4990B2-348D-493F-8063-83059464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6F93F5-7165-43B3-8486-11701075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1F4007-85F9-4664-B778-58AC008A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57EB5A-53E4-4261-A226-11C60BC2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371E1E-46BA-4AE9-AFB5-3D5564D0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A9D86-BD5F-427B-984F-C063EA19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475283-836A-4FD9-9C3C-1645E9E7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110674-CB35-4501-BFE2-CC2A57BC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9BC80E-84C0-498B-8632-B286E218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AF9443-0B55-4197-8F25-6142C62C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9123B9-294F-4D75-B1A4-1DC893D9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9409C3-2A13-45B8-B327-F71CE7D0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22EF04-F51E-46C4-8BE5-44B16707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77A269-0F68-436D-8006-7989AEBB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017E91-4068-46EA-9B35-DA476A3E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9B74E7-8BD1-4F00-8B1D-F44F30D8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2C767-D628-4E4F-A636-7C604D09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09AD7D-0C2C-49D8-A23E-84F4A361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B8D99C-E2A8-47A8-AFC8-1F801B75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88FA16-FEAD-4C0F-865D-6F47E16B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31FD1D-316C-4133-9C79-99579EA2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10E702-AB42-47CF-A362-A023A34D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83C0EA-06A5-4E14-B0DF-CB7CA794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5548C0-F742-4812-8B12-CEF8861C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640E11-F16D-4199-A992-E4FB43F9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0D8D39-8E26-4030-8A7C-8958BA0B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147441-D95C-41B4-9AF6-73373985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421E3-72FE-48C8-84F8-7187EC3E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CDCB88-8A55-4F42-B08E-85DD73E9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93845D-1625-4241-A6EF-61F068A7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3B9395-63A0-4B6F-B955-907AF3FA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D0200E-229F-42B9-8617-158CD4A2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862840-A268-4DB3-9C5D-6CA9E378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69F3F3-BB1F-4AB0-AFAD-78D5344C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65E0C2-B21E-4D6A-AE22-8876593B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033118-E609-4C78-BD68-3C97029F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E67789-E46C-457C-A44F-689E8456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26E24-FF05-4E0F-A4A7-FAC37E57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5564E-4490-40D2-923F-493FFFCC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875BF-7F19-4E0A-9281-D65752EF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C7BCC-6A55-4CD4-95E3-0535C268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C3D0E-D469-463B-BC67-6396626A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C6CEA-DF83-42F5-B7FE-AB0A725C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4A0F0-2CEC-460B-878B-95CA43C0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8939A-8D56-410C-9481-55F74D27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504A0-0293-4FCE-B3C3-113FF33B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3C6CC2-AB8A-48E8-948F-1BC3301C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42A0F6-936A-4630-975C-C7879A78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561D3B-12D3-4177-9BBA-40145D91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28473-D9DF-4EF4-9015-C56449AD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41B945-6E25-4197-9BE5-398EBC58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F82DFF-7B14-4C65-8038-87FC596B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DBB775-BC10-4072-823F-A3701CD2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7108EF-B0E1-40BA-8493-182A2E0B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AA2B38-3A0D-4305-A572-DD6BAFB3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5AECBD-7B2A-46A1-9D20-BE056D71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32FD78-7B44-44F7-93B5-DEF1BCCD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AD1D31-055E-4303-A889-4B68F634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C30453-C50F-44FB-8D4B-609B5AA2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7C998D-8C18-43A4-BDA8-CCAE197A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31D80-E2DE-4CF0-99BC-E4499A3B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3FB994-BDE9-4244-9B16-D98E7695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C1F182-C8F5-4866-8E4A-BF2B1C47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17DED5-335C-4200-A270-5D3BFC16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699F55-AE79-44E5-B47E-C1B761E0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A27F53-D085-4793-B6B5-1F79A569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1C08C1-BC54-443F-82F6-8DA58092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2412EA-6E70-47DB-8F7B-11BA3DA2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8B614-7BF0-478B-A161-E662296E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3CD56A-61C6-4532-8387-9B50AB32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20CFA1-C7A7-47D5-928C-AC3485A4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E7721-6303-4EE3-ACDD-C0EA6E29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90186D-C3B3-47A1-A730-DEC37011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5D6DCE-9D9C-4C9D-B099-A6F2CBE5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5E89F7-5BD8-4C98-B3DA-90409C52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B4337D-09E3-4852-A80C-CBE21B68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2853D6-3DB5-4CD0-B026-953606FC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D5D864-D4D5-4C04-814D-31C09BBE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B41FE6-6E7F-4EB4-9746-97D3E21B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751CC1-BBA8-4C73-9825-20972425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632699-F3EF-4FED-B525-D0E836E3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215FE9-3511-4DA1-B342-41D54D38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FFD69-1235-4477-8586-43807EEF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3ABC5F-57B9-4F96-A5F4-2D588054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4748FC-D1A3-48C8-8A38-A77A5640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0E874C-52DF-497C-B16A-EFD90E59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4E5646-6C40-4D98-9873-F398B684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523802-3432-40B5-947C-55A97F53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200D1A-DA56-44AA-927B-B78C6AC7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BD8F7A-1399-4ABB-A6FD-EE22D6F4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393122-F976-4D48-826B-F98520C2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5B1353-184C-4E35-9BAC-F7515E3A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D35767-A411-4BE0-886B-9645A037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7E4A7-B51B-42D4-B9C6-B68E71E0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4E7985-8C08-4208-81CD-0672F9D3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109DDE-4713-408F-90FC-14DB2A2F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8C2657-B7DF-4FF0-BA76-69021403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D0D4C7-D6C6-4134-82C3-427DA566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3D2066-CF01-4B13-A29E-A31067E5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07BCCA-3A9A-416D-BD43-D25EEBF0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75EB0A-B885-4E1E-86FF-471B397E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303DD3-D1C9-4056-B3FD-5672B4AE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B88779-5316-43C8-87F4-702B7135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180BD5-4917-45A1-90FE-0D0115DB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571D3-41FC-4D49-8D5D-596C54C3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6E015E-0879-45B3-9B7A-3465ADE6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4F1BB4-0FFD-4EF3-9D69-23FD5BAC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CF3AA8-1C9D-4913-BDFA-D14D27A0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E09A77-8CDA-43D8-9CF5-5B96926C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A196DA-5DDD-4539-BBC6-B80A2F79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A6CCA0-38DF-46B9-914F-79E1B9E5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5C3A88-6CA1-476F-BAE7-03CA7504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98A663-5B65-4EBB-9BF3-D4E96B1E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2C414D-3AFE-4444-87FD-4B3B3CF5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06224E-4B88-4F40-9345-07274686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57.xml"/><Relationship Id="rId35" Type="http://schemas.openxmlformats.org/officeDocument/2006/relationships/slideLayout" Target="../slideLayouts/slideLayout158.xml"/><Relationship Id="rId36" Type="http://schemas.openxmlformats.org/officeDocument/2006/relationships/slideLayout" Target="../slideLayouts/slideLayout159.xml"/><Relationship Id="rId37" Type="http://schemas.openxmlformats.org/officeDocument/2006/relationships/slideLayout" Target="../slideLayouts/slideLayout160.xml"/><Relationship Id="rId38" Type="http://schemas.openxmlformats.org/officeDocument/2006/relationships/slideLayout" Target="../slideLayouts/slideLayout161.xml"/><Relationship Id="rId39" Type="http://schemas.openxmlformats.org/officeDocument/2006/relationships/slideLayout" Target="../slideLayouts/slideLayout162.xml"/><Relationship Id="rId40" Type="http://schemas.openxmlformats.org/officeDocument/2006/relationships/slideLayout" Target="../slideLayouts/slideLayout163.xml"/><Relationship Id="rId41" Type="http://schemas.openxmlformats.org/officeDocument/2006/relationships/slideLayout" Target="../slideLayouts/slideLayout164.xml"/><Relationship Id="rId42" Type="http://schemas.openxmlformats.org/officeDocument/2006/relationships/slideLayout" Target="../slideLayouts/slideLayout165.xml"/><Relationship Id="rId43" Type="http://schemas.openxmlformats.org/officeDocument/2006/relationships/slideLayout" Target="../slideLayouts/slideLayout166.xml"/><Relationship Id="rId44" Type="http://schemas.openxmlformats.org/officeDocument/2006/relationships/slideLayout" Target="../slideLayouts/slideLayout167.xml"/><Relationship Id="rId4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4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5F18-3E2C-4C48-A42B-CFCAE1AA00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4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7508-FC95-40F1-9665-5A6B138831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4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5A64-8F6A-4AA0-8C36-F7FF10B3BF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4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B4B8-6DEB-4043-BF8D-7A1D296966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4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AFF8-A059-4F44-8392-9D99972D52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0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61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1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1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1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1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61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p:txBody>
                </p:sp>
              </p:grpSp>
              <p:sp>
                <p:nvSpPr>
                  <p:cNvPr id="61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17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i="1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18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i="1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19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i="1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2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i="1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2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i="1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  <p:pic>
              <p:nvPicPr>
                <p:cNvPr id="62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3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3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5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5C0E-CD81-4443-840C-0D0DB59FE7A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4"/>
    <p:sldLayoutId id="2147483819" r:id="rId35"/>
    <p:sldLayoutId id="2147483820" r:id="rId36"/>
    <p:sldLayoutId id="2147483821" r:id="rId37"/>
    <p:sldLayoutId id="2147483822" r:id="rId38"/>
    <p:sldLayoutId id="2147483823" r:id="rId39"/>
    <p:sldLayoutId id="2147483824" r:id="rId40"/>
    <p:sldLayoutId id="2147483825" r:id="rId41"/>
    <p:sldLayoutId id="2147483826" r:id="rId42"/>
    <p:sldLayoutId id="2147483827" r:id="rId43"/>
    <p:sldLayoutId id="2147483828" r:id="rId44"/>
    <p:sldLayoutId id="2147483829" r:id="rId4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4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4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5A32-27CE-43DF-AA01-7911BCA3B88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4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4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E8E7-BC8F-4CA4-9330-3576EE0F223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4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DFE7-A5A0-431C-A6BA-9446CB59AE9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5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5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5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52A5-17BA-4250-8C8F-0868AB0D067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5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3552-A79D-4A25-854F-8E94D16FCE2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5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p:txBody>
                </p:sp>
              </p:grpSp>
              <p:sp>
                <p:nvSpPr>
                  <p:cNvPr id="6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i="1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i="1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i="1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i="1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i="1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  <p:pic>
              <p:nvPicPr>
                <p:cNvPr id="6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3D1D-603B-4131-8109-056126185F7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dt" idx="5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ftr" idx="5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sldNum" idx="6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28BD-4882-4C22-B230-4C1DA552C05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6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6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6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3B0C-B4A6-45C3-A8A9-8A1A26B1BB2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6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6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6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2260-9C9A-4A72-9FEB-C32DFB96B69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6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ftr" idx="6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sldNum" idx="6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CAE8-1860-4886-B114-1CC627B85E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 type="dt" idx="7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 type="ftr" idx="7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 type="sldNum" idx="7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03BB-8428-4072-9E5E-6C1A7AB833AA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4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7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8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9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0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1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2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53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D098-F21D-4702-9D4F-44E0EC1AAF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4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FDF5-5491-4E4B-A8A7-E6C08B8F70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4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D85E-086F-4318-9E3D-00F2CA3F2A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4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FC70-EEA8-4B46-98C0-5F647A22CB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4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D4E0-4969-4785-9418-838254F431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4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196E-498E-40AA-AEAD-E4FEFA7F7E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4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A0A4-5C18-4B09-A236-D06558EB88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5e5ff"/>
                </a:solidFill>
                <a:latin typeface="Garamond"/>
              </a:rPr>
              <a:t>Тема :</a:t>
            </a:r>
            <a:br>
              <a:rPr sz="4800"/>
            </a:b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i="1" lang="ru-RU" sz="4800" spc="-1" strike="noStrike">
                <a:solidFill>
                  <a:srgbClr val="e5e5ff"/>
                </a:solidFill>
                <a:latin typeface="Garamond"/>
              </a:rPr>
              <a:t>Театрализованная игра как средство социально-личностного развития дошкольника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 txBox="1"/>
          <p:nvPr/>
        </p:nvSpPr>
        <p:spPr>
          <a:xfrm>
            <a:off x="250920" y="692280"/>
            <a:ext cx="7386480" cy="5472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настольный театр игрушек или картинок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теневой театр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альчиковый  театр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гры –драматизации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театр на фланелеграфе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инсценирование фрагментов из сказо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игра-имитация образ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ролевой диалог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режиссерская игр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 txBox="1"/>
          <p:nvPr/>
        </p:nvSpPr>
        <p:spPr>
          <a:xfrm>
            <a:off x="263520" y="765000"/>
            <a:ext cx="7386480" cy="5330880"/>
          </a:xfrm>
          <a:prstGeom prst="rect">
            <a:avLst/>
          </a:prstGeom>
          <a:solidFill>
            <a:srgbClr val="0316c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dc1f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16dc1f"/>
                </a:solidFill>
                <a:latin typeface="Arial"/>
              </a:rPr>
              <a:t>Творческая мастерская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125" name="Picture 2" descr="C:\Program Files\Microsoft Office\MEDIA\CAGCAT10\j0216516.wmf"/>
          <p:cNvPicPr/>
          <p:nvPr/>
        </p:nvPicPr>
        <p:blipFill>
          <a:blip r:embed="rId1"/>
          <a:stretch/>
        </p:blipFill>
        <p:spPr>
          <a:xfrm>
            <a:off x="1692360" y="2519280"/>
            <a:ext cx="366552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12"/>
          <p:cNvPicPr/>
          <p:nvPr/>
        </p:nvPicPr>
        <p:blipFill>
          <a:blip r:embed="rId1"/>
          <a:stretch/>
        </p:blipFill>
        <p:spPr>
          <a:xfrm>
            <a:off x="0" y="115920"/>
            <a:ext cx="4363920" cy="495756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5" descr=""/>
          <p:cNvPicPr/>
          <p:nvPr/>
        </p:nvPicPr>
        <p:blipFill>
          <a:blip r:embed="rId2">
            <a:lum bright="-12000"/>
          </a:blip>
          <a:srcRect l="5413" t="2096" r="15538" b="777"/>
          <a:stretch/>
        </p:blipFill>
        <p:spPr>
          <a:xfrm>
            <a:off x="4356000" y="3162240"/>
            <a:ext cx="4788000" cy="3695760"/>
          </a:xfrm>
          <a:prstGeom prst="rect">
            <a:avLst/>
          </a:prstGeom>
          <a:ln w="0">
            <a:noFill/>
          </a:ln>
        </p:spPr>
      </p:pic>
      <p:sp>
        <p:nvSpPr>
          <p:cNvPr id="1128" name="Rectangle 6"/>
          <p:cNvSpPr/>
          <p:nvPr/>
        </p:nvSpPr>
        <p:spPr>
          <a:xfrm>
            <a:off x="4602960" y="400680"/>
            <a:ext cx="4507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ети представляют </a:t>
            </a:r>
            <a:endParaRPr b="0" i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пектакль</a:t>
            </a:r>
            <a:endParaRPr b="0" i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ами как артисты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i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4" descr="IMG_0417"/>
          <p:cNvPicPr/>
          <p:nvPr/>
        </p:nvPicPr>
        <p:blipFill>
          <a:blip r:embed="rId1"/>
          <a:stretch/>
        </p:blipFill>
        <p:spPr>
          <a:xfrm>
            <a:off x="395280" y="1125360"/>
            <a:ext cx="8209080" cy="5723280"/>
          </a:xfrm>
          <a:prstGeom prst="rect">
            <a:avLst/>
          </a:prstGeom>
          <a:ln w="0">
            <a:noFill/>
          </a:ln>
        </p:spPr>
      </p:pic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Настольный театр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Picture 5" descr=""/>
          <p:cNvPicPr/>
          <p:nvPr/>
        </p:nvPicPr>
        <p:blipFill>
          <a:blip r:embed="rId1"/>
          <a:stretch/>
        </p:blipFill>
        <p:spPr>
          <a:xfrm>
            <a:off x="0" y="-25560"/>
            <a:ext cx="9252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0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4" descr=""/>
          <p:cNvPicPr/>
          <p:nvPr/>
        </p:nvPicPr>
        <p:blipFill>
          <a:blip r:embed="rId1"/>
          <a:srcRect l="1952" t="2909" r="-552" b="3041"/>
          <a:stretch/>
        </p:blipFill>
        <p:spPr>
          <a:xfrm>
            <a:off x="611280" y="1341360"/>
            <a:ext cx="8028000" cy="5281560"/>
          </a:xfrm>
          <a:prstGeom prst="rect">
            <a:avLst/>
          </a:prstGeom>
          <a:ln w="0">
            <a:noFill/>
          </a:ln>
        </p:spPr>
      </p:pic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Стендовые театрализованные игры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e5e5ff"/>
                </a:solidFill>
                <a:latin typeface="Garamond"/>
              </a:rPr>
              <a:t>Театр на фланелеграфе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274644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Т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е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н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е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в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о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й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т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е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а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т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р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5" name="Picture 4" descr="8"/>
          <p:cNvPicPr/>
          <p:nvPr/>
        </p:nvPicPr>
        <p:blipFill>
          <a:blip r:embed="rId1"/>
          <a:stretch/>
        </p:blipFill>
        <p:spPr>
          <a:xfrm>
            <a:off x="3492360" y="115920"/>
            <a:ext cx="504036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Picture 10" descr="2"/>
          <p:cNvPicPr/>
          <p:nvPr/>
        </p:nvPicPr>
        <p:blipFill>
          <a:blip r:embed="rId1"/>
          <a:stretch/>
        </p:blipFill>
        <p:spPr>
          <a:xfrm>
            <a:off x="0" y="0"/>
            <a:ext cx="3708360" cy="4437000"/>
          </a:xfrm>
          <a:prstGeom prst="rect">
            <a:avLst/>
          </a:prstGeom>
          <a:ln w="0">
            <a:noFill/>
          </a:ln>
        </p:spPr>
      </p:pic>
      <p:sp>
        <p:nvSpPr>
          <p:cNvPr id="1137" name="Rectangle 11"/>
          <p:cNvSpPr/>
          <p:nvPr/>
        </p:nvSpPr>
        <p:spPr>
          <a:xfrm>
            <a:off x="4284000" y="835560"/>
            <a:ext cx="46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альчиковый театр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Picture 4" descr="IMG_04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9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Picture 4" descr=""/>
          <p:cNvPicPr/>
          <p:nvPr/>
        </p:nvPicPr>
        <p:blipFill>
          <a:blip r:embed="rId1"/>
          <a:srcRect l="0" t="8336" r="0" b="0"/>
          <a:stretch/>
        </p:blipFill>
        <p:spPr>
          <a:xfrm>
            <a:off x="179280" y="260280"/>
            <a:ext cx="8785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6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4"/>
          <p:cNvSpPr/>
          <p:nvPr/>
        </p:nvSpPr>
        <p:spPr>
          <a:xfrm>
            <a:off x="395280" y="620640"/>
            <a:ext cx="8352000" cy="90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e5ff"/>
                </a:solidFill>
                <a:latin typeface="Garamond"/>
              </a:rPr>
              <a:t>Цель: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азвивать у детей интерес к театру, как к виду искусства,</a:t>
            </a:r>
            <a:endParaRPr b="0" i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ключать ребенка в культурное пространство через развивающую предметную среду, формировать положительные качества личностной позиции ребенка, направленные на свободные выражения творческих замыслов. </a:t>
            </a:r>
            <a:endParaRPr b="0" i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e5ff"/>
                </a:solidFill>
                <a:latin typeface="Garamond"/>
              </a:rPr>
              <a:t>Задачи: 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азвивать творческие способности через разные виды литературных жанров и предметную среду группы; познакомить с устным народным творчеством; развивать и активизировать речь детей; научить детей замечать художественную форму, выражающую содержание, богатство языка, осваивать его, обогащать свою речь образными выражениями: жест, поза, мимика, пантомима, интонация; развивать память, внимание, мышление.</a:t>
            </a:r>
            <a:br>
              <a:rPr sz="2800"/>
            </a:br>
            <a:endParaRPr b="0" i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5"/>
          <p:cNvSpPr/>
          <p:nvPr/>
        </p:nvSpPr>
        <p:spPr>
          <a:xfrm>
            <a:off x="2268360" y="240840"/>
            <a:ext cx="50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alibri"/>
                <a:ea typeface="Calibri"/>
              </a:rPr>
              <a:t>Литература:</a:t>
            </a:r>
            <a:endParaRPr b="0" i="1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1" name="Rectangle 7"/>
          <p:cNvSpPr/>
          <p:nvPr/>
        </p:nvSpPr>
        <p:spPr>
          <a:xfrm>
            <a:off x="1258920" y="1167480"/>
            <a:ext cx="6626160" cy="56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Брызгалова А.Н,, М.А.Калиновская 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«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еатрально 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игровая деятельность дошкольников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»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 Минск 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«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Изд.Юнипресс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»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2006г.</a:t>
            </a: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2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Дронова.Т.Н., Играем в театр. Театрализованная деятельность детей 4-6 лет. М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Просвещение, 2005.</a:t>
            </a: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артушина. М.Ю., 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«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Забавы для малышей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»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(Театрализованные развлечения) М. 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«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фера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»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2008г.</a:t>
            </a: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ff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.Мигунова. Е.В., Организация театрализованной деятельности в детском саду. 2006</a:t>
            </a: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5. Петрова Т.И., Сергеева Е.Л., Петрова Е.С. Театрализованные игры в детском саду: Разработки занятий для всех возрастных групп. 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М.: Школьная Пресса, 2000. 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С.56-58</a:t>
            </a: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6. Сорокина Н.Ф. 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«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Играем в кукольный театр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»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М., 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«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ркти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»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999г</a:t>
            </a: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нятие  театрализованная игра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Значение театрализованной игры в социально-личностном развити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иды театрализованных игр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едагогическая творческая мастерск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345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i="1" lang="ru-RU" sz="4800" spc="-1" strike="noStrike">
                <a:solidFill>
                  <a:srgbClr val="e5e5ff"/>
                </a:solidFill>
                <a:latin typeface="Garamond"/>
              </a:rPr>
              <a:t>Понятийный аппарат: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1187280" y="2205000"/>
            <a:ext cx="6400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Воображени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Творчеств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Креативност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Творческая игр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45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Театрализованная игра</a:t>
            </a: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 – это разыгрывание в лицах литературных произведений (сказок, рассказов, специально написанных инсценировок)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1"/>
          <p:cNvSpPr/>
          <p:nvPr/>
        </p:nvSpPr>
        <p:spPr>
          <a:xfrm>
            <a:off x="971640" y="547920"/>
            <a:ext cx="6840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Театрализованная деятельность, как игровая деятельность имеет огромное значение для социально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—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личностного развития ребенка.</a:t>
            </a:r>
            <a:endParaRPr b="0" i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В процессе этой деятельности через коммуникацию происходит приобщение к общепринятым нормам и правилам существования в социуме; знакомство с произведениями разных жанров искусства (литературного, изобразительного, музыкального и др.); овладение начальными знаниями об истории человечества; развитие всех компонентов устной речи; практическое овладение навыками устной речи; развитие общей и мелкой моторики.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1"/>
          <p:cNvSpPr/>
          <p:nvPr/>
        </p:nvSpPr>
        <p:spPr>
          <a:xfrm>
            <a:off x="468360" y="-604800"/>
            <a:ext cx="8136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В своей работе мы используем инсценирование и драматизацию отрывков, как из фольклорных, так и авторских произведений; разучивание стихов; развиваем артистические способности в подвижных играх имитационного характера; рисование иллюстраций к художественным произведениям; лепку сказочных животных; а также другие виды художественно — продуктивной деятельности (изготовление декораций, реквизита, элементов костюмов к разным театральным постановкам). В результате включения театрализованной игры и ее элементов в различные виды детской деятельности (игровой, познавательной, воспитательной, экспериментальной, спортивной и др.) у наших детей  формируются различные навыки, умения, формируются и развиваются интегративные качества. Таким образом, театрализованная деятельность способствует всестороннему развитию ребенка</a:t>
            </a:r>
            <a:endParaRPr b="0" i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4"/>
          <p:cNvSpPr/>
          <p:nvPr/>
        </p:nvSpPr>
        <p:spPr>
          <a:xfrm>
            <a:off x="539640" y="699840"/>
            <a:ext cx="8064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Чтобы веселиться чужим весельем, сочувствовать чужому горю нужно уметь с помощью воображения перенестись в положение другого человека, мысленно стать на его место.</a:t>
            </a:r>
            <a:endParaRPr b="0" i="1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         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Б. М. Теплов</a:t>
            </a:r>
            <a:endParaRPr b="0" i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200720" cy="47530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иды театрализованных игр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263520" y="549360"/>
            <a:ext cx="7386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5:43:27Z</dcterms:created>
  <dc:creator>LPC_cab_31_new</dc:creator>
  <dc:description/>
  <dc:language>en-US</dc:language>
  <cp:lastModifiedBy>Алексей</cp:lastModifiedBy>
  <dcterms:modified xsi:type="dcterms:W3CDTF">2015-01-04T17:13:58Z</dcterms:modified>
  <cp:revision>42</cp:revision>
  <dc:subject/>
  <dc:title>Слайд 1</dc:title>
</cp:coreProperties>
</file>