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B29-7A4C-4C4C-BCDF-F77C333B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624-8EE1-4658-BD54-44849AC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8A9-1CB7-4AB2-8256-A2622E9D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35E-5181-4D61-ACF5-E07DC582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B16F-D9B5-4FA4-A179-17ACEE62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E846-8477-45CC-BD19-A5F556E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EE38-6205-44D0-99E3-BE0B8B2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08F-1DB3-4B49-BF0C-4D3E81E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DF03-AE73-4FEB-95D5-4D2B497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DA45-1BAF-4B00-9639-EC2AEF79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FB75-4BA9-4912-98DA-E0DDF08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9C9-4FA1-494D-A262-8EB6DD3D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B451-FD7F-43A4-BCCE-1D0847A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892-72E2-48E1-85CD-35140F6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327A-46A9-4C83-A746-FEACD93A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8DDE-6E37-4EF8-9650-E51377D7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587C-DE20-4BAF-A968-0E20AA74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889-DC56-48DC-97AF-C54E10B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76B-4A64-4024-9F13-7F8A842C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F0D-2EFF-4ACB-97B5-F1D29598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DE1-BD0B-40C7-B0B2-0BFD30BF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66B-BCE3-4136-A40B-8B752B6B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D7E-D26B-4776-A7E9-BB7482BC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5E2-F7D8-45CC-A568-BED037CF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537-F925-44F7-9DAF-06CFA77B1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7D20-9C21-4099-B70C-B5917D57D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0:38:46Z</dcterms:created>
  <dc:creator>Марина</dc:creator>
  <dc:description/>
  <dc:language>en-US</dc:language>
  <cp:lastModifiedBy>Марина</cp:lastModifiedBy>
  <dcterms:modified xsi:type="dcterms:W3CDTF">2010-11-02T17:30:48Z</dcterms:modified>
  <cp:revision>6</cp:revision>
  <dc:subject/>
  <dc:title>Слайд 1</dc:title>
</cp:coreProperties>
</file>