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A64-709E-4640-A8D1-320D7631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A37-958D-4C92-978F-8032A1A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643-9822-4032-938F-3346BB49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20A-CBDF-4766-AFFD-735F41E6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22F0-D0D7-4C4F-A607-7F3F1168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538D-7F8A-4CAD-843E-D3BB5B4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4E3A-7FE3-4250-8D09-24FBE39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DE4-98EA-43BE-A270-7696B7C9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4F09-1BFE-4F5A-88B3-BA9A35BE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FC9-EFC3-4D07-A8E1-A70A1001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C7CB-4691-4479-8F27-E931AE0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E3D-E196-4136-A923-C6B4CEF0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4695-352F-44CC-AB3B-8414B42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9780-C331-43BD-8121-39BF4A9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890F-0502-49BF-9088-5912A20A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AB6E-3B34-4895-810E-458F376D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E3E2-7E68-49C0-AF93-808F5EFC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49E-DD62-4AC9-90C6-CD41AD25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194-3CAB-4707-85E3-2D769330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566-11BD-49BA-B1DC-DA8695CA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180-4D67-45EE-BD6E-8BEA461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427-F959-43DF-B584-C516221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B7A-18DC-4BA0-83DB-EEAEBDF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A7C-675F-4367-AD0F-B0F9328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D4B4-03C1-4959-B939-8286EDD03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FDDD-9ED5-4990-B981-EE402A4D7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9900"/>
                </a:solidFill>
                <a:latin typeface="Monotype Corsiva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95640" y="234936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9564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9564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95640" y="342900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95640" y="378936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4149720"/>
            <a:ext cx="43200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95640" y="450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2764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9280" y="2349360"/>
            <a:ext cx="4334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92720" y="234936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2764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59280" y="270828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92720" y="270828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270828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764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306864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92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24360" y="3068640"/>
            <a:ext cx="43200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56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16720" y="306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48360" y="306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6400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764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59280" y="3429000"/>
            <a:ext cx="4334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92720" y="342900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0" y="378936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43280" y="378936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64000" y="4149720"/>
            <a:ext cx="43164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43280" y="4149720"/>
            <a:ext cx="360360" cy="358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4508640"/>
            <a:ext cx="43164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364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4508640"/>
            <a:ext cx="360360" cy="360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0:38:46Z</dcterms:created>
  <dc:creator>Марина</dc:creator>
  <dc:description/>
  <dc:language>en-US</dc:language>
  <cp:lastModifiedBy>Марина</cp:lastModifiedBy>
  <dcterms:modified xsi:type="dcterms:W3CDTF">2010-11-02T17:30:48Z</dcterms:modified>
  <cp:revision>6</cp:revision>
  <dc:subject/>
  <dc:title>Слайд 1</dc:title>
</cp:coreProperties>
</file>