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E256-FBF5-46C6-A23A-B4D0EE1C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D2AD-6942-4AC0-8B49-8C089323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812D-A78F-4899-9902-BD3A3B59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988E-D977-4702-BCDF-3D2B1703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69D1-CB88-453A-9432-8437BFA8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8A97-FF18-4271-9BB8-C780F26E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5098-934D-4AD5-84E3-33665823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9810-AFC4-4991-BBCD-5214DC39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5C7E-0B6D-4795-9CCD-9F2667B3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118E-7B32-4663-8C6F-5B3115FC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E361-3EEC-41FB-B70C-CEB3CB30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4E42-2A18-4C35-9B4A-B16C4100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BDA0-5114-405E-8B93-B6FC1001F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292200">
            <a:off x="938160" y="395280"/>
            <a:ext cx="7340760" cy="432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лассный час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68360" y="1484280"/>
            <a:ext cx="80643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Светофор - надёжный друг"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84360" y="1197000"/>
            <a:ext cx="4248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655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4032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43280" y="1268280"/>
            <a:ext cx="3673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27280" y="1413000"/>
            <a:ext cx="3240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11280" y="1341360"/>
            <a:ext cx="39610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6192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6T11:53:09Z</dcterms:created>
  <dc:creator>Admin</dc:creator>
  <dc:description/>
  <dc:language>en-US</dc:language>
  <cp:lastModifiedBy>Admin</cp:lastModifiedBy>
  <dcterms:modified xsi:type="dcterms:W3CDTF">2014-09-16T12:10:44Z</dcterms:modified>
  <cp:revision>2</cp:revision>
  <dc:subject/>
  <dc:title>Слайд 1</dc:title>
</cp:coreProperties>
</file>