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F75-725C-45D5-B587-E08351DC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738-D234-49CB-8B62-CCCEEAD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001-8135-41C9-94CD-04FCC639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3B2-3CF1-4F7B-B2DC-7AB3C22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2E7-A8C3-4505-9588-CD1FA956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141-9676-4A8F-B6AF-818A6802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30F-BC1E-4400-ABB8-B06DBAA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46E-9131-4C57-91EB-4E7B038C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645-6D29-4E65-BE1A-36BA92E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6EA-144B-4DC6-A6B2-FCB1567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619-DC73-4C64-B8E3-1E4D22F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C24-F7D5-4BF0-B8D9-B131D15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B84F-1914-4ECA-97A6-9636B2608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92200">
            <a:off x="938160" y="395280"/>
            <a:ext cx="7340760" cy="432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1484280"/>
            <a:ext cx="806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ветофор - надёжный друг"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424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55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03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673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3961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1:53:09Z</dcterms:created>
  <dc:creator>Admin</dc:creator>
  <dc:description/>
  <dc:language>en-US</dc:language>
  <cp:lastModifiedBy>Admin</cp:lastModifiedBy>
  <dcterms:modified xsi:type="dcterms:W3CDTF">2014-09-16T12:10:44Z</dcterms:modified>
  <cp:revision>2</cp:revision>
  <dc:subject/>
  <dc:title>Слайд 1</dc:title>
</cp:coreProperties>
</file>