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.gif" ContentType="image/gif"/>
  <Override PartName="/ppt/media/image8.jpeg" ContentType="image/jpeg"/>
  <Override PartName="/ppt/media/image30.png" ContentType="image/png"/>
  <Override PartName="/ppt/media/image9.gif" ContentType="image/gif"/>
  <Override PartName="/ppt/media/image5.gif" ContentType="image/gif"/>
  <Override PartName="/ppt/media/image10.gif" ContentType="image/gif"/>
  <Override PartName="/ppt/media/image14.png" ContentType="image/png"/>
  <Override PartName="/ppt/media/image11.gif" ContentType="image/gif"/>
  <Override PartName="/ppt/media/image24.jpeg" ContentType="image/jpeg"/>
  <Override PartName="/ppt/media/image15.png" ContentType="image/png"/>
  <Override PartName="/ppt/media/image12.gif" ContentType="image/gif"/>
  <Override PartName="/ppt/media/image16.png" ContentType="image/png"/>
  <Override PartName="/ppt/media/image13.gif" ContentType="image/gif"/>
  <Override PartName="/ppt/media/image7.wmf" ContentType="image/x-wmf"/>
  <Override PartName="/ppt/media/image22.jpeg" ContentType="image/jpeg"/>
  <Override PartName="/ppt/media/image29.png" ContentType="image/png"/>
  <Override PartName="/ppt/media/image26.png" ContentType="image/png"/>
  <Override PartName="/ppt/media/image3.gif" ContentType="image/gif"/>
  <Override PartName="/ppt/media/image1.gif" ContentType="image/gif"/>
  <Override PartName="/ppt/media/image4.gif" ContentType="image/gif"/>
  <Override PartName="/ppt/media/image27.png" ContentType="image/png"/>
  <Override PartName="/ppt/media/image17.gif" ContentType="image/gif"/>
  <Override PartName="/ppt/media/image6.jpeg" ContentType="image/jpeg"/>
  <Override PartName="/ppt/media/image18.png" ContentType="image/png"/>
  <Override PartName="/ppt/media/image28.jpeg" ContentType="image/jpeg"/>
  <Override PartName="/ppt/media/image19.png" ContentType="image/png"/>
  <Override PartName="/ppt/media/image21.png" ContentType="image/png"/>
  <Override PartName="/ppt/media/image20.wmf" ContentType="image/x-wmf"/>
  <Override PartName="/ppt/media/image23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591F-E431-47E2-B66F-ADE89CFE96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B722-F730-4D60-9DBD-A784EC867C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BEB4-9236-49C6-BD32-3DB98062DB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F66F-B693-4B17-A211-017A3F1818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A863-EEFD-4CBF-BBE7-3CE55F9FC1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3CAE-9221-43D7-BDCE-59E920942C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3A9A-0103-4557-8DF0-623C78D69FF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7CE9-4838-4D40-B58A-F2F6CD74799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B782-5E03-4131-8D19-6AFF141F40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2A5B-A181-46B0-8223-E0059E730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5697-7143-443C-A631-64DDA042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0161-5000-4721-82CF-B5A676085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1ACA-0A90-4418-8281-EE4A4AE80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614C-80AC-4C1A-AE20-2F224660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540A-A365-4748-895B-534AE18C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50E5-CB90-41FA-B034-215C9120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0FCE-03D4-48EF-9C65-2AC8EB46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E471-FA19-4E63-B7CD-C0CD6D6B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51E7-175D-4544-93A6-380E5A07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D624-B476-47E6-873F-569AFCD0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94E6-46C1-4B1F-8EFB-D488A9D0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CD5D-12CC-420D-832C-E4D57953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87EA-9EBD-4F4A-91CB-C9BE43AF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803F-F8CD-43D8-B142-A04575AC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5241-596C-47E6-B2F7-6E5B2F626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B8C1-941D-4969-8591-DCCD6114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2226-C166-4895-9514-BF23DE34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3A36-E7D0-4168-8016-BFB5EDBE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96BF-A23C-4E8B-97F1-7DD3D582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020B-7DD0-4B39-AFA4-AB4EBCA9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57F5-0700-492B-A5FA-D3C3F040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4499-4026-4B1F-8F30-6E76C6CD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C22D-9036-4D66-A10E-ABCEC73B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C9EB-C73E-4613-AB21-70C537EE9E79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CD7A-F15E-4F63-89C1-726BFB5CE7C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6725-E299-4870-8F65-F7CA42311F0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8.jpeg"/><Relationship Id="rId13" Type="http://schemas.openxmlformats.org/officeDocument/2006/relationships/image" Target="../media/image8.jpeg"/><Relationship Id="rId14" Type="http://schemas.openxmlformats.org/officeDocument/2006/relationships/image" Target="../media/image7.wmf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2508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Механическое движе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7" descr="C:\Users\света\Desktop\мама2\анимационные картинки, шаблоны\11T3.gif"/>
          <p:cNvPicPr/>
          <p:nvPr/>
        </p:nvPicPr>
        <p:blipFill>
          <a:blip r:embed="rId1"/>
          <a:stretch/>
        </p:blipFill>
        <p:spPr>
          <a:xfrm>
            <a:off x="826920" y="4221000"/>
            <a:ext cx="2665440" cy="2221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C:\Users\света\Desktop\мама2\анимационные картинки, шаблоны\18.gif"/>
          <p:cNvPicPr/>
          <p:nvPr/>
        </p:nvPicPr>
        <p:blipFill>
          <a:blip r:embed="rId2"/>
          <a:stretch/>
        </p:blipFill>
        <p:spPr>
          <a:xfrm>
            <a:off x="324000" y="1557360"/>
            <a:ext cx="1903320" cy="2719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C:\Users\света\Desktop\мама2\анимационные картинки, шаблоны\8.gif"/>
          <p:cNvPicPr/>
          <p:nvPr/>
        </p:nvPicPr>
        <p:blipFill>
          <a:blip r:embed="rId3"/>
          <a:stretch/>
        </p:blipFill>
        <p:spPr>
          <a:xfrm>
            <a:off x="5867280" y="1413000"/>
            <a:ext cx="2800440" cy="2303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C:\Users\света\Desktop\мама2\анимационные картинки, шаблоны\new_pa2.gif"/>
          <p:cNvPicPr/>
          <p:nvPr/>
        </p:nvPicPr>
        <p:blipFill>
          <a:blip r:embed="rId4"/>
          <a:stretch/>
        </p:blipFill>
        <p:spPr>
          <a:xfrm>
            <a:off x="3276720" y="1413000"/>
            <a:ext cx="2577960" cy="2506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5" descr="C:\Users\света\Desktop\мама2\анимационные картинки, шаблоны\анимационные картинки\2708327jc0iucbbqf.gif"/>
          <p:cNvPicPr/>
          <p:nvPr/>
        </p:nvPicPr>
        <p:blipFill>
          <a:blip r:embed="rId5"/>
          <a:stretch/>
        </p:blipFill>
        <p:spPr>
          <a:xfrm>
            <a:off x="4284720" y="4292640"/>
            <a:ext cx="402264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28560" y="274680"/>
            <a:ext cx="700092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Траектория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линия) :</a:t>
            </a:r>
            <a:br>
              <a:rPr sz="2900"/>
            </a:br>
            <a:r>
              <a:rPr b="1" i="1" lang="ru-RU" sz="2900" spc="-1" strike="noStrike">
                <a:solidFill>
                  <a:srgbClr val="000099"/>
                </a:solidFill>
                <a:latin typeface="Times New Roman"/>
              </a:rPr>
              <a:t>видимая (след), воображаемая;</a:t>
            </a:r>
            <a:br>
              <a:rPr sz="2900"/>
            </a:br>
            <a:r>
              <a:rPr b="1" i="1" lang="ru-RU" sz="2900" spc="-1" strike="noStrike">
                <a:solidFill>
                  <a:srgbClr val="ff0000"/>
                </a:solidFill>
                <a:latin typeface="Times New Roman"/>
              </a:rPr>
              <a:t>прямолинейная, криволинейна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44F2-7CFE-4831-A146-65915EB3117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Рисунок 4" descr="1.jpg"/>
          <p:cNvPicPr/>
          <p:nvPr/>
        </p:nvPicPr>
        <p:blipFill>
          <a:blip r:embed="rId1"/>
          <a:stretch/>
        </p:blipFill>
        <p:spPr>
          <a:xfrm>
            <a:off x="642960" y="214200"/>
            <a:ext cx="1857240" cy="157176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5" descr="img_2504f.jpg"/>
          <p:cNvPicPr/>
          <p:nvPr/>
        </p:nvPicPr>
        <p:blipFill>
          <a:blip r:embed="rId2"/>
          <a:stretch/>
        </p:blipFill>
        <p:spPr>
          <a:xfrm>
            <a:off x="2714760" y="1928880"/>
            <a:ext cx="1857240" cy="235728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6" descr="779011.jpg"/>
          <p:cNvPicPr/>
          <p:nvPr/>
        </p:nvPicPr>
        <p:blipFill>
          <a:blip r:embed="rId3"/>
          <a:stretch/>
        </p:blipFill>
        <p:spPr>
          <a:xfrm>
            <a:off x="642960" y="1928880"/>
            <a:ext cx="1857240" cy="235728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8" descr="lynx.jpg"/>
          <p:cNvPicPr/>
          <p:nvPr/>
        </p:nvPicPr>
        <p:blipFill>
          <a:blip r:embed="rId4"/>
          <a:stretch/>
        </p:blipFill>
        <p:spPr>
          <a:xfrm>
            <a:off x="6786720" y="1928880"/>
            <a:ext cx="1928520" cy="235728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9" descr="09_01.gif"/>
          <p:cNvPicPr/>
          <p:nvPr/>
        </p:nvPicPr>
        <p:blipFill>
          <a:blip r:embed="rId5"/>
          <a:stretch/>
        </p:blipFill>
        <p:spPr>
          <a:xfrm>
            <a:off x="4929120" y="4572000"/>
            <a:ext cx="3929040" cy="17146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0" descr="ris2_2n.gif"/>
          <p:cNvPicPr/>
          <p:nvPr/>
        </p:nvPicPr>
        <p:blipFill>
          <a:blip r:embed="rId6"/>
          <a:stretch/>
        </p:blipFill>
        <p:spPr>
          <a:xfrm>
            <a:off x="642960" y="4572000"/>
            <a:ext cx="4000320" cy="170964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0" descr="london-1114-sm.jpg"/>
          <p:cNvPicPr/>
          <p:nvPr/>
        </p:nvPicPr>
        <p:blipFill>
          <a:blip r:embed="rId7"/>
          <a:stretch/>
        </p:blipFill>
        <p:spPr>
          <a:xfrm>
            <a:off x="4714920" y="1928880"/>
            <a:ext cx="1905120" cy="2357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2"/>
          <p:cNvSpPr/>
          <p:nvPr/>
        </p:nvSpPr>
        <p:spPr>
          <a:xfrm>
            <a:off x="611280" y="62064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Форма траектории зависит от выбора системы отсче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35"/>
          <p:cNvSpPr/>
          <p:nvPr/>
        </p:nvSpPr>
        <p:spPr>
          <a:xfrm>
            <a:off x="826920" y="5013360"/>
            <a:ext cx="1297080" cy="1295280"/>
          </a:xfrm>
          <a:prstGeom prst="flowChartOr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6"/>
          <p:cNvSpPr/>
          <p:nvPr/>
        </p:nvSpPr>
        <p:spPr>
          <a:xfrm>
            <a:off x="900000" y="6308640"/>
            <a:ext cx="748836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rc 38"/>
          <p:cNvSpPr/>
          <p:nvPr/>
        </p:nvSpPr>
        <p:spPr>
          <a:xfrm>
            <a:off x="1619280" y="5013360"/>
            <a:ext cx="2663640" cy="129528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rc 39"/>
          <p:cNvSpPr/>
          <p:nvPr/>
        </p:nvSpPr>
        <p:spPr>
          <a:xfrm rot="18908400">
            <a:off x="4744800" y="4621320"/>
            <a:ext cx="3456000" cy="266364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2663640"/>
              <a:gd name="textAreaBottom" fmla="*/ 2664000 h 2663640"/>
            </a:gdLst>
            <a:ahLst/>
            <a:rect l="textAreaLeft" t="textAreaTop" r="textAreaRight" b="textAreaBottom"/>
            <a:pathLst>
              <a:path fill="none" w="24632" h="21600">
                <a:moveTo>
                  <a:pt x="-1" y="375"/>
                </a:moveTo>
                <a:cubicBezTo>
                  <a:pt x="1322" y="125"/>
                  <a:pt x="2665" y="-1"/>
                  <a:pt x="4012" y="0"/>
                </a:cubicBezTo>
                <a:cubicBezTo>
                  <a:pt x="13463" y="0"/>
                  <a:pt x="21817" y="6145"/>
                  <a:pt x="24632" y="15167"/>
                </a:cubicBezTo>
              </a:path>
              <a:path stroke="0" w="24632" h="21600">
                <a:moveTo>
                  <a:pt x="-1" y="375"/>
                </a:moveTo>
                <a:cubicBezTo>
                  <a:pt x="1322" y="125"/>
                  <a:pt x="2665" y="-1"/>
                  <a:pt x="4012" y="0"/>
                </a:cubicBezTo>
                <a:cubicBezTo>
                  <a:pt x="13463" y="0"/>
                  <a:pt x="21817" y="6145"/>
                  <a:pt x="24632" y="15167"/>
                </a:cubicBezTo>
                <a:lnTo>
                  <a:pt x="4012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3"/>
          <p:cNvSpPr/>
          <p:nvPr/>
        </p:nvSpPr>
        <p:spPr>
          <a:xfrm>
            <a:off x="395280" y="184464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Для человека стоящего на Земле траектория точки обода колеса представляет собой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циклои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1.32948E-006 L 0.71667 1.32948E-006 E">
                                      <p:cBhvr>
                                        <p:cTn id="218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ree"/>
          <p:cNvSpPr/>
          <p:nvPr/>
        </p:nvSpPr>
        <p:spPr>
          <a:xfrm>
            <a:off x="179280" y="1052640"/>
            <a:ext cx="1809720" cy="1809720"/>
          </a:xfrm>
          <a:custGeom>
            <a:avLst/>
            <a:gdLst>
              <a:gd name="textAreaLeft" fmla="*/ 63720 w 1809720"/>
              <a:gd name="textAreaRight" fmla="*/ 1765440 w 1809720"/>
              <a:gd name="textAreaTop" fmla="*/ 1881360 h 1809720"/>
              <a:gd name="textAreaBottom" fmla="*/ 236988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4932360" y="3429000"/>
            <a:ext cx="1079640" cy="1008000"/>
          </a:xfrm>
          <a:prstGeom prst="flowChartSummingJunction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2484360" y="3500280"/>
            <a:ext cx="1079640" cy="1008360"/>
          </a:xfrm>
          <a:prstGeom prst="flowChartSummingJunction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7"/>
          <p:cNvSpPr/>
          <p:nvPr/>
        </p:nvSpPr>
        <p:spPr>
          <a:xfrm>
            <a:off x="998640" y="1089000"/>
            <a:ext cx="6562800" cy="3033720"/>
          </a:xfrm>
          <a:custGeom>
            <a:avLst/>
            <a:gdLst>
              <a:gd name="textAreaLeft" fmla="*/ 0 w 6562800"/>
              <a:gd name="textAreaRight" fmla="*/ 6563160 w 6562800"/>
              <a:gd name="textAreaTop" fmla="*/ 0 h 3033720"/>
              <a:gd name="textAreaBottom" fmla="*/ 3034080 h 3033720"/>
            </a:gdLst>
            <a:ahLst/>
            <a:rect l="textAreaLeft" t="textAreaTop" r="textAreaRight" b="textAreaBottom"/>
            <a:pathLst>
              <a:path w="4134" h="1911">
                <a:moveTo>
                  <a:pt x="834" y="1783"/>
                </a:moveTo>
                <a:cubicBezTo>
                  <a:pt x="588" y="1843"/>
                  <a:pt x="405" y="1798"/>
                  <a:pt x="194" y="1728"/>
                </a:cubicBezTo>
                <a:cubicBezTo>
                  <a:pt x="167" y="1709"/>
                  <a:pt x="139" y="1700"/>
                  <a:pt x="112" y="1682"/>
                </a:cubicBezTo>
                <a:cubicBezTo>
                  <a:pt x="89" y="1621"/>
                  <a:pt x="54" y="1563"/>
                  <a:pt x="38" y="1499"/>
                </a:cubicBezTo>
                <a:cubicBezTo>
                  <a:pt x="28" y="1459"/>
                  <a:pt x="21" y="1420"/>
                  <a:pt x="11" y="1380"/>
                </a:cubicBezTo>
                <a:cubicBezTo>
                  <a:pt x="17" y="1240"/>
                  <a:pt x="0" y="1002"/>
                  <a:pt x="203" y="996"/>
                </a:cubicBezTo>
                <a:cubicBezTo>
                  <a:pt x="511" y="988"/>
                  <a:pt x="818" y="984"/>
                  <a:pt x="1126" y="978"/>
                </a:cubicBezTo>
                <a:cubicBezTo>
                  <a:pt x="1189" y="933"/>
                  <a:pt x="1233" y="899"/>
                  <a:pt x="1282" y="841"/>
                </a:cubicBezTo>
                <a:cubicBezTo>
                  <a:pt x="1352" y="757"/>
                  <a:pt x="1233" y="885"/>
                  <a:pt x="1318" y="768"/>
                </a:cubicBezTo>
                <a:cubicBezTo>
                  <a:pt x="1333" y="747"/>
                  <a:pt x="1355" y="731"/>
                  <a:pt x="1373" y="713"/>
                </a:cubicBezTo>
                <a:cubicBezTo>
                  <a:pt x="1382" y="704"/>
                  <a:pt x="1401" y="685"/>
                  <a:pt x="1401" y="685"/>
                </a:cubicBezTo>
                <a:cubicBezTo>
                  <a:pt x="1417" y="636"/>
                  <a:pt x="1455" y="599"/>
                  <a:pt x="1483" y="557"/>
                </a:cubicBezTo>
                <a:cubicBezTo>
                  <a:pt x="1503" y="528"/>
                  <a:pt x="1508" y="472"/>
                  <a:pt x="1520" y="439"/>
                </a:cubicBezTo>
                <a:cubicBezTo>
                  <a:pt x="1527" y="387"/>
                  <a:pt x="1529" y="311"/>
                  <a:pt x="1556" y="265"/>
                </a:cubicBezTo>
                <a:cubicBezTo>
                  <a:pt x="1579" y="225"/>
                  <a:pt x="1611" y="189"/>
                  <a:pt x="1629" y="146"/>
                </a:cubicBezTo>
                <a:cubicBezTo>
                  <a:pt x="1651" y="94"/>
                  <a:pt x="1690" y="55"/>
                  <a:pt x="1748" y="45"/>
                </a:cubicBezTo>
                <a:cubicBezTo>
                  <a:pt x="1857" y="25"/>
                  <a:pt x="1968" y="22"/>
                  <a:pt x="2077" y="0"/>
                </a:cubicBezTo>
                <a:cubicBezTo>
                  <a:pt x="2183" y="11"/>
                  <a:pt x="2139" y="11"/>
                  <a:pt x="2214" y="36"/>
                </a:cubicBezTo>
                <a:cubicBezTo>
                  <a:pt x="2285" y="84"/>
                  <a:pt x="2391" y="77"/>
                  <a:pt x="2470" y="82"/>
                </a:cubicBezTo>
                <a:cubicBezTo>
                  <a:pt x="2491" y="85"/>
                  <a:pt x="2514" y="84"/>
                  <a:pt x="2534" y="91"/>
                </a:cubicBezTo>
                <a:cubicBezTo>
                  <a:pt x="2584" y="108"/>
                  <a:pt x="2628" y="147"/>
                  <a:pt x="2681" y="164"/>
                </a:cubicBezTo>
                <a:cubicBezTo>
                  <a:pt x="2727" y="236"/>
                  <a:pt x="2721" y="323"/>
                  <a:pt x="2772" y="393"/>
                </a:cubicBezTo>
                <a:cubicBezTo>
                  <a:pt x="2792" y="475"/>
                  <a:pt x="2781" y="442"/>
                  <a:pt x="2800" y="493"/>
                </a:cubicBezTo>
                <a:cubicBezTo>
                  <a:pt x="2803" y="533"/>
                  <a:pt x="2804" y="573"/>
                  <a:pt x="2809" y="612"/>
                </a:cubicBezTo>
                <a:cubicBezTo>
                  <a:pt x="2810" y="622"/>
                  <a:pt x="2817" y="630"/>
                  <a:pt x="2818" y="640"/>
                </a:cubicBezTo>
                <a:cubicBezTo>
                  <a:pt x="2823" y="670"/>
                  <a:pt x="2821" y="701"/>
                  <a:pt x="2827" y="731"/>
                </a:cubicBezTo>
                <a:cubicBezTo>
                  <a:pt x="2839" y="798"/>
                  <a:pt x="2862" y="803"/>
                  <a:pt x="2918" y="841"/>
                </a:cubicBezTo>
                <a:cubicBezTo>
                  <a:pt x="2963" y="872"/>
                  <a:pt x="2908" y="849"/>
                  <a:pt x="2964" y="868"/>
                </a:cubicBezTo>
                <a:cubicBezTo>
                  <a:pt x="2986" y="891"/>
                  <a:pt x="2997" y="904"/>
                  <a:pt x="3028" y="914"/>
                </a:cubicBezTo>
                <a:cubicBezTo>
                  <a:pt x="3310" y="907"/>
                  <a:pt x="3587" y="904"/>
                  <a:pt x="3869" y="923"/>
                </a:cubicBezTo>
                <a:cubicBezTo>
                  <a:pt x="3934" y="972"/>
                  <a:pt x="3992" y="1007"/>
                  <a:pt x="4070" y="1033"/>
                </a:cubicBezTo>
                <a:cubicBezTo>
                  <a:pt x="4111" y="1072"/>
                  <a:pt x="4108" y="1119"/>
                  <a:pt x="4125" y="1170"/>
                </a:cubicBezTo>
                <a:cubicBezTo>
                  <a:pt x="4128" y="1219"/>
                  <a:pt x="4134" y="1267"/>
                  <a:pt x="4134" y="1316"/>
                </a:cubicBezTo>
                <a:cubicBezTo>
                  <a:pt x="4134" y="1398"/>
                  <a:pt x="4130" y="1481"/>
                  <a:pt x="4125" y="1563"/>
                </a:cubicBezTo>
                <a:cubicBezTo>
                  <a:pt x="4122" y="1611"/>
                  <a:pt x="4045" y="1679"/>
                  <a:pt x="3997" y="1682"/>
                </a:cubicBezTo>
                <a:cubicBezTo>
                  <a:pt x="3879" y="1690"/>
                  <a:pt x="3760" y="1688"/>
                  <a:pt x="3641" y="1691"/>
                </a:cubicBezTo>
                <a:cubicBezTo>
                  <a:pt x="3547" y="1698"/>
                  <a:pt x="3469" y="1710"/>
                  <a:pt x="3376" y="1719"/>
                </a:cubicBezTo>
                <a:cubicBezTo>
                  <a:pt x="3184" y="1706"/>
                  <a:pt x="3260" y="1743"/>
                  <a:pt x="3202" y="1655"/>
                </a:cubicBezTo>
                <a:cubicBezTo>
                  <a:pt x="3176" y="1574"/>
                  <a:pt x="3213" y="1673"/>
                  <a:pt x="3174" y="1609"/>
                </a:cubicBezTo>
                <a:cubicBezTo>
                  <a:pt x="3142" y="1556"/>
                  <a:pt x="3137" y="1533"/>
                  <a:pt x="3101" y="1490"/>
                </a:cubicBezTo>
                <a:cubicBezTo>
                  <a:pt x="3094" y="1482"/>
                  <a:pt x="3091" y="1470"/>
                  <a:pt x="3083" y="1463"/>
                </a:cubicBezTo>
                <a:cubicBezTo>
                  <a:pt x="3055" y="1440"/>
                  <a:pt x="3000" y="1435"/>
                  <a:pt x="2964" y="1426"/>
                </a:cubicBezTo>
                <a:cubicBezTo>
                  <a:pt x="2767" y="1430"/>
                  <a:pt x="2601" y="1344"/>
                  <a:pt x="2480" y="1472"/>
                </a:cubicBezTo>
                <a:cubicBezTo>
                  <a:pt x="2469" y="1502"/>
                  <a:pt x="2461" y="1527"/>
                  <a:pt x="2443" y="1554"/>
                </a:cubicBezTo>
                <a:cubicBezTo>
                  <a:pt x="2439" y="1593"/>
                  <a:pt x="2443" y="1692"/>
                  <a:pt x="2416" y="1728"/>
                </a:cubicBezTo>
                <a:cubicBezTo>
                  <a:pt x="2403" y="1745"/>
                  <a:pt x="2370" y="1773"/>
                  <a:pt x="2370" y="1773"/>
                </a:cubicBezTo>
                <a:cubicBezTo>
                  <a:pt x="1522" y="1762"/>
                  <a:pt x="1861" y="1911"/>
                  <a:pt x="1629" y="1691"/>
                </a:cubicBezTo>
                <a:cubicBezTo>
                  <a:pt x="1617" y="1644"/>
                  <a:pt x="1593" y="1623"/>
                  <a:pt x="1565" y="1581"/>
                </a:cubicBezTo>
                <a:cubicBezTo>
                  <a:pt x="1517" y="1510"/>
                  <a:pt x="1477" y="1436"/>
                  <a:pt x="1392" y="1408"/>
                </a:cubicBezTo>
                <a:cubicBezTo>
                  <a:pt x="1357" y="1409"/>
                  <a:pt x="1103" y="1397"/>
                  <a:pt x="1026" y="1435"/>
                </a:cubicBezTo>
                <a:cubicBezTo>
                  <a:pt x="998" y="1449"/>
                  <a:pt x="979" y="1473"/>
                  <a:pt x="953" y="1490"/>
                </a:cubicBezTo>
                <a:cubicBezTo>
                  <a:pt x="938" y="1534"/>
                  <a:pt x="923" y="1572"/>
                  <a:pt x="916" y="1618"/>
                </a:cubicBezTo>
                <a:cubicBezTo>
                  <a:pt x="910" y="1655"/>
                  <a:pt x="917" y="1696"/>
                  <a:pt x="898" y="1728"/>
                </a:cubicBezTo>
                <a:cubicBezTo>
                  <a:pt x="884" y="1752"/>
                  <a:pt x="834" y="1760"/>
                  <a:pt x="834" y="1783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8"/>
          <p:cNvSpPr/>
          <p:nvPr/>
        </p:nvSpPr>
        <p:spPr>
          <a:xfrm>
            <a:off x="3700440" y="1611360"/>
            <a:ext cx="1351080" cy="1038240"/>
          </a:xfrm>
          <a:custGeom>
            <a:avLst/>
            <a:gdLst>
              <a:gd name="textAreaLeft" fmla="*/ 0 w 1351080"/>
              <a:gd name="textAreaRight" fmla="*/ 1351440 w 1351080"/>
              <a:gd name="textAreaTop" fmla="*/ 0 h 1038240"/>
              <a:gd name="textAreaBottom" fmla="*/ 1038600 h 1038240"/>
            </a:gdLst>
            <a:ahLst/>
            <a:rect l="textAreaLeft" t="textAreaTop" r="textAreaRight" b="textAreaBottom"/>
            <a:pathLst>
              <a:path w="851" h="654">
                <a:moveTo>
                  <a:pt x="0" y="484"/>
                </a:moveTo>
                <a:cubicBezTo>
                  <a:pt x="3" y="365"/>
                  <a:pt x="4" y="247"/>
                  <a:pt x="10" y="128"/>
                </a:cubicBezTo>
                <a:cubicBezTo>
                  <a:pt x="10" y="118"/>
                  <a:pt x="12" y="107"/>
                  <a:pt x="19" y="100"/>
                </a:cubicBezTo>
                <a:cubicBezTo>
                  <a:pt x="62" y="57"/>
                  <a:pt x="144" y="10"/>
                  <a:pt x="202" y="0"/>
                </a:cubicBezTo>
                <a:cubicBezTo>
                  <a:pt x="315" y="3"/>
                  <a:pt x="427" y="5"/>
                  <a:pt x="540" y="9"/>
                </a:cubicBezTo>
                <a:cubicBezTo>
                  <a:pt x="586" y="11"/>
                  <a:pt x="632" y="8"/>
                  <a:pt x="677" y="18"/>
                </a:cubicBezTo>
                <a:cubicBezTo>
                  <a:pt x="711" y="26"/>
                  <a:pt x="722" y="71"/>
                  <a:pt x="741" y="100"/>
                </a:cubicBezTo>
                <a:cubicBezTo>
                  <a:pt x="805" y="196"/>
                  <a:pt x="835" y="297"/>
                  <a:pt x="851" y="411"/>
                </a:cubicBezTo>
                <a:cubicBezTo>
                  <a:pt x="831" y="654"/>
                  <a:pt x="771" y="538"/>
                  <a:pt x="430" y="530"/>
                </a:cubicBezTo>
                <a:cubicBezTo>
                  <a:pt x="297" y="486"/>
                  <a:pt x="119" y="493"/>
                  <a:pt x="0" y="484"/>
                </a:cubicBez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0"/>
          <p:cNvSpPr/>
          <p:nvPr/>
        </p:nvSpPr>
        <p:spPr>
          <a:xfrm>
            <a:off x="1001880" y="2917800"/>
            <a:ext cx="42840" cy="14400"/>
          </a:xfrm>
          <a:custGeom>
            <a:avLst/>
            <a:gdLst>
              <a:gd name="textAreaLeft" fmla="*/ 0 w 42840"/>
              <a:gd name="textAreaRight" fmla="*/ 43200 w 428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27" h="9">
                <a:moveTo>
                  <a:pt x="27" y="9"/>
                </a:moveTo>
                <a:cubicBezTo>
                  <a:pt x="18" y="6"/>
                  <a:pt x="0" y="0"/>
                  <a:pt x="0" y="0"/>
                </a:cubicBezTo>
                <a:cubicBezTo>
                  <a:pt x="0" y="0"/>
                  <a:pt x="18" y="6"/>
                  <a:pt x="27" y="9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1"/>
          <p:cNvSpPr/>
          <p:nvPr/>
        </p:nvSpPr>
        <p:spPr>
          <a:xfrm>
            <a:off x="746280" y="2873520"/>
            <a:ext cx="269640" cy="552240"/>
          </a:xfrm>
          <a:custGeom>
            <a:avLst/>
            <a:gdLst>
              <a:gd name="textAreaLeft" fmla="*/ 0 w 269640"/>
              <a:gd name="textAreaRight" fmla="*/ 270000 w 269640"/>
              <a:gd name="textAreaTop" fmla="*/ 0 h 552240"/>
              <a:gd name="textAreaBottom" fmla="*/ 552240 h 552240"/>
            </a:gdLst>
            <a:ahLst/>
            <a:rect l="textAreaLeft" t="textAreaTop" r="textAreaRight" b="textAreaBottom"/>
            <a:pathLst>
              <a:path w="170" h="348">
                <a:moveTo>
                  <a:pt x="170" y="0"/>
                </a:moveTo>
                <a:cubicBezTo>
                  <a:pt x="103" y="23"/>
                  <a:pt x="134" y="14"/>
                  <a:pt x="79" y="28"/>
                </a:cubicBezTo>
                <a:cubicBezTo>
                  <a:pt x="58" y="48"/>
                  <a:pt x="44" y="71"/>
                  <a:pt x="24" y="92"/>
                </a:cubicBezTo>
                <a:cubicBezTo>
                  <a:pt x="6" y="146"/>
                  <a:pt x="0" y="153"/>
                  <a:pt x="24" y="238"/>
                </a:cubicBezTo>
                <a:cubicBezTo>
                  <a:pt x="27" y="247"/>
                  <a:pt x="42" y="243"/>
                  <a:pt x="51" y="247"/>
                </a:cubicBezTo>
                <a:cubicBezTo>
                  <a:pt x="61" y="252"/>
                  <a:pt x="70" y="258"/>
                  <a:pt x="79" y="265"/>
                </a:cubicBezTo>
                <a:cubicBezTo>
                  <a:pt x="111" y="291"/>
                  <a:pt x="141" y="319"/>
                  <a:pt x="170" y="348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"/>
          <p:cNvSpPr/>
          <p:nvPr/>
        </p:nvSpPr>
        <p:spPr>
          <a:xfrm flipV="1">
            <a:off x="755640" y="4436640"/>
            <a:ext cx="7848720" cy="7164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539640" y="5084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Для человека, сидящего в автомобиле, точка обода колеса будет описывать окруж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3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3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2948E-006 L 0.80659 -0.00601 E">
                                      <p:cBhvr>
                                        <p:cTn id="234" dur="3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Пройденный путь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8360" y="1125360"/>
            <a:ext cx="826272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длина траектории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изическая величин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1 м  - основная!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1 км = 1000 м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1 дм = 0,1 м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1 см = 0,01 м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1 мм = 0,001 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092F-6AC6-445F-8A87-E4B5B262E7D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Рисунок 12" descr="pyt.gif"/>
          <p:cNvPicPr/>
          <p:nvPr/>
        </p:nvPicPr>
        <p:blipFill>
          <a:blip r:embed="rId1"/>
          <a:stretch/>
        </p:blipFill>
        <p:spPr>
          <a:xfrm>
            <a:off x="5148360" y="1773360"/>
            <a:ext cx="3290760" cy="4535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250"/>
                            </p:stCondLst>
                            <p:childTnLst>
                              <p:par>
                                <p:cTn id="2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69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730"/>
                            </p:stCondLst>
                            <p:childTnLst>
                              <p:par>
                                <p:cTn id="2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410"/>
                            </p:stCondLst>
                            <p:childTnLst>
                              <p:par>
                                <p:cTn id="2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81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170"/>
                            </p:stCondLst>
                            <p:childTnLst>
                              <p:par>
                                <p:cTn id="2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570"/>
                            </p:stCondLst>
                            <p:childTnLst>
                              <p:par>
                                <p:cTn id="2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Содержимое 10" descr="Image5550.gif"/>
          <p:cNvPicPr/>
          <p:nvPr/>
        </p:nvPicPr>
        <p:blipFill>
          <a:blip r:embed="rId1"/>
          <a:stretch/>
        </p:blipFill>
        <p:spPr>
          <a:xfrm>
            <a:off x="2324160" y="2643120"/>
            <a:ext cx="4495680" cy="2438640"/>
          </a:xfrm>
          <a:prstGeom prst="rect">
            <a:avLst/>
          </a:prstGeom>
          <a:ln w="0">
            <a:noFill/>
          </a:ln>
        </p:spPr>
      </p:pic>
      <p:sp>
        <p:nvSpPr>
          <p:cNvPr id="19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3B63-50EA-4877-B8A0-969973B220E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3"/>
          <p:cNvSpPr/>
          <p:nvPr/>
        </p:nvSpPr>
        <p:spPr>
          <a:xfrm>
            <a:off x="357120" y="14292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Сравните пути, пройденные самолет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и танком, между соответствующими точ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ая соединительная линия 15"/>
          <p:cNvSpPr/>
          <p:nvPr/>
        </p:nvSpPr>
        <p:spPr>
          <a:xfrm>
            <a:off x="2411280" y="1916280"/>
            <a:ext cx="0" cy="2571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ая соединительная линия 19"/>
          <p:cNvSpPr/>
          <p:nvPr/>
        </p:nvSpPr>
        <p:spPr>
          <a:xfrm>
            <a:off x="4144320" y="2155680"/>
            <a:ext cx="66600" cy="2713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ая соединительная линия 23"/>
          <p:cNvSpPr/>
          <p:nvPr/>
        </p:nvSpPr>
        <p:spPr>
          <a:xfrm flipH="1">
            <a:off x="5928840" y="1928880"/>
            <a:ext cx="1800" cy="3643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ая соединительная линия 27"/>
          <p:cNvSpPr/>
          <p:nvPr/>
        </p:nvSpPr>
        <p:spPr>
          <a:xfrm>
            <a:off x="6572160" y="1928880"/>
            <a:ext cx="0" cy="3643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8"/>
          <p:cNvSpPr/>
          <p:nvPr/>
        </p:nvSpPr>
        <p:spPr>
          <a:xfrm>
            <a:off x="2340000" y="4941720"/>
            <a:ext cx="1443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Овал 9"/>
          <p:cNvSpPr/>
          <p:nvPr/>
        </p:nvSpPr>
        <p:spPr>
          <a:xfrm>
            <a:off x="4140360" y="4797360"/>
            <a:ext cx="141120" cy="1414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Овал 10"/>
          <p:cNvSpPr/>
          <p:nvPr/>
        </p:nvSpPr>
        <p:spPr>
          <a:xfrm>
            <a:off x="5867280" y="5516640"/>
            <a:ext cx="154080" cy="125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Овал 11"/>
          <p:cNvSpPr/>
          <p:nvPr/>
        </p:nvSpPr>
        <p:spPr>
          <a:xfrm>
            <a:off x="6500880" y="5589720"/>
            <a:ext cx="158760" cy="125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2"/>
          <p:cNvSpPr/>
          <p:nvPr/>
        </p:nvSpPr>
        <p:spPr>
          <a:xfrm>
            <a:off x="395280" y="4005360"/>
            <a:ext cx="21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берите правильный отве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611280" y="126828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толике в вагоне движущегося поезда лежит книга. Относительно каких тел книга находится в пок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4716360" y="5373720"/>
            <a:ext cx="345600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7"/>
          <p:cNvSpPr/>
          <p:nvPr/>
        </p:nvSpPr>
        <p:spPr>
          <a:xfrm>
            <a:off x="4716360" y="4941720"/>
            <a:ext cx="432000" cy="432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8"/>
          <p:cNvSpPr/>
          <p:nvPr/>
        </p:nvSpPr>
        <p:spPr>
          <a:xfrm>
            <a:off x="5219640" y="4941720"/>
            <a:ext cx="432000" cy="432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9"/>
          <p:cNvSpPr/>
          <p:nvPr/>
        </p:nvSpPr>
        <p:spPr>
          <a:xfrm>
            <a:off x="5940360" y="4941720"/>
            <a:ext cx="432000" cy="432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6443640" y="4941720"/>
            <a:ext cx="432000" cy="432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1"/>
          <p:cNvSpPr/>
          <p:nvPr/>
        </p:nvSpPr>
        <p:spPr>
          <a:xfrm>
            <a:off x="7164360" y="4941720"/>
            <a:ext cx="432000" cy="432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2"/>
          <p:cNvSpPr/>
          <p:nvPr/>
        </p:nvSpPr>
        <p:spPr>
          <a:xfrm>
            <a:off x="7667640" y="4941720"/>
            <a:ext cx="431640" cy="432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356000" y="2852640"/>
            <a:ext cx="4032360" cy="20890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5508720" y="4221000"/>
            <a:ext cx="1727280" cy="14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8"/>
          <p:cNvSpPr/>
          <p:nvPr/>
        </p:nvSpPr>
        <p:spPr>
          <a:xfrm>
            <a:off x="5651640" y="4365720"/>
            <a:ext cx="72720" cy="5760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9"/>
          <p:cNvSpPr/>
          <p:nvPr/>
        </p:nvSpPr>
        <p:spPr>
          <a:xfrm>
            <a:off x="6948360" y="4365720"/>
            <a:ext cx="71640" cy="5760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5796000" y="4005360"/>
            <a:ext cx="108108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1"/>
          <p:cNvSpPr/>
          <p:nvPr/>
        </p:nvSpPr>
        <p:spPr>
          <a:xfrm>
            <a:off x="468360" y="3284640"/>
            <a:ext cx="3382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ль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л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еса ваг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8"/>
          <p:cNvSpPr/>
          <p:nvPr/>
        </p:nvSpPr>
        <p:spPr>
          <a:xfrm>
            <a:off x="900000" y="3860640"/>
            <a:ext cx="4176720" cy="64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1844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 называют линию, которую описывает тело при своем движени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71280" y="2706480"/>
            <a:ext cx="4330440" cy="20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Пройденный пу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Прямая ли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Траектор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Line 6"/>
          <p:cNvSpPr/>
          <p:nvPr/>
        </p:nvSpPr>
        <p:spPr>
          <a:xfrm flipV="1">
            <a:off x="826920" y="4941360"/>
            <a:ext cx="2016360" cy="1366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AutoShape 9"/>
          <p:cNvCxnSpPr/>
          <p:nvPr/>
        </p:nvCxnSpPr>
        <p:spPr>
          <a:xfrm flipV="1" rot="10800000">
            <a:off x="5002920" y="3715920"/>
            <a:ext cx="2820240" cy="1945440"/>
          </a:xfrm>
          <a:prstGeom prst="curvedConnector5">
            <a:avLst>
              <a:gd name="adj1" fmla="val 49993"/>
              <a:gd name="adj2" fmla="val 49990"/>
              <a:gd name="adj3" fmla="val 49993"/>
            </a:avLst>
          </a:prstGeom>
          <a:ln w="28440">
            <a:solidFill>
              <a:srgbClr val="ff0000"/>
            </a:solidFill>
            <a:miter/>
          </a:ln>
        </p:spPr>
      </p:cxnSp>
    </p:spTree>
  </p:cSld>
  <p:transition spd="med">
    <p:wipe dir="d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200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700"/>
                            </p:stCondLst>
                            <p:childTnLst>
                              <p:par>
                                <p:cTn id="3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200"/>
                            </p:stCondLst>
                            <p:childTnLst>
                              <p:par>
                                <p:cTn id="3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700"/>
                            </p:stCondLst>
                            <p:childTnLst>
                              <p:par>
                                <p:cTn id="3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200"/>
                            </p:stCondLst>
                            <p:childTnLst>
                              <p:par>
                                <p:cTn id="3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9"/>
          <p:cNvSpPr/>
          <p:nvPr/>
        </p:nvSpPr>
        <p:spPr>
          <a:xfrm>
            <a:off x="1258920" y="2349360"/>
            <a:ext cx="705636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ие тела движутся по криволинейной траектори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58560" y="2206440"/>
            <a:ext cx="7070760" cy="230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Конец минутной стрелки ча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Выпущенный из рук кам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Кабина лиф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00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3"/>
          <p:cNvGrpSpPr/>
          <p:nvPr/>
        </p:nvGrpSpPr>
        <p:grpSpPr>
          <a:xfrm>
            <a:off x="123840" y="93600"/>
            <a:ext cx="8893080" cy="6670800"/>
            <a:chOff x="123840" y="93600"/>
            <a:chExt cx="8893080" cy="6670800"/>
          </a:xfrm>
        </p:grpSpPr>
        <p:sp>
          <p:nvSpPr>
            <p:cNvPr id="234" name="Freeform 4"/>
            <p:cNvSpPr/>
            <p:nvPr/>
          </p:nvSpPr>
          <p:spPr>
            <a:xfrm>
              <a:off x="123840" y="93600"/>
              <a:ext cx="8893080" cy="6670800"/>
            </a:xfrm>
            <a:custGeom>
              <a:avLst/>
              <a:gdLst>
                <a:gd name="textAreaLeft" fmla="*/ 0 w 8893080"/>
                <a:gd name="textAreaRight" fmla="*/ 8893440 w 8893080"/>
                <a:gd name="textAreaTop" fmla="*/ 0 h 6670800"/>
                <a:gd name="textAreaBottom" fmla="*/ 6671160 h 6670800"/>
              </a:gdLst>
              <a:ahLst/>
              <a:rect l="textAreaLeft" t="textAreaTop" r="textAreaRight" b="textAreaBottom"/>
              <a:pathLst>
                <a:path w="6400" h="4480">
                  <a:moveTo>
                    <a:pt x="0" y="0"/>
                  </a:moveTo>
                  <a:lnTo>
                    <a:pt x="0" y="4480"/>
                  </a:lnTo>
                  <a:lnTo>
                    <a:pt x="6400" y="4480"/>
                  </a:lnTo>
                  <a:lnTo>
                    <a:pt x="6400" y="0"/>
                  </a:lnTo>
                  <a:lnTo>
                    <a:pt x="0" y="0"/>
                  </a:lnTo>
                  <a:close/>
                  <a:moveTo>
                    <a:pt x="6160" y="4000"/>
                  </a:moveTo>
                  <a:lnTo>
                    <a:pt x="6160" y="4000"/>
                  </a:lnTo>
                  <a:lnTo>
                    <a:pt x="6136" y="4002"/>
                  </a:lnTo>
                  <a:lnTo>
                    <a:pt x="6112" y="4004"/>
                  </a:lnTo>
                  <a:lnTo>
                    <a:pt x="6088" y="4010"/>
                  </a:lnTo>
                  <a:lnTo>
                    <a:pt x="6066" y="4018"/>
                  </a:lnTo>
                  <a:lnTo>
                    <a:pt x="6046" y="4028"/>
                  </a:lnTo>
                  <a:lnTo>
                    <a:pt x="6026" y="4040"/>
                  </a:lnTo>
                  <a:lnTo>
                    <a:pt x="6008" y="4054"/>
                  </a:lnTo>
                  <a:lnTo>
                    <a:pt x="5990" y="4070"/>
                  </a:lnTo>
                  <a:lnTo>
                    <a:pt x="5974" y="4088"/>
                  </a:lnTo>
                  <a:lnTo>
                    <a:pt x="5960" y="4106"/>
                  </a:lnTo>
                  <a:lnTo>
                    <a:pt x="5948" y="4126"/>
                  </a:lnTo>
                  <a:lnTo>
                    <a:pt x="5938" y="4146"/>
                  </a:lnTo>
                  <a:lnTo>
                    <a:pt x="5930" y="4168"/>
                  </a:lnTo>
                  <a:lnTo>
                    <a:pt x="5924" y="4192"/>
                  </a:lnTo>
                  <a:lnTo>
                    <a:pt x="5922" y="4216"/>
                  </a:lnTo>
                  <a:lnTo>
                    <a:pt x="5920" y="4240"/>
                  </a:lnTo>
                  <a:lnTo>
                    <a:pt x="5920" y="4260"/>
                  </a:lnTo>
                  <a:lnTo>
                    <a:pt x="5924" y="4282"/>
                  </a:lnTo>
                  <a:lnTo>
                    <a:pt x="5928" y="4300"/>
                  </a:lnTo>
                  <a:lnTo>
                    <a:pt x="5934" y="4320"/>
                  </a:lnTo>
                  <a:lnTo>
                    <a:pt x="466" y="4320"/>
                  </a:lnTo>
                  <a:lnTo>
                    <a:pt x="472" y="4300"/>
                  </a:lnTo>
                  <a:lnTo>
                    <a:pt x="476" y="4282"/>
                  </a:lnTo>
                  <a:lnTo>
                    <a:pt x="480" y="4260"/>
                  </a:lnTo>
                  <a:lnTo>
                    <a:pt x="480" y="4240"/>
                  </a:lnTo>
                  <a:lnTo>
                    <a:pt x="478" y="4216"/>
                  </a:lnTo>
                  <a:lnTo>
                    <a:pt x="476" y="4192"/>
                  </a:lnTo>
                  <a:lnTo>
                    <a:pt x="470" y="4168"/>
                  </a:lnTo>
                  <a:lnTo>
                    <a:pt x="462" y="4146"/>
                  </a:lnTo>
                  <a:lnTo>
                    <a:pt x="452" y="4126"/>
                  </a:lnTo>
                  <a:lnTo>
                    <a:pt x="440" y="4106"/>
                  </a:lnTo>
                  <a:lnTo>
                    <a:pt x="426" y="4088"/>
                  </a:lnTo>
                  <a:lnTo>
                    <a:pt x="410" y="4070"/>
                  </a:lnTo>
                  <a:lnTo>
                    <a:pt x="392" y="4054"/>
                  </a:lnTo>
                  <a:lnTo>
                    <a:pt x="374" y="4040"/>
                  </a:lnTo>
                  <a:lnTo>
                    <a:pt x="354" y="4028"/>
                  </a:lnTo>
                  <a:lnTo>
                    <a:pt x="334" y="4018"/>
                  </a:lnTo>
                  <a:lnTo>
                    <a:pt x="312" y="4010"/>
                  </a:lnTo>
                  <a:lnTo>
                    <a:pt x="288" y="4004"/>
                  </a:lnTo>
                  <a:lnTo>
                    <a:pt x="264" y="4002"/>
                  </a:lnTo>
                  <a:lnTo>
                    <a:pt x="240" y="4000"/>
                  </a:lnTo>
                  <a:lnTo>
                    <a:pt x="220" y="4000"/>
                  </a:lnTo>
                  <a:lnTo>
                    <a:pt x="198" y="4004"/>
                  </a:lnTo>
                  <a:lnTo>
                    <a:pt x="180" y="4008"/>
                  </a:lnTo>
                  <a:lnTo>
                    <a:pt x="160" y="4014"/>
                  </a:lnTo>
                  <a:lnTo>
                    <a:pt x="160" y="466"/>
                  </a:lnTo>
                  <a:lnTo>
                    <a:pt x="180" y="472"/>
                  </a:lnTo>
                  <a:lnTo>
                    <a:pt x="198" y="476"/>
                  </a:lnTo>
                  <a:lnTo>
                    <a:pt x="220" y="480"/>
                  </a:lnTo>
                  <a:lnTo>
                    <a:pt x="240" y="480"/>
                  </a:lnTo>
                  <a:lnTo>
                    <a:pt x="264" y="478"/>
                  </a:lnTo>
                  <a:lnTo>
                    <a:pt x="288" y="476"/>
                  </a:lnTo>
                  <a:lnTo>
                    <a:pt x="312" y="470"/>
                  </a:lnTo>
                  <a:lnTo>
                    <a:pt x="334" y="462"/>
                  </a:lnTo>
                  <a:lnTo>
                    <a:pt x="354" y="452"/>
                  </a:lnTo>
                  <a:lnTo>
                    <a:pt x="374" y="440"/>
                  </a:lnTo>
                  <a:lnTo>
                    <a:pt x="392" y="426"/>
                  </a:lnTo>
                  <a:lnTo>
                    <a:pt x="410" y="410"/>
                  </a:lnTo>
                  <a:lnTo>
                    <a:pt x="426" y="392"/>
                  </a:lnTo>
                  <a:lnTo>
                    <a:pt x="440" y="374"/>
                  </a:lnTo>
                  <a:lnTo>
                    <a:pt x="452" y="354"/>
                  </a:lnTo>
                  <a:lnTo>
                    <a:pt x="462" y="334"/>
                  </a:lnTo>
                  <a:lnTo>
                    <a:pt x="470" y="312"/>
                  </a:lnTo>
                  <a:lnTo>
                    <a:pt x="476" y="288"/>
                  </a:lnTo>
                  <a:lnTo>
                    <a:pt x="478" y="264"/>
                  </a:lnTo>
                  <a:lnTo>
                    <a:pt x="480" y="240"/>
                  </a:lnTo>
                  <a:lnTo>
                    <a:pt x="480" y="220"/>
                  </a:lnTo>
                  <a:lnTo>
                    <a:pt x="476" y="198"/>
                  </a:lnTo>
                  <a:lnTo>
                    <a:pt x="472" y="180"/>
                  </a:lnTo>
                  <a:lnTo>
                    <a:pt x="466" y="160"/>
                  </a:lnTo>
                  <a:lnTo>
                    <a:pt x="5934" y="160"/>
                  </a:lnTo>
                  <a:lnTo>
                    <a:pt x="5928" y="180"/>
                  </a:lnTo>
                  <a:lnTo>
                    <a:pt x="5924" y="198"/>
                  </a:lnTo>
                  <a:lnTo>
                    <a:pt x="5920" y="220"/>
                  </a:lnTo>
                  <a:lnTo>
                    <a:pt x="5920" y="240"/>
                  </a:lnTo>
                  <a:lnTo>
                    <a:pt x="5922" y="264"/>
                  </a:lnTo>
                  <a:lnTo>
                    <a:pt x="5924" y="288"/>
                  </a:lnTo>
                  <a:lnTo>
                    <a:pt x="5930" y="312"/>
                  </a:lnTo>
                  <a:lnTo>
                    <a:pt x="5938" y="334"/>
                  </a:lnTo>
                  <a:lnTo>
                    <a:pt x="5948" y="354"/>
                  </a:lnTo>
                  <a:lnTo>
                    <a:pt x="5960" y="374"/>
                  </a:lnTo>
                  <a:lnTo>
                    <a:pt x="5974" y="392"/>
                  </a:lnTo>
                  <a:lnTo>
                    <a:pt x="5990" y="410"/>
                  </a:lnTo>
                  <a:lnTo>
                    <a:pt x="6008" y="426"/>
                  </a:lnTo>
                  <a:lnTo>
                    <a:pt x="6026" y="440"/>
                  </a:lnTo>
                  <a:lnTo>
                    <a:pt x="6046" y="452"/>
                  </a:lnTo>
                  <a:lnTo>
                    <a:pt x="6066" y="462"/>
                  </a:lnTo>
                  <a:lnTo>
                    <a:pt x="6088" y="470"/>
                  </a:lnTo>
                  <a:lnTo>
                    <a:pt x="6112" y="476"/>
                  </a:lnTo>
                  <a:lnTo>
                    <a:pt x="6136" y="478"/>
                  </a:lnTo>
                  <a:lnTo>
                    <a:pt x="6160" y="480"/>
                  </a:lnTo>
                  <a:lnTo>
                    <a:pt x="6180" y="480"/>
                  </a:lnTo>
                  <a:lnTo>
                    <a:pt x="6202" y="476"/>
                  </a:lnTo>
                  <a:lnTo>
                    <a:pt x="6220" y="472"/>
                  </a:lnTo>
                  <a:lnTo>
                    <a:pt x="6240" y="466"/>
                  </a:lnTo>
                  <a:lnTo>
                    <a:pt x="6240" y="4014"/>
                  </a:lnTo>
                  <a:lnTo>
                    <a:pt x="6220" y="4008"/>
                  </a:lnTo>
                  <a:lnTo>
                    <a:pt x="6202" y="4004"/>
                  </a:lnTo>
                  <a:lnTo>
                    <a:pt x="6180" y="4000"/>
                  </a:lnTo>
                  <a:lnTo>
                    <a:pt x="6160" y="400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5"/>
            <p:cNvSpPr/>
            <p:nvPr/>
          </p:nvSpPr>
          <p:spPr>
            <a:xfrm>
              <a:off x="546120" y="546120"/>
              <a:ext cx="8048160" cy="5765040"/>
            </a:xfrm>
            <a:custGeom>
              <a:avLst/>
              <a:gdLst>
                <a:gd name="textAreaLeft" fmla="*/ 0 w 8048160"/>
                <a:gd name="textAreaRight" fmla="*/ 8048520 w 8048160"/>
                <a:gd name="textAreaTop" fmla="*/ 0 h 5765040"/>
                <a:gd name="textAreaBottom" fmla="*/ 5765400 h 5765040"/>
              </a:gdLst>
              <a:ahLst/>
              <a:rect l="textAreaLeft" t="textAreaTop" r="textAreaRight" b="textAreaBottom"/>
              <a:pathLst>
                <a:path w="5792" h="3872">
                  <a:moveTo>
                    <a:pt x="5492" y="3872"/>
                  </a:moveTo>
                  <a:lnTo>
                    <a:pt x="300" y="3872"/>
                  </a:lnTo>
                  <a:lnTo>
                    <a:pt x="308" y="3850"/>
                  </a:lnTo>
                  <a:lnTo>
                    <a:pt x="312" y="3832"/>
                  </a:lnTo>
                  <a:lnTo>
                    <a:pt x="316" y="3814"/>
                  </a:lnTo>
                  <a:lnTo>
                    <a:pt x="320" y="3796"/>
                  </a:lnTo>
                  <a:lnTo>
                    <a:pt x="320" y="3776"/>
                  </a:lnTo>
                  <a:lnTo>
                    <a:pt x="318" y="3754"/>
                  </a:lnTo>
                  <a:lnTo>
                    <a:pt x="316" y="3730"/>
                  </a:lnTo>
                  <a:lnTo>
                    <a:pt x="310" y="3710"/>
                  </a:lnTo>
                  <a:lnTo>
                    <a:pt x="302" y="3688"/>
                  </a:lnTo>
                  <a:lnTo>
                    <a:pt x="292" y="3670"/>
                  </a:lnTo>
                  <a:lnTo>
                    <a:pt x="282" y="3650"/>
                  </a:lnTo>
                  <a:lnTo>
                    <a:pt x="268" y="3634"/>
                  </a:lnTo>
                  <a:lnTo>
                    <a:pt x="254" y="3618"/>
                  </a:lnTo>
                  <a:lnTo>
                    <a:pt x="238" y="3604"/>
                  </a:lnTo>
                  <a:lnTo>
                    <a:pt x="222" y="3590"/>
                  </a:lnTo>
                  <a:lnTo>
                    <a:pt x="202" y="3580"/>
                  </a:lnTo>
                  <a:lnTo>
                    <a:pt x="184" y="3570"/>
                  </a:lnTo>
                  <a:lnTo>
                    <a:pt x="162" y="3562"/>
                  </a:lnTo>
                  <a:lnTo>
                    <a:pt x="142" y="3556"/>
                  </a:lnTo>
                  <a:lnTo>
                    <a:pt x="118" y="3554"/>
                  </a:lnTo>
                  <a:lnTo>
                    <a:pt x="96" y="3552"/>
                  </a:lnTo>
                  <a:lnTo>
                    <a:pt x="76" y="3552"/>
                  </a:lnTo>
                  <a:lnTo>
                    <a:pt x="58" y="3556"/>
                  </a:lnTo>
                  <a:lnTo>
                    <a:pt x="40" y="3560"/>
                  </a:lnTo>
                  <a:lnTo>
                    <a:pt x="22" y="3564"/>
                  </a:lnTo>
                  <a:lnTo>
                    <a:pt x="0" y="3572"/>
                  </a:lnTo>
                  <a:lnTo>
                    <a:pt x="0" y="300"/>
                  </a:lnTo>
                  <a:lnTo>
                    <a:pt x="22" y="308"/>
                  </a:lnTo>
                  <a:lnTo>
                    <a:pt x="40" y="312"/>
                  </a:lnTo>
                  <a:lnTo>
                    <a:pt x="58" y="316"/>
                  </a:lnTo>
                  <a:lnTo>
                    <a:pt x="76" y="320"/>
                  </a:lnTo>
                  <a:lnTo>
                    <a:pt x="96" y="320"/>
                  </a:lnTo>
                  <a:lnTo>
                    <a:pt x="118" y="318"/>
                  </a:lnTo>
                  <a:lnTo>
                    <a:pt x="142" y="316"/>
                  </a:lnTo>
                  <a:lnTo>
                    <a:pt x="162" y="310"/>
                  </a:lnTo>
                  <a:lnTo>
                    <a:pt x="184" y="302"/>
                  </a:lnTo>
                  <a:lnTo>
                    <a:pt x="202" y="292"/>
                  </a:lnTo>
                  <a:lnTo>
                    <a:pt x="222" y="282"/>
                  </a:lnTo>
                  <a:lnTo>
                    <a:pt x="238" y="268"/>
                  </a:lnTo>
                  <a:lnTo>
                    <a:pt x="254" y="254"/>
                  </a:lnTo>
                  <a:lnTo>
                    <a:pt x="268" y="238"/>
                  </a:lnTo>
                  <a:lnTo>
                    <a:pt x="282" y="222"/>
                  </a:lnTo>
                  <a:lnTo>
                    <a:pt x="292" y="202"/>
                  </a:lnTo>
                  <a:lnTo>
                    <a:pt x="302" y="184"/>
                  </a:lnTo>
                  <a:lnTo>
                    <a:pt x="310" y="162"/>
                  </a:lnTo>
                  <a:lnTo>
                    <a:pt x="316" y="142"/>
                  </a:lnTo>
                  <a:lnTo>
                    <a:pt x="318" y="118"/>
                  </a:lnTo>
                  <a:lnTo>
                    <a:pt x="320" y="96"/>
                  </a:lnTo>
                  <a:lnTo>
                    <a:pt x="320" y="76"/>
                  </a:lnTo>
                  <a:lnTo>
                    <a:pt x="316" y="58"/>
                  </a:lnTo>
                  <a:lnTo>
                    <a:pt x="312" y="40"/>
                  </a:lnTo>
                  <a:lnTo>
                    <a:pt x="308" y="22"/>
                  </a:lnTo>
                  <a:lnTo>
                    <a:pt x="300" y="0"/>
                  </a:lnTo>
                  <a:lnTo>
                    <a:pt x="5492" y="0"/>
                  </a:lnTo>
                  <a:lnTo>
                    <a:pt x="5484" y="22"/>
                  </a:lnTo>
                  <a:lnTo>
                    <a:pt x="5480" y="40"/>
                  </a:lnTo>
                  <a:lnTo>
                    <a:pt x="5476" y="58"/>
                  </a:lnTo>
                  <a:lnTo>
                    <a:pt x="5472" y="76"/>
                  </a:lnTo>
                  <a:lnTo>
                    <a:pt x="5472" y="96"/>
                  </a:lnTo>
                  <a:lnTo>
                    <a:pt x="5474" y="118"/>
                  </a:lnTo>
                  <a:lnTo>
                    <a:pt x="5476" y="142"/>
                  </a:lnTo>
                  <a:lnTo>
                    <a:pt x="5482" y="162"/>
                  </a:lnTo>
                  <a:lnTo>
                    <a:pt x="5490" y="184"/>
                  </a:lnTo>
                  <a:lnTo>
                    <a:pt x="5500" y="202"/>
                  </a:lnTo>
                  <a:lnTo>
                    <a:pt x="5510" y="222"/>
                  </a:lnTo>
                  <a:lnTo>
                    <a:pt x="5524" y="238"/>
                  </a:lnTo>
                  <a:lnTo>
                    <a:pt x="5538" y="254"/>
                  </a:lnTo>
                  <a:lnTo>
                    <a:pt x="5554" y="268"/>
                  </a:lnTo>
                  <a:lnTo>
                    <a:pt x="5570" y="282"/>
                  </a:lnTo>
                  <a:lnTo>
                    <a:pt x="5590" y="292"/>
                  </a:lnTo>
                  <a:lnTo>
                    <a:pt x="5608" y="302"/>
                  </a:lnTo>
                  <a:lnTo>
                    <a:pt x="5630" y="310"/>
                  </a:lnTo>
                  <a:lnTo>
                    <a:pt x="5650" y="316"/>
                  </a:lnTo>
                  <a:lnTo>
                    <a:pt x="5674" y="318"/>
                  </a:lnTo>
                  <a:lnTo>
                    <a:pt x="5696" y="320"/>
                  </a:lnTo>
                  <a:lnTo>
                    <a:pt x="5716" y="320"/>
                  </a:lnTo>
                  <a:lnTo>
                    <a:pt x="5734" y="316"/>
                  </a:lnTo>
                  <a:lnTo>
                    <a:pt x="5752" y="312"/>
                  </a:lnTo>
                  <a:lnTo>
                    <a:pt x="5770" y="308"/>
                  </a:lnTo>
                  <a:lnTo>
                    <a:pt x="5792" y="300"/>
                  </a:lnTo>
                  <a:lnTo>
                    <a:pt x="5792" y="3572"/>
                  </a:lnTo>
                  <a:lnTo>
                    <a:pt x="5770" y="3564"/>
                  </a:lnTo>
                  <a:lnTo>
                    <a:pt x="5752" y="3560"/>
                  </a:lnTo>
                  <a:lnTo>
                    <a:pt x="5734" y="3556"/>
                  </a:lnTo>
                  <a:lnTo>
                    <a:pt x="5716" y="3552"/>
                  </a:lnTo>
                  <a:lnTo>
                    <a:pt x="5696" y="3552"/>
                  </a:lnTo>
                  <a:lnTo>
                    <a:pt x="5674" y="3554"/>
                  </a:lnTo>
                  <a:lnTo>
                    <a:pt x="5650" y="3556"/>
                  </a:lnTo>
                  <a:lnTo>
                    <a:pt x="5630" y="3562"/>
                  </a:lnTo>
                  <a:lnTo>
                    <a:pt x="5608" y="3570"/>
                  </a:lnTo>
                  <a:lnTo>
                    <a:pt x="5590" y="3580"/>
                  </a:lnTo>
                  <a:lnTo>
                    <a:pt x="5570" y="3590"/>
                  </a:lnTo>
                  <a:lnTo>
                    <a:pt x="5554" y="3604"/>
                  </a:lnTo>
                  <a:lnTo>
                    <a:pt x="5538" y="3618"/>
                  </a:lnTo>
                  <a:lnTo>
                    <a:pt x="5524" y="3634"/>
                  </a:lnTo>
                  <a:lnTo>
                    <a:pt x="5510" y="3650"/>
                  </a:lnTo>
                  <a:lnTo>
                    <a:pt x="5500" y="3670"/>
                  </a:lnTo>
                  <a:lnTo>
                    <a:pt x="5490" y="3688"/>
                  </a:lnTo>
                  <a:lnTo>
                    <a:pt x="5482" y="3710"/>
                  </a:lnTo>
                  <a:lnTo>
                    <a:pt x="5476" y="3730"/>
                  </a:lnTo>
                  <a:lnTo>
                    <a:pt x="5474" y="3754"/>
                  </a:lnTo>
                  <a:lnTo>
                    <a:pt x="5472" y="3776"/>
                  </a:lnTo>
                  <a:lnTo>
                    <a:pt x="5472" y="3796"/>
                  </a:lnTo>
                  <a:lnTo>
                    <a:pt x="5476" y="3814"/>
                  </a:lnTo>
                  <a:lnTo>
                    <a:pt x="5480" y="3832"/>
                  </a:lnTo>
                  <a:lnTo>
                    <a:pt x="5484" y="3850"/>
                  </a:lnTo>
                  <a:lnTo>
                    <a:pt x="5492" y="3872"/>
                  </a:lnTo>
                  <a:close/>
                  <a:moveTo>
                    <a:pt x="344" y="3840"/>
                  </a:moveTo>
                  <a:lnTo>
                    <a:pt x="5448" y="3840"/>
                  </a:lnTo>
                  <a:lnTo>
                    <a:pt x="5442" y="3808"/>
                  </a:lnTo>
                  <a:lnTo>
                    <a:pt x="5440" y="3776"/>
                  </a:lnTo>
                  <a:lnTo>
                    <a:pt x="5442" y="3750"/>
                  </a:lnTo>
                  <a:lnTo>
                    <a:pt x="5446" y="3724"/>
                  </a:lnTo>
                  <a:lnTo>
                    <a:pt x="5452" y="3700"/>
                  </a:lnTo>
                  <a:lnTo>
                    <a:pt x="5460" y="3676"/>
                  </a:lnTo>
                  <a:lnTo>
                    <a:pt x="5470" y="3654"/>
                  </a:lnTo>
                  <a:lnTo>
                    <a:pt x="5484" y="3632"/>
                  </a:lnTo>
                  <a:lnTo>
                    <a:pt x="5498" y="3614"/>
                  </a:lnTo>
                  <a:lnTo>
                    <a:pt x="5516" y="3596"/>
                  </a:lnTo>
                  <a:lnTo>
                    <a:pt x="5534" y="3578"/>
                  </a:lnTo>
                  <a:lnTo>
                    <a:pt x="5552" y="3564"/>
                  </a:lnTo>
                  <a:lnTo>
                    <a:pt x="5574" y="3550"/>
                  </a:lnTo>
                  <a:lnTo>
                    <a:pt x="5596" y="3540"/>
                  </a:lnTo>
                  <a:lnTo>
                    <a:pt x="5620" y="3532"/>
                  </a:lnTo>
                  <a:lnTo>
                    <a:pt x="5644" y="3526"/>
                  </a:lnTo>
                  <a:lnTo>
                    <a:pt x="5670" y="3522"/>
                  </a:lnTo>
                  <a:lnTo>
                    <a:pt x="5696" y="3520"/>
                  </a:lnTo>
                  <a:lnTo>
                    <a:pt x="5728" y="3522"/>
                  </a:lnTo>
                  <a:lnTo>
                    <a:pt x="5760" y="3528"/>
                  </a:lnTo>
                  <a:lnTo>
                    <a:pt x="5760" y="344"/>
                  </a:lnTo>
                  <a:lnTo>
                    <a:pt x="5728" y="350"/>
                  </a:lnTo>
                  <a:lnTo>
                    <a:pt x="5696" y="352"/>
                  </a:lnTo>
                  <a:lnTo>
                    <a:pt x="5670" y="350"/>
                  </a:lnTo>
                  <a:lnTo>
                    <a:pt x="5644" y="346"/>
                  </a:lnTo>
                  <a:lnTo>
                    <a:pt x="5620" y="340"/>
                  </a:lnTo>
                  <a:lnTo>
                    <a:pt x="5596" y="332"/>
                  </a:lnTo>
                  <a:lnTo>
                    <a:pt x="5574" y="322"/>
                  </a:lnTo>
                  <a:lnTo>
                    <a:pt x="5552" y="308"/>
                  </a:lnTo>
                  <a:lnTo>
                    <a:pt x="5534" y="294"/>
                  </a:lnTo>
                  <a:lnTo>
                    <a:pt x="5516" y="276"/>
                  </a:lnTo>
                  <a:lnTo>
                    <a:pt x="5498" y="258"/>
                  </a:lnTo>
                  <a:lnTo>
                    <a:pt x="5484" y="240"/>
                  </a:lnTo>
                  <a:lnTo>
                    <a:pt x="5470" y="218"/>
                  </a:lnTo>
                  <a:lnTo>
                    <a:pt x="5460" y="196"/>
                  </a:lnTo>
                  <a:lnTo>
                    <a:pt x="5452" y="172"/>
                  </a:lnTo>
                  <a:lnTo>
                    <a:pt x="5446" y="148"/>
                  </a:lnTo>
                  <a:lnTo>
                    <a:pt x="5442" y="122"/>
                  </a:lnTo>
                  <a:lnTo>
                    <a:pt x="5440" y="96"/>
                  </a:lnTo>
                  <a:lnTo>
                    <a:pt x="5442" y="64"/>
                  </a:lnTo>
                  <a:lnTo>
                    <a:pt x="5448" y="32"/>
                  </a:lnTo>
                  <a:lnTo>
                    <a:pt x="344" y="32"/>
                  </a:lnTo>
                  <a:lnTo>
                    <a:pt x="350" y="64"/>
                  </a:lnTo>
                  <a:lnTo>
                    <a:pt x="352" y="96"/>
                  </a:lnTo>
                  <a:lnTo>
                    <a:pt x="350" y="122"/>
                  </a:lnTo>
                  <a:lnTo>
                    <a:pt x="346" y="148"/>
                  </a:lnTo>
                  <a:lnTo>
                    <a:pt x="340" y="172"/>
                  </a:lnTo>
                  <a:lnTo>
                    <a:pt x="332" y="196"/>
                  </a:lnTo>
                  <a:lnTo>
                    <a:pt x="322" y="218"/>
                  </a:lnTo>
                  <a:lnTo>
                    <a:pt x="308" y="240"/>
                  </a:lnTo>
                  <a:lnTo>
                    <a:pt x="294" y="258"/>
                  </a:lnTo>
                  <a:lnTo>
                    <a:pt x="276" y="276"/>
                  </a:lnTo>
                  <a:lnTo>
                    <a:pt x="258" y="294"/>
                  </a:lnTo>
                  <a:lnTo>
                    <a:pt x="240" y="308"/>
                  </a:lnTo>
                  <a:lnTo>
                    <a:pt x="218" y="322"/>
                  </a:lnTo>
                  <a:lnTo>
                    <a:pt x="196" y="332"/>
                  </a:lnTo>
                  <a:lnTo>
                    <a:pt x="172" y="340"/>
                  </a:lnTo>
                  <a:lnTo>
                    <a:pt x="148" y="346"/>
                  </a:lnTo>
                  <a:lnTo>
                    <a:pt x="122" y="350"/>
                  </a:lnTo>
                  <a:lnTo>
                    <a:pt x="96" y="352"/>
                  </a:lnTo>
                  <a:lnTo>
                    <a:pt x="64" y="350"/>
                  </a:lnTo>
                  <a:lnTo>
                    <a:pt x="32" y="344"/>
                  </a:lnTo>
                  <a:lnTo>
                    <a:pt x="32" y="3528"/>
                  </a:lnTo>
                  <a:lnTo>
                    <a:pt x="64" y="3522"/>
                  </a:lnTo>
                  <a:lnTo>
                    <a:pt x="96" y="3520"/>
                  </a:lnTo>
                  <a:lnTo>
                    <a:pt x="122" y="3522"/>
                  </a:lnTo>
                  <a:lnTo>
                    <a:pt x="148" y="3526"/>
                  </a:lnTo>
                  <a:lnTo>
                    <a:pt x="172" y="3532"/>
                  </a:lnTo>
                  <a:lnTo>
                    <a:pt x="196" y="3540"/>
                  </a:lnTo>
                  <a:lnTo>
                    <a:pt x="218" y="3550"/>
                  </a:lnTo>
                  <a:lnTo>
                    <a:pt x="240" y="3564"/>
                  </a:lnTo>
                  <a:lnTo>
                    <a:pt x="258" y="3578"/>
                  </a:lnTo>
                  <a:lnTo>
                    <a:pt x="276" y="3596"/>
                  </a:lnTo>
                  <a:lnTo>
                    <a:pt x="294" y="3614"/>
                  </a:lnTo>
                  <a:lnTo>
                    <a:pt x="308" y="3632"/>
                  </a:lnTo>
                  <a:lnTo>
                    <a:pt x="322" y="3654"/>
                  </a:lnTo>
                  <a:lnTo>
                    <a:pt x="332" y="3676"/>
                  </a:lnTo>
                  <a:lnTo>
                    <a:pt x="340" y="3700"/>
                  </a:lnTo>
                  <a:lnTo>
                    <a:pt x="346" y="3724"/>
                  </a:lnTo>
                  <a:lnTo>
                    <a:pt x="350" y="3750"/>
                  </a:lnTo>
                  <a:lnTo>
                    <a:pt x="352" y="3776"/>
                  </a:lnTo>
                  <a:lnTo>
                    <a:pt x="350" y="3808"/>
                  </a:lnTo>
                  <a:lnTo>
                    <a:pt x="344" y="384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Прямоугольник 4"/>
          <p:cNvSpPr/>
          <p:nvPr/>
        </p:nvSpPr>
        <p:spPr>
          <a:xfrm>
            <a:off x="609480" y="762120"/>
            <a:ext cx="7925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8000"/>
                </a:solidFill>
                <a:latin typeface="Arial"/>
              </a:rPr>
              <a:t>Вопро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то называется механическим движение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очему указывают, относительно каких тел движется тело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то называют путем, пройденным тел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акова единица пути в С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3"/>
          <p:cNvGrpSpPr/>
          <p:nvPr/>
        </p:nvGrpSpPr>
        <p:grpSpPr>
          <a:xfrm>
            <a:off x="123840" y="93600"/>
            <a:ext cx="8893080" cy="6670800"/>
            <a:chOff x="123840" y="93600"/>
            <a:chExt cx="8893080" cy="6670800"/>
          </a:xfrm>
        </p:grpSpPr>
        <p:sp>
          <p:nvSpPr>
            <p:cNvPr id="238" name="Freeform 4"/>
            <p:cNvSpPr/>
            <p:nvPr/>
          </p:nvSpPr>
          <p:spPr>
            <a:xfrm>
              <a:off x="123840" y="93600"/>
              <a:ext cx="8893080" cy="6670800"/>
            </a:xfrm>
            <a:custGeom>
              <a:avLst/>
              <a:gdLst>
                <a:gd name="textAreaLeft" fmla="*/ 0 w 8893080"/>
                <a:gd name="textAreaRight" fmla="*/ 8893440 w 8893080"/>
                <a:gd name="textAreaTop" fmla="*/ 0 h 6670800"/>
                <a:gd name="textAreaBottom" fmla="*/ 6671160 h 6670800"/>
              </a:gdLst>
              <a:ahLst/>
              <a:rect l="textAreaLeft" t="textAreaTop" r="textAreaRight" b="textAreaBottom"/>
              <a:pathLst>
                <a:path w="6400" h="4480">
                  <a:moveTo>
                    <a:pt x="0" y="0"/>
                  </a:moveTo>
                  <a:lnTo>
                    <a:pt x="0" y="4480"/>
                  </a:lnTo>
                  <a:lnTo>
                    <a:pt x="6400" y="4480"/>
                  </a:lnTo>
                  <a:lnTo>
                    <a:pt x="6400" y="0"/>
                  </a:lnTo>
                  <a:lnTo>
                    <a:pt x="0" y="0"/>
                  </a:lnTo>
                  <a:close/>
                  <a:moveTo>
                    <a:pt x="6160" y="4000"/>
                  </a:moveTo>
                  <a:lnTo>
                    <a:pt x="6160" y="4000"/>
                  </a:lnTo>
                  <a:lnTo>
                    <a:pt x="6136" y="4002"/>
                  </a:lnTo>
                  <a:lnTo>
                    <a:pt x="6112" y="4004"/>
                  </a:lnTo>
                  <a:lnTo>
                    <a:pt x="6088" y="4010"/>
                  </a:lnTo>
                  <a:lnTo>
                    <a:pt x="6066" y="4018"/>
                  </a:lnTo>
                  <a:lnTo>
                    <a:pt x="6046" y="4028"/>
                  </a:lnTo>
                  <a:lnTo>
                    <a:pt x="6026" y="4040"/>
                  </a:lnTo>
                  <a:lnTo>
                    <a:pt x="6008" y="4054"/>
                  </a:lnTo>
                  <a:lnTo>
                    <a:pt x="5990" y="4070"/>
                  </a:lnTo>
                  <a:lnTo>
                    <a:pt x="5974" y="4088"/>
                  </a:lnTo>
                  <a:lnTo>
                    <a:pt x="5960" y="4106"/>
                  </a:lnTo>
                  <a:lnTo>
                    <a:pt x="5948" y="4126"/>
                  </a:lnTo>
                  <a:lnTo>
                    <a:pt x="5938" y="4146"/>
                  </a:lnTo>
                  <a:lnTo>
                    <a:pt x="5930" y="4168"/>
                  </a:lnTo>
                  <a:lnTo>
                    <a:pt x="5924" y="4192"/>
                  </a:lnTo>
                  <a:lnTo>
                    <a:pt x="5922" y="4216"/>
                  </a:lnTo>
                  <a:lnTo>
                    <a:pt x="5920" y="4240"/>
                  </a:lnTo>
                  <a:lnTo>
                    <a:pt x="5920" y="4260"/>
                  </a:lnTo>
                  <a:lnTo>
                    <a:pt x="5924" y="4282"/>
                  </a:lnTo>
                  <a:lnTo>
                    <a:pt x="5928" y="4300"/>
                  </a:lnTo>
                  <a:lnTo>
                    <a:pt x="5934" y="4320"/>
                  </a:lnTo>
                  <a:lnTo>
                    <a:pt x="466" y="4320"/>
                  </a:lnTo>
                  <a:lnTo>
                    <a:pt x="472" y="4300"/>
                  </a:lnTo>
                  <a:lnTo>
                    <a:pt x="476" y="4282"/>
                  </a:lnTo>
                  <a:lnTo>
                    <a:pt x="480" y="4260"/>
                  </a:lnTo>
                  <a:lnTo>
                    <a:pt x="480" y="4240"/>
                  </a:lnTo>
                  <a:lnTo>
                    <a:pt x="478" y="4216"/>
                  </a:lnTo>
                  <a:lnTo>
                    <a:pt x="476" y="4192"/>
                  </a:lnTo>
                  <a:lnTo>
                    <a:pt x="470" y="4168"/>
                  </a:lnTo>
                  <a:lnTo>
                    <a:pt x="462" y="4146"/>
                  </a:lnTo>
                  <a:lnTo>
                    <a:pt x="452" y="4126"/>
                  </a:lnTo>
                  <a:lnTo>
                    <a:pt x="440" y="4106"/>
                  </a:lnTo>
                  <a:lnTo>
                    <a:pt x="426" y="4088"/>
                  </a:lnTo>
                  <a:lnTo>
                    <a:pt x="410" y="4070"/>
                  </a:lnTo>
                  <a:lnTo>
                    <a:pt x="392" y="4054"/>
                  </a:lnTo>
                  <a:lnTo>
                    <a:pt x="374" y="4040"/>
                  </a:lnTo>
                  <a:lnTo>
                    <a:pt x="354" y="4028"/>
                  </a:lnTo>
                  <a:lnTo>
                    <a:pt x="334" y="4018"/>
                  </a:lnTo>
                  <a:lnTo>
                    <a:pt x="312" y="4010"/>
                  </a:lnTo>
                  <a:lnTo>
                    <a:pt x="288" y="4004"/>
                  </a:lnTo>
                  <a:lnTo>
                    <a:pt x="264" y="4002"/>
                  </a:lnTo>
                  <a:lnTo>
                    <a:pt x="240" y="4000"/>
                  </a:lnTo>
                  <a:lnTo>
                    <a:pt x="220" y="4000"/>
                  </a:lnTo>
                  <a:lnTo>
                    <a:pt x="198" y="4004"/>
                  </a:lnTo>
                  <a:lnTo>
                    <a:pt x="180" y="4008"/>
                  </a:lnTo>
                  <a:lnTo>
                    <a:pt x="160" y="4014"/>
                  </a:lnTo>
                  <a:lnTo>
                    <a:pt x="160" y="466"/>
                  </a:lnTo>
                  <a:lnTo>
                    <a:pt x="180" y="472"/>
                  </a:lnTo>
                  <a:lnTo>
                    <a:pt x="198" y="476"/>
                  </a:lnTo>
                  <a:lnTo>
                    <a:pt x="220" y="480"/>
                  </a:lnTo>
                  <a:lnTo>
                    <a:pt x="240" y="480"/>
                  </a:lnTo>
                  <a:lnTo>
                    <a:pt x="264" y="478"/>
                  </a:lnTo>
                  <a:lnTo>
                    <a:pt x="288" y="476"/>
                  </a:lnTo>
                  <a:lnTo>
                    <a:pt x="312" y="470"/>
                  </a:lnTo>
                  <a:lnTo>
                    <a:pt x="334" y="462"/>
                  </a:lnTo>
                  <a:lnTo>
                    <a:pt x="354" y="452"/>
                  </a:lnTo>
                  <a:lnTo>
                    <a:pt x="374" y="440"/>
                  </a:lnTo>
                  <a:lnTo>
                    <a:pt x="392" y="426"/>
                  </a:lnTo>
                  <a:lnTo>
                    <a:pt x="410" y="410"/>
                  </a:lnTo>
                  <a:lnTo>
                    <a:pt x="426" y="392"/>
                  </a:lnTo>
                  <a:lnTo>
                    <a:pt x="440" y="374"/>
                  </a:lnTo>
                  <a:lnTo>
                    <a:pt x="452" y="354"/>
                  </a:lnTo>
                  <a:lnTo>
                    <a:pt x="462" y="334"/>
                  </a:lnTo>
                  <a:lnTo>
                    <a:pt x="470" y="312"/>
                  </a:lnTo>
                  <a:lnTo>
                    <a:pt x="476" y="288"/>
                  </a:lnTo>
                  <a:lnTo>
                    <a:pt x="478" y="264"/>
                  </a:lnTo>
                  <a:lnTo>
                    <a:pt x="480" y="240"/>
                  </a:lnTo>
                  <a:lnTo>
                    <a:pt x="480" y="220"/>
                  </a:lnTo>
                  <a:lnTo>
                    <a:pt x="476" y="198"/>
                  </a:lnTo>
                  <a:lnTo>
                    <a:pt x="472" y="180"/>
                  </a:lnTo>
                  <a:lnTo>
                    <a:pt x="466" y="160"/>
                  </a:lnTo>
                  <a:lnTo>
                    <a:pt x="5934" y="160"/>
                  </a:lnTo>
                  <a:lnTo>
                    <a:pt x="5928" y="180"/>
                  </a:lnTo>
                  <a:lnTo>
                    <a:pt x="5924" y="198"/>
                  </a:lnTo>
                  <a:lnTo>
                    <a:pt x="5920" y="220"/>
                  </a:lnTo>
                  <a:lnTo>
                    <a:pt x="5920" y="240"/>
                  </a:lnTo>
                  <a:lnTo>
                    <a:pt x="5922" y="264"/>
                  </a:lnTo>
                  <a:lnTo>
                    <a:pt x="5924" y="288"/>
                  </a:lnTo>
                  <a:lnTo>
                    <a:pt x="5930" y="312"/>
                  </a:lnTo>
                  <a:lnTo>
                    <a:pt x="5938" y="334"/>
                  </a:lnTo>
                  <a:lnTo>
                    <a:pt x="5948" y="354"/>
                  </a:lnTo>
                  <a:lnTo>
                    <a:pt x="5960" y="374"/>
                  </a:lnTo>
                  <a:lnTo>
                    <a:pt x="5974" y="392"/>
                  </a:lnTo>
                  <a:lnTo>
                    <a:pt x="5990" y="410"/>
                  </a:lnTo>
                  <a:lnTo>
                    <a:pt x="6008" y="426"/>
                  </a:lnTo>
                  <a:lnTo>
                    <a:pt x="6026" y="440"/>
                  </a:lnTo>
                  <a:lnTo>
                    <a:pt x="6046" y="452"/>
                  </a:lnTo>
                  <a:lnTo>
                    <a:pt x="6066" y="462"/>
                  </a:lnTo>
                  <a:lnTo>
                    <a:pt x="6088" y="470"/>
                  </a:lnTo>
                  <a:lnTo>
                    <a:pt x="6112" y="476"/>
                  </a:lnTo>
                  <a:lnTo>
                    <a:pt x="6136" y="478"/>
                  </a:lnTo>
                  <a:lnTo>
                    <a:pt x="6160" y="480"/>
                  </a:lnTo>
                  <a:lnTo>
                    <a:pt x="6180" y="480"/>
                  </a:lnTo>
                  <a:lnTo>
                    <a:pt x="6202" y="476"/>
                  </a:lnTo>
                  <a:lnTo>
                    <a:pt x="6220" y="472"/>
                  </a:lnTo>
                  <a:lnTo>
                    <a:pt x="6240" y="466"/>
                  </a:lnTo>
                  <a:lnTo>
                    <a:pt x="6240" y="4014"/>
                  </a:lnTo>
                  <a:lnTo>
                    <a:pt x="6220" y="4008"/>
                  </a:lnTo>
                  <a:lnTo>
                    <a:pt x="6202" y="4004"/>
                  </a:lnTo>
                  <a:lnTo>
                    <a:pt x="6180" y="4000"/>
                  </a:lnTo>
                  <a:lnTo>
                    <a:pt x="6160" y="400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5"/>
            <p:cNvSpPr/>
            <p:nvPr/>
          </p:nvSpPr>
          <p:spPr>
            <a:xfrm>
              <a:off x="546120" y="546120"/>
              <a:ext cx="8048160" cy="5765040"/>
            </a:xfrm>
            <a:custGeom>
              <a:avLst/>
              <a:gdLst>
                <a:gd name="textAreaLeft" fmla="*/ 0 w 8048160"/>
                <a:gd name="textAreaRight" fmla="*/ 8048520 w 8048160"/>
                <a:gd name="textAreaTop" fmla="*/ 0 h 5765040"/>
                <a:gd name="textAreaBottom" fmla="*/ 5765400 h 5765040"/>
              </a:gdLst>
              <a:ahLst/>
              <a:rect l="textAreaLeft" t="textAreaTop" r="textAreaRight" b="textAreaBottom"/>
              <a:pathLst>
                <a:path w="5792" h="3872">
                  <a:moveTo>
                    <a:pt x="5492" y="3872"/>
                  </a:moveTo>
                  <a:lnTo>
                    <a:pt x="300" y="3872"/>
                  </a:lnTo>
                  <a:lnTo>
                    <a:pt x="308" y="3850"/>
                  </a:lnTo>
                  <a:lnTo>
                    <a:pt x="312" y="3832"/>
                  </a:lnTo>
                  <a:lnTo>
                    <a:pt x="316" y="3814"/>
                  </a:lnTo>
                  <a:lnTo>
                    <a:pt x="320" y="3796"/>
                  </a:lnTo>
                  <a:lnTo>
                    <a:pt x="320" y="3776"/>
                  </a:lnTo>
                  <a:lnTo>
                    <a:pt x="318" y="3754"/>
                  </a:lnTo>
                  <a:lnTo>
                    <a:pt x="316" y="3730"/>
                  </a:lnTo>
                  <a:lnTo>
                    <a:pt x="310" y="3710"/>
                  </a:lnTo>
                  <a:lnTo>
                    <a:pt x="302" y="3688"/>
                  </a:lnTo>
                  <a:lnTo>
                    <a:pt x="292" y="3670"/>
                  </a:lnTo>
                  <a:lnTo>
                    <a:pt x="282" y="3650"/>
                  </a:lnTo>
                  <a:lnTo>
                    <a:pt x="268" y="3634"/>
                  </a:lnTo>
                  <a:lnTo>
                    <a:pt x="254" y="3618"/>
                  </a:lnTo>
                  <a:lnTo>
                    <a:pt x="238" y="3604"/>
                  </a:lnTo>
                  <a:lnTo>
                    <a:pt x="222" y="3590"/>
                  </a:lnTo>
                  <a:lnTo>
                    <a:pt x="202" y="3580"/>
                  </a:lnTo>
                  <a:lnTo>
                    <a:pt x="184" y="3570"/>
                  </a:lnTo>
                  <a:lnTo>
                    <a:pt x="162" y="3562"/>
                  </a:lnTo>
                  <a:lnTo>
                    <a:pt x="142" y="3556"/>
                  </a:lnTo>
                  <a:lnTo>
                    <a:pt x="118" y="3554"/>
                  </a:lnTo>
                  <a:lnTo>
                    <a:pt x="96" y="3552"/>
                  </a:lnTo>
                  <a:lnTo>
                    <a:pt x="76" y="3552"/>
                  </a:lnTo>
                  <a:lnTo>
                    <a:pt x="58" y="3556"/>
                  </a:lnTo>
                  <a:lnTo>
                    <a:pt x="40" y="3560"/>
                  </a:lnTo>
                  <a:lnTo>
                    <a:pt x="22" y="3564"/>
                  </a:lnTo>
                  <a:lnTo>
                    <a:pt x="0" y="3572"/>
                  </a:lnTo>
                  <a:lnTo>
                    <a:pt x="0" y="300"/>
                  </a:lnTo>
                  <a:lnTo>
                    <a:pt x="22" y="308"/>
                  </a:lnTo>
                  <a:lnTo>
                    <a:pt x="40" y="312"/>
                  </a:lnTo>
                  <a:lnTo>
                    <a:pt x="58" y="316"/>
                  </a:lnTo>
                  <a:lnTo>
                    <a:pt x="76" y="320"/>
                  </a:lnTo>
                  <a:lnTo>
                    <a:pt x="96" y="320"/>
                  </a:lnTo>
                  <a:lnTo>
                    <a:pt x="118" y="318"/>
                  </a:lnTo>
                  <a:lnTo>
                    <a:pt x="142" y="316"/>
                  </a:lnTo>
                  <a:lnTo>
                    <a:pt x="162" y="310"/>
                  </a:lnTo>
                  <a:lnTo>
                    <a:pt x="184" y="302"/>
                  </a:lnTo>
                  <a:lnTo>
                    <a:pt x="202" y="292"/>
                  </a:lnTo>
                  <a:lnTo>
                    <a:pt x="222" y="282"/>
                  </a:lnTo>
                  <a:lnTo>
                    <a:pt x="238" y="268"/>
                  </a:lnTo>
                  <a:lnTo>
                    <a:pt x="254" y="254"/>
                  </a:lnTo>
                  <a:lnTo>
                    <a:pt x="268" y="238"/>
                  </a:lnTo>
                  <a:lnTo>
                    <a:pt x="282" y="222"/>
                  </a:lnTo>
                  <a:lnTo>
                    <a:pt x="292" y="202"/>
                  </a:lnTo>
                  <a:lnTo>
                    <a:pt x="302" y="184"/>
                  </a:lnTo>
                  <a:lnTo>
                    <a:pt x="310" y="162"/>
                  </a:lnTo>
                  <a:lnTo>
                    <a:pt x="316" y="142"/>
                  </a:lnTo>
                  <a:lnTo>
                    <a:pt x="318" y="118"/>
                  </a:lnTo>
                  <a:lnTo>
                    <a:pt x="320" y="96"/>
                  </a:lnTo>
                  <a:lnTo>
                    <a:pt x="320" y="76"/>
                  </a:lnTo>
                  <a:lnTo>
                    <a:pt x="316" y="58"/>
                  </a:lnTo>
                  <a:lnTo>
                    <a:pt x="312" y="40"/>
                  </a:lnTo>
                  <a:lnTo>
                    <a:pt x="308" y="22"/>
                  </a:lnTo>
                  <a:lnTo>
                    <a:pt x="300" y="0"/>
                  </a:lnTo>
                  <a:lnTo>
                    <a:pt x="5492" y="0"/>
                  </a:lnTo>
                  <a:lnTo>
                    <a:pt x="5484" y="22"/>
                  </a:lnTo>
                  <a:lnTo>
                    <a:pt x="5480" y="40"/>
                  </a:lnTo>
                  <a:lnTo>
                    <a:pt x="5476" y="58"/>
                  </a:lnTo>
                  <a:lnTo>
                    <a:pt x="5472" y="76"/>
                  </a:lnTo>
                  <a:lnTo>
                    <a:pt x="5472" y="96"/>
                  </a:lnTo>
                  <a:lnTo>
                    <a:pt x="5474" y="118"/>
                  </a:lnTo>
                  <a:lnTo>
                    <a:pt x="5476" y="142"/>
                  </a:lnTo>
                  <a:lnTo>
                    <a:pt x="5482" y="162"/>
                  </a:lnTo>
                  <a:lnTo>
                    <a:pt x="5490" y="184"/>
                  </a:lnTo>
                  <a:lnTo>
                    <a:pt x="5500" y="202"/>
                  </a:lnTo>
                  <a:lnTo>
                    <a:pt x="5510" y="222"/>
                  </a:lnTo>
                  <a:lnTo>
                    <a:pt x="5524" y="238"/>
                  </a:lnTo>
                  <a:lnTo>
                    <a:pt x="5538" y="254"/>
                  </a:lnTo>
                  <a:lnTo>
                    <a:pt x="5554" y="268"/>
                  </a:lnTo>
                  <a:lnTo>
                    <a:pt x="5570" y="282"/>
                  </a:lnTo>
                  <a:lnTo>
                    <a:pt x="5590" y="292"/>
                  </a:lnTo>
                  <a:lnTo>
                    <a:pt x="5608" y="302"/>
                  </a:lnTo>
                  <a:lnTo>
                    <a:pt x="5630" y="310"/>
                  </a:lnTo>
                  <a:lnTo>
                    <a:pt x="5650" y="316"/>
                  </a:lnTo>
                  <a:lnTo>
                    <a:pt x="5674" y="318"/>
                  </a:lnTo>
                  <a:lnTo>
                    <a:pt x="5696" y="320"/>
                  </a:lnTo>
                  <a:lnTo>
                    <a:pt x="5716" y="320"/>
                  </a:lnTo>
                  <a:lnTo>
                    <a:pt x="5734" y="316"/>
                  </a:lnTo>
                  <a:lnTo>
                    <a:pt x="5752" y="312"/>
                  </a:lnTo>
                  <a:lnTo>
                    <a:pt x="5770" y="308"/>
                  </a:lnTo>
                  <a:lnTo>
                    <a:pt x="5792" y="300"/>
                  </a:lnTo>
                  <a:lnTo>
                    <a:pt x="5792" y="3572"/>
                  </a:lnTo>
                  <a:lnTo>
                    <a:pt x="5770" y="3564"/>
                  </a:lnTo>
                  <a:lnTo>
                    <a:pt x="5752" y="3560"/>
                  </a:lnTo>
                  <a:lnTo>
                    <a:pt x="5734" y="3556"/>
                  </a:lnTo>
                  <a:lnTo>
                    <a:pt x="5716" y="3552"/>
                  </a:lnTo>
                  <a:lnTo>
                    <a:pt x="5696" y="3552"/>
                  </a:lnTo>
                  <a:lnTo>
                    <a:pt x="5674" y="3554"/>
                  </a:lnTo>
                  <a:lnTo>
                    <a:pt x="5650" y="3556"/>
                  </a:lnTo>
                  <a:lnTo>
                    <a:pt x="5630" y="3562"/>
                  </a:lnTo>
                  <a:lnTo>
                    <a:pt x="5608" y="3570"/>
                  </a:lnTo>
                  <a:lnTo>
                    <a:pt x="5590" y="3580"/>
                  </a:lnTo>
                  <a:lnTo>
                    <a:pt x="5570" y="3590"/>
                  </a:lnTo>
                  <a:lnTo>
                    <a:pt x="5554" y="3604"/>
                  </a:lnTo>
                  <a:lnTo>
                    <a:pt x="5538" y="3618"/>
                  </a:lnTo>
                  <a:lnTo>
                    <a:pt x="5524" y="3634"/>
                  </a:lnTo>
                  <a:lnTo>
                    <a:pt x="5510" y="3650"/>
                  </a:lnTo>
                  <a:lnTo>
                    <a:pt x="5500" y="3670"/>
                  </a:lnTo>
                  <a:lnTo>
                    <a:pt x="5490" y="3688"/>
                  </a:lnTo>
                  <a:lnTo>
                    <a:pt x="5482" y="3710"/>
                  </a:lnTo>
                  <a:lnTo>
                    <a:pt x="5476" y="3730"/>
                  </a:lnTo>
                  <a:lnTo>
                    <a:pt x="5474" y="3754"/>
                  </a:lnTo>
                  <a:lnTo>
                    <a:pt x="5472" y="3776"/>
                  </a:lnTo>
                  <a:lnTo>
                    <a:pt x="5472" y="3796"/>
                  </a:lnTo>
                  <a:lnTo>
                    <a:pt x="5476" y="3814"/>
                  </a:lnTo>
                  <a:lnTo>
                    <a:pt x="5480" y="3832"/>
                  </a:lnTo>
                  <a:lnTo>
                    <a:pt x="5484" y="3850"/>
                  </a:lnTo>
                  <a:lnTo>
                    <a:pt x="5492" y="3872"/>
                  </a:lnTo>
                  <a:close/>
                  <a:moveTo>
                    <a:pt x="344" y="3840"/>
                  </a:moveTo>
                  <a:lnTo>
                    <a:pt x="5448" y="3840"/>
                  </a:lnTo>
                  <a:lnTo>
                    <a:pt x="5442" y="3808"/>
                  </a:lnTo>
                  <a:lnTo>
                    <a:pt x="5440" y="3776"/>
                  </a:lnTo>
                  <a:lnTo>
                    <a:pt x="5442" y="3750"/>
                  </a:lnTo>
                  <a:lnTo>
                    <a:pt x="5446" y="3724"/>
                  </a:lnTo>
                  <a:lnTo>
                    <a:pt x="5452" y="3700"/>
                  </a:lnTo>
                  <a:lnTo>
                    <a:pt x="5460" y="3676"/>
                  </a:lnTo>
                  <a:lnTo>
                    <a:pt x="5470" y="3654"/>
                  </a:lnTo>
                  <a:lnTo>
                    <a:pt x="5484" y="3632"/>
                  </a:lnTo>
                  <a:lnTo>
                    <a:pt x="5498" y="3614"/>
                  </a:lnTo>
                  <a:lnTo>
                    <a:pt x="5516" y="3596"/>
                  </a:lnTo>
                  <a:lnTo>
                    <a:pt x="5534" y="3578"/>
                  </a:lnTo>
                  <a:lnTo>
                    <a:pt x="5552" y="3564"/>
                  </a:lnTo>
                  <a:lnTo>
                    <a:pt x="5574" y="3550"/>
                  </a:lnTo>
                  <a:lnTo>
                    <a:pt x="5596" y="3540"/>
                  </a:lnTo>
                  <a:lnTo>
                    <a:pt x="5620" y="3532"/>
                  </a:lnTo>
                  <a:lnTo>
                    <a:pt x="5644" y="3526"/>
                  </a:lnTo>
                  <a:lnTo>
                    <a:pt x="5670" y="3522"/>
                  </a:lnTo>
                  <a:lnTo>
                    <a:pt x="5696" y="3520"/>
                  </a:lnTo>
                  <a:lnTo>
                    <a:pt x="5728" y="3522"/>
                  </a:lnTo>
                  <a:lnTo>
                    <a:pt x="5760" y="3528"/>
                  </a:lnTo>
                  <a:lnTo>
                    <a:pt x="5760" y="344"/>
                  </a:lnTo>
                  <a:lnTo>
                    <a:pt x="5728" y="350"/>
                  </a:lnTo>
                  <a:lnTo>
                    <a:pt x="5696" y="352"/>
                  </a:lnTo>
                  <a:lnTo>
                    <a:pt x="5670" y="350"/>
                  </a:lnTo>
                  <a:lnTo>
                    <a:pt x="5644" y="346"/>
                  </a:lnTo>
                  <a:lnTo>
                    <a:pt x="5620" y="340"/>
                  </a:lnTo>
                  <a:lnTo>
                    <a:pt x="5596" y="332"/>
                  </a:lnTo>
                  <a:lnTo>
                    <a:pt x="5574" y="322"/>
                  </a:lnTo>
                  <a:lnTo>
                    <a:pt x="5552" y="308"/>
                  </a:lnTo>
                  <a:lnTo>
                    <a:pt x="5534" y="294"/>
                  </a:lnTo>
                  <a:lnTo>
                    <a:pt x="5516" y="276"/>
                  </a:lnTo>
                  <a:lnTo>
                    <a:pt x="5498" y="258"/>
                  </a:lnTo>
                  <a:lnTo>
                    <a:pt x="5484" y="240"/>
                  </a:lnTo>
                  <a:lnTo>
                    <a:pt x="5470" y="218"/>
                  </a:lnTo>
                  <a:lnTo>
                    <a:pt x="5460" y="196"/>
                  </a:lnTo>
                  <a:lnTo>
                    <a:pt x="5452" y="172"/>
                  </a:lnTo>
                  <a:lnTo>
                    <a:pt x="5446" y="148"/>
                  </a:lnTo>
                  <a:lnTo>
                    <a:pt x="5442" y="122"/>
                  </a:lnTo>
                  <a:lnTo>
                    <a:pt x="5440" y="96"/>
                  </a:lnTo>
                  <a:lnTo>
                    <a:pt x="5442" y="64"/>
                  </a:lnTo>
                  <a:lnTo>
                    <a:pt x="5448" y="32"/>
                  </a:lnTo>
                  <a:lnTo>
                    <a:pt x="344" y="32"/>
                  </a:lnTo>
                  <a:lnTo>
                    <a:pt x="350" y="64"/>
                  </a:lnTo>
                  <a:lnTo>
                    <a:pt x="352" y="96"/>
                  </a:lnTo>
                  <a:lnTo>
                    <a:pt x="350" y="122"/>
                  </a:lnTo>
                  <a:lnTo>
                    <a:pt x="346" y="148"/>
                  </a:lnTo>
                  <a:lnTo>
                    <a:pt x="340" y="172"/>
                  </a:lnTo>
                  <a:lnTo>
                    <a:pt x="332" y="196"/>
                  </a:lnTo>
                  <a:lnTo>
                    <a:pt x="322" y="218"/>
                  </a:lnTo>
                  <a:lnTo>
                    <a:pt x="308" y="240"/>
                  </a:lnTo>
                  <a:lnTo>
                    <a:pt x="294" y="258"/>
                  </a:lnTo>
                  <a:lnTo>
                    <a:pt x="276" y="276"/>
                  </a:lnTo>
                  <a:lnTo>
                    <a:pt x="258" y="294"/>
                  </a:lnTo>
                  <a:lnTo>
                    <a:pt x="240" y="308"/>
                  </a:lnTo>
                  <a:lnTo>
                    <a:pt x="218" y="322"/>
                  </a:lnTo>
                  <a:lnTo>
                    <a:pt x="196" y="332"/>
                  </a:lnTo>
                  <a:lnTo>
                    <a:pt x="172" y="340"/>
                  </a:lnTo>
                  <a:lnTo>
                    <a:pt x="148" y="346"/>
                  </a:lnTo>
                  <a:lnTo>
                    <a:pt x="122" y="350"/>
                  </a:lnTo>
                  <a:lnTo>
                    <a:pt x="96" y="352"/>
                  </a:lnTo>
                  <a:lnTo>
                    <a:pt x="64" y="350"/>
                  </a:lnTo>
                  <a:lnTo>
                    <a:pt x="32" y="344"/>
                  </a:lnTo>
                  <a:lnTo>
                    <a:pt x="32" y="3528"/>
                  </a:lnTo>
                  <a:lnTo>
                    <a:pt x="64" y="3522"/>
                  </a:lnTo>
                  <a:lnTo>
                    <a:pt x="96" y="3520"/>
                  </a:lnTo>
                  <a:lnTo>
                    <a:pt x="122" y="3522"/>
                  </a:lnTo>
                  <a:lnTo>
                    <a:pt x="148" y="3526"/>
                  </a:lnTo>
                  <a:lnTo>
                    <a:pt x="172" y="3532"/>
                  </a:lnTo>
                  <a:lnTo>
                    <a:pt x="196" y="3540"/>
                  </a:lnTo>
                  <a:lnTo>
                    <a:pt x="218" y="3550"/>
                  </a:lnTo>
                  <a:lnTo>
                    <a:pt x="240" y="3564"/>
                  </a:lnTo>
                  <a:lnTo>
                    <a:pt x="258" y="3578"/>
                  </a:lnTo>
                  <a:lnTo>
                    <a:pt x="276" y="3596"/>
                  </a:lnTo>
                  <a:lnTo>
                    <a:pt x="294" y="3614"/>
                  </a:lnTo>
                  <a:lnTo>
                    <a:pt x="308" y="3632"/>
                  </a:lnTo>
                  <a:lnTo>
                    <a:pt x="322" y="3654"/>
                  </a:lnTo>
                  <a:lnTo>
                    <a:pt x="332" y="3676"/>
                  </a:lnTo>
                  <a:lnTo>
                    <a:pt x="340" y="3700"/>
                  </a:lnTo>
                  <a:lnTo>
                    <a:pt x="346" y="3724"/>
                  </a:lnTo>
                  <a:lnTo>
                    <a:pt x="350" y="3750"/>
                  </a:lnTo>
                  <a:lnTo>
                    <a:pt x="352" y="3776"/>
                  </a:lnTo>
                  <a:lnTo>
                    <a:pt x="350" y="3808"/>
                  </a:lnTo>
                  <a:lnTo>
                    <a:pt x="344" y="384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Прямоугольник 4"/>
          <p:cNvSpPr/>
          <p:nvPr/>
        </p:nvSpPr>
        <p:spPr>
          <a:xfrm>
            <a:off x="838080" y="609480"/>
            <a:ext cx="769644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8000"/>
                </a:solidFill>
                <a:latin typeface="Arial"/>
              </a:rPr>
              <a:t>Упражнение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Приведите примеры тел, движущихся относительно Земли; неподвижных относительно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Почему во время снежной метели трудно указать, движется поезд или 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Какую траекторию оставляет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чном небе реактивный самол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Что должны узнать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то называют механическим движение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ак определить, движется тело или не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акие физические понятия применяют для описания механического движе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акие физические величины используют для изучения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еханического движе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Для всех: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.13, читать, отвечать на вопросы; упр.3 (стр.32)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Для желающих: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задание 4 (стр.3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Спасибо за работу! Успехов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A9A6-AC68-4E76-9FD1-D52C3C755EB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26"/>
          <p:cNvSpPr/>
          <p:nvPr/>
        </p:nvSpPr>
        <p:spPr>
          <a:xfrm>
            <a:off x="0" y="3643200"/>
            <a:ext cx="9144000" cy="71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28240" y="4343400"/>
            <a:ext cx="5257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alibri"/>
              </a:rPr>
              <a:t>Какие тела движутс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Calibri"/>
              </a:rPr>
              <a:t>Какие тела неподвижны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alibri"/>
              </a:rPr>
              <a:t>Относительно каких тел</a:t>
            </a:r>
            <a:r>
              <a:rPr b="1" lang="ru-RU" sz="3600" spc="-1" strike="noStrike">
                <a:solidFill>
                  <a:srgbClr val="008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Группа 27"/>
          <p:cNvGrpSpPr/>
          <p:nvPr/>
        </p:nvGrpSpPr>
        <p:grpSpPr>
          <a:xfrm>
            <a:off x="-4429080" y="1214280"/>
            <a:ext cx="4214880" cy="2357640"/>
            <a:chOff x="-4429080" y="1214280"/>
            <a:chExt cx="4214880" cy="2357640"/>
          </a:xfrm>
        </p:grpSpPr>
        <p:sp>
          <p:nvSpPr>
            <p:cNvPr id="100" name="Прямоугольник 3"/>
            <p:cNvSpPr/>
            <p:nvPr/>
          </p:nvSpPr>
          <p:spPr>
            <a:xfrm>
              <a:off x="-4429080" y="1499760"/>
              <a:ext cx="4214880" cy="1571760"/>
            </a:xfrm>
            <a:prstGeom prst="rect">
              <a:avLst/>
            </a:prstGeom>
            <a:solidFill>
              <a:srgbClr val="d7e4bd"/>
            </a:solid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рямоугольник 4"/>
            <p:cNvSpPr/>
            <p:nvPr/>
          </p:nvSpPr>
          <p:spPr>
            <a:xfrm>
              <a:off x="-4429080" y="1214280"/>
              <a:ext cx="4214880" cy="285480"/>
            </a:xfrm>
            <a:prstGeom prst="rect">
              <a:avLst/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Прямоугольник 7"/>
            <p:cNvSpPr/>
            <p:nvPr/>
          </p:nvSpPr>
          <p:spPr>
            <a:xfrm>
              <a:off x="-2928600" y="1642680"/>
              <a:ext cx="1143000" cy="10000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Picture 2" descr="C:\Program Files\Microsoft Office\MEDIA\CAGCAT10\j0216724.wmf"/>
            <p:cNvPicPr/>
            <p:nvPr/>
          </p:nvPicPr>
          <p:blipFill>
            <a:blip r:embed="rId2"/>
            <a:stretch/>
          </p:blipFill>
          <p:spPr>
            <a:xfrm>
              <a:off x="-2714400" y="1714320"/>
              <a:ext cx="68184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Прямоугольник 6"/>
            <p:cNvSpPr/>
            <p:nvPr/>
          </p:nvSpPr>
          <p:spPr>
            <a:xfrm>
              <a:off x="-2928600" y="1642680"/>
              <a:ext cx="1143000" cy="1000080"/>
            </a:xfrm>
            <a:prstGeom prst="rect">
              <a:avLst/>
            </a:prstGeom>
            <a:noFill/>
            <a:ln w="1522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Прямоугольник 8"/>
            <p:cNvSpPr/>
            <p:nvPr/>
          </p:nvSpPr>
          <p:spPr>
            <a:xfrm>
              <a:off x="-999720" y="1642680"/>
              <a:ext cx="633240" cy="1428840"/>
            </a:xfrm>
            <a:prstGeom prst="rect">
              <a:avLst/>
            </a:prstGeom>
            <a:solidFill>
              <a:srgbClr val="d7e4bd"/>
            </a:solid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Прямоугольник 10"/>
            <p:cNvSpPr/>
            <p:nvPr/>
          </p:nvSpPr>
          <p:spPr>
            <a:xfrm>
              <a:off x="-4286160" y="1642680"/>
              <a:ext cx="633240" cy="1428840"/>
            </a:xfrm>
            <a:prstGeom prst="rect">
              <a:avLst/>
            </a:prstGeom>
            <a:solidFill>
              <a:srgbClr val="d7e4bd"/>
            </a:solid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Кольцо 12"/>
            <p:cNvSpPr/>
            <p:nvPr/>
          </p:nvSpPr>
          <p:spPr>
            <a:xfrm>
              <a:off x="-1213920" y="3071880"/>
              <a:ext cx="500040" cy="500040"/>
            </a:xfrm>
            <a:custGeom>
              <a:avLst/>
              <a:gdLst>
                <a:gd name="textAreaLeft" fmla="*/ 73080 w 500040"/>
                <a:gd name="textAreaRight" fmla="*/ 426960 w 500040"/>
                <a:gd name="textAreaTop" fmla="*/ 73080 h 500040"/>
                <a:gd name="textAreaBottom" fmla="*/ 426960 h 500040"/>
              </a:gdLst>
              <a:ahLst/>
              <a:rect l="textAreaLeft" t="textAreaTop" r="textAreaRight" b="textAreaBottom"/>
              <a:pathLst>
                <a:path w="500067" h="500066">
                  <a:moveTo>
                    <a:pt x="0" y="250033"/>
                  </a:moveTo>
                  <a:lnTo>
                    <a:pt x="0" y="250033"/>
                  </a:lnTo>
                  <a:arcTo wR="250034" hR="250033" stAng="10800000" swAng="5400000"/>
                  <a:lnTo>
                    <a:pt x="250034" y="0"/>
                  </a:lnTo>
                  <a:arcTo wR="250034" hR="250033" stAng="-5400000" swAng="5400000"/>
                  <a:lnTo>
                    <a:pt x="500068" y="250033"/>
                  </a:lnTo>
                  <a:arcTo wR="250034" hR="250033" stAng="0" swAng="5400000"/>
                  <a:lnTo>
                    <a:pt x="250034" y="500066"/>
                  </a:lnTo>
                  <a:arcTo wR="250034" hR="250033" stAng="5400000" swAng="5400000"/>
                  <a:close/>
                  <a:moveTo>
                    <a:pt x="125017" y="250033"/>
                  </a:moveTo>
                  <a:lnTo>
                    <a:pt x="125017" y="250033"/>
                  </a:lnTo>
                  <a:arcTo wR="125017" hR="125017" stAng="10800000" swAng="-5400000"/>
                  <a:lnTo>
                    <a:pt x="250034" y="375050"/>
                  </a:lnTo>
                  <a:arcTo wR="125017" hR="125017" stAng="5400000" swAng="-5400000"/>
                  <a:lnTo>
                    <a:pt x="375051" y="250033"/>
                  </a:lnTo>
                  <a:arcTo wR="125017" hR="125017" stAng="0" swAng="-5400000"/>
                  <a:lnTo>
                    <a:pt x="250034" y="125016"/>
                  </a:lnTo>
                  <a:arcTo wR="125017" hR="125017" stAng="-5400000" swAng="-5400000"/>
                  <a:close/>
                </a:path>
              </a:pathLst>
            </a:custGeom>
            <a:solidFill>
              <a:srgbClr val="7f7f7f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Кольцо 13"/>
            <p:cNvSpPr/>
            <p:nvPr/>
          </p:nvSpPr>
          <p:spPr>
            <a:xfrm>
              <a:off x="-3928680" y="3071880"/>
              <a:ext cx="500040" cy="500040"/>
            </a:xfrm>
            <a:custGeom>
              <a:avLst/>
              <a:gdLst>
                <a:gd name="textAreaLeft" fmla="*/ 73080 w 500040"/>
                <a:gd name="textAreaRight" fmla="*/ 426960 w 500040"/>
                <a:gd name="textAreaTop" fmla="*/ 73080 h 500040"/>
                <a:gd name="textAreaBottom" fmla="*/ 426960 h 500040"/>
              </a:gdLst>
              <a:ahLst/>
              <a:rect l="textAreaLeft" t="textAreaTop" r="textAreaRight" b="textAreaBottom"/>
              <a:pathLst>
                <a:path w="500067" h="500066">
                  <a:moveTo>
                    <a:pt x="0" y="250033"/>
                  </a:moveTo>
                  <a:lnTo>
                    <a:pt x="0" y="250033"/>
                  </a:lnTo>
                  <a:arcTo wR="250034" hR="250033" stAng="10800000" swAng="5400000"/>
                  <a:lnTo>
                    <a:pt x="250034" y="0"/>
                  </a:lnTo>
                  <a:arcTo wR="250034" hR="250033" stAng="-5400000" swAng="5400000"/>
                  <a:lnTo>
                    <a:pt x="500068" y="250033"/>
                  </a:lnTo>
                  <a:arcTo wR="250034" hR="250033" stAng="0" swAng="5400000"/>
                  <a:lnTo>
                    <a:pt x="250034" y="500066"/>
                  </a:lnTo>
                  <a:arcTo wR="250034" hR="250033" stAng="5400000" swAng="5400000"/>
                  <a:close/>
                  <a:moveTo>
                    <a:pt x="125017" y="250033"/>
                  </a:moveTo>
                  <a:lnTo>
                    <a:pt x="125017" y="250033"/>
                  </a:lnTo>
                  <a:arcTo wR="125017" hR="125017" stAng="10800000" swAng="-5400000"/>
                  <a:lnTo>
                    <a:pt x="250034" y="375050"/>
                  </a:lnTo>
                  <a:arcTo wR="125017" hR="125017" stAng="5400000" swAng="-5400000"/>
                  <a:lnTo>
                    <a:pt x="375051" y="250033"/>
                  </a:lnTo>
                  <a:arcTo wR="125017" hR="125017" stAng="0" swAng="-5400000"/>
                  <a:lnTo>
                    <a:pt x="250034" y="125016"/>
                  </a:lnTo>
                  <a:arcTo wR="125017" hR="125017" stAng="-5400000" swAng="-5400000"/>
                  <a:close/>
                </a:path>
              </a:pathLst>
            </a:custGeom>
            <a:solidFill>
              <a:srgbClr val="7f7f7f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Прямоугольник 14"/>
          <p:cNvSpPr/>
          <p:nvPr/>
        </p:nvSpPr>
        <p:spPr>
          <a:xfrm>
            <a:off x="0" y="3571920"/>
            <a:ext cx="9144000" cy="46080"/>
          </a:xfrm>
          <a:prstGeom prst="rect">
            <a:avLst/>
          </a:prstGeom>
          <a:solidFill>
            <a:srgbClr val="7f7f7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0" y="3643200"/>
            <a:ext cx="285840" cy="142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6"/>
          <p:cNvSpPr/>
          <p:nvPr/>
        </p:nvSpPr>
        <p:spPr>
          <a:xfrm>
            <a:off x="857160" y="3643200"/>
            <a:ext cx="285840" cy="142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7"/>
          <p:cNvSpPr/>
          <p:nvPr/>
        </p:nvSpPr>
        <p:spPr>
          <a:xfrm>
            <a:off x="3786120" y="3643200"/>
            <a:ext cx="285840" cy="142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8"/>
          <p:cNvSpPr/>
          <p:nvPr/>
        </p:nvSpPr>
        <p:spPr>
          <a:xfrm>
            <a:off x="1571760" y="3643200"/>
            <a:ext cx="285480" cy="142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9"/>
          <p:cNvSpPr/>
          <p:nvPr/>
        </p:nvSpPr>
        <p:spPr>
          <a:xfrm>
            <a:off x="2286000" y="3643200"/>
            <a:ext cx="285840" cy="1429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0"/>
          <p:cNvSpPr/>
          <p:nvPr/>
        </p:nvSpPr>
        <p:spPr>
          <a:xfrm>
            <a:off x="3071880" y="3643200"/>
            <a:ext cx="285840" cy="1429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1"/>
          <p:cNvSpPr/>
          <p:nvPr/>
        </p:nvSpPr>
        <p:spPr>
          <a:xfrm>
            <a:off x="4572000" y="3643200"/>
            <a:ext cx="285840" cy="1429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2"/>
          <p:cNvSpPr/>
          <p:nvPr/>
        </p:nvSpPr>
        <p:spPr>
          <a:xfrm>
            <a:off x="5643720" y="3643200"/>
            <a:ext cx="285480" cy="1429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3"/>
          <p:cNvSpPr/>
          <p:nvPr/>
        </p:nvSpPr>
        <p:spPr>
          <a:xfrm>
            <a:off x="6572160" y="3643200"/>
            <a:ext cx="285840" cy="1429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4"/>
          <p:cNvSpPr/>
          <p:nvPr/>
        </p:nvSpPr>
        <p:spPr>
          <a:xfrm>
            <a:off x="7500960" y="3643200"/>
            <a:ext cx="285840" cy="1429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5"/>
          <p:cNvSpPr/>
          <p:nvPr/>
        </p:nvSpPr>
        <p:spPr>
          <a:xfrm>
            <a:off x="8501040" y="3643200"/>
            <a:ext cx="285840" cy="1429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Группа 27"/>
          <p:cNvGrpSpPr/>
          <p:nvPr/>
        </p:nvGrpSpPr>
        <p:grpSpPr>
          <a:xfrm>
            <a:off x="685800" y="1219320"/>
            <a:ext cx="4214880" cy="2357280"/>
            <a:chOff x="685800" y="1219320"/>
            <a:chExt cx="4214880" cy="2357280"/>
          </a:xfrm>
        </p:grpSpPr>
        <p:sp>
          <p:nvSpPr>
            <p:cNvPr id="122" name="Прямоугольник 28"/>
            <p:cNvSpPr/>
            <p:nvPr/>
          </p:nvSpPr>
          <p:spPr>
            <a:xfrm>
              <a:off x="685800" y="1504800"/>
              <a:ext cx="4214880" cy="1571400"/>
            </a:xfrm>
            <a:prstGeom prst="rect">
              <a:avLst/>
            </a:prstGeom>
            <a:solidFill>
              <a:srgbClr val="d7e4bd"/>
            </a:solid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Прямоугольник 29"/>
            <p:cNvSpPr/>
            <p:nvPr/>
          </p:nvSpPr>
          <p:spPr>
            <a:xfrm>
              <a:off x="685800" y="1219320"/>
              <a:ext cx="4214880" cy="285480"/>
            </a:xfrm>
            <a:prstGeom prst="rect">
              <a:avLst/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Прямоугольник 30"/>
            <p:cNvSpPr/>
            <p:nvPr/>
          </p:nvSpPr>
          <p:spPr>
            <a:xfrm>
              <a:off x="2185920" y="1647720"/>
              <a:ext cx="1143000" cy="10000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Picture 2" descr="C:\Program Files\Microsoft Office\MEDIA\CAGCAT10\j0216724.wmf"/>
            <p:cNvPicPr/>
            <p:nvPr/>
          </p:nvPicPr>
          <p:blipFill>
            <a:blip r:embed="rId14"/>
            <a:stretch/>
          </p:blipFill>
          <p:spPr>
            <a:xfrm>
              <a:off x="2400120" y="1719360"/>
              <a:ext cx="68184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Прямоугольник 32"/>
            <p:cNvSpPr/>
            <p:nvPr/>
          </p:nvSpPr>
          <p:spPr>
            <a:xfrm>
              <a:off x="2185920" y="1647720"/>
              <a:ext cx="1143000" cy="1000080"/>
            </a:xfrm>
            <a:prstGeom prst="rect">
              <a:avLst/>
            </a:prstGeom>
            <a:noFill/>
            <a:ln w="1522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Прямоугольник 33"/>
            <p:cNvSpPr/>
            <p:nvPr/>
          </p:nvSpPr>
          <p:spPr>
            <a:xfrm>
              <a:off x="4114800" y="1647720"/>
              <a:ext cx="633240" cy="1428840"/>
            </a:xfrm>
            <a:prstGeom prst="rect">
              <a:avLst/>
            </a:prstGeom>
            <a:solidFill>
              <a:srgbClr val="d7e4bd"/>
            </a:solid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Прямоугольник 34"/>
            <p:cNvSpPr/>
            <p:nvPr/>
          </p:nvSpPr>
          <p:spPr>
            <a:xfrm>
              <a:off x="828360" y="1647720"/>
              <a:ext cx="633240" cy="1428840"/>
            </a:xfrm>
            <a:prstGeom prst="rect">
              <a:avLst/>
            </a:prstGeom>
            <a:solidFill>
              <a:srgbClr val="d7e4bd"/>
            </a:solid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Кольцо 35"/>
            <p:cNvSpPr/>
            <p:nvPr/>
          </p:nvSpPr>
          <p:spPr>
            <a:xfrm>
              <a:off x="3900600" y="3076560"/>
              <a:ext cx="500040" cy="500040"/>
            </a:xfrm>
            <a:custGeom>
              <a:avLst/>
              <a:gdLst>
                <a:gd name="textAreaLeft" fmla="*/ 73080 w 500040"/>
                <a:gd name="textAreaRight" fmla="*/ 426960 w 500040"/>
                <a:gd name="textAreaTop" fmla="*/ 73080 h 500040"/>
                <a:gd name="textAreaBottom" fmla="*/ 426960 h 500040"/>
              </a:gdLst>
              <a:ahLst/>
              <a:rect l="textAreaLeft" t="textAreaTop" r="textAreaRight" b="textAreaBottom"/>
              <a:pathLst>
                <a:path w="500065" h="500066">
                  <a:moveTo>
                    <a:pt x="0" y="250033"/>
                  </a:moveTo>
                  <a:lnTo>
                    <a:pt x="0" y="250033"/>
                  </a:lnTo>
                  <a:arcTo wR="250033" hR="250033" stAng="10800000" swAng="5400000"/>
                  <a:lnTo>
                    <a:pt x="250033" y="0"/>
                  </a:lnTo>
                  <a:arcTo wR="250033" hR="250033" stAng="-5400000" swAng="5400000"/>
                  <a:lnTo>
                    <a:pt x="500066" y="250033"/>
                  </a:lnTo>
                  <a:arcTo wR="250033" hR="250033" stAng="0" swAng="5400000"/>
                  <a:lnTo>
                    <a:pt x="250033" y="500066"/>
                  </a:lnTo>
                  <a:arcTo wR="250033" hR="250033" stAng="5400000" swAng="5400000"/>
                  <a:close/>
                  <a:moveTo>
                    <a:pt x="125016" y="250033"/>
                  </a:moveTo>
                  <a:lnTo>
                    <a:pt x="125016" y="250033"/>
                  </a:lnTo>
                  <a:arcTo wR="125016" hR="125017" stAng="10800000" swAng="-5400000"/>
                  <a:lnTo>
                    <a:pt x="250032" y="375050"/>
                  </a:lnTo>
                  <a:arcTo wR="125016" hR="125017" stAng="5400000" swAng="-5400000"/>
                  <a:lnTo>
                    <a:pt x="375048" y="250033"/>
                  </a:lnTo>
                  <a:arcTo wR="125016" hR="125017" stAng="0" swAng="-5400000"/>
                  <a:lnTo>
                    <a:pt x="250032" y="125016"/>
                  </a:lnTo>
                  <a:arcTo wR="125016" hR="125017" stAng="-5400000" swAng="-5400000"/>
                  <a:close/>
                </a:path>
              </a:pathLst>
            </a:custGeom>
            <a:solidFill>
              <a:srgbClr val="7f7f7f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Кольцо 36"/>
            <p:cNvSpPr/>
            <p:nvPr/>
          </p:nvSpPr>
          <p:spPr>
            <a:xfrm>
              <a:off x="1185840" y="3076560"/>
              <a:ext cx="500040" cy="500040"/>
            </a:xfrm>
            <a:custGeom>
              <a:avLst/>
              <a:gdLst>
                <a:gd name="textAreaLeft" fmla="*/ 73080 w 500040"/>
                <a:gd name="textAreaRight" fmla="*/ 426960 w 500040"/>
                <a:gd name="textAreaTop" fmla="*/ 73080 h 500040"/>
                <a:gd name="textAreaBottom" fmla="*/ 426960 h 500040"/>
              </a:gdLst>
              <a:ahLst/>
              <a:rect l="textAreaLeft" t="textAreaTop" r="textAreaRight" b="textAreaBottom"/>
              <a:pathLst>
                <a:path w="500065" h="500066">
                  <a:moveTo>
                    <a:pt x="0" y="250033"/>
                  </a:moveTo>
                  <a:lnTo>
                    <a:pt x="0" y="250033"/>
                  </a:lnTo>
                  <a:arcTo wR="250033" hR="250033" stAng="10800000" swAng="5400000"/>
                  <a:lnTo>
                    <a:pt x="250033" y="0"/>
                  </a:lnTo>
                  <a:arcTo wR="250033" hR="250033" stAng="-5400000" swAng="5400000"/>
                  <a:lnTo>
                    <a:pt x="500066" y="250033"/>
                  </a:lnTo>
                  <a:arcTo wR="250033" hR="250033" stAng="0" swAng="5400000"/>
                  <a:lnTo>
                    <a:pt x="250033" y="500066"/>
                  </a:lnTo>
                  <a:arcTo wR="250033" hR="250033" stAng="5400000" swAng="5400000"/>
                  <a:close/>
                  <a:moveTo>
                    <a:pt x="125016" y="250033"/>
                  </a:moveTo>
                  <a:lnTo>
                    <a:pt x="125016" y="250033"/>
                  </a:lnTo>
                  <a:arcTo wR="125016" hR="125017" stAng="10800000" swAng="-5400000"/>
                  <a:lnTo>
                    <a:pt x="250032" y="375050"/>
                  </a:lnTo>
                  <a:arcTo wR="125016" hR="125017" stAng="5400000" swAng="-5400000"/>
                  <a:lnTo>
                    <a:pt x="375048" y="250033"/>
                  </a:lnTo>
                  <a:arcTo wR="125016" hR="125017" stAng="0" swAng="-5400000"/>
                  <a:lnTo>
                    <a:pt x="250032" y="125016"/>
                  </a:lnTo>
                  <a:arcTo wR="125016" hR="125017" stAng="-5400000" swAng="-5400000"/>
                  <a:close/>
                </a:path>
              </a:pathLst>
            </a:custGeom>
            <a:solidFill>
              <a:srgbClr val="7f7f7f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2" name="Freeform 4"/>
            <p:cNvSpPr/>
            <p:nvPr/>
          </p:nvSpPr>
          <p:spPr>
            <a:xfrm>
              <a:off x="0" y="0"/>
              <a:ext cx="9144000" cy="68580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6400" h="4480">
                  <a:moveTo>
                    <a:pt x="0" y="0"/>
                  </a:moveTo>
                  <a:lnTo>
                    <a:pt x="0" y="4480"/>
                  </a:lnTo>
                  <a:lnTo>
                    <a:pt x="6400" y="4480"/>
                  </a:lnTo>
                  <a:lnTo>
                    <a:pt x="6400" y="0"/>
                  </a:lnTo>
                  <a:lnTo>
                    <a:pt x="0" y="0"/>
                  </a:lnTo>
                  <a:close/>
                  <a:moveTo>
                    <a:pt x="6160" y="4000"/>
                  </a:moveTo>
                  <a:lnTo>
                    <a:pt x="6160" y="4000"/>
                  </a:lnTo>
                  <a:lnTo>
                    <a:pt x="6136" y="4002"/>
                  </a:lnTo>
                  <a:lnTo>
                    <a:pt x="6112" y="4004"/>
                  </a:lnTo>
                  <a:lnTo>
                    <a:pt x="6088" y="4010"/>
                  </a:lnTo>
                  <a:lnTo>
                    <a:pt x="6066" y="4018"/>
                  </a:lnTo>
                  <a:lnTo>
                    <a:pt x="6046" y="4028"/>
                  </a:lnTo>
                  <a:lnTo>
                    <a:pt x="6026" y="4040"/>
                  </a:lnTo>
                  <a:lnTo>
                    <a:pt x="6008" y="4054"/>
                  </a:lnTo>
                  <a:lnTo>
                    <a:pt x="5990" y="4070"/>
                  </a:lnTo>
                  <a:lnTo>
                    <a:pt x="5974" y="4088"/>
                  </a:lnTo>
                  <a:lnTo>
                    <a:pt x="5960" y="4106"/>
                  </a:lnTo>
                  <a:lnTo>
                    <a:pt x="5948" y="4126"/>
                  </a:lnTo>
                  <a:lnTo>
                    <a:pt x="5938" y="4146"/>
                  </a:lnTo>
                  <a:lnTo>
                    <a:pt x="5930" y="4168"/>
                  </a:lnTo>
                  <a:lnTo>
                    <a:pt x="5924" y="4192"/>
                  </a:lnTo>
                  <a:lnTo>
                    <a:pt x="5922" y="4216"/>
                  </a:lnTo>
                  <a:lnTo>
                    <a:pt x="5920" y="4240"/>
                  </a:lnTo>
                  <a:lnTo>
                    <a:pt x="5920" y="4260"/>
                  </a:lnTo>
                  <a:lnTo>
                    <a:pt x="5924" y="4282"/>
                  </a:lnTo>
                  <a:lnTo>
                    <a:pt x="5928" y="4300"/>
                  </a:lnTo>
                  <a:lnTo>
                    <a:pt x="5934" y="4320"/>
                  </a:lnTo>
                  <a:lnTo>
                    <a:pt x="466" y="4320"/>
                  </a:lnTo>
                  <a:lnTo>
                    <a:pt x="472" y="4300"/>
                  </a:lnTo>
                  <a:lnTo>
                    <a:pt x="476" y="4282"/>
                  </a:lnTo>
                  <a:lnTo>
                    <a:pt x="480" y="4260"/>
                  </a:lnTo>
                  <a:lnTo>
                    <a:pt x="480" y="4240"/>
                  </a:lnTo>
                  <a:lnTo>
                    <a:pt x="478" y="4216"/>
                  </a:lnTo>
                  <a:lnTo>
                    <a:pt x="476" y="4192"/>
                  </a:lnTo>
                  <a:lnTo>
                    <a:pt x="470" y="4168"/>
                  </a:lnTo>
                  <a:lnTo>
                    <a:pt x="462" y="4146"/>
                  </a:lnTo>
                  <a:lnTo>
                    <a:pt x="452" y="4126"/>
                  </a:lnTo>
                  <a:lnTo>
                    <a:pt x="440" y="4106"/>
                  </a:lnTo>
                  <a:lnTo>
                    <a:pt x="426" y="4088"/>
                  </a:lnTo>
                  <a:lnTo>
                    <a:pt x="410" y="4070"/>
                  </a:lnTo>
                  <a:lnTo>
                    <a:pt x="392" y="4054"/>
                  </a:lnTo>
                  <a:lnTo>
                    <a:pt x="374" y="4040"/>
                  </a:lnTo>
                  <a:lnTo>
                    <a:pt x="354" y="4028"/>
                  </a:lnTo>
                  <a:lnTo>
                    <a:pt x="334" y="4018"/>
                  </a:lnTo>
                  <a:lnTo>
                    <a:pt x="312" y="4010"/>
                  </a:lnTo>
                  <a:lnTo>
                    <a:pt x="288" y="4004"/>
                  </a:lnTo>
                  <a:lnTo>
                    <a:pt x="264" y="4002"/>
                  </a:lnTo>
                  <a:lnTo>
                    <a:pt x="240" y="4000"/>
                  </a:lnTo>
                  <a:lnTo>
                    <a:pt x="220" y="4000"/>
                  </a:lnTo>
                  <a:lnTo>
                    <a:pt x="198" y="4004"/>
                  </a:lnTo>
                  <a:lnTo>
                    <a:pt x="180" y="4008"/>
                  </a:lnTo>
                  <a:lnTo>
                    <a:pt x="160" y="4014"/>
                  </a:lnTo>
                  <a:lnTo>
                    <a:pt x="160" y="466"/>
                  </a:lnTo>
                  <a:lnTo>
                    <a:pt x="180" y="472"/>
                  </a:lnTo>
                  <a:lnTo>
                    <a:pt x="198" y="476"/>
                  </a:lnTo>
                  <a:lnTo>
                    <a:pt x="220" y="480"/>
                  </a:lnTo>
                  <a:lnTo>
                    <a:pt x="240" y="480"/>
                  </a:lnTo>
                  <a:lnTo>
                    <a:pt x="264" y="478"/>
                  </a:lnTo>
                  <a:lnTo>
                    <a:pt x="288" y="476"/>
                  </a:lnTo>
                  <a:lnTo>
                    <a:pt x="312" y="470"/>
                  </a:lnTo>
                  <a:lnTo>
                    <a:pt x="334" y="462"/>
                  </a:lnTo>
                  <a:lnTo>
                    <a:pt x="354" y="452"/>
                  </a:lnTo>
                  <a:lnTo>
                    <a:pt x="374" y="440"/>
                  </a:lnTo>
                  <a:lnTo>
                    <a:pt x="392" y="426"/>
                  </a:lnTo>
                  <a:lnTo>
                    <a:pt x="410" y="410"/>
                  </a:lnTo>
                  <a:lnTo>
                    <a:pt x="426" y="392"/>
                  </a:lnTo>
                  <a:lnTo>
                    <a:pt x="440" y="374"/>
                  </a:lnTo>
                  <a:lnTo>
                    <a:pt x="452" y="354"/>
                  </a:lnTo>
                  <a:lnTo>
                    <a:pt x="462" y="334"/>
                  </a:lnTo>
                  <a:lnTo>
                    <a:pt x="470" y="312"/>
                  </a:lnTo>
                  <a:lnTo>
                    <a:pt x="476" y="288"/>
                  </a:lnTo>
                  <a:lnTo>
                    <a:pt x="478" y="264"/>
                  </a:lnTo>
                  <a:lnTo>
                    <a:pt x="480" y="240"/>
                  </a:lnTo>
                  <a:lnTo>
                    <a:pt x="480" y="220"/>
                  </a:lnTo>
                  <a:lnTo>
                    <a:pt x="476" y="198"/>
                  </a:lnTo>
                  <a:lnTo>
                    <a:pt x="472" y="180"/>
                  </a:lnTo>
                  <a:lnTo>
                    <a:pt x="466" y="160"/>
                  </a:lnTo>
                  <a:lnTo>
                    <a:pt x="5934" y="160"/>
                  </a:lnTo>
                  <a:lnTo>
                    <a:pt x="5928" y="180"/>
                  </a:lnTo>
                  <a:lnTo>
                    <a:pt x="5924" y="198"/>
                  </a:lnTo>
                  <a:lnTo>
                    <a:pt x="5920" y="220"/>
                  </a:lnTo>
                  <a:lnTo>
                    <a:pt x="5920" y="240"/>
                  </a:lnTo>
                  <a:lnTo>
                    <a:pt x="5922" y="264"/>
                  </a:lnTo>
                  <a:lnTo>
                    <a:pt x="5924" y="288"/>
                  </a:lnTo>
                  <a:lnTo>
                    <a:pt x="5930" y="312"/>
                  </a:lnTo>
                  <a:lnTo>
                    <a:pt x="5938" y="334"/>
                  </a:lnTo>
                  <a:lnTo>
                    <a:pt x="5948" y="354"/>
                  </a:lnTo>
                  <a:lnTo>
                    <a:pt x="5960" y="374"/>
                  </a:lnTo>
                  <a:lnTo>
                    <a:pt x="5974" y="392"/>
                  </a:lnTo>
                  <a:lnTo>
                    <a:pt x="5990" y="410"/>
                  </a:lnTo>
                  <a:lnTo>
                    <a:pt x="6008" y="426"/>
                  </a:lnTo>
                  <a:lnTo>
                    <a:pt x="6026" y="440"/>
                  </a:lnTo>
                  <a:lnTo>
                    <a:pt x="6046" y="452"/>
                  </a:lnTo>
                  <a:lnTo>
                    <a:pt x="6066" y="462"/>
                  </a:lnTo>
                  <a:lnTo>
                    <a:pt x="6088" y="470"/>
                  </a:lnTo>
                  <a:lnTo>
                    <a:pt x="6112" y="476"/>
                  </a:lnTo>
                  <a:lnTo>
                    <a:pt x="6136" y="478"/>
                  </a:lnTo>
                  <a:lnTo>
                    <a:pt x="6160" y="480"/>
                  </a:lnTo>
                  <a:lnTo>
                    <a:pt x="6180" y="480"/>
                  </a:lnTo>
                  <a:lnTo>
                    <a:pt x="6202" y="476"/>
                  </a:lnTo>
                  <a:lnTo>
                    <a:pt x="6220" y="472"/>
                  </a:lnTo>
                  <a:lnTo>
                    <a:pt x="6240" y="466"/>
                  </a:lnTo>
                  <a:lnTo>
                    <a:pt x="6240" y="4014"/>
                  </a:lnTo>
                  <a:lnTo>
                    <a:pt x="6220" y="4008"/>
                  </a:lnTo>
                  <a:lnTo>
                    <a:pt x="6202" y="4004"/>
                  </a:lnTo>
                  <a:lnTo>
                    <a:pt x="6180" y="4000"/>
                  </a:lnTo>
                  <a:lnTo>
                    <a:pt x="6160" y="400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5"/>
            <p:cNvSpPr/>
            <p:nvPr/>
          </p:nvSpPr>
          <p:spPr>
            <a:xfrm>
              <a:off x="673920" y="640440"/>
              <a:ext cx="8047800" cy="5764680"/>
            </a:xfrm>
            <a:custGeom>
              <a:avLst/>
              <a:gdLst>
                <a:gd name="textAreaLeft" fmla="*/ 0 w 8047800"/>
                <a:gd name="textAreaRight" fmla="*/ 8048160 w 8047800"/>
                <a:gd name="textAreaTop" fmla="*/ 0 h 5764680"/>
                <a:gd name="textAreaBottom" fmla="*/ 5765040 h 5764680"/>
              </a:gdLst>
              <a:ahLst/>
              <a:rect l="textAreaLeft" t="textAreaTop" r="textAreaRight" b="textAreaBottom"/>
              <a:pathLst>
                <a:path w="5792" h="3872">
                  <a:moveTo>
                    <a:pt x="5492" y="3872"/>
                  </a:moveTo>
                  <a:lnTo>
                    <a:pt x="300" y="3872"/>
                  </a:lnTo>
                  <a:lnTo>
                    <a:pt x="308" y="3850"/>
                  </a:lnTo>
                  <a:lnTo>
                    <a:pt x="312" y="3832"/>
                  </a:lnTo>
                  <a:lnTo>
                    <a:pt x="316" y="3814"/>
                  </a:lnTo>
                  <a:lnTo>
                    <a:pt x="320" y="3796"/>
                  </a:lnTo>
                  <a:lnTo>
                    <a:pt x="320" y="3776"/>
                  </a:lnTo>
                  <a:lnTo>
                    <a:pt x="318" y="3754"/>
                  </a:lnTo>
                  <a:lnTo>
                    <a:pt x="316" y="3730"/>
                  </a:lnTo>
                  <a:lnTo>
                    <a:pt x="310" y="3710"/>
                  </a:lnTo>
                  <a:lnTo>
                    <a:pt x="302" y="3688"/>
                  </a:lnTo>
                  <a:lnTo>
                    <a:pt x="292" y="3670"/>
                  </a:lnTo>
                  <a:lnTo>
                    <a:pt x="282" y="3650"/>
                  </a:lnTo>
                  <a:lnTo>
                    <a:pt x="268" y="3634"/>
                  </a:lnTo>
                  <a:lnTo>
                    <a:pt x="254" y="3618"/>
                  </a:lnTo>
                  <a:lnTo>
                    <a:pt x="238" y="3604"/>
                  </a:lnTo>
                  <a:lnTo>
                    <a:pt x="222" y="3590"/>
                  </a:lnTo>
                  <a:lnTo>
                    <a:pt x="202" y="3580"/>
                  </a:lnTo>
                  <a:lnTo>
                    <a:pt x="184" y="3570"/>
                  </a:lnTo>
                  <a:lnTo>
                    <a:pt x="162" y="3562"/>
                  </a:lnTo>
                  <a:lnTo>
                    <a:pt x="142" y="3556"/>
                  </a:lnTo>
                  <a:lnTo>
                    <a:pt x="118" y="3554"/>
                  </a:lnTo>
                  <a:lnTo>
                    <a:pt x="96" y="3552"/>
                  </a:lnTo>
                  <a:lnTo>
                    <a:pt x="76" y="3552"/>
                  </a:lnTo>
                  <a:lnTo>
                    <a:pt x="58" y="3556"/>
                  </a:lnTo>
                  <a:lnTo>
                    <a:pt x="40" y="3560"/>
                  </a:lnTo>
                  <a:lnTo>
                    <a:pt x="22" y="3564"/>
                  </a:lnTo>
                  <a:lnTo>
                    <a:pt x="0" y="3572"/>
                  </a:lnTo>
                  <a:lnTo>
                    <a:pt x="0" y="300"/>
                  </a:lnTo>
                  <a:lnTo>
                    <a:pt x="22" y="308"/>
                  </a:lnTo>
                  <a:lnTo>
                    <a:pt x="40" y="312"/>
                  </a:lnTo>
                  <a:lnTo>
                    <a:pt x="58" y="316"/>
                  </a:lnTo>
                  <a:lnTo>
                    <a:pt x="76" y="320"/>
                  </a:lnTo>
                  <a:lnTo>
                    <a:pt x="96" y="320"/>
                  </a:lnTo>
                  <a:lnTo>
                    <a:pt x="118" y="318"/>
                  </a:lnTo>
                  <a:lnTo>
                    <a:pt x="142" y="316"/>
                  </a:lnTo>
                  <a:lnTo>
                    <a:pt x="162" y="310"/>
                  </a:lnTo>
                  <a:lnTo>
                    <a:pt x="184" y="302"/>
                  </a:lnTo>
                  <a:lnTo>
                    <a:pt x="202" y="292"/>
                  </a:lnTo>
                  <a:lnTo>
                    <a:pt x="222" y="282"/>
                  </a:lnTo>
                  <a:lnTo>
                    <a:pt x="238" y="268"/>
                  </a:lnTo>
                  <a:lnTo>
                    <a:pt x="254" y="254"/>
                  </a:lnTo>
                  <a:lnTo>
                    <a:pt x="268" y="238"/>
                  </a:lnTo>
                  <a:lnTo>
                    <a:pt x="282" y="222"/>
                  </a:lnTo>
                  <a:lnTo>
                    <a:pt x="292" y="202"/>
                  </a:lnTo>
                  <a:lnTo>
                    <a:pt x="302" y="184"/>
                  </a:lnTo>
                  <a:lnTo>
                    <a:pt x="310" y="162"/>
                  </a:lnTo>
                  <a:lnTo>
                    <a:pt x="316" y="142"/>
                  </a:lnTo>
                  <a:lnTo>
                    <a:pt x="318" y="118"/>
                  </a:lnTo>
                  <a:lnTo>
                    <a:pt x="320" y="96"/>
                  </a:lnTo>
                  <a:lnTo>
                    <a:pt x="320" y="76"/>
                  </a:lnTo>
                  <a:lnTo>
                    <a:pt x="316" y="58"/>
                  </a:lnTo>
                  <a:lnTo>
                    <a:pt x="312" y="40"/>
                  </a:lnTo>
                  <a:lnTo>
                    <a:pt x="308" y="22"/>
                  </a:lnTo>
                  <a:lnTo>
                    <a:pt x="300" y="0"/>
                  </a:lnTo>
                  <a:lnTo>
                    <a:pt x="5492" y="0"/>
                  </a:lnTo>
                  <a:lnTo>
                    <a:pt x="5484" y="22"/>
                  </a:lnTo>
                  <a:lnTo>
                    <a:pt x="5480" y="40"/>
                  </a:lnTo>
                  <a:lnTo>
                    <a:pt x="5476" y="58"/>
                  </a:lnTo>
                  <a:lnTo>
                    <a:pt x="5472" y="76"/>
                  </a:lnTo>
                  <a:lnTo>
                    <a:pt x="5472" y="96"/>
                  </a:lnTo>
                  <a:lnTo>
                    <a:pt x="5474" y="118"/>
                  </a:lnTo>
                  <a:lnTo>
                    <a:pt x="5476" y="142"/>
                  </a:lnTo>
                  <a:lnTo>
                    <a:pt x="5482" y="162"/>
                  </a:lnTo>
                  <a:lnTo>
                    <a:pt x="5490" y="184"/>
                  </a:lnTo>
                  <a:lnTo>
                    <a:pt x="5500" y="202"/>
                  </a:lnTo>
                  <a:lnTo>
                    <a:pt x="5510" y="222"/>
                  </a:lnTo>
                  <a:lnTo>
                    <a:pt x="5524" y="238"/>
                  </a:lnTo>
                  <a:lnTo>
                    <a:pt x="5538" y="254"/>
                  </a:lnTo>
                  <a:lnTo>
                    <a:pt x="5554" y="268"/>
                  </a:lnTo>
                  <a:lnTo>
                    <a:pt x="5570" y="282"/>
                  </a:lnTo>
                  <a:lnTo>
                    <a:pt x="5590" y="292"/>
                  </a:lnTo>
                  <a:lnTo>
                    <a:pt x="5608" y="302"/>
                  </a:lnTo>
                  <a:lnTo>
                    <a:pt x="5630" y="310"/>
                  </a:lnTo>
                  <a:lnTo>
                    <a:pt x="5650" y="316"/>
                  </a:lnTo>
                  <a:lnTo>
                    <a:pt x="5674" y="318"/>
                  </a:lnTo>
                  <a:lnTo>
                    <a:pt x="5696" y="320"/>
                  </a:lnTo>
                  <a:lnTo>
                    <a:pt x="5716" y="320"/>
                  </a:lnTo>
                  <a:lnTo>
                    <a:pt x="5734" y="316"/>
                  </a:lnTo>
                  <a:lnTo>
                    <a:pt x="5752" y="312"/>
                  </a:lnTo>
                  <a:lnTo>
                    <a:pt x="5770" y="308"/>
                  </a:lnTo>
                  <a:lnTo>
                    <a:pt x="5792" y="300"/>
                  </a:lnTo>
                  <a:lnTo>
                    <a:pt x="5792" y="3572"/>
                  </a:lnTo>
                  <a:lnTo>
                    <a:pt x="5770" y="3564"/>
                  </a:lnTo>
                  <a:lnTo>
                    <a:pt x="5752" y="3560"/>
                  </a:lnTo>
                  <a:lnTo>
                    <a:pt x="5734" y="3556"/>
                  </a:lnTo>
                  <a:lnTo>
                    <a:pt x="5716" y="3552"/>
                  </a:lnTo>
                  <a:lnTo>
                    <a:pt x="5696" y="3552"/>
                  </a:lnTo>
                  <a:lnTo>
                    <a:pt x="5674" y="3554"/>
                  </a:lnTo>
                  <a:lnTo>
                    <a:pt x="5650" y="3556"/>
                  </a:lnTo>
                  <a:lnTo>
                    <a:pt x="5630" y="3562"/>
                  </a:lnTo>
                  <a:lnTo>
                    <a:pt x="5608" y="3570"/>
                  </a:lnTo>
                  <a:lnTo>
                    <a:pt x="5590" y="3580"/>
                  </a:lnTo>
                  <a:lnTo>
                    <a:pt x="5570" y="3590"/>
                  </a:lnTo>
                  <a:lnTo>
                    <a:pt x="5554" y="3604"/>
                  </a:lnTo>
                  <a:lnTo>
                    <a:pt x="5538" y="3618"/>
                  </a:lnTo>
                  <a:lnTo>
                    <a:pt x="5524" y="3634"/>
                  </a:lnTo>
                  <a:lnTo>
                    <a:pt x="5510" y="3650"/>
                  </a:lnTo>
                  <a:lnTo>
                    <a:pt x="5500" y="3670"/>
                  </a:lnTo>
                  <a:lnTo>
                    <a:pt x="5490" y="3688"/>
                  </a:lnTo>
                  <a:lnTo>
                    <a:pt x="5482" y="3710"/>
                  </a:lnTo>
                  <a:lnTo>
                    <a:pt x="5476" y="3730"/>
                  </a:lnTo>
                  <a:lnTo>
                    <a:pt x="5474" y="3754"/>
                  </a:lnTo>
                  <a:lnTo>
                    <a:pt x="5472" y="3776"/>
                  </a:lnTo>
                  <a:lnTo>
                    <a:pt x="5472" y="3796"/>
                  </a:lnTo>
                  <a:lnTo>
                    <a:pt x="5476" y="3814"/>
                  </a:lnTo>
                  <a:lnTo>
                    <a:pt x="5480" y="3832"/>
                  </a:lnTo>
                  <a:lnTo>
                    <a:pt x="5484" y="3850"/>
                  </a:lnTo>
                  <a:lnTo>
                    <a:pt x="5492" y="3872"/>
                  </a:lnTo>
                  <a:close/>
                  <a:moveTo>
                    <a:pt x="344" y="3840"/>
                  </a:moveTo>
                  <a:lnTo>
                    <a:pt x="5448" y="3840"/>
                  </a:lnTo>
                  <a:lnTo>
                    <a:pt x="5442" y="3808"/>
                  </a:lnTo>
                  <a:lnTo>
                    <a:pt x="5440" y="3776"/>
                  </a:lnTo>
                  <a:lnTo>
                    <a:pt x="5442" y="3750"/>
                  </a:lnTo>
                  <a:lnTo>
                    <a:pt x="5446" y="3724"/>
                  </a:lnTo>
                  <a:lnTo>
                    <a:pt x="5452" y="3700"/>
                  </a:lnTo>
                  <a:lnTo>
                    <a:pt x="5460" y="3676"/>
                  </a:lnTo>
                  <a:lnTo>
                    <a:pt x="5470" y="3654"/>
                  </a:lnTo>
                  <a:lnTo>
                    <a:pt x="5484" y="3632"/>
                  </a:lnTo>
                  <a:lnTo>
                    <a:pt x="5498" y="3614"/>
                  </a:lnTo>
                  <a:lnTo>
                    <a:pt x="5516" y="3596"/>
                  </a:lnTo>
                  <a:lnTo>
                    <a:pt x="5534" y="3578"/>
                  </a:lnTo>
                  <a:lnTo>
                    <a:pt x="5552" y="3564"/>
                  </a:lnTo>
                  <a:lnTo>
                    <a:pt x="5574" y="3550"/>
                  </a:lnTo>
                  <a:lnTo>
                    <a:pt x="5596" y="3540"/>
                  </a:lnTo>
                  <a:lnTo>
                    <a:pt x="5620" y="3532"/>
                  </a:lnTo>
                  <a:lnTo>
                    <a:pt x="5644" y="3526"/>
                  </a:lnTo>
                  <a:lnTo>
                    <a:pt x="5670" y="3522"/>
                  </a:lnTo>
                  <a:lnTo>
                    <a:pt x="5696" y="3520"/>
                  </a:lnTo>
                  <a:lnTo>
                    <a:pt x="5728" y="3522"/>
                  </a:lnTo>
                  <a:lnTo>
                    <a:pt x="5760" y="3528"/>
                  </a:lnTo>
                  <a:lnTo>
                    <a:pt x="5760" y="344"/>
                  </a:lnTo>
                  <a:lnTo>
                    <a:pt x="5728" y="350"/>
                  </a:lnTo>
                  <a:lnTo>
                    <a:pt x="5696" y="352"/>
                  </a:lnTo>
                  <a:lnTo>
                    <a:pt x="5670" y="350"/>
                  </a:lnTo>
                  <a:lnTo>
                    <a:pt x="5644" y="346"/>
                  </a:lnTo>
                  <a:lnTo>
                    <a:pt x="5620" y="340"/>
                  </a:lnTo>
                  <a:lnTo>
                    <a:pt x="5596" y="332"/>
                  </a:lnTo>
                  <a:lnTo>
                    <a:pt x="5574" y="322"/>
                  </a:lnTo>
                  <a:lnTo>
                    <a:pt x="5552" y="308"/>
                  </a:lnTo>
                  <a:lnTo>
                    <a:pt x="5534" y="294"/>
                  </a:lnTo>
                  <a:lnTo>
                    <a:pt x="5516" y="276"/>
                  </a:lnTo>
                  <a:lnTo>
                    <a:pt x="5498" y="258"/>
                  </a:lnTo>
                  <a:lnTo>
                    <a:pt x="5484" y="240"/>
                  </a:lnTo>
                  <a:lnTo>
                    <a:pt x="5470" y="218"/>
                  </a:lnTo>
                  <a:lnTo>
                    <a:pt x="5460" y="196"/>
                  </a:lnTo>
                  <a:lnTo>
                    <a:pt x="5452" y="172"/>
                  </a:lnTo>
                  <a:lnTo>
                    <a:pt x="5446" y="148"/>
                  </a:lnTo>
                  <a:lnTo>
                    <a:pt x="5442" y="122"/>
                  </a:lnTo>
                  <a:lnTo>
                    <a:pt x="5440" y="96"/>
                  </a:lnTo>
                  <a:lnTo>
                    <a:pt x="5442" y="64"/>
                  </a:lnTo>
                  <a:lnTo>
                    <a:pt x="5448" y="32"/>
                  </a:lnTo>
                  <a:lnTo>
                    <a:pt x="344" y="32"/>
                  </a:lnTo>
                  <a:lnTo>
                    <a:pt x="350" y="64"/>
                  </a:lnTo>
                  <a:lnTo>
                    <a:pt x="352" y="96"/>
                  </a:lnTo>
                  <a:lnTo>
                    <a:pt x="350" y="122"/>
                  </a:lnTo>
                  <a:lnTo>
                    <a:pt x="346" y="148"/>
                  </a:lnTo>
                  <a:lnTo>
                    <a:pt x="340" y="172"/>
                  </a:lnTo>
                  <a:lnTo>
                    <a:pt x="332" y="196"/>
                  </a:lnTo>
                  <a:lnTo>
                    <a:pt x="322" y="218"/>
                  </a:lnTo>
                  <a:lnTo>
                    <a:pt x="308" y="240"/>
                  </a:lnTo>
                  <a:lnTo>
                    <a:pt x="294" y="258"/>
                  </a:lnTo>
                  <a:lnTo>
                    <a:pt x="276" y="276"/>
                  </a:lnTo>
                  <a:lnTo>
                    <a:pt x="258" y="294"/>
                  </a:lnTo>
                  <a:lnTo>
                    <a:pt x="240" y="308"/>
                  </a:lnTo>
                  <a:lnTo>
                    <a:pt x="218" y="322"/>
                  </a:lnTo>
                  <a:lnTo>
                    <a:pt x="196" y="332"/>
                  </a:lnTo>
                  <a:lnTo>
                    <a:pt x="172" y="340"/>
                  </a:lnTo>
                  <a:lnTo>
                    <a:pt x="148" y="346"/>
                  </a:lnTo>
                  <a:lnTo>
                    <a:pt x="122" y="350"/>
                  </a:lnTo>
                  <a:lnTo>
                    <a:pt x="96" y="352"/>
                  </a:lnTo>
                  <a:lnTo>
                    <a:pt x="64" y="350"/>
                  </a:lnTo>
                  <a:lnTo>
                    <a:pt x="32" y="344"/>
                  </a:lnTo>
                  <a:lnTo>
                    <a:pt x="32" y="3528"/>
                  </a:lnTo>
                  <a:lnTo>
                    <a:pt x="64" y="3522"/>
                  </a:lnTo>
                  <a:lnTo>
                    <a:pt x="96" y="3520"/>
                  </a:lnTo>
                  <a:lnTo>
                    <a:pt x="122" y="3522"/>
                  </a:lnTo>
                  <a:lnTo>
                    <a:pt x="148" y="3526"/>
                  </a:lnTo>
                  <a:lnTo>
                    <a:pt x="172" y="3532"/>
                  </a:lnTo>
                  <a:lnTo>
                    <a:pt x="196" y="3540"/>
                  </a:lnTo>
                  <a:lnTo>
                    <a:pt x="218" y="3550"/>
                  </a:lnTo>
                  <a:lnTo>
                    <a:pt x="240" y="3564"/>
                  </a:lnTo>
                  <a:lnTo>
                    <a:pt x="258" y="3578"/>
                  </a:lnTo>
                  <a:lnTo>
                    <a:pt x="276" y="3596"/>
                  </a:lnTo>
                  <a:lnTo>
                    <a:pt x="294" y="3614"/>
                  </a:lnTo>
                  <a:lnTo>
                    <a:pt x="308" y="3632"/>
                  </a:lnTo>
                  <a:lnTo>
                    <a:pt x="322" y="3654"/>
                  </a:lnTo>
                  <a:lnTo>
                    <a:pt x="332" y="3676"/>
                  </a:lnTo>
                  <a:lnTo>
                    <a:pt x="340" y="3700"/>
                  </a:lnTo>
                  <a:lnTo>
                    <a:pt x="346" y="3724"/>
                  </a:lnTo>
                  <a:lnTo>
                    <a:pt x="350" y="3750"/>
                  </a:lnTo>
                  <a:lnTo>
                    <a:pt x="352" y="3776"/>
                  </a:lnTo>
                  <a:lnTo>
                    <a:pt x="350" y="3808"/>
                  </a:lnTo>
                  <a:lnTo>
                    <a:pt x="344" y="384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Box 40"/>
          <p:cNvSpPr/>
          <p:nvPr/>
        </p:nvSpPr>
        <p:spPr>
          <a:xfrm>
            <a:off x="5410080" y="838080"/>
            <a:ext cx="2895840" cy="1373760"/>
          </a:xfrm>
          <a:prstGeom prst="rect">
            <a:avLst/>
          </a:prstGeom>
          <a:solidFill>
            <a:srgbClr val="d1f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гон относительно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1"/>
          <p:cNvSpPr/>
          <p:nvPr/>
        </p:nvSpPr>
        <p:spPr>
          <a:xfrm>
            <a:off x="5486400" y="2209680"/>
            <a:ext cx="2895480" cy="13737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гон относительно ваг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3"/>
          <p:cNvSpPr/>
          <p:nvPr/>
        </p:nvSpPr>
        <p:spPr>
          <a:xfrm>
            <a:off x="5638680" y="4952880"/>
            <a:ext cx="2895840" cy="13737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ссажир относительно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4"/>
          <p:cNvSpPr/>
          <p:nvPr/>
        </p:nvSpPr>
        <p:spPr>
          <a:xfrm>
            <a:off x="5562720" y="3657600"/>
            <a:ext cx="2895480" cy="1373760"/>
          </a:xfrm>
          <a:prstGeom prst="rect">
            <a:avLst/>
          </a:prstGeom>
          <a:solidFill>
            <a:srgbClr val="d1f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ссажир относи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г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50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Calibri"/>
              </a:rPr>
              <a:t>Движется или не движетс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5.55556E-007 -2.59259E-006 L 1.48611 -0.00625 E">
                                      <p:cBhvr>
                                        <p:cTn id="6" dur="10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295 0.00115 L 1.48906 -0.0051 E">
                                      <p:cBhvr>
                                        <p:cTn id="8" dur="10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Механическое движение -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484360" y="836640"/>
            <a:ext cx="38880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изменение   положения тела  относительно других тел с течением време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Рисунок 9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2124000" cy="23176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0" descr=""/>
          <p:cNvPicPr/>
          <p:nvPr/>
        </p:nvPicPr>
        <p:blipFill>
          <a:blip r:embed="rId2"/>
          <a:stretch/>
        </p:blipFill>
        <p:spPr>
          <a:xfrm>
            <a:off x="2771640" y="4076640"/>
            <a:ext cx="3063960" cy="22971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1" descr=""/>
          <p:cNvPicPr/>
          <p:nvPr/>
        </p:nvPicPr>
        <p:blipFill>
          <a:blip r:embed="rId3"/>
          <a:stretch/>
        </p:blipFill>
        <p:spPr>
          <a:xfrm>
            <a:off x="539640" y="4437000"/>
            <a:ext cx="2268720" cy="172872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2" descr=""/>
          <p:cNvPicPr/>
          <p:nvPr/>
        </p:nvPicPr>
        <p:blipFill>
          <a:blip r:embed="rId4"/>
          <a:stretch/>
        </p:blipFill>
        <p:spPr>
          <a:xfrm>
            <a:off x="5940360" y="4221000"/>
            <a:ext cx="2995560" cy="2097360"/>
          </a:xfrm>
          <a:prstGeom prst="rect">
            <a:avLst/>
          </a:prstGeom>
          <a:ln w="0">
            <a:noFill/>
          </a:ln>
        </p:spPr>
      </p:pic>
      <p:grpSp>
        <p:nvGrpSpPr>
          <p:cNvPr id="145" name="Группа 16"/>
          <p:cNvGrpSpPr/>
          <p:nvPr/>
        </p:nvGrpSpPr>
        <p:grpSpPr>
          <a:xfrm>
            <a:off x="7266240" y="-1264320"/>
            <a:ext cx="1371600" cy="2970720"/>
            <a:chOff x="7266240" y="-1264320"/>
            <a:chExt cx="1371600" cy="2970720"/>
          </a:xfrm>
        </p:grpSpPr>
        <p:sp>
          <p:nvSpPr>
            <p:cNvPr id="146" name="Капля 14"/>
            <p:cNvSpPr/>
            <p:nvPr/>
          </p:nvSpPr>
          <p:spPr>
            <a:xfrm rot="8145000">
              <a:off x="7470000" y="-1066320"/>
              <a:ext cx="963720" cy="976320"/>
            </a:xfrm>
            <a:custGeom>
              <a:avLst/>
              <a:gdLst>
                <a:gd name="textAreaLeft" fmla="*/ 141120 w 963720"/>
                <a:gd name="textAreaRight" fmla="*/ 822600 w 963720"/>
                <a:gd name="textAreaTop" fmla="*/ 142920 h 976320"/>
                <a:gd name="textAreaBottom" fmla="*/ 833400 h 976320"/>
              </a:gdLst>
              <a:ahLst/>
              <a:rect l="textAreaLeft" t="textAreaTop" r="textAreaRight" b="textAreaBottom"/>
              <a:pathLst>
                <a:path w="964248" h="976495">
                  <a:moveTo>
                    <a:pt x="0" y="488248"/>
                  </a:moveTo>
                  <a:lnTo>
                    <a:pt x="0" y="488248"/>
                  </a:lnTo>
                  <a:arcTo wR="482124" hR="488248" stAng="-10799993" swAng="5400000"/>
                  <a:lnTo>
                    <a:pt x="723186" y="0"/>
                  </a:lnTo>
                  <a:lnTo>
                    <a:pt x="964248" y="0"/>
                  </a:lnTo>
                  <a:lnTo>
                    <a:pt x="964248" y="366186"/>
                  </a:lnTo>
                  <a:arcTo wR="0" hR="122062" stAng="0" swAng="0"/>
                  <a:lnTo>
                    <a:pt x="893643" y="904994"/>
                  </a:lnTo>
                  <a:arcTo wR="-241062" hR="244124" stAng="2721695" swAng="1080000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Picture 8" descr="H:\Коллекция картинок1\j0356795.gif"/>
            <p:cNvPicPr/>
            <p:nvPr/>
          </p:nvPicPr>
          <p:blipFill>
            <a:blip r:embed="rId5"/>
            <a:stretch/>
          </p:blipFill>
          <p:spPr>
            <a:xfrm>
              <a:off x="7571160" y="335160"/>
              <a:ext cx="1028160" cy="10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Прямоугольник 16"/>
            <p:cNvSpPr/>
            <p:nvPr/>
          </p:nvSpPr>
          <p:spPr>
            <a:xfrm>
              <a:off x="7723080" y="1325520"/>
              <a:ext cx="762120" cy="3808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Прямая соединительная линия 17"/>
            <p:cNvSpPr/>
            <p:nvPr/>
          </p:nvSpPr>
          <p:spPr>
            <a:xfrm>
              <a:off x="7466760" y="-588600"/>
              <a:ext cx="331560" cy="1914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" name="Прямая со стрелкой 18"/>
            <p:cNvCxnSpPr>
              <a:stCxn id="146" idx="5"/>
            </p:cNvCxnSpPr>
            <p:nvPr/>
          </p:nvCxnSpPr>
          <p:spPr>
            <a:xfrm flipH="1">
              <a:off x="8408160" y="-569880"/>
              <a:ext cx="29160" cy="18961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</p:spTree>
  </p:cSld>
  <p:transition spd="med"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24976 L 0.00434 0.4482 E">
                                      <p:cBhvr>
                                        <p:cTn id="54" dur="5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1644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Чтобы определить, движется тело или не движется, необходимо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50920" y="1341360"/>
            <a:ext cx="836280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) Выбрать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тело, относительно которого рассматривается движение – тело отсчё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11" descr="старт"/>
          <p:cNvPicPr/>
          <p:nvPr/>
        </p:nvPicPr>
        <p:blipFill>
          <a:blip r:embed="rId2"/>
          <a:srcRect l="0" t="2000" r="0" b="0"/>
          <a:stretch/>
        </p:blipFill>
        <p:spPr>
          <a:xfrm>
            <a:off x="250920" y="3338640"/>
            <a:ext cx="8569080" cy="26114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10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8772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Чтобы определить, движется тело или не движется, необходимо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5280" y="1341360"/>
            <a:ext cx="836280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) Определить, изменяется ли положение рассматриваемого тела относительно тела отсчё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5" descr="дв2"/>
          <p:cNvPicPr/>
          <p:nvPr/>
        </p:nvPicPr>
        <p:blipFill>
          <a:blip r:embed="rId2"/>
          <a:srcRect l="0" t="2000" r="0" b="0"/>
          <a:stretch/>
        </p:blipFill>
        <p:spPr>
          <a:xfrm>
            <a:off x="324000" y="3267000"/>
            <a:ext cx="8496000" cy="2683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7" descr="37r3"/>
          <p:cNvPicPr/>
          <p:nvPr/>
        </p:nvPicPr>
        <p:blipFill>
          <a:blip r:embed="rId1"/>
          <a:stretch/>
        </p:blipFill>
        <p:spPr>
          <a:xfrm>
            <a:off x="4067280" y="2421000"/>
            <a:ext cx="1439640" cy="136836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10"/>
          <p:cNvSpPr/>
          <p:nvPr/>
        </p:nvSpPr>
        <p:spPr>
          <a:xfrm>
            <a:off x="1042920" y="1844640"/>
            <a:ext cx="7632720" cy="2664000"/>
          </a:xfrm>
          <a:custGeom>
            <a:avLst/>
            <a:gdLst>
              <a:gd name="textAreaLeft" fmla="*/ 1117440 w 7632720"/>
              <a:gd name="textAreaRight" fmla="*/ 6515280 w 7632720"/>
              <a:gd name="textAreaTop" fmla="*/ 389880 h 2664000"/>
              <a:gd name="textAreaBottom" fmla="*/ 2274120 h 266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710" y="10800"/>
                </a:moveTo>
                <a:cubicBezTo>
                  <a:pt x="710" y="16373"/>
                  <a:pt x="5227" y="20890"/>
                  <a:pt x="10800" y="20890"/>
                </a:cubicBezTo>
                <a:cubicBezTo>
                  <a:pt x="16373" y="20890"/>
                  <a:pt x="20890" y="16373"/>
                  <a:pt x="20890" y="10800"/>
                </a:cubicBezTo>
                <a:cubicBezTo>
                  <a:pt x="20890" y="5227"/>
                  <a:pt x="16373" y="710"/>
                  <a:pt x="10800" y="710"/>
                </a:cubicBezTo>
                <a:cubicBezTo>
                  <a:pt x="5227" y="710"/>
                  <a:pt x="710" y="5227"/>
                  <a:pt x="7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1" descr="tr00032_"/>
          <p:cNvPicPr/>
          <p:nvPr/>
        </p:nvPicPr>
        <p:blipFill>
          <a:blip r:embed="rId2"/>
          <a:stretch/>
        </p:blipFill>
        <p:spPr>
          <a:xfrm>
            <a:off x="395280" y="1916280"/>
            <a:ext cx="2525760" cy="26650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2"/>
          <p:cNvSpPr/>
          <p:nvPr/>
        </p:nvSpPr>
        <p:spPr>
          <a:xfrm>
            <a:off x="917280" y="404640"/>
            <a:ext cx="71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Движется ли город относительно Зем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одержимое 2"/>
          <p:cNvSpPr/>
          <p:nvPr/>
        </p:nvSpPr>
        <p:spPr>
          <a:xfrm>
            <a:off x="539640" y="4724280"/>
            <a:ext cx="822960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Механическое движение                   </a:t>
            </a: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о т н о с и т е л ь н о 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549000" y="981000"/>
            <a:ext cx="840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Как движется город  относительно Солн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99"/>
                </a:solidFill>
                <a:latin typeface="Times New Roman"/>
              </a:rPr>
              <a:t>Мама и дети идут по дорожке парка</a:t>
            </a:r>
            <a:r>
              <a:rPr b="1" i="1" lang="ru-RU" sz="2900" spc="-1" strike="noStrike">
                <a:solidFill>
                  <a:srgbClr val="000099"/>
                </a:solidFill>
                <a:latin typeface="Arial"/>
              </a:rPr>
              <a:t>.</a:t>
            </a:r>
            <a:br>
              <a:rPr sz="2900"/>
            </a:br>
            <a:r>
              <a:rPr b="1" i="1" lang="ru-RU" sz="2900" spc="-1" strike="noStrike">
                <a:solidFill>
                  <a:srgbClr val="000099"/>
                </a:solidFill>
                <a:latin typeface="Times New Roman"/>
              </a:rPr>
              <a:t>Определите, какие тела совершают  в данный момент механическое движение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8" descr="дв"/>
          <p:cNvPicPr/>
          <p:nvPr/>
        </p:nvPicPr>
        <p:blipFill>
          <a:blip r:embed="rId1"/>
          <a:stretch/>
        </p:blipFill>
        <p:spPr>
          <a:xfrm>
            <a:off x="755640" y="1773360"/>
            <a:ext cx="7667640" cy="4751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j0212957"/>
          <p:cNvPicPr/>
          <p:nvPr/>
        </p:nvPicPr>
        <p:blipFill>
          <a:blip r:embed="rId1"/>
          <a:stretch/>
        </p:blipFill>
        <p:spPr>
          <a:xfrm rot="20999400">
            <a:off x="6732360" y="1699920"/>
            <a:ext cx="1830240" cy="11491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349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Траектория –</a:t>
            </a: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Line 8"/>
          <p:cNvSpPr/>
          <p:nvPr/>
        </p:nvSpPr>
        <p:spPr>
          <a:xfrm flipH="1">
            <a:off x="900000" y="2852640"/>
            <a:ext cx="6840720" cy="129708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Содержимое 4" descr="traektopiu.gif"/>
          <p:cNvPicPr/>
          <p:nvPr/>
        </p:nvPicPr>
        <p:blipFill>
          <a:blip r:embed="rId2"/>
          <a:stretch/>
        </p:blipFill>
        <p:spPr>
          <a:xfrm>
            <a:off x="5796000" y="3429000"/>
            <a:ext cx="2201760" cy="285264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оугольник 8"/>
          <p:cNvSpPr/>
          <p:nvPr/>
        </p:nvSpPr>
        <p:spPr>
          <a:xfrm>
            <a:off x="3419640" y="260280"/>
            <a:ext cx="54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линия, вдоль котор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движется тел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2.94798E-006 L -0.72447 0.17826 E">
                                      <p:cBhvr>
                                        <p:cTn id="113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21387E-006 L -0.72447 0.17827 E">
                                      <p:cBhvr>
                                        <p:cTn id="120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3T12:45:18Z</dcterms:created>
  <dc:creator>Сарахман И.Д.</dc:creator>
  <dc:description/>
  <dc:language>en-US</dc:language>
  <cp:lastModifiedBy>света</cp:lastModifiedBy>
  <dcterms:modified xsi:type="dcterms:W3CDTF">2013-10-09T08:28:01Z</dcterms:modified>
  <cp:revision>57</cp:revision>
  <dc:subject>Уроки физики в 7 классе</dc:subject>
  <dc:title>Слайд 1</dc:title>
</cp:coreProperties>
</file>