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gif" ContentType="image/gif"/>
  <Override PartName="/ppt/media/image8.jpeg" ContentType="image/jpeg"/>
  <Override PartName="/ppt/media/image30.png" ContentType="image/png"/>
  <Override PartName="/ppt/media/image9.gif" ContentType="image/gif"/>
  <Override PartName="/ppt/media/image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24.jpeg" ContentType="image/jpeg"/>
  <Override PartName="/ppt/media/image15.png" ContentType="image/png"/>
  <Override PartName="/ppt/media/image12.gif" ContentType="image/gif"/>
  <Override PartName="/ppt/media/image16.png" ContentType="image/png"/>
  <Override PartName="/ppt/media/image13.gif" ContentType="image/gif"/>
  <Override PartName="/ppt/media/image7.wmf" ContentType="image/x-wmf"/>
  <Override PartName="/ppt/media/image22.jpeg" ContentType="image/jpeg"/>
  <Override PartName="/ppt/media/image29.png" ContentType="image/png"/>
  <Override PartName="/ppt/media/image26.png" ContentType="image/png"/>
  <Override PartName="/ppt/media/image3.gif" ContentType="image/gif"/>
  <Override PartName="/ppt/media/image1.gif" ContentType="image/gif"/>
  <Override PartName="/ppt/media/image4.gif" ContentType="image/gif"/>
  <Override PartName="/ppt/media/image27.png" ContentType="image/png"/>
  <Override PartName="/ppt/media/image17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0.wmf" ContentType="image/x-wmf"/>
  <Override PartName="/ppt/media/image23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F0EE-0CC7-4662-82E2-1A19511BE2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41DE-AF58-4A8A-9C0A-EA85756A7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1BF-1E5A-474D-98EE-88523030C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8D8-414D-42EC-84BC-C3044B190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F44-7FB9-4702-B350-24260CFF6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69EF-5B62-4078-80EC-4023565EC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D22-BE01-4526-B5DB-6C53D5A6F4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EA8A-9FE3-4E1A-90D8-40CE516252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22F1-5772-417D-95D9-AC78F3107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98D-2D43-4C27-9BF6-B06A2865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224-DFF1-4D89-BD23-EF84F27B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0B8-1AE0-4E35-89F4-48F940B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9DC-4C70-44B5-B5D1-E2FA497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E8E-0F36-484F-B6C2-2CC60681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89F1-F86B-43DB-9555-AB9B391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5AA-1082-4318-959B-B4FE0D8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B6A9-9597-4E16-AEED-3DF76923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5A87-0D85-4CF9-830A-A4EEB8F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157-6C3A-4BCE-A5AB-DFF1D928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71EF-84C9-43D6-9182-864A609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841-C891-4725-B86B-E773E38D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FD9-EDE4-485D-8ADC-50EAEE92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9EA6-87B2-45C9-BE51-277731C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6C7-F04B-40CD-A4D2-08122F3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277-B435-4C2A-B5D4-40097B22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2F1-04AA-4CAD-922B-EE4C68CC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1C7-F8AA-444C-AC7B-D91FB60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A04-2833-41CE-A827-B0EDE87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969-0882-43A4-854E-D66400B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829-0881-46D6-991B-4AF5EEC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50F-C1B4-4C64-A849-2459319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880-76AA-4F58-8206-E3EC37B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058-0AF5-420A-B793-77937BC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12DF-B7FE-4093-BF0F-A15C4C979D6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033-6161-4507-B2F7-E99D833B2D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7F4-DD18-43E2-BCAD-28EE8C8AB9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50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Механическое движ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C:\Users\света\Desktop\мама2\анимационные картинки, шаблоны\11T3.gif"/>
          <p:cNvPicPr/>
          <p:nvPr/>
        </p:nvPicPr>
        <p:blipFill>
          <a:blip r:embed="rId1"/>
          <a:stretch/>
        </p:blipFill>
        <p:spPr>
          <a:xfrm>
            <a:off x="826920" y="4221000"/>
            <a:ext cx="2665440" cy="222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:\Users\света\Desktop\мама2\анимационные картинки, шаблоны\18.gif"/>
          <p:cNvPicPr/>
          <p:nvPr/>
        </p:nvPicPr>
        <p:blipFill>
          <a:blip r:embed="rId2"/>
          <a:stretch/>
        </p:blipFill>
        <p:spPr>
          <a:xfrm>
            <a:off x="324000" y="1557360"/>
            <a:ext cx="1903320" cy="271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Users\света\Desktop\мама2\анимационные картинки, шаблоны\8.gif"/>
          <p:cNvPicPr/>
          <p:nvPr/>
        </p:nvPicPr>
        <p:blipFill>
          <a:blip r:embed="rId3"/>
          <a:stretch/>
        </p:blipFill>
        <p:spPr>
          <a:xfrm>
            <a:off x="5867280" y="1413000"/>
            <a:ext cx="28004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:\Users\света\Desktop\мама2\анимационные картинки, шаблоны\new_pa2.gif"/>
          <p:cNvPicPr/>
          <p:nvPr/>
        </p:nvPicPr>
        <p:blipFill>
          <a:blip r:embed="rId4"/>
          <a:stretch/>
        </p:blipFill>
        <p:spPr>
          <a:xfrm>
            <a:off x="3276720" y="1413000"/>
            <a:ext cx="2577960" cy="250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C:\Users\света\Desktop\мама2\анимационные картинки, шаблоны\анимационные картинки\2708327jc0iucbbqf.gif"/>
          <p:cNvPicPr/>
          <p:nvPr/>
        </p:nvPicPr>
        <p:blipFill>
          <a:blip r:embed="rId5"/>
          <a:stretch/>
        </p:blipFill>
        <p:spPr>
          <a:xfrm>
            <a:off x="4284720" y="4292640"/>
            <a:ext cx="4022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28560" y="274680"/>
            <a:ext cx="700092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Траектория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линия) :</a:t>
            </a:r>
            <a:br>
              <a:rPr sz="2900"/>
            </a:b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видимая (след), воображаемая;</a:t>
            </a: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прямолинейная, криволинейн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DB5-CE4B-49DE-A8F0-A21905C6B4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1.jpg"/>
          <p:cNvPicPr/>
          <p:nvPr/>
        </p:nvPicPr>
        <p:blipFill>
          <a:blip r:embed="rId1"/>
          <a:stretch/>
        </p:blipFill>
        <p:spPr>
          <a:xfrm>
            <a:off x="642960" y="2142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img_2504f.jpg"/>
          <p:cNvPicPr/>
          <p:nvPr/>
        </p:nvPicPr>
        <p:blipFill>
          <a:blip r:embed="rId2"/>
          <a:stretch/>
        </p:blipFill>
        <p:spPr>
          <a:xfrm>
            <a:off x="2714760" y="192888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779011.jpg"/>
          <p:cNvPicPr/>
          <p:nvPr/>
        </p:nvPicPr>
        <p:blipFill>
          <a:blip r:embed="rId3"/>
          <a:stretch/>
        </p:blipFill>
        <p:spPr>
          <a:xfrm>
            <a:off x="642960" y="192888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lynx.jpg"/>
          <p:cNvPicPr/>
          <p:nvPr/>
        </p:nvPicPr>
        <p:blipFill>
          <a:blip r:embed="rId4"/>
          <a:stretch/>
        </p:blipFill>
        <p:spPr>
          <a:xfrm>
            <a:off x="6786720" y="1928880"/>
            <a:ext cx="192852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09_01.gif"/>
          <p:cNvPicPr/>
          <p:nvPr/>
        </p:nvPicPr>
        <p:blipFill>
          <a:blip r:embed="rId5"/>
          <a:stretch/>
        </p:blipFill>
        <p:spPr>
          <a:xfrm>
            <a:off x="4929120" y="4572000"/>
            <a:ext cx="3929040" cy="1714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0" descr="ris2_2n.gif"/>
          <p:cNvPicPr/>
          <p:nvPr/>
        </p:nvPicPr>
        <p:blipFill>
          <a:blip r:embed="rId6"/>
          <a:stretch/>
        </p:blipFill>
        <p:spPr>
          <a:xfrm>
            <a:off x="642960" y="4572000"/>
            <a:ext cx="4000320" cy="1709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0" descr="london-1114-sm.jpg"/>
          <p:cNvPicPr/>
          <p:nvPr/>
        </p:nvPicPr>
        <p:blipFill>
          <a:blip r:embed="rId7"/>
          <a:stretch/>
        </p:blipFill>
        <p:spPr>
          <a:xfrm>
            <a:off x="4714920" y="1928880"/>
            <a:ext cx="190512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2"/>
          <p:cNvSpPr/>
          <p:nvPr/>
        </p:nvSpPr>
        <p:spPr>
          <a:xfrm>
            <a:off x="61128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Форма траектории зависит от выбора системы отсч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826920" y="5013360"/>
            <a:ext cx="1297080" cy="1295280"/>
          </a:xfrm>
          <a:prstGeom prst="flowChar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900000" y="6308640"/>
            <a:ext cx="748836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8"/>
          <p:cNvSpPr/>
          <p:nvPr/>
        </p:nvSpPr>
        <p:spPr>
          <a:xfrm>
            <a:off x="1619280" y="5013360"/>
            <a:ext cx="2663640" cy="129528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9"/>
          <p:cNvSpPr/>
          <p:nvPr/>
        </p:nvSpPr>
        <p:spPr>
          <a:xfrm rot="18908400">
            <a:off x="4744800" y="4621320"/>
            <a:ext cx="3456000" cy="26636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663640"/>
              <a:gd name="textAreaBottom" fmla="*/ 2664000 h 2663640"/>
            </a:gdLst>
            <a:ahLst/>
            <a:rect l="textAreaLeft" t="textAreaTop" r="textAreaRight" b="textAreaBottom"/>
            <a:pathLst>
              <a:path fill="none" w="24632" h="21600">
                <a:moveTo>
                  <a:pt x="-1" y="375"/>
                </a:moveTo>
                <a:cubicBezTo>
                  <a:pt x="1322" y="125"/>
                  <a:pt x="2665" y="-1"/>
                  <a:pt x="4012" y="0"/>
                </a:cubicBezTo>
                <a:cubicBezTo>
                  <a:pt x="13463" y="0"/>
                  <a:pt x="21817" y="6145"/>
                  <a:pt x="24632" y="15167"/>
                </a:cubicBezTo>
              </a:path>
              <a:path stroke="0" w="24632" h="21600">
                <a:moveTo>
                  <a:pt x="-1" y="375"/>
                </a:moveTo>
                <a:cubicBezTo>
                  <a:pt x="1322" y="125"/>
                  <a:pt x="2665" y="-1"/>
                  <a:pt x="4012" y="0"/>
                </a:cubicBezTo>
                <a:cubicBezTo>
                  <a:pt x="13463" y="0"/>
                  <a:pt x="21817" y="6145"/>
                  <a:pt x="24632" y="15167"/>
                </a:cubicBezTo>
                <a:lnTo>
                  <a:pt x="401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395280" y="184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человека стоящего на Земле траектория точки обода колеса представляет собой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икло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1.32948E-006 L 0.71667 1.32948E-006 E">
                                      <p:cBhvr>
                                        <p:cTn id="21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ree"/>
          <p:cNvSpPr/>
          <p:nvPr/>
        </p:nvSpPr>
        <p:spPr>
          <a:xfrm>
            <a:off x="179280" y="105264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4932360" y="3429000"/>
            <a:ext cx="1079640" cy="1008000"/>
          </a:xfrm>
          <a:prstGeom prst="flowChartSummingJunction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484360" y="3500280"/>
            <a:ext cx="1079640" cy="1008360"/>
          </a:xfrm>
          <a:prstGeom prst="flowChartSummingJunction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7"/>
          <p:cNvSpPr/>
          <p:nvPr/>
        </p:nvSpPr>
        <p:spPr>
          <a:xfrm>
            <a:off x="998640" y="1089000"/>
            <a:ext cx="6562800" cy="3033720"/>
          </a:xfrm>
          <a:custGeom>
            <a:avLst/>
            <a:gdLst>
              <a:gd name="textAreaLeft" fmla="*/ 0 w 6562800"/>
              <a:gd name="textAreaRight" fmla="*/ 6563160 w 6562800"/>
              <a:gd name="textAreaTop" fmla="*/ 0 h 3033720"/>
              <a:gd name="textAreaBottom" fmla="*/ 3034080 h 3033720"/>
            </a:gdLst>
            <a:ahLst/>
            <a:rect l="textAreaLeft" t="textAreaTop" r="textAreaRight" b="textAreaBottom"/>
            <a:pathLst>
              <a:path w="4134" h="1911">
                <a:moveTo>
                  <a:pt x="834" y="1783"/>
                </a:moveTo>
                <a:cubicBezTo>
                  <a:pt x="588" y="1843"/>
                  <a:pt x="405" y="1798"/>
                  <a:pt x="194" y="1728"/>
                </a:cubicBezTo>
                <a:cubicBezTo>
                  <a:pt x="167" y="1709"/>
                  <a:pt x="139" y="1700"/>
                  <a:pt x="112" y="1682"/>
                </a:cubicBezTo>
                <a:cubicBezTo>
                  <a:pt x="89" y="1621"/>
                  <a:pt x="54" y="1563"/>
                  <a:pt x="38" y="1499"/>
                </a:cubicBezTo>
                <a:cubicBezTo>
                  <a:pt x="28" y="1459"/>
                  <a:pt x="21" y="1420"/>
                  <a:pt x="11" y="1380"/>
                </a:cubicBezTo>
                <a:cubicBezTo>
                  <a:pt x="17" y="1240"/>
                  <a:pt x="0" y="1002"/>
                  <a:pt x="203" y="996"/>
                </a:cubicBezTo>
                <a:cubicBezTo>
                  <a:pt x="511" y="988"/>
                  <a:pt x="818" y="984"/>
                  <a:pt x="1126" y="978"/>
                </a:cubicBezTo>
                <a:cubicBezTo>
                  <a:pt x="1189" y="933"/>
                  <a:pt x="1233" y="899"/>
                  <a:pt x="1282" y="841"/>
                </a:cubicBezTo>
                <a:cubicBezTo>
                  <a:pt x="1352" y="757"/>
                  <a:pt x="1233" y="885"/>
                  <a:pt x="1318" y="768"/>
                </a:cubicBezTo>
                <a:cubicBezTo>
                  <a:pt x="1333" y="747"/>
                  <a:pt x="1355" y="731"/>
                  <a:pt x="1373" y="713"/>
                </a:cubicBezTo>
                <a:cubicBezTo>
                  <a:pt x="1382" y="704"/>
                  <a:pt x="1401" y="685"/>
                  <a:pt x="1401" y="685"/>
                </a:cubicBezTo>
                <a:cubicBezTo>
                  <a:pt x="1417" y="636"/>
                  <a:pt x="1455" y="599"/>
                  <a:pt x="1483" y="557"/>
                </a:cubicBezTo>
                <a:cubicBezTo>
                  <a:pt x="1503" y="528"/>
                  <a:pt x="1508" y="472"/>
                  <a:pt x="1520" y="439"/>
                </a:cubicBezTo>
                <a:cubicBezTo>
                  <a:pt x="1527" y="387"/>
                  <a:pt x="1529" y="311"/>
                  <a:pt x="1556" y="265"/>
                </a:cubicBezTo>
                <a:cubicBezTo>
                  <a:pt x="1579" y="225"/>
                  <a:pt x="1611" y="189"/>
                  <a:pt x="1629" y="146"/>
                </a:cubicBezTo>
                <a:cubicBezTo>
                  <a:pt x="1651" y="94"/>
                  <a:pt x="1690" y="55"/>
                  <a:pt x="1748" y="45"/>
                </a:cubicBezTo>
                <a:cubicBezTo>
                  <a:pt x="1857" y="25"/>
                  <a:pt x="1968" y="22"/>
                  <a:pt x="2077" y="0"/>
                </a:cubicBezTo>
                <a:cubicBezTo>
                  <a:pt x="2183" y="11"/>
                  <a:pt x="2139" y="11"/>
                  <a:pt x="2214" y="36"/>
                </a:cubicBezTo>
                <a:cubicBezTo>
                  <a:pt x="2285" y="84"/>
                  <a:pt x="2391" y="77"/>
                  <a:pt x="2470" y="82"/>
                </a:cubicBezTo>
                <a:cubicBezTo>
                  <a:pt x="2491" y="85"/>
                  <a:pt x="2514" y="84"/>
                  <a:pt x="2534" y="91"/>
                </a:cubicBezTo>
                <a:cubicBezTo>
                  <a:pt x="2584" y="108"/>
                  <a:pt x="2628" y="147"/>
                  <a:pt x="2681" y="164"/>
                </a:cubicBezTo>
                <a:cubicBezTo>
                  <a:pt x="2727" y="236"/>
                  <a:pt x="2721" y="323"/>
                  <a:pt x="2772" y="393"/>
                </a:cubicBezTo>
                <a:cubicBezTo>
                  <a:pt x="2792" y="475"/>
                  <a:pt x="2781" y="442"/>
                  <a:pt x="2800" y="493"/>
                </a:cubicBezTo>
                <a:cubicBezTo>
                  <a:pt x="2803" y="533"/>
                  <a:pt x="2804" y="573"/>
                  <a:pt x="2809" y="612"/>
                </a:cubicBezTo>
                <a:cubicBezTo>
                  <a:pt x="2810" y="622"/>
                  <a:pt x="2817" y="630"/>
                  <a:pt x="2818" y="640"/>
                </a:cubicBezTo>
                <a:cubicBezTo>
                  <a:pt x="2823" y="670"/>
                  <a:pt x="2821" y="701"/>
                  <a:pt x="2827" y="731"/>
                </a:cubicBezTo>
                <a:cubicBezTo>
                  <a:pt x="2839" y="798"/>
                  <a:pt x="2862" y="803"/>
                  <a:pt x="2918" y="841"/>
                </a:cubicBezTo>
                <a:cubicBezTo>
                  <a:pt x="2963" y="872"/>
                  <a:pt x="2908" y="849"/>
                  <a:pt x="2964" y="868"/>
                </a:cubicBezTo>
                <a:cubicBezTo>
                  <a:pt x="2986" y="891"/>
                  <a:pt x="2997" y="904"/>
                  <a:pt x="3028" y="914"/>
                </a:cubicBezTo>
                <a:cubicBezTo>
                  <a:pt x="3310" y="907"/>
                  <a:pt x="3587" y="904"/>
                  <a:pt x="3869" y="923"/>
                </a:cubicBezTo>
                <a:cubicBezTo>
                  <a:pt x="3934" y="972"/>
                  <a:pt x="3992" y="1007"/>
                  <a:pt x="4070" y="1033"/>
                </a:cubicBezTo>
                <a:cubicBezTo>
                  <a:pt x="4111" y="1072"/>
                  <a:pt x="4108" y="1119"/>
                  <a:pt x="4125" y="1170"/>
                </a:cubicBezTo>
                <a:cubicBezTo>
                  <a:pt x="4128" y="1219"/>
                  <a:pt x="4134" y="1267"/>
                  <a:pt x="4134" y="1316"/>
                </a:cubicBezTo>
                <a:cubicBezTo>
                  <a:pt x="4134" y="1398"/>
                  <a:pt x="4130" y="1481"/>
                  <a:pt x="4125" y="1563"/>
                </a:cubicBezTo>
                <a:cubicBezTo>
                  <a:pt x="4122" y="1611"/>
                  <a:pt x="4045" y="1679"/>
                  <a:pt x="3997" y="1682"/>
                </a:cubicBezTo>
                <a:cubicBezTo>
                  <a:pt x="3879" y="1690"/>
                  <a:pt x="3760" y="1688"/>
                  <a:pt x="3641" y="1691"/>
                </a:cubicBezTo>
                <a:cubicBezTo>
                  <a:pt x="3547" y="1698"/>
                  <a:pt x="3469" y="1710"/>
                  <a:pt x="3376" y="1719"/>
                </a:cubicBezTo>
                <a:cubicBezTo>
                  <a:pt x="3184" y="1706"/>
                  <a:pt x="3260" y="1743"/>
                  <a:pt x="3202" y="1655"/>
                </a:cubicBezTo>
                <a:cubicBezTo>
                  <a:pt x="3176" y="1574"/>
                  <a:pt x="3213" y="1673"/>
                  <a:pt x="3174" y="1609"/>
                </a:cubicBezTo>
                <a:cubicBezTo>
                  <a:pt x="3142" y="1556"/>
                  <a:pt x="3137" y="1533"/>
                  <a:pt x="3101" y="1490"/>
                </a:cubicBezTo>
                <a:cubicBezTo>
                  <a:pt x="3094" y="1482"/>
                  <a:pt x="3091" y="1470"/>
                  <a:pt x="3083" y="1463"/>
                </a:cubicBezTo>
                <a:cubicBezTo>
                  <a:pt x="3055" y="1440"/>
                  <a:pt x="3000" y="1435"/>
                  <a:pt x="2964" y="1426"/>
                </a:cubicBezTo>
                <a:cubicBezTo>
                  <a:pt x="2767" y="1430"/>
                  <a:pt x="2601" y="1344"/>
                  <a:pt x="2480" y="1472"/>
                </a:cubicBezTo>
                <a:cubicBezTo>
                  <a:pt x="2469" y="1502"/>
                  <a:pt x="2461" y="1527"/>
                  <a:pt x="2443" y="1554"/>
                </a:cubicBezTo>
                <a:cubicBezTo>
                  <a:pt x="2439" y="1593"/>
                  <a:pt x="2443" y="1692"/>
                  <a:pt x="2416" y="1728"/>
                </a:cubicBezTo>
                <a:cubicBezTo>
                  <a:pt x="2403" y="1745"/>
                  <a:pt x="2370" y="1773"/>
                  <a:pt x="2370" y="1773"/>
                </a:cubicBezTo>
                <a:cubicBezTo>
                  <a:pt x="1522" y="1762"/>
                  <a:pt x="1861" y="1911"/>
                  <a:pt x="1629" y="1691"/>
                </a:cubicBezTo>
                <a:cubicBezTo>
                  <a:pt x="1617" y="1644"/>
                  <a:pt x="1593" y="1623"/>
                  <a:pt x="1565" y="1581"/>
                </a:cubicBezTo>
                <a:cubicBezTo>
                  <a:pt x="1517" y="1510"/>
                  <a:pt x="1477" y="1436"/>
                  <a:pt x="1392" y="1408"/>
                </a:cubicBezTo>
                <a:cubicBezTo>
                  <a:pt x="1357" y="1409"/>
                  <a:pt x="1103" y="1397"/>
                  <a:pt x="1026" y="1435"/>
                </a:cubicBezTo>
                <a:cubicBezTo>
                  <a:pt x="998" y="1449"/>
                  <a:pt x="979" y="1473"/>
                  <a:pt x="953" y="1490"/>
                </a:cubicBezTo>
                <a:cubicBezTo>
                  <a:pt x="938" y="1534"/>
                  <a:pt x="923" y="1572"/>
                  <a:pt x="916" y="1618"/>
                </a:cubicBezTo>
                <a:cubicBezTo>
                  <a:pt x="910" y="1655"/>
                  <a:pt x="917" y="1696"/>
                  <a:pt x="898" y="1728"/>
                </a:cubicBezTo>
                <a:cubicBezTo>
                  <a:pt x="884" y="1752"/>
                  <a:pt x="834" y="1760"/>
                  <a:pt x="834" y="1783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8"/>
          <p:cNvSpPr/>
          <p:nvPr/>
        </p:nvSpPr>
        <p:spPr>
          <a:xfrm>
            <a:off x="3700440" y="1611360"/>
            <a:ext cx="1351080" cy="103824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851" h="654">
                <a:moveTo>
                  <a:pt x="0" y="484"/>
                </a:moveTo>
                <a:cubicBezTo>
                  <a:pt x="3" y="365"/>
                  <a:pt x="4" y="247"/>
                  <a:pt x="10" y="128"/>
                </a:cubicBezTo>
                <a:cubicBezTo>
                  <a:pt x="10" y="118"/>
                  <a:pt x="12" y="107"/>
                  <a:pt x="19" y="100"/>
                </a:cubicBezTo>
                <a:cubicBezTo>
                  <a:pt x="62" y="57"/>
                  <a:pt x="144" y="10"/>
                  <a:pt x="202" y="0"/>
                </a:cubicBezTo>
                <a:cubicBezTo>
                  <a:pt x="315" y="3"/>
                  <a:pt x="427" y="5"/>
                  <a:pt x="540" y="9"/>
                </a:cubicBezTo>
                <a:cubicBezTo>
                  <a:pt x="586" y="11"/>
                  <a:pt x="632" y="8"/>
                  <a:pt x="677" y="18"/>
                </a:cubicBezTo>
                <a:cubicBezTo>
                  <a:pt x="711" y="26"/>
                  <a:pt x="722" y="71"/>
                  <a:pt x="741" y="100"/>
                </a:cubicBezTo>
                <a:cubicBezTo>
                  <a:pt x="805" y="196"/>
                  <a:pt x="835" y="297"/>
                  <a:pt x="851" y="411"/>
                </a:cubicBezTo>
                <a:cubicBezTo>
                  <a:pt x="831" y="654"/>
                  <a:pt x="771" y="538"/>
                  <a:pt x="430" y="530"/>
                </a:cubicBezTo>
                <a:cubicBezTo>
                  <a:pt x="297" y="486"/>
                  <a:pt x="119" y="493"/>
                  <a:pt x="0" y="484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1001880" y="2917800"/>
            <a:ext cx="42840" cy="14400"/>
          </a:xfrm>
          <a:custGeom>
            <a:avLst/>
            <a:gdLst>
              <a:gd name="textAreaLeft" fmla="*/ 0 w 42840"/>
              <a:gd name="textAreaRight" fmla="*/ 43200 w 4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" h="9">
                <a:moveTo>
                  <a:pt x="27" y="9"/>
                </a:moveTo>
                <a:cubicBezTo>
                  <a:pt x="18" y="6"/>
                  <a:pt x="0" y="0"/>
                  <a:pt x="0" y="0"/>
                </a:cubicBezTo>
                <a:cubicBezTo>
                  <a:pt x="0" y="0"/>
                  <a:pt x="18" y="6"/>
                  <a:pt x="27" y="9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746280" y="2873520"/>
            <a:ext cx="269640" cy="552240"/>
          </a:xfrm>
          <a:custGeom>
            <a:avLst/>
            <a:gdLst>
              <a:gd name="textAreaLeft" fmla="*/ 0 w 269640"/>
              <a:gd name="textAreaRight" fmla="*/ 270000 w 269640"/>
              <a:gd name="textAreaTop" fmla="*/ 0 h 552240"/>
              <a:gd name="textAreaBottom" fmla="*/ 552240 h 552240"/>
            </a:gdLst>
            <a:ahLst/>
            <a:rect l="textAreaLeft" t="textAreaTop" r="textAreaRight" b="textAreaBottom"/>
            <a:pathLst>
              <a:path w="170" h="348">
                <a:moveTo>
                  <a:pt x="170" y="0"/>
                </a:moveTo>
                <a:cubicBezTo>
                  <a:pt x="103" y="23"/>
                  <a:pt x="134" y="14"/>
                  <a:pt x="79" y="28"/>
                </a:cubicBezTo>
                <a:cubicBezTo>
                  <a:pt x="58" y="48"/>
                  <a:pt x="44" y="71"/>
                  <a:pt x="24" y="92"/>
                </a:cubicBezTo>
                <a:cubicBezTo>
                  <a:pt x="6" y="146"/>
                  <a:pt x="0" y="153"/>
                  <a:pt x="24" y="238"/>
                </a:cubicBezTo>
                <a:cubicBezTo>
                  <a:pt x="27" y="247"/>
                  <a:pt x="42" y="243"/>
                  <a:pt x="51" y="247"/>
                </a:cubicBezTo>
                <a:cubicBezTo>
                  <a:pt x="61" y="252"/>
                  <a:pt x="70" y="258"/>
                  <a:pt x="79" y="265"/>
                </a:cubicBezTo>
                <a:cubicBezTo>
                  <a:pt x="111" y="291"/>
                  <a:pt x="141" y="319"/>
                  <a:pt x="170" y="348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755640" y="4436640"/>
            <a:ext cx="7848720" cy="716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39640" y="50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человека, сидящего в автомобиле, точка обода колеса будет описывать 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80659 -0.00601 E">
                                      <p:cBhvr>
                                        <p:cTn id="234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ойденный путь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125360"/>
            <a:ext cx="82627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длина траектории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зическая велич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 м  - основная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км = 1000 м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дм = 0,1 м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см = 0,01 м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мм = 0,001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F960-8DF3-4B3F-8E79-A402399E13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2" descr="pyt.gif"/>
          <p:cNvPicPr/>
          <p:nvPr/>
        </p:nvPicPr>
        <p:blipFill>
          <a:blip r:embed="rId1"/>
          <a:stretch/>
        </p:blipFill>
        <p:spPr>
          <a:xfrm>
            <a:off x="5148360" y="1773360"/>
            <a:ext cx="329076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69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73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1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1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7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7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10" descr="Image5550.gif"/>
          <p:cNvPicPr/>
          <p:nvPr/>
        </p:nvPicPr>
        <p:blipFill>
          <a:blip r:embed="rId1"/>
          <a:stretch/>
        </p:blipFill>
        <p:spPr>
          <a:xfrm>
            <a:off x="2324160" y="2643120"/>
            <a:ext cx="4495680" cy="2438640"/>
          </a:xfrm>
          <a:prstGeom prst="rect">
            <a:avLst/>
          </a:prstGeom>
          <a:ln w="0">
            <a:noFill/>
          </a:ln>
        </p:spPr>
      </p:pic>
      <p:sp>
        <p:nvSpPr>
          <p:cNvPr id="1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DC47-09A3-4EE0-995B-31DE33D4B4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57120" y="1429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равните пути, пройденные самол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и танком, между соответствующими точ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5"/>
          <p:cNvSpPr/>
          <p:nvPr/>
        </p:nvSpPr>
        <p:spPr>
          <a:xfrm>
            <a:off x="2411280" y="1916280"/>
            <a:ext cx="0" cy="257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9"/>
          <p:cNvSpPr/>
          <p:nvPr/>
        </p:nvSpPr>
        <p:spPr>
          <a:xfrm>
            <a:off x="4144320" y="2155680"/>
            <a:ext cx="66600" cy="271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3"/>
          <p:cNvSpPr/>
          <p:nvPr/>
        </p:nvSpPr>
        <p:spPr>
          <a:xfrm flipH="1">
            <a:off x="5928840" y="1928880"/>
            <a:ext cx="1800" cy="36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7"/>
          <p:cNvSpPr/>
          <p:nvPr/>
        </p:nvSpPr>
        <p:spPr>
          <a:xfrm>
            <a:off x="6572160" y="1928880"/>
            <a:ext cx="0" cy="36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8"/>
          <p:cNvSpPr/>
          <p:nvPr/>
        </p:nvSpPr>
        <p:spPr>
          <a:xfrm>
            <a:off x="2340000" y="4941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4140360" y="4797360"/>
            <a:ext cx="141120" cy="141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0"/>
          <p:cNvSpPr/>
          <p:nvPr/>
        </p:nvSpPr>
        <p:spPr>
          <a:xfrm>
            <a:off x="5867280" y="5516640"/>
            <a:ext cx="154080" cy="12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1"/>
          <p:cNvSpPr/>
          <p:nvPr/>
        </p:nvSpPr>
        <p:spPr>
          <a:xfrm>
            <a:off x="6500880" y="5589720"/>
            <a:ext cx="158760" cy="12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2"/>
          <p:cNvSpPr/>
          <p:nvPr/>
        </p:nvSpPr>
        <p:spPr>
          <a:xfrm>
            <a:off x="395280" y="4005360"/>
            <a:ext cx="21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е правильный отв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11280" y="1268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толике в вагоне движущегося поезда лежит книга. Относительно каких тел книга находится в по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716360" y="5373720"/>
            <a:ext cx="34560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4716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21964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5940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644364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7164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7667640" y="4941720"/>
            <a:ext cx="43164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356000" y="2852640"/>
            <a:ext cx="4032360" cy="2089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508720" y="4221000"/>
            <a:ext cx="172728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651640" y="4365720"/>
            <a:ext cx="72720" cy="576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948360" y="4365720"/>
            <a:ext cx="71640" cy="576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5796000" y="4005360"/>
            <a:ext cx="108108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68360" y="3284640"/>
            <a:ext cx="338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ь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еса 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8"/>
          <p:cNvSpPr/>
          <p:nvPr/>
        </p:nvSpPr>
        <p:spPr>
          <a:xfrm>
            <a:off x="900000" y="3860640"/>
            <a:ext cx="417672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называют линию, которую описывает тело при своем движен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2706480"/>
            <a:ext cx="4330440" cy="20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Пройденный п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ямая ли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Траек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826920" y="4941360"/>
            <a:ext cx="201636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9"/>
          <p:cNvCxnSpPr/>
          <p:nvPr/>
        </p:nvCxnSpPr>
        <p:spPr>
          <a:xfrm flipV="1" rot="10800000">
            <a:off x="5002920" y="3715920"/>
            <a:ext cx="2820240" cy="1945440"/>
          </a:xfrm>
          <a:prstGeom prst="curvedConnector5">
            <a:avLst>
              <a:gd name="adj1" fmla="val 49993"/>
              <a:gd name="adj2" fmla="val 49990"/>
              <a:gd name="adj3" fmla="val 49993"/>
            </a:avLst>
          </a:prstGeom>
          <a:ln w="28440">
            <a:solidFill>
              <a:srgbClr val="ff0000"/>
            </a:solidFill>
            <a:miter/>
          </a:ln>
        </p:spPr>
      </p:cxnSp>
    </p:spTree>
  </p:cSld>
  <p:transition spd="med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7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2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7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2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1258920" y="2349360"/>
            <a:ext cx="705636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е тела движутся по криволинейной траектор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8560" y="2206440"/>
            <a:ext cx="707076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нец минутной стрелки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ыпущенный из рук 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абина лиф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234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оугольник 4"/>
          <p:cNvSpPr/>
          <p:nvPr/>
        </p:nvSpPr>
        <p:spPr>
          <a:xfrm>
            <a:off x="609480" y="7621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называется механическим движе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чему указывают, относительно каких тел движется тел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называют путем, пройденным те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ова единица пути в 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238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Прямоугольник 4"/>
          <p:cNvSpPr/>
          <p:nvPr/>
        </p:nvSpPr>
        <p:spPr>
          <a:xfrm>
            <a:off x="838080" y="609480"/>
            <a:ext cx="7696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Приведите примеры тел, движущихся относительно Земли; неподвижных относительно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очему во время снежной метели трудно указать, движется поезд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Какую траекторию оставляет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чном небе реактивный само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Что должны узнат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называют механическим движе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определить, движется тело или н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физические понятия применяют для описания механического движ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физические величины используют для изучени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еханического движ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ля всех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.13, читать, отвечать на вопросы; упр.3 (стр.32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ля желающих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дание 4 (стр.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 за работу! Успехов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C3C-4962-4E15-8B39-F4EAA07AB0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6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240" y="4343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Какие тела движу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Какие тела неподвижн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тносительно каких тел</a:t>
            </a: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Группа 27"/>
          <p:cNvGrpSpPr/>
          <p:nvPr/>
        </p:nvGrpSpPr>
        <p:grpSpPr>
          <a:xfrm>
            <a:off x="-4429080" y="1214280"/>
            <a:ext cx="4214880" cy="2357640"/>
            <a:chOff x="-4429080" y="1214280"/>
            <a:chExt cx="4214880" cy="2357640"/>
          </a:xfrm>
        </p:grpSpPr>
        <p:sp>
          <p:nvSpPr>
            <p:cNvPr id="100" name="Прямоугольник 3"/>
            <p:cNvSpPr/>
            <p:nvPr/>
          </p:nvSpPr>
          <p:spPr>
            <a:xfrm>
              <a:off x="-4429080" y="1499760"/>
              <a:ext cx="4214880" cy="157176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4"/>
            <p:cNvSpPr/>
            <p:nvPr/>
          </p:nvSpPr>
          <p:spPr>
            <a:xfrm>
              <a:off x="-4429080" y="1214280"/>
              <a:ext cx="4214880" cy="28548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7"/>
            <p:cNvSpPr/>
            <p:nvPr/>
          </p:nvSpPr>
          <p:spPr>
            <a:xfrm>
              <a:off x="-2928600" y="1642680"/>
              <a:ext cx="1143000" cy="1000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" descr="C:\Program Files\Microsoft Office\MEDIA\CAGCAT10\j0216724.wmf"/>
            <p:cNvPicPr/>
            <p:nvPr/>
          </p:nvPicPr>
          <p:blipFill>
            <a:blip r:embed="rId2"/>
            <a:stretch/>
          </p:blipFill>
          <p:spPr>
            <a:xfrm>
              <a:off x="-2714400" y="1714320"/>
              <a:ext cx="6818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6"/>
            <p:cNvSpPr/>
            <p:nvPr/>
          </p:nvSpPr>
          <p:spPr>
            <a:xfrm>
              <a:off x="-2928600" y="1642680"/>
              <a:ext cx="1143000" cy="1000080"/>
            </a:xfrm>
            <a:prstGeom prst="rect">
              <a:avLst/>
            </a:prstGeom>
            <a:noFill/>
            <a:ln w="1522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8"/>
            <p:cNvSpPr/>
            <p:nvPr/>
          </p:nvSpPr>
          <p:spPr>
            <a:xfrm>
              <a:off x="-999720" y="164268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10"/>
            <p:cNvSpPr/>
            <p:nvPr/>
          </p:nvSpPr>
          <p:spPr>
            <a:xfrm>
              <a:off x="-4286160" y="164268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Кольцо 12"/>
            <p:cNvSpPr/>
            <p:nvPr/>
          </p:nvSpPr>
          <p:spPr>
            <a:xfrm>
              <a:off x="-1213920" y="307188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7" h="500066">
                  <a:moveTo>
                    <a:pt x="0" y="250033"/>
                  </a:moveTo>
                  <a:lnTo>
                    <a:pt x="0" y="250033"/>
                  </a:lnTo>
                  <a:arcTo wR="250034" hR="250033" stAng="10800000" swAng="5400000"/>
                  <a:lnTo>
                    <a:pt x="250034" y="0"/>
                  </a:lnTo>
                  <a:arcTo wR="250034" hR="250033" stAng="-5400000" swAng="5400000"/>
                  <a:lnTo>
                    <a:pt x="500068" y="250033"/>
                  </a:lnTo>
                  <a:arcTo wR="250034" hR="250033" stAng="0" swAng="5400000"/>
                  <a:lnTo>
                    <a:pt x="250034" y="500066"/>
                  </a:lnTo>
                  <a:arcTo wR="250034" hR="250033" stAng="5400000" swAng="5400000"/>
                  <a:close/>
                  <a:moveTo>
                    <a:pt x="125017" y="250033"/>
                  </a:moveTo>
                  <a:lnTo>
                    <a:pt x="125017" y="250033"/>
                  </a:lnTo>
                  <a:arcTo wR="125017" hR="125017" stAng="10800000" swAng="-5400000"/>
                  <a:lnTo>
                    <a:pt x="250034" y="375050"/>
                  </a:lnTo>
                  <a:arcTo wR="125017" hR="125017" stAng="5400000" swAng="-5400000"/>
                  <a:lnTo>
                    <a:pt x="375051" y="250033"/>
                  </a:lnTo>
                  <a:arcTo wR="125017" hR="125017" stAng="0" swAng="-5400000"/>
                  <a:lnTo>
                    <a:pt x="250034" y="125016"/>
                  </a:lnTo>
                  <a:arcTo wR="125017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Кольцо 13"/>
            <p:cNvSpPr/>
            <p:nvPr/>
          </p:nvSpPr>
          <p:spPr>
            <a:xfrm>
              <a:off x="-3928680" y="307188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7" h="500066">
                  <a:moveTo>
                    <a:pt x="0" y="250033"/>
                  </a:moveTo>
                  <a:lnTo>
                    <a:pt x="0" y="250033"/>
                  </a:lnTo>
                  <a:arcTo wR="250034" hR="250033" stAng="10800000" swAng="5400000"/>
                  <a:lnTo>
                    <a:pt x="250034" y="0"/>
                  </a:lnTo>
                  <a:arcTo wR="250034" hR="250033" stAng="-5400000" swAng="5400000"/>
                  <a:lnTo>
                    <a:pt x="500068" y="250033"/>
                  </a:lnTo>
                  <a:arcTo wR="250034" hR="250033" stAng="0" swAng="5400000"/>
                  <a:lnTo>
                    <a:pt x="250034" y="500066"/>
                  </a:lnTo>
                  <a:arcTo wR="250034" hR="250033" stAng="5400000" swAng="5400000"/>
                  <a:close/>
                  <a:moveTo>
                    <a:pt x="125017" y="250033"/>
                  </a:moveTo>
                  <a:lnTo>
                    <a:pt x="125017" y="250033"/>
                  </a:lnTo>
                  <a:arcTo wR="125017" hR="125017" stAng="10800000" swAng="-5400000"/>
                  <a:lnTo>
                    <a:pt x="250034" y="375050"/>
                  </a:lnTo>
                  <a:arcTo wR="125017" hR="125017" stAng="5400000" swAng="-5400000"/>
                  <a:lnTo>
                    <a:pt x="375051" y="250033"/>
                  </a:lnTo>
                  <a:arcTo wR="125017" hR="125017" stAng="0" swAng="-5400000"/>
                  <a:lnTo>
                    <a:pt x="250034" y="125016"/>
                  </a:lnTo>
                  <a:arcTo wR="125017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Прямоугольник 14"/>
          <p:cNvSpPr/>
          <p:nvPr/>
        </p:nvSpPr>
        <p:spPr>
          <a:xfrm>
            <a:off x="0" y="3571920"/>
            <a:ext cx="9144000" cy="4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3643200"/>
            <a:ext cx="28584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857160" y="3643200"/>
            <a:ext cx="285840" cy="14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3786120" y="3643200"/>
            <a:ext cx="285840" cy="142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1571760" y="3643200"/>
            <a:ext cx="285480" cy="142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2286000" y="3643200"/>
            <a:ext cx="285840" cy="142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3071880" y="3643200"/>
            <a:ext cx="285840" cy="142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4572000" y="3643200"/>
            <a:ext cx="285840" cy="142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5643720" y="3643200"/>
            <a:ext cx="28548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6572160" y="3643200"/>
            <a:ext cx="285840" cy="142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7500960" y="3643200"/>
            <a:ext cx="28584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5"/>
          <p:cNvSpPr/>
          <p:nvPr/>
        </p:nvSpPr>
        <p:spPr>
          <a:xfrm>
            <a:off x="8501040" y="3643200"/>
            <a:ext cx="28584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27"/>
          <p:cNvGrpSpPr/>
          <p:nvPr/>
        </p:nvGrpSpPr>
        <p:grpSpPr>
          <a:xfrm>
            <a:off x="685800" y="1219320"/>
            <a:ext cx="4214880" cy="2357280"/>
            <a:chOff x="685800" y="1219320"/>
            <a:chExt cx="4214880" cy="2357280"/>
          </a:xfrm>
        </p:grpSpPr>
        <p:sp>
          <p:nvSpPr>
            <p:cNvPr id="122" name="Прямоугольник 28"/>
            <p:cNvSpPr/>
            <p:nvPr/>
          </p:nvSpPr>
          <p:spPr>
            <a:xfrm>
              <a:off x="685800" y="1504800"/>
              <a:ext cx="4214880" cy="157140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29"/>
            <p:cNvSpPr/>
            <p:nvPr/>
          </p:nvSpPr>
          <p:spPr>
            <a:xfrm>
              <a:off x="685800" y="1219320"/>
              <a:ext cx="4214880" cy="28548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30"/>
            <p:cNvSpPr/>
            <p:nvPr/>
          </p:nvSpPr>
          <p:spPr>
            <a:xfrm>
              <a:off x="2185920" y="1647720"/>
              <a:ext cx="1143000" cy="1000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" descr="C:\Program Files\Microsoft Office\MEDIA\CAGCAT10\j0216724.wmf"/>
            <p:cNvPicPr/>
            <p:nvPr/>
          </p:nvPicPr>
          <p:blipFill>
            <a:blip r:embed="rId14"/>
            <a:stretch/>
          </p:blipFill>
          <p:spPr>
            <a:xfrm>
              <a:off x="2400120" y="1719360"/>
              <a:ext cx="6818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Прямоугольник 32"/>
            <p:cNvSpPr/>
            <p:nvPr/>
          </p:nvSpPr>
          <p:spPr>
            <a:xfrm>
              <a:off x="2185920" y="1647720"/>
              <a:ext cx="1143000" cy="1000080"/>
            </a:xfrm>
            <a:prstGeom prst="rect">
              <a:avLst/>
            </a:prstGeom>
            <a:noFill/>
            <a:ln w="1522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3"/>
            <p:cNvSpPr/>
            <p:nvPr/>
          </p:nvSpPr>
          <p:spPr>
            <a:xfrm>
              <a:off x="4114800" y="164772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34"/>
            <p:cNvSpPr/>
            <p:nvPr/>
          </p:nvSpPr>
          <p:spPr>
            <a:xfrm>
              <a:off x="828360" y="164772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Кольцо 35"/>
            <p:cNvSpPr/>
            <p:nvPr/>
          </p:nvSpPr>
          <p:spPr>
            <a:xfrm>
              <a:off x="3900600" y="307656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5" h="500066">
                  <a:moveTo>
                    <a:pt x="0" y="250033"/>
                  </a:moveTo>
                  <a:lnTo>
                    <a:pt x="0" y="250033"/>
                  </a:lnTo>
                  <a:arcTo wR="250033" hR="250033" stAng="10800000" swAng="5400000"/>
                  <a:lnTo>
                    <a:pt x="250033" y="0"/>
                  </a:lnTo>
                  <a:arcTo wR="250033" hR="250033" stAng="-5400000" swAng="5400000"/>
                  <a:lnTo>
                    <a:pt x="500066" y="250033"/>
                  </a:lnTo>
                  <a:arcTo wR="250033" hR="250033" stAng="0" swAng="5400000"/>
                  <a:lnTo>
                    <a:pt x="250033" y="500066"/>
                  </a:lnTo>
                  <a:arcTo wR="250033" hR="250033" stAng="5400000" swAng="5400000"/>
                  <a:close/>
                  <a:moveTo>
                    <a:pt x="125016" y="250033"/>
                  </a:moveTo>
                  <a:lnTo>
                    <a:pt x="125016" y="250033"/>
                  </a:lnTo>
                  <a:arcTo wR="125016" hR="125017" stAng="10800000" swAng="-5400000"/>
                  <a:lnTo>
                    <a:pt x="250032" y="375050"/>
                  </a:lnTo>
                  <a:arcTo wR="125016" hR="125017" stAng="5400000" swAng="-5400000"/>
                  <a:lnTo>
                    <a:pt x="375048" y="250033"/>
                  </a:lnTo>
                  <a:arcTo wR="125016" hR="125017" stAng="0" swAng="-5400000"/>
                  <a:lnTo>
                    <a:pt x="250032" y="125016"/>
                  </a:lnTo>
                  <a:arcTo wR="125016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Кольцо 36"/>
            <p:cNvSpPr/>
            <p:nvPr/>
          </p:nvSpPr>
          <p:spPr>
            <a:xfrm>
              <a:off x="1185840" y="307656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5" h="500066">
                  <a:moveTo>
                    <a:pt x="0" y="250033"/>
                  </a:moveTo>
                  <a:lnTo>
                    <a:pt x="0" y="250033"/>
                  </a:lnTo>
                  <a:arcTo wR="250033" hR="250033" stAng="10800000" swAng="5400000"/>
                  <a:lnTo>
                    <a:pt x="250033" y="0"/>
                  </a:lnTo>
                  <a:arcTo wR="250033" hR="250033" stAng="-5400000" swAng="5400000"/>
                  <a:lnTo>
                    <a:pt x="500066" y="250033"/>
                  </a:lnTo>
                  <a:arcTo wR="250033" hR="250033" stAng="0" swAng="5400000"/>
                  <a:lnTo>
                    <a:pt x="250033" y="500066"/>
                  </a:lnTo>
                  <a:arcTo wR="250033" hR="250033" stAng="5400000" swAng="5400000"/>
                  <a:close/>
                  <a:moveTo>
                    <a:pt x="125016" y="250033"/>
                  </a:moveTo>
                  <a:lnTo>
                    <a:pt x="125016" y="250033"/>
                  </a:lnTo>
                  <a:arcTo wR="125016" hR="125017" stAng="10800000" swAng="-5400000"/>
                  <a:lnTo>
                    <a:pt x="250032" y="375050"/>
                  </a:lnTo>
                  <a:arcTo wR="125016" hR="125017" stAng="5400000" swAng="-5400000"/>
                  <a:lnTo>
                    <a:pt x="375048" y="250033"/>
                  </a:lnTo>
                  <a:arcTo wR="125016" hR="125017" stAng="0" swAng="-5400000"/>
                  <a:lnTo>
                    <a:pt x="250032" y="125016"/>
                  </a:lnTo>
                  <a:arcTo wR="125016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Freeform 4"/>
            <p:cNvSpPr/>
            <p:nvPr/>
          </p:nvSpPr>
          <p:spPr>
            <a:xfrm>
              <a:off x="0" y="0"/>
              <a:ext cx="9144000" cy="68580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673920" y="640440"/>
              <a:ext cx="8047800" cy="5764680"/>
            </a:xfrm>
            <a:custGeom>
              <a:avLst/>
              <a:gdLst>
                <a:gd name="textAreaLeft" fmla="*/ 0 w 8047800"/>
                <a:gd name="textAreaRight" fmla="*/ 8048160 w 804780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40"/>
          <p:cNvSpPr/>
          <p:nvPr/>
        </p:nvSpPr>
        <p:spPr>
          <a:xfrm>
            <a:off x="5410080" y="838080"/>
            <a:ext cx="2895840" cy="137376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 относительн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5486400" y="2209680"/>
            <a:ext cx="28954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 относительно 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5638680" y="4952880"/>
            <a:ext cx="289584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ажир относительн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5562720" y="3657600"/>
            <a:ext cx="2895480" cy="137376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ажир относ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Движется или не движ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-2.59259E-006 L 1.48611 -0.00625 E">
                                      <p:cBhvr>
                                        <p:cTn id="6" dur="10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295 0.00115 L 1.48906 -0.0051 E">
                                      <p:cBhvr>
                                        <p:cTn id="8" dur="10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еханическое движение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84360" y="836640"/>
            <a:ext cx="388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изменение   положения тела  относительно других тел с течением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9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124000" cy="2317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063960" cy="2297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"/>
          <p:cNvPicPr/>
          <p:nvPr/>
        </p:nvPicPr>
        <p:blipFill>
          <a:blip r:embed="rId3"/>
          <a:stretch/>
        </p:blipFill>
        <p:spPr>
          <a:xfrm>
            <a:off x="539640" y="4437000"/>
            <a:ext cx="226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2995560" cy="209736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16"/>
          <p:cNvGrpSpPr/>
          <p:nvPr/>
        </p:nvGrpSpPr>
        <p:grpSpPr>
          <a:xfrm>
            <a:off x="7266240" y="-1264320"/>
            <a:ext cx="1371600" cy="2970720"/>
            <a:chOff x="7266240" y="-1264320"/>
            <a:chExt cx="1371600" cy="2970720"/>
          </a:xfrm>
        </p:grpSpPr>
        <p:sp>
          <p:nvSpPr>
            <p:cNvPr id="146" name="Капля 14"/>
            <p:cNvSpPr/>
            <p:nvPr/>
          </p:nvSpPr>
          <p:spPr>
            <a:xfrm rot="8145000">
              <a:off x="7470000" y="-1066320"/>
              <a:ext cx="963720" cy="976320"/>
            </a:xfrm>
            <a:custGeom>
              <a:avLst/>
              <a:gdLst>
                <a:gd name="textAreaLeft" fmla="*/ 141120 w 963720"/>
                <a:gd name="textAreaRight" fmla="*/ 822600 w 963720"/>
                <a:gd name="textAreaTop" fmla="*/ 142920 h 976320"/>
                <a:gd name="textAreaBottom" fmla="*/ 833400 h 976320"/>
              </a:gdLst>
              <a:ahLst/>
              <a:rect l="textAreaLeft" t="textAreaTop" r="textAreaRight" b="textAreaBottom"/>
              <a:pathLst>
                <a:path w="964248" h="976495">
                  <a:moveTo>
                    <a:pt x="0" y="488248"/>
                  </a:moveTo>
                  <a:lnTo>
                    <a:pt x="0" y="488248"/>
                  </a:lnTo>
                  <a:arcTo wR="482124" hR="488248" stAng="-10799993" swAng="5400000"/>
                  <a:lnTo>
                    <a:pt x="723186" y="0"/>
                  </a:lnTo>
                  <a:lnTo>
                    <a:pt x="964248" y="0"/>
                  </a:lnTo>
                  <a:lnTo>
                    <a:pt x="964248" y="366186"/>
                  </a:lnTo>
                  <a:arcTo wR="0" hR="122062" stAng="0" swAng="0"/>
                  <a:lnTo>
                    <a:pt x="893643" y="904994"/>
                  </a:lnTo>
                  <a:arcTo wR="-241062" hR="244124" stAng="2721695" swAng="108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8" descr="H:\Коллекция картинок1\j0356795.gif"/>
            <p:cNvPicPr/>
            <p:nvPr/>
          </p:nvPicPr>
          <p:blipFill>
            <a:blip r:embed="rId5"/>
            <a:stretch/>
          </p:blipFill>
          <p:spPr>
            <a:xfrm>
              <a:off x="7571160" y="335160"/>
              <a:ext cx="102816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Прямоугольник 16"/>
            <p:cNvSpPr/>
            <p:nvPr/>
          </p:nvSpPr>
          <p:spPr>
            <a:xfrm>
              <a:off x="7723080" y="1325520"/>
              <a:ext cx="76212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17"/>
            <p:cNvSpPr/>
            <p:nvPr/>
          </p:nvSpPr>
          <p:spPr>
            <a:xfrm>
              <a:off x="7466760" y="-588600"/>
              <a:ext cx="331560" cy="1914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Прямая со стрелкой 18"/>
            <p:cNvCxnSpPr>
              <a:stCxn id="146" idx="5"/>
            </p:cNvCxnSpPr>
            <p:nvPr/>
          </p:nvCxnSpPr>
          <p:spPr>
            <a:xfrm flipH="1">
              <a:off x="8408160" y="-569880"/>
              <a:ext cx="29160" cy="1896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p:transition spd="med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24976 L 0.00434 0.4482 E">
                                      <p:cBhvr>
                                        <p:cTn id="54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бы определить, движется тело или не движется, необходим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341360"/>
            <a:ext cx="83628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Выбрать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тело, относительно которого рассматривается движение – тело отсчё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1" descr="старт"/>
          <p:cNvPicPr/>
          <p:nvPr/>
        </p:nvPicPr>
        <p:blipFill>
          <a:blip r:embed="rId2"/>
          <a:srcRect l="0" t="2000" r="0" b="0"/>
          <a:stretch/>
        </p:blipFill>
        <p:spPr>
          <a:xfrm>
            <a:off x="250920" y="3338640"/>
            <a:ext cx="856908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1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бы определить, движется тело или не движется, необходим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341360"/>
            <a:ext cx="83628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Определить, изменяется ли положение рассматриваемого тела относительно тела отсчё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дв2"/>
          <p:cNvPicPr/>
          <p:nvPr/>
        </p:nvPicPr>
        <p:blipFill>
          <a:blip r:embed="rId2"/>
          <a:srcRect l="0" t="2000" r="0" b="0"/>
          <a:stretch/>
        </p:blipFill>
        <p:spPr>
          <a:xfrm>
            <a:off x="324000" y="3267000"/>
            <a:ext cx="84960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37r3"/>
          <p:cNvPicPr/>
          <p:nvPr/>
        </p:nvPicPr>
        <p:blipFill>
          <a:blip r:embed="rId1"/>
          <a:stretch/>
        </p:blipFill>
        <p:spPr>
          <a:xfrm>
            <a:off x="4067280" y="242100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0"/>
          <p:cNvSpPr/>
          <p:nvPr/>
        </p:nvSpPr>
        <p:spPr>
          <a:xfrm>
            <a:off x="1042920" y="1844640"/>
            <a:ext cx="7632720" cy="2664000"/>
          </a:xfrm>
          <a:custGeom>
            <a:avLst/>
            <a:gdLst>
              <a:gd name="textAreaLeft" fmla="*/ 1117440 w 7632720"/>
              <a:gd name="textAreaRight" fmla="*/ 6515280 w 7632720"/>
              <a:gd name="textAreaTop" fmla="*/ 389880 h 2664000"/>
              <a:gd name="textAreaBottom" fmla="*/ 227412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0" y="10800"/>
                </a:moveTo>
                <a:cubicBezTo>
                  <a:pt x="710" y="16373"/>
                  <a:pt x="5227" y="20890"/>
                  <a:pt x="10800" y="20890"/>
                </a:cubicBezTo>
                <a:cubicBezTo>
                  <a:pt x="16373" y="20890"/>
                  <a:pt x="20890" y="16373"/>
                  <a:pt x="20890" y="10800"/>
                </a:cubicBezTo>
                <a:cubicBezTo>
                  <a:pt x="20890" y="5227"/>
                  <a:pt x="16373" y="710"/>
                  <a:pt x="10800" y="710"/>
                </a:cubicBezTo>
                <a:cubicBezTo>
                  <a:pt x="5227" y="710"/>
                  <a:pt x="710" y="5227"/>
                  <a:pt x="7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tr00032_"/>
          <p:cNvPicPr/>
          <p:nvPr/>
        </p:nvPicPr>
        <p:blipFill>
          <a:blip r:embed="rId2"/>
          <a:stretch/>
        </p:blipFill>
        <p:spPr>
          <a:xfrm>
            <a:off x="395280" y="1916280"/>
            <a:ext cx="2525760" cy="2665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917280" y="40464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Движется ли город относительно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539640" y="4724280"/>
            <a:ext cx="82296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ханическое движение   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о т н о с и т е л ь н о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49000" y="981000"/>
            <a:ext cx="84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ак движется город  относительно Солн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Мама и дети идут по дорожке парка</a:t>
            </a:r>
            <a:r>
              <a:rPr b="1" i="1" lang="ru-RU" sz="29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2900"/>
            </a:b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Определите, какие тела совершают  в данный момент механическое движение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дв"/>
          <p:cNvPicPr/>
          <p:nvPr/>
        </p:nvPicPr>
        <p:blipFill>
          <a:blip r:embed="rId1"/>
          <a:stretch/>
        </p:blipFill>
        <p:spPr>
          <a:xfrm>
            <a:off x="755640" y="1773360"/>
            <a:ext cx="766764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j0212957"/>
          <p:cNvPicPr/>
          <p:nvPr/>
        </p:nvPicPr>
        <p:blipFill>
          <a:blip r:embed="rId1"/>
          <a:stretch/>
        </p:blipFill>
        <p:spPr>
          <a:xfrm rot="20999400">
            <a:off x="6732360" y="16999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раектория –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900000" y="2852640"/>
            <a:ext cx="6840720" cy="1297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4" descr="traektopiu.gif"/>
          <p:cNvPicPr/>
          <p:nvPr/>
        </p:nvPicPr>
        <p:blipFill>
          <a:blip r:embed="rId2"/>
          <a:stretch/>
        </p:blipFill>
        <p:spPr>
          <a:xfrm>
            <a:off x="5796000" y="3429000"/>
            <a:ext cx="220176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3419640" y="26028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иния, вдоль кот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вижется т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4798E-006 L -0.72447 0.17826 E">
                                      <p:cBhvr>
                                        <p:cTn id="11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21387E-006 L -0.72447 0.17827 E">
                                      <p:cBhvr>
                                        <p:cTn id="1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12:45:18Z</dcterms:created>
  <dc:creator>Сарахман И.Д.</dc:creator>
  <dc:description/>
  <dc:language>en-US</dc:language>
  <cp:lastModifiedBy>света</cp:lastModifiedBy>
  <dcterms:modified xsi:type="dcterms:W3CDTF">2013-10-09T08:28:01Z</dcterms:modified>
  <cp:revision>57</cp:revision>
  <dc:subject>Уроки физики в 7 классе</dc:subject>
  <dc:title>Слайд 1</dc:title>
</cp:coreProperties>
</file>