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641-2785-4E73-9223-59201F7D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B86-3111-4F05-BFE4-32EEB903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D7C-3499-490A-88E1-3D400170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95B-E8F6-4CCE-A800-49E44212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9FB5-C2B4-43B3-B9B2-B79A4CB0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1130-8C50-433D-ACE1-BB7E2158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A0BF-F940-4A56-8EC2-41677B9F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E47C-B352-428A-9CD9-B670D36F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7E1D-B61B-4A04-8FE6-019C5553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C7F1-C33D-455C-9B61-B127211A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53A4-1ED5-4CB4-AB91-68F7580A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54A-3892-46C2-9DB0-7CF439E0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8ED1-3A8F-49FA-8B43-F16BEBE2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2E64-EAB0-46A1-9932-98216DAC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4C56-36EF-4EE7-8596-85DE2FEC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AABB-051E-4AF1-80E4-4F18383E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5F3E-F4F7-4311-8BC2-DF4B7549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F96F-B711-4887-97A1-ABA9FFD6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F68B-4A0D-43F1-9A06-5542E972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7999-869C-460F-9FB2-F8A30894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AE67E-23A4-41D8-B4AD-1383D23D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B8978-4FF8-48A7-A2BB-A59DB0E8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040-C17B-4930-B4CF-3BF63AD1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E0BC6-D765-426B-9E5A-88AFEEA2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059D-D18C-4F9D-8DE8-9E263253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52B7-5EAC-447F-8DBA-85E462F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2966-9C0A-4C2D-94E0-3E3B8677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2A24-7BCA-4E76-AA0E-07D2BB32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2DB0D-848A-440C-A001-759E2B09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7EBD2-475A-4EA5-80A3-EC5AC1E7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27CD1-E3F2-4459-9973-186E8F6C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A00C-52C3-430B-B26A-352A527F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6EEDE-76B4-41AB-9F7D-C0716EF7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AD2-F37B-4C3B-9BBD-2B92B0DB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42377-7B44-4B4F-8D14-6F3FA6F6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94947-3F56-4E6E-9096-586AA895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979F7-AA94-4BF3-9666-C95B2DA4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E393B-C3AF-4A0D-9AEC-D3D108F5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0805A-2895-4B32-A03C-5B103451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18E9-173E-46DB-B855-5BA00F9A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7D6A4-DF36-44DE-8200-F344B17E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7911-0DE9-4539-8FA1-BC03C2DF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C454-F334-4657-8AA9-E56B7DC6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14A95-F4B0-40A6-B59C-19D83B4D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4C0-BCDA-49FD-8346-FB4E97FC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F8F40-FCB3-4499-86CF-0B484DC0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A05B8-E73D-4551-9D7B-0978B15A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D3A70-F61E-4D8C-8386-151938DD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E4B0B-A851-40B7-8090-43EAABB5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2C88A-3F2E-4411-8F92-079AD6B6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86732-6AAF-4A01-9E5F-63576F20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38E39-C35B-483B-AC95-FF9C557F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404AE-E1D2-4354-9B68-761FCEEC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B38F7-3811-47BC-BF5C-05F2A1ED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25C1D-19EB-4E17-A762-C8A247B3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698-EDE4-4716-845E-BC99B654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6F29F-E389-4F7F-9D46-EFC3A78D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A44-9F89-44A8-97DB-951830A0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373-010D-4CA9-99E9-CE1ADB25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297-B4D1-4C49-A321-72146152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7790-CB28-4579-845B-7E8D556236B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B3BD-526A-4E63-B2D0-31BBEE689A8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2415-D7DC-4EE3-BE06-7E77E2AEA87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319B-CBDF-4B76-AF6F-F3102E52E2CB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49FE-4444-4E71-AC5C-A3D081BFA62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2924280"/>
            <a:ext cx="7439040" cy="12031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Franklin Gothic Medium"/>
              </a:rPr>
              <a:t>ОРГАНИЗАЦИЯ</a:t>
            </a:r>
            <a:r>
              <a:rPr b="0" lang="ru-RU" sz="5400" spc="-1" strike="noStrike">
                <a:solidFill>
                  <a:srgbClr val="7030a0"/>
                </a:solidFill>
                <a:latin typeface="Franklin Gothic Medium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Franklin Gothic Medium"/>
              </a:rPr>
              <a:t>СЕМЕЙНЫХ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58560" y="4292280"/>
            <a:ext cx="6512040" cy="7714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Franklin Gothic Book"/>
                <a:ea typeface="Tunga"/>
              </a:rPr>
              <a:t>ПРАЗДНИКОВ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25560" y="9360"/>
            <a:ext cx="3322440" cy="2535480"/>
          </a:xfrm>
          <a:prstGeom prst="rect">
            <a:avLst/>
          </a:prstGeom>
          <a:ln w="0">
            <a:noFill/>
          </a:ln>
        </p:spPr>
      </p:pic>
      <p:sp>
        <p:nvSpPr>
          <p:cNvPr id="218" name="Содержимое 2"/>
          <p:cNvSpPr/>
          <p:nvPr/>
        </p:nvSpPr>
        <p:spPr>
          <a:xfrm>
            <a:off x="3635280" y="189000"/>
            <a:ext cx="534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rmAutofit fontScale="88000"/>
          </a:bodyPr>
          <a:p>
            <a:pPr algn="just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ЕСЛИ ЛЮДИ САМИ НЕ УМЕЮТ ЛЕТАТЬ, ПУСТЬ НАУЧАТ ЛЕТАТЬ СВОИХ ДЕТЕЙ. ПРИТОМ ЛЕТАТЬ ВЫСОКО, СТРЕМИТЕЛЬНО, ДАЛЕКО, КРАСИВО. И НАСТАНЕТ СРОК, КОГДА ДЕТИ РАСКРОЮТ КРЫЛЬЯ И ВЗЛЕТЯТ. ПУСТЬ ВЗРОСЛЫЕ ПРОСТО ПОСЛЕДУЮТ ЗА ДЕТЬМИ, ЧТОБЫ УБЕРЕЧЬ ИХ ОТ ПАДЕНИЯ. И ТОГДА ОБНАРУЖАТ, ЧТО, ОКАЗЫВАЕТСЯ, ОНИ ТОЖЕ ЛЕТЯТ..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ШАЛВА АМОНАШВ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3924360" y="558972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18 имени В.Я.Алекс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ьцова Валент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0920" y="1125360"/>
            <a:ext cx="8064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уализация семейных ценносте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Создание условий для взаимодействия взрослых и дете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Содействие повышению педагогической культуры родителей через организацию интерактивных форм сотрудничества в триаде «учитель – ученик - родитель» во внеурочной деятельност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Выявление и распространение положительного опыта семейных взаимоотношени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Создание ситуации успеха для каждого ребенка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Воспитание в детях чувства уважения к взрослым, ответственности и самостоятельност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Franklin Gothic Medium"/>
              </a:rPr>
              <a:t>ЭТАПЫ РАБОТЫ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9280" y="642960"/>
          <a:ext cx="8821800" cy="5948280"/>
        </p:xfrm>
        <a:graphic>
          <a:graphicData uri="http://schemas.openxmlformats.org/drawingml/2006/table">
            <a:tbl>
              <a:tblPr/>
              <a:tblGrid>
                <a:gridCol w="2089080"/>
                <a:gridCol w="3672000"/>
                <a:gridCol w="3060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с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. Мотивационный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ой прием работы: рассказ педагога из личного опыта по данной те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: заинтересовать детей на предстоящий праздн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форма работы: консультация с родител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: показать роль родителей на праздни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16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. Организационно – педагогическая 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выстав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 приглаш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готовление сувениров для г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ка концертных номеров по данной те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кетирование родителей (Цель: помочь родителям определить успешный для них вид деятельности на праздник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28760" y="2214720"/>
          <a:ext cx="8286480" cy="3765240"/>
        </p:xfrm>
        <a:graphic>
          <a:graphicData uri="http://schemas.openxmlformats.org/drawingml/2006/table">
            <a:tbl>
              <a:tblPr/>
              <a:tblGrid>
                <a:gridCol w="2286000"/>
                <a:gridCol w="3152520"/>
                <a:gridCol w="284796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Коррекция и контроль достижения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ем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венного напоми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черкнутого дове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ть условия для взаимодействия взрослого с ребенк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Анализ выполнения обязанностей по организации праздн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: определить, что получилось хорошо, выявить отрицательные моменты как задачу на следующий праздн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ой прием-бесе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: сделать родителей единомышленниками в вопросах воспитания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28760" y="477720"/>
          <a:ext cx="8286480" cy="1737000"/>
        </p:xfrm>
        <a:graphic>
          <a:graphicData uri="http://schemas.openxmlformats.org/drawingml/2006/table">
            <a:tbl>
              <a:tblPr/>
              <a:tblGrid>
                <a:gridCol w="2290680"/>
                <a:gridCol w="3147840"/>
                <a:gridCol w="284796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рганизационно – педагоги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ование с детьми работы по организации праздн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еделение обязан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кция для родителей (Цель: определить моменты поведения родителей на праздник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79a3"/>
                </a:solidFill>
                <a:latin typeface="Franklin Gothic Medium"/>
              </a:rPr>
              <a:t>ВЫВОДЫ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Активное участие в праздниках помогает родителям по-новому взглянуть и на своего ребенка, и на сам процесс  образования в целом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Участие помогает им: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взглянуть на мир с позиции ребенка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относиться к ребенку как к равному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понять, что недопустимо сравнивать ребенка с другими детьми, радоваться его личному росту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знать сильные и слабые стороны ребенка и учитывать их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проявлять искреннюю заинтересованность в его действиях и быть готовым к поддержке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установить хорошие, доверительные отношения с ребенком;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4c25"/>
                </a:solidFill>
                <a:latin typeface="Franklin Gothic Book"/>
              </a:rPr>
              <a:t>- развивать способности своего ребенка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7:51:41Z</dcterms:created>
  <dc:creator>Admin</dc:creator>
  <dc:description/>
  <dc:language>en-US</dc:language>
  <cp:lastModifiedBy>User</cp:lastModifiedBy>
  <dcterms:modified xsi:type="dcterms:W3CDTF">2014-12-13T16:28:11Z</dcterms:modified>
  <cp:revision>48</cp:revision>
  <dc:subject/>
  <dc:title>Роль системного взаимодействия с родителями в организации сопровождения развивающихся способностей учащихся начальной школы.</dc:title>
</cp:coreProperties>
</file>