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03D-3E77-474E-92FE-60BC832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7FE-AD32-4331-A36B-DC8F469C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30B-4A82-4A04-BBDE-0D60ECEB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050-D886-4DA8-BAF6-59E7966C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FB8-515F-4852-A26D-3C72A500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6CC0-7C2A-49A9-8F7A-8BBCE8B1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94AE-6C56-4406-B7A2-7A8AE953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ACAA-8184-4977-8412-9C6F4862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6F51-C008-4357-A369-EDBF72B0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1233-3EA6-4B0F-86F5-A3A70E90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70EE-A38E-42A8-B6B3-2C77756B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561-2987-4463-B276-43FBEBB8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FC60-1283-4EE6-834A-E12103E9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87C-0EAE-461A-8207-485D6A2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4068-1F67-4E90-957C-42723C0C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7173-D850-4E5D-A003-0BE6908C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6E7-5402-4E14-AE08-E337B96D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A3EE-4427-474A-862D-9CDF50AA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17E6-8ED9-4399-B49E-DF02D0D6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2EE3-58CA-430B-A25D-19A0094C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1AD9-3911-4B11-B914-49EF5319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4FC5-D606-456D-AA36-D5C0A47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D46-0C7A-43E9-8753-8F51C56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0892-1B6C-4A24-96D1-6E88F60D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E79A-6AE8-4337-A578-2D3A055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50D3-026A-4D84-9B7B-E14B80F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05E1-EB13-4446-AD3D-C9D7B3E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C507-4B7B-43F8-97A7-7F4E055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7F4A-25AF-472E-BBF6-7486202F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73E9-B03A-400F-B313-C9EBD504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AC14-DE7D-44AB-8618-12E3FD60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AFF6-3B6B-4A79-9555-6EFBC60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2E99-D669-4BE8-908E-77F3EB56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768-8034-494C-B7D4-93BE674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D9F4-C15A-4078-8FF3-4D6498D9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1ECF-4EDD-48A1-8D78-9275920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2C13-DDAB-40D7-B47D-242D7361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4B2A-1484-4074-9E0F-E4A464F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8CBD-02F7-475C-B111-01B035C5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20EB-F959-45BF-B61C-FB16502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79B1-0108-4F59-8B44-A8454BEB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1D57-B02E-4A21-B4A1-D1C14610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8347-1699-4114-A7A0-B2BAE2B5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59D5-D7CD-4A23-8CBD-40059928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CF6-D87A-40E3-A2C3-5512736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222BC-AA9D-4525-ADE9-E4019DF5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743C-081D-4136-B54B-11A27A7D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0C9A-AD24-4DE7-B28A-2A9F5F64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3C49-690E-454E-9B09-A83E70CF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BF63-32D2-446E-9D0A-AC599C33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B809-21BF-4264-9371-5AC8714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7FB1-8B65-4CFF-8657-07F42E4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4056-995A-4F2E-A6E3-F87923D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AFCF5-4A2F-4C0C-8E43-37469143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BF70-C8D0-47BA-B31D-2C181072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C03-9739-4D30-8A84-CDB039B5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3FA0F-DB4D-48F3-ADA6-3D4C7CBB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67B-BDA8-48DE-996A-9842E273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09D-E805-4B19-9F70-83DF1FF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BDB-2448-4FAE-988E-C07DE1E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E86C-2251-4089-B15D-87702A76F18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81E-68A2-4DEB-9E8F-C792F26B208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AE9D-7B57-4AD8-95FA-263D0B4E99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EA9C-3D6D-434E-A5B0-9314FBDD377A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425E-C439-4574-BD40-10408093767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2924280"/>
            <a:ext cx="7439040" cy="12031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Franklin Gothic Medium"/>
              </a:rPr>
              <a:t>ОРГАНИЗАЦИЯ</a:t>
            </a:r>
            <a:r>
              <a:rPr b="0" lang="ru-RU" sz="5400" spc="-1" strike="noStrike">
                <a:solidFill>
                  <a:srgbClr val="7030a0"/>
                </a:solidFill>
                <a:latin typeface="Franklin Gothic Medium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Franklin Gothic Medium"/>
              </a:rPr>
              <a:t>СЕМЕЙНЫХ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58560" y="4292280"/>
            <a:ext cx="6512040" cy="7714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Franklin Gothic Book"/>
                <a:ea typeface="Tunga"/>
              </a:rPr>
              <a:t>ПРАЗДНИКОВ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5560" y="9360"/>
            <a:ext cx="3322440" cy="2535480"/>
          </a:xfrm>
          <a:prstGeom prst="rect">
            <a:avLst/>
          </a:prstGeom>
          <a:ln w="0">
            <a:noFill/>
          </a:ln>
        </p:spPr>
      </p:pic>
      <p:sp>
        <p:nvSpPr>
          <p:cNvPr id="218" name="Содержимое 2"/>
          <p:cNvSpPr/>
          <p:nvPr/>
        </p:nvSpPr>
        <p:spPr>
          <a:xfrm>
            <a:off x="3635280" y="189000"/>
            <a:ext cx="534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rmAutofit fontScale="88000"/>
          </a:bodyPr>
          <a:p>
            <a:pPr algn="just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ЕСЛИ ЛЮДИ САМИ НЕ УМЕЮТ ЛЕТАТЬ, ПУСТЬ НАУЧАТ ЛЕТАТЬ СВОИХ ДЕТЕЙ. ПРИТОМ ЛЕТАТЬ ВЫСОКО, СТРЕМИТЕЛЬНО, ДАЛЕКО, КРАСИВО. И НАСТАНЕТ СРОК, КОГДА ДЕТИ РАСКРОЮТ КРЫЛЬЯ И ВЗЛЕТЯТ. ПУСТЬ ВЗРОСЛЫЕ ПРОСТО ПОСЛЕДУЮТ ЗА ДЕТЬМИ, ЧТОБЫ УБЕРЕЧЬ ИХ ОТ ПАДЕНИЯ. И ТОГДА ОБНАРУЖАТ, ЧТО, ОКАЗЫВАЕТСЯ, ОНИ ТОЖЕ ЛЕТЯТ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ШАЛВА АМОНАШВ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924360" y="5589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18 имени В.Я.Алекс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цова Валент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092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изация семейных ценносте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оздание условий для взаимодействия взрослых и дете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Содействие повышению педагогической культуры родителей через организацию интерактивных форм сотрудничества в триаде «учитель – ученик - родитель» во внеурочной деятельност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Выявление и распространение положительного опыта семейных взаимоотношени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Создание ситуации успеха для каждого ребенка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Воспитание в детях чувства уважения к взрослым, ответственности и самостоятельност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Franklin Gothic Medium"/>
              </a:rPr>
              <a:t>ЭТАПЫ РАБОТ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642960"/>
          <a:ext cx="8821800" cy="5948280"/>
        </p:xfrm>
        <a:graphic>
          <a:graphicData uri="http://schemas.openxmlformats.org/drawingml/2006/table">
            <a:tbl>
              <a:tblPr/>
              <a:tblGrid>
                <a:gridCol w="2089080"/>
                <a:gridCol w="3672000"/>
                <a:gridCol w="3060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. Мотивацион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прием работы: рассказ педагога из личного опыта по данной те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заинтересовать детей на предстоящий празд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форма работы: консультация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показать роль родителей на празд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16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. Организационно – педагогическая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выстав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приглаш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готовление сувениров для г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онцертных номеров по данной те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ирование родителей (Цель: помочь родителям определить успешный для них вид деятельности на праздник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28760" y="2214720"/>
          <a:ext cx="8286480" cy="3765240"/>
        </p:xfrm>
        <a:graphic>
          <a:graphicData uri="http://schemas.openxmlformats.org/drawingml/2006/table">
            <a:tbl>
              <a:tblPr/>
              <a:tblGrid>
                <a:gridCol w="2286000"/>
                <a:gridCol w="3152520"/>
                <a:gridCol w="284796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Коррекция и контроль достижения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ем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ого напоми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еркнутого дове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ть условия для взаимодействия взрослого с ребен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Анализ выполнения обязанностей по организации праздн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определить, что получилось хорошо, выявить отрицательные моменты как задачу на следующий празд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прием-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сделать родителей единомышленниками в вопросах воспитан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28760" y="477720"/>
          <a:ext cx="8286480" cy="1737000"/>
        </p:xfrm>
        <a:graphic>
          <a:graphicData uri="http://schemas.openxmlformats.org/drawingml/2006/table">
            <a:tbl>
              <a:tblPr/>
              <a:tblGrid>
                <a:gridCol w="2290680"/>
                <a:gridCol w="3147840"/>
                <a:gridCol w="284796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рганизационно – педагоги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 с детьми работы по организации празд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обяза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ия для родителей (Цель: определить моменты поведения родителей на праздник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79a3"/>
                </a:solidFill>
                <a:latin typeface="Franklin Gothic Medium"/>
              </a:rPr>
              <a:t>ВЫВОДЫ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Активное участие в праздниках помогает родителям по-новому взглянуть и на своего ребенка, и на сам процесс  образования в целом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Участие помогает им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взглянуть на мир с позиции ребенка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относиться к ребенку как к равному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понять, что недопустимо сравнивать ребенка с другими детьми, радоваться его личному росту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знать сильные и слабые стороны ребенка и учитывать их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проявлять искреннюю заинтересованность в его действиях и быть готовым к поддержке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установить хорошие, доверительные отношения с ребенком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развивать способности своего ребенка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7:51:41Z</dcterms:created>
  <dc:creator>Admin</dc:creator>
  <dc:description/>
  <dc:language>en-US</dc:language>
  <cp:lastModifiedBy>User</cp:lastModifiedBy>
  <dcterms:modified xsi:type="dcterms:W3CDTF">2014-12-13T16:28:11Z</dcterms:modified>
  <cp:revision>48</cp:revision>
  <dc:subject/>
  <dc:title>Роль системного взаимодействия с родителями в организации сопровождения развивающихся способностей учащихся начальной школы.</dc:title>
</cp:coreProperties>
</file>