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E11-8309-49C9-AC59-8F136263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424-629A-4BEC-BFBF-5E28EFB9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DA7-96D0-483E-B0EC-FBE801AA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66F-B403-4D56-AC2B-945FBEA2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AF2D-5EBD-47AB-AFF7-FA937E2A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E78-0F14-48D0-AB80-5C6A47C9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1B19-6A01-4C6F-9F53-5BF58401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60B5-6534-4D3D-B760-5F394F18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CA24-B646-452F-A695-347D740E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B1D1-C5F0-437B-A569-E7F8F8EE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501D-242A-45E7-A15A-D43064EF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239-4211-4F7F-B453-3F7DF931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2D5B-AABB-49F9-B2E7-19F5AA96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72DE-3402-49D5-8E07-8179753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541D-E028-4577-8807-4F10DA6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F9E6-3CFB-4DB4-BB40-8B36244B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4E4B-3AEB-4D90-95AB-6C7E50D2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3A4-36E2-4FC1-8827-6AF00866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7A0-8906-4DC1-B6F4-2DA1DACC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DB2-7DA5-4CD0-8FBB-ECFAF9D9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1E9-D22D-49DF-8783-31298312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368-C0A7-4EC7-A9F1-B3442A20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56A-6944-4F1E-A3F2-DEACA6B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488-F5A3-47DB-AAD0-60F1035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eceaa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1a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26BE-E1B4-41D6-9895-FA24E62DE03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eceaa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1afb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F4E2-3E96-4E87-AE32-C9726827F08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00" name="Picture 4" descr="bd06220_"/>
          <p:cNvPicPr/>
          <p:nvPr/>
        </p:nvPicPr>
        <p:blipFill>
          <a:blip r:embed="rId1"/>
          <a:stretch/>
        </p:blipFill>
        <p:spPr>
          <a:xfrm>
            <a:off x="1928880" y="404640"/>
            <a:ext cx="5235480" cy="606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833040"/>
            <a:ext cx="5797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5f7b"/>
                </a:solidFill>
                <a:latin typeface="Tahoma"/>
              </a:rPr>
              <a:t>Влияние концентрации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6988680" y="236520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Петер Вааг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" descr="C:\Users\Роман.123456789\Downloads\Waage.jpg"/>
          <p:cNvPicPr/>
          <p:nvPr/>
        </p:nvPicPr>
        <p:blipFill>
          <a:blip r:embed="rId1"/>
          <a:stretch/>
        </p:blipFill>
        <p:spPr>
          <a:xfrm>
            <a:off x="7227720" y="460440"/>
            <a:ext cx="1524240" cy="19047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"/>
          <p:cNvSpPr/>
          <p:nvPr/>
        </p:nvSpPr>
        <p:spPr>
          <a:xfrm>
            <a:off x="611280" y="4149720"/>
            <a:ext cx="68040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m</a:t>
            </a:r>
            <a:r>
              <a:rPr b="1" lang="ru-RU" sz="3200" spc="-1" strike="noStrike">
                <a:solidFill>
                  <a:srgbClr val="808080"/>
                </a:solidFill>
                <a:latin typeface="Tahoma"/>
              </a:rPr>
              <a:t>А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  +  nB  =  A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B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1" lang="ar-SA" sz="3200" spc="-1" strike="noStrike">
                <a:solidFill>
                  <a:srgbClr val="ff3300"/>
                </a:solidFill>
                <a:latin typeface="Tahoma"/>
              </a:rPr>
              <a:t>٠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С</a:t>
            </a:r>
            <a:r>
              <a:rPr b="1" lang="ru-RU" sz="3200" spc="-1" strike="noStrike" baseline="-25000">
                <a:solidFill>
                  <a:srgbClr val="ff3300"/>
                </a:solidFill>
                <a:latin typeface="Tahoma"/>
              </a:rPr>
              <a:t>А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ahoma"/>
              </a:rPr>
              <a:t>m</a:t>
            </a:r>
            <a:r>
              <a:rPr b="1" lang="ar-SA" sz="3200" spc="-1" strike="noStrike">
                <a:solidFill>
                  <a:srgbClr val="ff3300"/>
                </a:solidFill>
                <a:latin typeface="Tahoma"/>
              </a:rPr>
              <a:t>٠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– константа скорости реак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   при с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А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= с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= 1 моль/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 с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А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٠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= 1 моль/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– зависит от природы реагирующих веществ и от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684360" y="1865160"/>
            <a:ext cx="6011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корость химической реакции пропорциональна произведению концентраций реагирующих веществ, взятых в степени стехиометрических</a:t>
            </a: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эффициен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"/>
          <p:cNvPicPr/>
          <p:nvPr/>
        </p:nvPicPr>
        <p:blipFill>
          <a:blip r:embed="rId3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5797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5f7b"/>
                </a:solidFill>
                <a:latin typeface="Tahoma"/>
              </a:rPr>
              <a:t>Влияние температуры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1040" y="2825640"/>
            <a:ext cx="712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о Вант-Гофф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При нагревании системы на </a:t>
            </a: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10 ˚С</a:t>
            </a: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скорость реакции возрастает в </a:t>
            </a: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2-4</a:t>
            </a: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 ра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1760" y="4724280"/>
            <a:ext cx="39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мпературный коэффициен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нт-Гофф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" descr="van__t_hoff"/>
          <p:cNvPicPr/>
          <p:nvPr/>
        </p:nvPicPr>
        <p:blipFill>
          <a:blip r:embed="rId1"/>
          <a:stretch/>
        </p:blipFill>
        <p:spPr>
          <a:xfrm>
            <a:off x="7308720" y="476280"/>
            <a:ext cx="1303560" cy="1942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Text Box 17"/>
          <p:cNvSpPr/>
          <p:nvPr/>
        </p:nvSpPr>
        <p:spPr>
          <a:xfrm>
            <a:off x="6983640" y="23652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Якоб Вант-Гоф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(1852-191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2" descr="градусник"/>
          <p:cNvPicPr/>
          <p:nvPr/>
        </p:nvPicPr>
        <p:blipFill>
          <a:blip r:embed="rId2"/>
          <a:stretch/>
        </p:blipFill>
        <p:spPr>
          <a:xfrm>
            <a:off x="97164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5"/>
              <p:cNvSpPr txBox="1"/>
              <p:nvPr/>
            </p:nvSpPr>
            <p:spPr>
              <a:xfrm>
                <a:off x="4446720" y="4210200"/>
                <a:ext cx="259236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p>
                              <m:e>
                                <m:r>
                                  <m:t xml:space="preserve">Δt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39" name="Рисунок 2" descr=""/>
          <p:cNvPicPr/>
          <p:nvPr/>
        </p:nvPicPr>
        <p:blipFill>
          <a:blip r:embed="rId3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Comic Sans MS"/>
              </a:rPr>
              <a:t>Выполним  тест</a:t>
            </a:r>
            <a:endParaRPr b="0" lang="en-US" sz="72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41" name="Объект 1" descr=""/>
          <p:cNvPicPr/>
          <p:nvPr/>
        </p:nvPicPr>
        <p:blipFill>
          <a:blip r:embed="rId1"/>
          <a:stretch/>
        </p:blipFill>
        <p:spPr>
          <a:xfrm>
            <a:off x="3313080" y="2017800"/>
            <a:ext cx="35114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 – 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 – 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 – 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4 – 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5 – Б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Эталон ответов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44" name="Рисунок 2" descr=""/>
          <p:cNvPicPr/>
          <p:nvPr/>
        </p:nvPicPr>
        <p:blipFill>
          <a:blip r:embed="rId1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46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Теперь к вопросам ЕГЭ!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49" name="Picture 6" descr="ege"/>
          <p:cNvPicPr/>
          <p:nvPr/>
        </p:nvPicPr>
        <p:blipFill>
          <a:blip r:embed="rId1"/>
          <a:stretch/>
        </p:blipFill>
        <p:spPr>
          <a:xfrm>
            <a:off x="1619280" y="2133720"/>
            <a:ext cx="5832360" cy="413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15f7b"/>
                </a:solidFill>
                <a:latin typeface="Comic Sans MS"/>
              </a:rPr>
              <a:t>A20-20</a:t>
            </a:r>
            <a:r>
              <a:rPr b="1" lang="ru-RU" sz="4400" spc="-1" strike="noStrike">
                <a:solidFill>
                  <a:srgbClr val="515f7b"/>
                </a:solidFill>
                <a:latin typeface="Comic Sans MS"/>
              </a:rPr>
              <a:t>15</a:t>
            </a:r>
            <a:r>
              <a:rPr b="1" lang="en-US" sz="4400" spc="-1" strike="noStrike">
                <a:solidFill>
                  <a:srgbClr val="515f7b"/>
                </a:solidFill>
                <a:latin typeface="Comic Sans MS"/>
              </a:rPr>
              <a:t>-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ahoma"/>
              </a:rPr>
              <a:t>На скорость химической реакции между раствором серной кислоты и железом не оказывает влия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) концентрация кисл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) измельчение желе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) температура реа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4) увеличение д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20-20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15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-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Для увеличения скорости химической реакци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Arial"/>
              </a:rPr>
              <a:t>Mg (</a:t>
            </a:r>
            <a:r>
              <a:rPr b="1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тв.) + 2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Arial"/>
              </a:rPr>
              <a:t>H</a:t>
            </a:r>
            <a:r>
              <a:rPr b="1" lang="en-US" sz="30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+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Arial"/>
              </a:rPr>
              <a:t> = Mg</a:t>
            </a:r>
            <a:r>
              <a:rPr b="1" lang="en-US" sz="30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+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Arial"/>
              </a:rPr>
              <a:t> + H</a:t>
            </a:r>
            <a:r>
              <a:rPr b="1" lang="en-US" sz="3000" spc="-1" strike="noStrike" baseline="-25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1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(г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необходимо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ить несколько кусочков маг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увеличить концентрацию ионов водор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) уменьшить температур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увеличить концентрацию ионов маг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20-20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15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-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 </a:t>
            </a: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наибольшей скоростью при обычных условиях протекает реак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) </a:t>
            </a:r>
            <a:r>
              <a:rPr b="1" lang="ru-RU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Ba + O</a:t>
            </a:r>
            <a:r>
              <a:rPr b="1" lang="en-US" sz="34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2BaO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) Ba</a:t>
            </a:r>
            <a:r>
              <a:rPr b="1" lang="en-US" sz="34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2+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+ CO</a:t>
            </a:r>
            <a:r>
              <a:rPr b="1" lang="en-US" sz="34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3</a:t>
            </a:r>
            <a:r>
              <a:rPr b="1" lang="en-US" sz="34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2- 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= BaCO</a:t>
            </a:r>
            <a:r>
              <a:rPr b="1" lang="en-US" sz="34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3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↓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) Ba + 2H</a:t>
            </a:r>
            <a:r>
              <a:rPr b="1" lang="en-US" sz="34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+ 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Ba</a:t>
            </a:r>
            <a:r>
              <a:rPr b="1" lang="en-US" sz="34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2+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+ H</a:t>
            </a:r>
            <a:r>
              <a:rPr b="1" lang="en-US" sz="34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4) Ba + S = Ba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20-20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15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-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Для увеличения скорости реакц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CO + O</a:t>
            </a:r>
            <a:r>
              <a:rPr b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= 2CO</a:t>
            </a:r>
            <a:r>
              <a:rPr b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обходим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)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величить концентрацию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)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меньшить концентрацию 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)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низить дав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4)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низить температу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15f7b"/>
                </a:solidFill>
                <a:latin typeface="Tahoma"/>
              </a:rPr>
              <a:t>Скорость химических реакций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19040" y="4581360"/>
            <a:ext cx="54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5f7b"/>
                </a:solidFill>
                <a:latin typeface="Tahoma"/>
              </a:rPr>
              <a:t>Химическая кинетика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 изучает скор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и механизмы химических реакц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FG21_01ab"/>
          <p:cNvPicPr/>
          <p:nvPr/>
        </p:nvPicPr>
        <p:blipFill>
          <a:blip r:embed="rId1"/>
          <a:stretch/>
        </p:blipFill>
        <p:spPr>
          <a:xfrm>
            <a:off x="6516720" y="3933720"/>
            <a:ext cx="2276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20-20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15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Tahoma"/>
              </a:rPr>
              <a:t>Для увеличения скорости реакции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Zn </a:t>
            </a:r>
            <a:r>
              <a:rPr b="1" lang="ru-RU" sz="3000" spc="-1" strike="noStrike">
                <a:solidFill>
                  <a:srgbClr val="003399"/>
                </a:solidFill>
                <a:latin typeface="Tahoma"/>
              </a:rPr>
              <a:t>(тв.) + 2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H</a:t>
            </a:r>
            <a:r>
              <a:rPr b="1" lang="en-US" sz="3000" spc="-1" strike="noStrike" baseline="30000">
                <a:solidFill>
                  <a:srgbClr val="003399"/>
                </a:solidFill>
                <a:latin typeface="Tahoma"/>
              </a:rPr>
              <a:t>+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 = Zn</a:t>
            </a:r>
            <a:r>
              <a:rPr b="1" lang="en-US" sz="3000" spc="-1" strike="noStrike" baseline="30000">
                <a:solidFill>
                  <a:srgbClr val="003399"/>
                </a:solidFill>
                <a:latin typeface="Tahoma"/>
              </a:rPr>
              <a:t>2+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 + H</a:t>
            </a:r>
            <a:r>
              <a:rPr b="1" lang="en-US" sz="3000" spc="-1" strike="noStrike" baseline="-25000">
                <a:solidFill>
                  <a:srgbClr val="003399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(</a:t>
            </a:r>
            <a:r>
              <a:rPr b="1" lang="ru-RU" sz="3000" spc="-1" strike="noStrike">
                <a:solidFill>
                  <a:srgbClr val="003399"/>
                </a:solidFill>
                <a:latin typeface="Tahoma"/>
              </a:rPr>
              <a:t>г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обходимо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)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меньшить концентрацию ионов ци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2)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величить концентрацию ионов водор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3)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меньшить температур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4)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величить концентрацию ионов ци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Рисунок 2" descr=""/>
          <p:cNvPicPr/>
          <p:nvPr/>
        </p:nvPicPr>
        <p:blipFill>
          <a:blip r:embed="rId1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15f7b"/>
                </a:solidFill>
                <a:latin typeface="Tahoma"/>
              </a:rPr>
              <a:t>Спасибо  за  урок!</a:t>
            </a:r>
            <a:endParaRPr b="0" lang="en-US" sz="6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1150920" y="1773360"/>
            <a:ext cx="648036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05" name="SKOLKOVO's 5-year History.mp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07" name="Picture 4" descr="bd06220_"/>
          <p:cNvPicPr/>
          <p:nvPr/>
        </p:nvPicPr>
        <p:blipFill>
          <a:blip r:embed="rId1"/>
          <a:stretch/>
        </p:blipFill>
        <p:spPr>
          <a:xfrm>
            <a:off x="1928880" y="404640"/>
            <a:ext cx="5235480" cy="606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15f7b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-760680" y="2276640"/>
            <a:ext cx="1056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Дать определение понятию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«Скорость химической реакции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2. Экспериментально выяснить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какие факторы влияют на скорост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химических реакци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703440" y="25336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Tahoma"/>
              </a:rPr>
              <a:t>A  +  B  = </a:t>
            </a:r>
            <a:r>
              <a:rPr b="1" lang="ru-RU" sz="7200" spc="-1" strike="noStrike">
                <a:solidFill>
                  <a:srgbClr val="663300"/>
                </a:solidFill>
                <a:latin typeface="Tahoma"/>
              </a:rPr>
              <a:t>С</a:t>
            </a:r>
            <a:r>
              <a:rPr b="1" lang="en-US" sz="7200" spc="-1" strike="noStrike">
                <a:solidFill>
                  <a:srgbClr val="663300"/>
                </a:solidFill>
                <a:latin typeface="Tahoma"/>
              </a:rPr>
              <a:t> + D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Левая фигурная скобка 4"/>
          <p:cNvSpPr/>
          <p:nvPr/>
        </p:nvSpPr>
        <p:spPr>
          <a:xfrm rot="16200000">
            <a:off x="2219040" y="2293560"/>
            <a:ext cx="360360" cy="32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240000"/>
              <a:gd name="textAreaBottom" fmla="*/ 323064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ac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Левая фигурная скобка 5"/>
          <p:cNvSpPr/>
          <p:nvPr/>
        </p:nvSpPr>
        <p:spPr>
          <a:xfrm rot="16200000">
            <a:off x="6516720" y="2293560"/>
            <a:ext cx="360360" cy="324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240360"/>
              <a:gd name="textAreaBottom" fmla="*/ 32310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ac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779400" y="41702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ходные веще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003640" y="41702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дукты реак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корость химических реакций -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11280" y="2492280"/>
            <a:ext cx="779292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15f7b"/>
                </a:solidFill>
                <a:latin typeface="Tahoma"/>
              </a:rPr>
              <a:t>это изменение концентрации одного из реагирующих веществ или одного из продуктов реакции в единицу времен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792920" cy="5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5f7b"/>
                </a:solidFill>
                <a:latin typeface="Tahoma"/>
              </a:rPr>
              <a:t>Скорость химических реакций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2"/>
              <p:cNvSpPr txBox="1"/>
              <p:nvPr/>
            </p:nvSpPr>
            <p:spPr>
              <a:xfrm>
                <a:off x="2855880" y="2205000"/>
                <a:ext cx="3228840" cy="27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c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Факторы, от которых зависит скорость реакции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77240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рирода реагирующих вещест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Концентрация веществ в систем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Площадь поверхности (для гетерогенных систе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ahoma"/>
              </a:rPr>
              <a:t>Темпера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Наличие катализато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Рисунок 2" descr=""/>
          <p:cNvPicPr/>
          <p:nvPr/>
        </p:nvPicPr>
        <p:blipFill>
          <a:blip r:embed="rId1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33:30Z</dcterms:created>
  <dc:creator/>
  <dc:description/>
  <dc:language>en-US</dc:language>
  <cp:lastModifiedBy>User</cp:lastModifiedBy>
  <dcterms:modified xsi:type="dcterms:W3CDTF">2015-01-27T19:55:21Z</dcterms:modified>
  <cp:revision>99</cp:revision>
  <dc:subject/>
  <dc:title>Скорость химических реакций</dc:title>
</cp:coreProperties>
</file>