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2BA1-B29A-4C91-AF7E-E0CD755CD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4828-586A-4430-B9CE-638D20F5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C28F-BC61-4DC2-9A5F-0744DF47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7435-9873-4E85-BD22-1EA4B929A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4AAD-D55B-42B8-8402-8684E5E8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D121-DB28-485B-9F04-4F1BB049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DD85-FAD3-4BD7-9F25-8DE7AA70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8B37-5242-4193-A324-6A8AE544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EEBB-C90F-429E-BECA-2FCA0CE2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5B45-2BBA-4C90-B236-0F72F71B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B171-007D-4606-9E54-CA1479F6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5861-F267-4E23-B610-65E6A899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2518-2963-4DD3-ABE9-10081DF9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161A-9404-4FA2-838C-881E4988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CBEC-4EBC-4897-952B-A7B476C5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B0C9-3C44-4FF9-AA8E-8311C9930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8FB1-C4E4-4BD4-AA8D-8EEEB4F7D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C6F2-2178-4393-B0BB-ACEC32A6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D7C5-7337-4A5F-B65A-A668F25F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06B5-D1BE-4200-A000-1C4DED83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7AD7-3CD6-4556-AD73-AAB84A71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F818-47B8-4B6D-8156-9E9FEDB9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725F-DFD1-4333-95E0-185B6B66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12AF-380F-479D-8CAE-D77000BA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4D7C-5850-48E1-8905-B84E2ECE8CB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8ACF-5CEB-42A3-814F-1BB2FCF2785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686800" cy="58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« </a:t>
            </a:r>
            <a:r>
              <a:rPr b="0" i="1" lang="en-US" sz="6000" spc="-1" strike="noStrike">
                <a:solidFill>
                  <a:srgbClr val="ffffcc"/>
                </a:solidFill>
                <a:latin typeface="Arial"/>
              </a:rPr>
              <a:t>Создание в школьном коллективе среды сберегающей и развивающей здоровье»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26028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сотрудничество с педагогами школы – интерната, медицинскими работниками с целью изучения состояния физического здоровья учащихся;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сотрудничество с родителями учащихся и учителями-предметниками, которые работают  в рамках обозначенной проблемы;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сотрудничество с психологической службой учебного заведения;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сотрудничество с социальной службой школы – интерната, с помощью которой необходимо вести просветительскую и коррекционную работу среди учащихся и их родителей;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организация и проведение внеклассных мероприятий, формирующих правильное отношение учащихся к занятиям физкультурой и спортом;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формирование собственной я – позиции учащихся к проблеме сохранения и защиты собственного здоровья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Направления в работе классного руководителя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)физическое и психическое здоровье;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)понятие гигиены и ее значение в жизни человека;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3)культура сохранения собственного здоровья;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4)ответственность за здоровье других людей;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5)гармония души и тела, режим дня и здоровья;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6)значение воли в сохранении здоровья;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Формы работы с детьм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9152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1Проведения классных часов на темы здоровьесбережения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2. Проведение индивидуальных и групповых бесед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3. Разгадывание кроссвордов, ребусов, проведение викторин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4. подготовка и проведение экскурсий, туристических походов, целевых прогулок;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5. организация работы учащихся по благоустройству школьных помещений, на пришкольном участк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6. Проведение тематических праздников здоровья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7. Проведение спортивно – оздоровительных празднико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8. Проведение дней здоровья, недели здоровья, месячников  по теме здоровьесбережения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964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« Психофизическая тренировка в системе педагогики оздоровления»</a:t>
            </a:r>
            <a:br>
              <a:rPr sz="5400"/>
            </a:br>
            <a:br>
              <a:rPr sz="5400"/>
            </a:b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психолог: Бабушкина О.Н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62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cc"/>
                </a:solidFill>
                <a:latin typeface="Arial"/>
              </a:rPr>
              <a:t>Спасибо </a:t>
            </a:r>
            <a:br>
              <a:rPr sz="7200"/>
            </a:br>
            <a:r>
              <a:rPr b="0" i="1" lang="en-US" sz="7200" spc="-1" strike="noStrike">
                <a:solidFill>
                  <a:srgbClr val="ffffcc"/>
                </a:solidFill>
                <a:latin typeface="Arial"/>
              </a:rPr>
              <a:t>за</a:t>
            </a:r>
            <a:br>
              <a:rPr sz="7200"/>
            </a:br>
            <a:r>
              <a:rPr b="0" i="1" lang="en-US" sz="7200" spc="-1" strike="noStrike">
                <a:solidFill>
                  <a:srgbClr val="ffffcc"/>
                </a:solidFill>
                <a:latin typeface="Arial"/>
              </a:rPr>
              <a:t>работу !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лан работы М 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Просмотр классного часа « Мое здоровье»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Круглый стол по теме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« Психофизическая тренировка с системе педагогики оздоровления обучающихся»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Классный час</a:t>
            </a:r>
            <a:br>
              <a:rPr sz="6000"/>
            </a:br>
            <a:br>
              <a:rPr sz="6000"/>
            </a:br>
            <a:r>
              <a:rPr b="0" lang="en-US" sz="7200" spc="-1" strike="noStrike">
                <a:solidFill>
                  <a:srgbClr val="ffffcc"/>
                </a:solidFill>
                <a:latin typeface="Arial"/>
              </a:rPr>
              <a:t>« Моё здоровье»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cc"/>
                </a:solidFill>
                <a:latin typeface="Arial"/>
              </a:rPr>
              <a:t>Здоровье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- это не только отсутствие болезни и повреждений, но и полное физическое, душевное и социальное благополучие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9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cc"/>
                </a:solidFill>
                <a:latin typeface="Arial"/>
              </a:rPr>
              <a:t>Здоровьесберегающая технология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– это: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условия обучения ребенка в школе (отсутствие стресса, адекватность требований, адекватность методик обучения и воспитания); рациональная организация учебного процесса (в соответствии с возрастными, половыми, индивидуальными особенностями и гигиеническими требованиями); соответствие учебной и физической нагрузки возрастным возможностям ребенка; необходимый, достаточный и рационально организованный двигательный режим.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Arial"/>
              </a:rPr>
              <a:t>ВАЛЕОЛОГИЯ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-  это наука о здоровье, о путях его обеспечения, формирования и сохранения. Как учебная дисциплина - это совокупность знаний о здоровье и о здоровом образе жизни человека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Актуальность проблем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о данным Минздрава и Госкомэпиднадзора России лишь 14% детей практически здоровы, 50% имеют функциональные отклонения, 35–40% имеют хронические заболевания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За  период обучения в школе число здоровых детей уменьшается в 4 раза, число близоруких детей увеличивается с 1 класса к выпускным с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3,9 до 12,3%, с нервно – психическими расстройствами –с 5,6 до 16,4%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только 5% выпускников школ являются здоровыми, 80% школьников хронически больны, 50% имеют морфофизиологические отклонения, 70% страдают нервно-психическими расстройствами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Возможные причины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бота по сохранению и укреплению здоровья носит стихийный, эпизодический характер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едостаточно применяются здоровьесберегающие технологии в образовательном процессе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У учащихся не сформировано ценностное отношение к собственному здоровью, большинство из них имеют низкий уровень знаний по проблеме здоровьесбережения, не владеет элементарными умениями и навыками по сохранению собственного здоровья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2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«Роль педагога, классного руководителя  в формировании валеологической  культуры у школьников, в использовании здоровьесберегающих технологий.»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6T14:11:30Z</dcterms:created>
  <dc:creator>Admin</dc:creator>
  <dc:description/>
  <dc:language>en-US</dc:language>
  <cp:lastModifiedBy>Admin</cp:lastModifiedBy>
  <dcterms:modified xsi:type="dcterms:W3CDTF">2012-12-16T17:00:52Z</dcterms:modified>
  <cp:revision>4</cp:revision>
  <dc:subject/>
  <dc:title>Слайд 1</dc:title>
</cp:coreProperties>
</file>