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400-CB82-41EC-A76D-BDCA3B10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BD3-457A-436B-A562-749F304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CB-98D0-4F55-B10D-3FB84AAB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669-3A56-4298-998A-13976C65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A01-264A-4B14-A755-3F080A96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03B-38D8-421D-8BAA-C8D2157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B65-2985-41AF-8052-B2EA62F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9409-1918-4EC7-91FC-E318C63B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B366-0314-4B5E-B36D-A0C1374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97C3-1F83-4B0F-AAC9-9B90573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FACE-46C6-4450-8D57-ABFD366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DDF-48A5-4C7E-9C88-4253B65A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93AD-0CB6-4891-AF9D-4BDC913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D5A-3C86-4F37-A85E-FBC4CB3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8FA3-84C8-41F2-BCBF-197335E6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0EA9-411B-4467-AE2F-FA6C846A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C554-DC6E-4321-AAEF-F447323A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771-A172-4484-8293-7180D6C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09C-D335-4449-940D-7DFFAD3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CC1-0023-4F7A-AD23-99EF30E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53-E77A-453F-AE18-69EF1CF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CEC-DBBA-4046-ABFB-D3BD7F2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5E5-9114-4647-B3F0-39D6093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616-FB58-409D-8909-65D88B3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E23-A71B-4658-BD90-CCE539ED7C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53F-1724-407B-8190-A1CE10F528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868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« </a:t>
            </a:r>
            <a:r>
              <a:rPr b="0" i="1" lang="en-US" sz="6000" spc="-1" strike="noStrike">
                <a:solidFill>
                  <a:srgbClr val="ffffcc"/>
                </a:solidFill>
                <a:latin typeface="Arial"/>
              </a:rPr>
              <a:t>Создание в школьном коллективе среды сберегающей и развивающей здоровье»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педагогами школы – интерната, медицинскими работниками с целью изучения состояния физического здоровья учащихс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родителями учащихся и учителями-предметниками, которые работают  в рамках обозначенной проблемы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психологической службой учебного заведен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социальной службой школы – интерната, с помощью которой необходимо вести просветительскую и коррекционную работу среди учащихся и их родителей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рганизация и проведение внеклассных мероприятий, формирующих правильное отношение учащихся к занятиям физкультурой и спортом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формирование собственной я – позиции учащихся к проблеме сохранения и защиты собственного здоровь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Направления в работе классного руководителя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)физическое и психическое здоровье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)понятие гигиены и ее значение в жизни человека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)культура сохранения собственного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)ответственность за здоровье других людей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)гармония души и тела, режим дня и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)значение воли в сохранении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Проведения классных часов на темы здоровьесбереж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Проведение индивидуальных и групповых бесе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 Разгадывание кроссвордов, ребусов, проведение виктори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подготовка и проведение экскурсий, туристических походов, целевых прогулок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. организация работы учащихся по благоустройству школьных помещений, на пришкольном участ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6. Проведение тематических праздников здоров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7. Проведение спортивно – оздоровительных праздни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8. Проведение дней здоровья, недели здоровья, месячников  по теме здоровьесбереж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« Психофизическая тренировка в системе педагогики оздоровления»</a:t>
            </a:r>
            <a:br>
              <a:rPr sz="5400"/>
            </a:br>
            <a:br>
              <a:rPr sz="5400"/>
            </a:b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психолог: Бабушкина О.Н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Спасибо </a:t>
            </a:r>
            <a:br>
              <a:rPr sz="7200"/>
            </a:b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за</a:t>
            </a:r>
            <a:br>
              <a:rPr sz="7200"/>
            </a:b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работу 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лан работы М 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росмотр классного часа « Мое здоровье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Круглый стол по тем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« Психофизическая тренировка с системе педагогики оздоровления обучающихся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лассный час</a:t>
            </a:r>
            <a:br>
              <a:rPr sz="6000"/>
            </a:br>
            <a:br>
              <a:rPr sz="6000"/>
            </a:b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« Моё здоровье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Arial"/>
              </a:rPr>
              <a:t>Здоровье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 это не только отсутствие болезни и повреждений, но и полное физическое, душевное и социальное благополуч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Здоровьесберегающая технология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это: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словия обучения ребенка в школе (отсутствие стресса, адекватность требований, адекватность методик обучения и воспитания); рациональная организация учебного процесса (в соответствии с возрастными, половыми, индивидуальными особенностями и гигиеническими требованиями); соответствие учебной и физической нагрузки возрастным возможностям ребенка; необходимый, достаточный и рационально организованный двигательный режим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ВАЛЕОЛОГИЯ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-  это наука о здоровье, о путях его обеспечения, формирования и сохранения. Как учебная дисциплина - это совокупность знаний о здоровье и о здоровом образе жизни челове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ктуальность пробл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 данным Минздрава и Госкомэпиднадзора России лишь 14% детей практически здоровы, 50% имеют функциональные отклонения, 35–40% имеют хронические заболе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  период обучения в школе число здоровых детей уменьшается в 4 раза, число близоруких детей увеличивается с 1 класса к выпускным с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,9 до 12,3%, с нервно – психическими расстройствами –с 5,6 до 16,4%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5% выпускников школ являются здоровыми, 80% школьников хронически больны, 50% имеют морфофизиологические отклонения, 70% страдают нервно-психическими расстройствам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зможные причин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бота по сохранению и укреплению здоровья носит стихийный, эпизодический характе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достаточно применяются здоровьесберегающие технологии в образовательном процесс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 учащихся не сформировано ценностное отношение к собственному здоровью, большинство из них имеют низкий уровень знаний по проблеме здоровьесбережения, не владеет элементарными умениями и навыками по сохранению собственного здоровь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Роль педагога, классного руководителя  в формировании валеологической  культуры у школьников, в использовании здоровьесберегающих технологий.»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4:11:30Z</dcterms:created>
  <dc:creator>Admin</dc:creator>
  <dc:description/>
  <dc:language>en-US</dc:language>
  <cp:lastModifiedBy>Admin</cp:lastModifiedBy>
  <dcterms:modified xsi:type="dcterms:W3CDTF">2012-12-16T17:00:52Z</dcterms:modified>
  <cp:revision>4</cp:revision>
  <dc:subject/>
  <dc:title>Слайд 1</dc:title>
</cp:coreProperties>
</file>