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E2B-222A-4FB6-B148-AC629E26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9D4-E1A4-48AA-AFAF-E7D0F8FE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F89D-EA67-4BDF-B2BA-8C9558EB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77E5-DBB2-4A2B-812E-CC99A523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E565-678B-4855-A7FB-1B800448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5C60-A5F9-42D7-B8C9-F3414CB2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5935-E79C-419F-8F54-92D5480D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1F08-36D6-42FB-8196-84C00E53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1215-6EC7-445B-AF3B-6E11EFE7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AE59-716C-4939-B303-90B01EB6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D059-F894-4CEE-A24B-B993C80B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A8D-B618-4DCF-BB0E-A29FE394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9F66-3758-42F8-B924-2F9E9E03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AC59-4AB4-4A21-80A1-EB0FC0A6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A2D3-DE59-40C4-A73D-996BCFC4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9DFC-DD30-4C97-9629-548BD39B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9EB9-49B3-4DB3-98BA-B5CBEA20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280-540A-4835-9B7B-00FC6155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DF0-6953-46BE-9D70-35A13238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6BE-1113-4344-9624-DA85EC85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E43-1A28-45F2-9908-1191A1A3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2FD-D93D-405A-88CC-BBCB9C99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A45-7028-4EB5-8C8D-94919E23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01C0-F61E-48EA-A5D7-9F7D95A1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2B24-24D6-4226-84D1-8ADE469AF1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D4E2-163D-41DE-B77E-C6A2EC9C838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609480" y="228600"/>
            <a:ext cx="7925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ЛЕТНИЙ СПОРТИВНЫЙ ПРАЗДНИ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Объект 2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36050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ль: Повышение интереса к занятиям физической культур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тие двигательных качеств: силы, выносливости,  быстроты, координационных способностей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вышение двигательной активн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спитание правильного дыха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лучшение психического состоя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ортивный праздник построен на «методе блоков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начале спортивного праздника каждой команде выдается «Маршрутный лист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914400" y="533520"/>
            <a:ext cx="754380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"/>
              </a:rPr>
              <a:t>"Спортивное путешествие" </a:t>
            </a:r>
            <a:endParaRPr b="0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762120" y="685800"/>
            <a:ext cx="7391160" cy="1143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"/>
              </a:rPr>
              <a:t>"Спортивное путешествие" </a:t>
            </a:r>
            <a:endParaRPr b="1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стники праздник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спитанники детского сада – 4 возрастные групп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спитатель с группой детей – 4 челове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зрослые  «начальники станций» - 4 челове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5029200" y="1920960"/>
            <a:ext cx="3124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орудование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ячи диаметром 20 см – 15шт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егли – 10 шт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ртикальная мишень – 1 ш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ядок проведения эстафе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 этап- «Боулинг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 этап – «Попади в кольцо» (примечание – диаметр кольца и расстояние до цели зависит от возраста детей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 этап – оценка качества («начальник станции» отмечает в маршрутном листе прохождение станции и баллы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685800" y="304920"/>
            <a:ext cx="525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Impact"/>
              </a:rPr>
              <a:t>станция "Самый меткий"</a:t>
            </a:r>
            <a:endParaRPr b="0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126" name="Рисунок 1" descr=""/>
          <p:cNvPicPr/>
          <p:nvPr/>
        </p:nvPicPr>
        <p:blipFill>
          <a:blip r:embed="rId1"/>
          <a:stretch/>
        </p:blipFill>
        <p:spPr>
          <a:xfrm>
            <a:off x="6172200" y="271440"/>
            <a:ext cx="2693880" cy="2048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" descr=""/>
          <p:cNvPicPr/>
          <p:nvPr/>
        </p:nvPicPr>
        <p:blipFill>
          <a:blip r:embed="rId2"/>
          <a:stretch/>
        </p:blipFill>
        <p:spPr>
          <a:xfrm>
            <a:off x="4724280" y="2427120"/>
            <a:ext cx="2438640" cy="20494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"/>
          <p:cNvPicPr/>
          <p:nvPr/>
        </p:nvPicPr>
        <p:blipFill>
          <a:blip r:embed="rId3"/>
          <a:stretch/>
        </p:blipFill>
        <p:spPr>
          <a:xfrm>
            <a:off x="6080040" y="4476600"/>
            <a:ext cx="2732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борудование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ва больших тканевых мешк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риентиры для старта и финиша (длина дистанции регулируется в зависимости от возраста детей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рядок проведения эстафет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- влезть в мешок ногам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 – по команде начать движение до ориентира и обратно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3 – выйти из мешка, передать мешок следующему игроку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4 - оценка качества («начальник станции» отмечает в маршрутном листе прохождение станции и баллы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стафета выполняется парами, по необходимости взрослые помогают детям справиться с оборудование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3048120" y="228600"/>
            <a:ext cx="5743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Impact"/>
              </a:rPr>
              <a:t>станция "Прыжки в мешках"</a:t>
            </a:r>
            <a:endParaRPr b="0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341280" y="357120"/>
            <a:ext cx="2706840" cy="20480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" descr=""/>
          <p:cNvPicPr/>
          <p:nvPr/>
        </p:nvPicPr>
        <p:blipFill>
          <a:blip r:embed="rId2"/>
          <a:stretch/>
        </p:blipFill>
        <p:spPr>
          <a:xfrm>
            <a:off x="1695600" y="2743200"/>
            <a:ext cx="2406600" cy="20480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"/>
          <p:cNvPicPr/>
          <p:nvPr/>
        </p:nvPicPr>
        <p:blipFill>
          <a:blip r:embed="rId3"/>
          <a:stretch/>
        </p:blipFill>
        <p:spPr>
          <a:xfrm>
            <a:off x="334800" y="4452840"/>
            <a:ext cx="27133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борудование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аз с водой – 2 штук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Шарики пластмассовые диаметром 8 см (из сухого бассейна)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варешка – 2 штук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орзина – 2 шту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рядок проведения эстафеты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1- шарики сложить в тазы с водой на старт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 – по команде ребенок поварешкой вылавливает шар из  воды и несет его до корзины (до финиш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 – возвращается к старту  с пустой поварешкой и передает эстафету следующему игрок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4 - оценка качества («начальник станции» отмечает в маршрутном листе прохождение станции и баллы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Эстафета выполняется пар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457200" y="0"/>
            <a:ext cx="5057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Impact"/>
              </a:rPr>
              <a:t>станция "Самый ловкий"</a:t>
            </a:r>
            <a:endParaRPr b="0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138" name="Рисунок 1" descr=""/>
          <p:cNvPicPr/>
          <p:nvPr/>
        </p:nvPicPr>
        <p:blipFill>
          <a:blip r:embed="rId1"/>
          <a:stretch/>
        </p:blipFill>
        <p:spPr>
          <a:xfrm>
            <a:off x="5786280" y="500040"/>
            <a:ext cx="2384640" cy="20480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" descr=""/>
          <p:cNvPicPr/>
          <p:nvPr/>
        </p:nvPicPr>
        <p:blipFill>
          <a:blip r:embed="rId2"/>
          <a:stretch/>
        </p:blipFill>
        <p:spPr>
          <a:xfrm>
            <a:off x="5954760" y="3429000"/>
            <a:ext cx="20476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борудован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аз с мыльной водой – 2 штук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ломинки для коктейля – по кол-ву дет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рядок выполнения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 – каждому участнику выдается по соломинке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 – дети поделившись на две подгруппы надувают «шапку» из мыльной пены (соблюдать технику безопасности – не вдыхать мыльный раствор, детям младшего возраста предоставляются индивидуальные «мыльные пузыри»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3 - оценка качества («начальник станции» отмечает в маршрутном листе прохождение станции и баллы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3429000" y="304920"/>
            <a:ext cx="5267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Impact"/>
              </a:rPr>
              <a:t>станция "Мыльные пузыри"</a:t>
            </a:r>
            <a:endParaRPr b="0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495360" y="500040"/>
            <a:ext cx="2712960" cy="20480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"/>
          <p:cNvPicPr/>
          <p:nvPr/>
        </p:nvPicPr>
        <p:blipFill>
          <a:blip r:embed="rId2"/>
          <a:stretch/>
        </p:blipFill>
        <p:spPr>
          <a:xfrm>
            <a:off x="1866960" y="2133720"/>
            <a:ext cx="2047680" cy="25905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"/>
          <p:cNvPicPr/>
          <p:nvPr/>
        </p:nvPicPr>
        <p:blipFill>
          <a:blip r:embed="rId3"/>
          <a:stretch/>
        </p:blipFill>
        <p:spPr>
          <a:xfrm>
            <a:off x="479520" y="4724280"/>
            <a:ext cx="27129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"/>
              </a:rPr>
              <a:t>"Спортивное путешествие" </a:t>
            </a:r>
            <a:endParaRPr b="1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28191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ведение итогов спортивного праздни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ручение приз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оу «Мыльных пузырей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2706840" cy="20480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2" descr=""/>
          <p:cNvPicPr/>
          <p:nvPr/>
        </p:nvPicPr>
        <p:blipFill>
          <a:blip r:embed="rId2"/>
          <a:stretch/>
        </p:blipFill>
        <p:spPr>
          <a:xfrm>
            <a:off x="5678640" y="4267080"/>
            <a:ext cx="25304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man</dc:creator>
  <dc:description/>
  <dc:language>en-US</dc:language>
  <cp:lastModifiedBy>Roman</cp:lastModifiedBy>
  <dcterms:modified xsi:type="dcterms:W3CDTF">2015-02-01T08:42:4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