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D38D-4803-4A33-85FA-01129418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3D9B-6B2B-4818-AD66-32D65DF8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42AB-3623-4C79-A907-BDBC125B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21AC-1019-4A3D-B8A5-B7F0CD9E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4DC3-AEB0-428A-8EC7-0F0070C9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DC30-78B9-497E-9191-11BC8763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2221-4FB3-43D5-98C8-BD5A85DE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011A-2EB7-40D8-A2DD-12D355A5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F41E-F8DD-4346-B7A8-A048A662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4089-9487-4A5C-A2B2-A967DE6B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B44E-F010-4BDA-AC99-3E62668F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4BAB-8F49-4CF7-991D-FFEB77CC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530F-8878-435E-838B-F6B392E3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B5B9-67D2-4FAE-AA66-936F52A6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BA5F-8984-47B2-A3A3-209961CD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4046-8CF1-4534-AB75-C7F3943E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9AB3-FC50-4A4D-8CF0-F0638C6F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D06A-820A-4EBF-8F68-81407B41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6AE4-2B65-4D67-B76F-A95D68D7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127-FCD0-48FC-B17B-E10F202E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9F3E-8381-433B-BC7A-B744273B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7523-9DFD-4CFC-A48D-BC46F89F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4473-73C0-4AA7-B791-FD9F189D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84C-9234-41EF-922E-0691810D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a67"/>
                </a:gs>
                <a:gs pos="50000">
                  <a:srgbClr val="6fb56d"/>
                </a:gs>
                <a:gs pos="100000">
                  <a:srgbClr val="68aa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6194-7D7F-4FF1-992C-18C7CAB5EF9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a67"/>
                </a:gs>
                <a:gs pos="50000">
                  <a:srgbClr val="6fb56d"/>
                </a:gs>
                <a:gs pos="100000">
                  <a:srgbClr val="68aa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CB28-0346-41DE-B0DC-D507051F3E7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15" name="WordArt 6"/>
          <p:cNvSpPr txBox="1"/>
          <p:nvPr/>
        </p:nvSpPr>
        <p:spPr>
          <a:xfrm>
            <a:off x="609480" y="228600"/>
            <a:ext cx="7925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ЛЕТНИЙ СПОРТИВНЫЙ ПРАЗДНИ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6" name="Объект 2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360504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ль: Повышение интереса к занятиям физической культуро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витие двигательных качеств: силы, выносливости,  быстроты, координационных способностей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вышение двигательной активност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спитание правильного дыхани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лучшение психического состоя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ортивный праздник построен на «методе блоков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начале спортивного праздника каждой команде выдается «Маршрутный лист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914400" y="533520"/>
            <a:ext cx="754380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Arial"/>
              </a:rPr>
              <a:t>"Спортивное путешествие" </a:t>
            </a:r>
            <a:endParaRPr b="0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762120" y="685800"/>
            <a:ext cx="7391160" cy="11430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Arial"/>
              </a:rPr>
              <a:t>"Спортивное путешествие" </a:t>
            </a:r>
            <a:endParaRPr b="1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стники праздник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спитанники детского сада – 4 возрастные групп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спитатель с группой детей – 4 человек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зрослые  «начальники станций» - 4 челове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5029200" y="1920960"/>
            <a:ext cx="3124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борудование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ячи диаметром 20 см – 15шт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егли – 10 шт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ертикальная мишень – 1 ш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рядок проведения эстафет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 этап- «Боулинг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 этап – «Попади в кольцо» (примечание – диаметр кольца и расстояние до цели зависит от возраста детей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 этап – оценка качества («начальник станции» отмечает в маршрутном листе прохождение станции и баллы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685800" y="304920"/>
            <a:ext cx="525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Impact"/>
              </a:rPr>
              <a:t>станция "Самый меткий"</a:t>
            </a:r>
            <a:endParaRPr b="0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126" name="Рисунок 1" descr=""/>
          <p:cNvPicPr/>
          <p:nvPr/>
        </p:nvPicPr>
        <p:blipFill>
          <a:blip r:embed="rId1"/>
          <a:stretch/>
        </p:blipFill>
        <p:spPr>
          <a:xfrm>
            <a:off x="6172200" y="271440"/>
            <a:ext cx="2693880" cy="20480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2" descr=""/>
          <p:cNvPicPr/>
          <p:nvPr/>
        </p:nvPicPr>
        <p:blipFill>
          <a:blip r:embed="rId2"/>
          <a:stretch/>
        </p:blipFill>
        <p:spPr>
          <a:xfrm>
            <a:off x="4724280" y="2427120"/>
            <a:ext cx="2438640" cy="20494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" descr=""/>
          <p:cNvPicPr/>
          <p:nvPr/>
        </p:nvPicPr>
        <p:blipFill>
          <a:blip r:embed="rId3"/>
          <a:stretch/>
        </p:blipFill>
        <p:spPr>
          <a:xfrm>
            <a:off x="6080040" y="4476600"/>
            <a:ext cx="2732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борудование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ва больших тканевых мешк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риентиры для старта и финиша (длина дистанции регулируется в зависимости от возраста детей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рядок проведения эстафеты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- влезть в мешок ногам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 – по команде начать движение до ориентира и обратно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3 – выйти из мешка, передать мешок следующему игроку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4 - оценка качества («начальник станции» отмечает в маршрутном листе прохождение станции и баллы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Эстафета выполняется парами, по необходимости взрослые помогают детям справиться с оборудование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3048120" y="228600"/>
            <a:ext cx="5743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Impact"/>
              </a:rPr>
              <a:t>станция "Прыжки в мешках"</a:t>
            </a:r>
            <a:endParaRPr b="0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132" name="Рисунок 1" descr=""/>
          <p:cNvPicPr/>
          <p:nvPr/>
        </p:nvPicPr>
        <p:blipFill>
          <a:blip r:embed="rId1"/>
          <a:stretch/>
        </p:blipFill>
        <p:spPr>
          <a:xfrm>
            <a:off x="341280" y="357120"/>
            <a:ext cx="2706840" cy="204804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2" descr=""/>
          <p:cNvPicPr/>
          <p:nvPr/>
        </p:nvPicPr>
        <p:blipFill>
          <a:blip r:embed="rId2"/>
          <a:stretch/>
        </p:blipFill>
        <p:spPr>
          <a:xfrm>
            <a:off x="1695600" y="2743200"/>
            <a:ext cx="2406600" cy="204804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"/>
          <p:cNvPicPr/>
          <p:nvPr/>
        </p:nvPicPr>
        <p:blipFill>
          <a:blip r:embed="rId3"/>
          <a:stretch/>
        </p:blipFill>
        <p:spPr>
          <a:xfrm>
            <a:off x="334800" y="4452840"/>
            <a:ext cx="27133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Оборудование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Таз с водой – 2 штуки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Шарики пластмассовые диаметром 8 см (из сухого бассейна)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варешка – 2 штуки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орзина – 2 шту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рядок проведения эстафеты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1- шарики сложить в тазы с водой на старте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2 – по команде ребенок поварешкой вылавливает шар из  воды и несет его до корзины (до финиша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3 – возвращается к старту  с пустой поварешкой и передает эстафету следующему игрок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4 - оценка качества («начальник станции» отмечает в маршрутном листе прохождение станции и баллы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Эстафета выполняется парам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457200" y="0"/>
            <a:ext cx="5057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Impact"/>
              </a:rPr>
              <a:t>станция "Самый ловкий"</a:t>
            </a:r>
            <a:endParaRPr b="0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138" name="Рисунок 1" descr=""/>
          <p:cNvPicPr/>
          <p:nvPr/>
        </p:nvPicPr>
        <p:blipFill>
          <a:blip r:embed="rId1"/>
          <a:stretch/>
        </p:blipFill>
        <p:spPr>
          <a:xfrm>
            <a:off x="5786280" y="500040"/>
            <a:ext cx="2384640" cy="20480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" descr=""/>
          <p:cNvPicPr/>
          <p:nvPr/>
        </p:nvPicPr>
        <p:blipFill>
          <a:blip r:embed="rId2"/>
          <a:stretch/>
        </p:blipFill>
        <p:spPr>
          <a:xfrm>
            <a:off x="5954760" y="3429000"/>
            <a:ext cx="20476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борудование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аз с мыльной водой – 2 штук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ломинки для коктейля – по кол-ву дете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рядок выполнения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 – каждому участнику выдается по соломинке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 – дети поделившись на две подгруппы надувают «шапку» из мыльной пены (соблюдать технику безопасности – не вдыхать мыльный раствор, детям младшего возраста предоставляются индивидуальные «мыльные пузыри»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3 - оценка качества («начальник станции» отмечает в маршрутном листе прохождение станции и баллы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3429000" y="304920"/>
            <a:ext cx="5267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Impact"/>
              </a:rPr>
              <a:t>станция "Мыльные пузыри"</a:t>
            </a:r>
            <a:endParaRPr b="0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143" name="Рисунок 1" descr=""/>
          <p:cNvPicPr/>
          <p:nvPr/>
        </p:nvPicPr>
        <p:blipFill>
          <a:blip r:embed="rId1"/>
          <a:stretch/>
        </p:blipFill>
        <p:spPr>
          <a:xfrm>
            <a:off x="495360" y="500040"/>
            <a:ext cx="2712960" cy="20480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" descr=""/>
          <p:cNvPicPr/>
          <p:nvPr/>
        </p:nvPicPr>
        <p:blipFill>
          <a:blip r:embed="rId2"/>
          <a:stretch/>
        </p:blipFill>
        <p:spPr>
          <a:xfrm>
            <a:off x="1866960" y="2133720"/>
            <a:ext cx="2047680" cy="25905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" descr=""/>
          <p:cNvPicPr/>
          <p:nvPr/>
        </p:nvPicPr>
        <p:blipFill>
          <a:blip r:embed="rId3"/>
          <a:stretch/>
        </p:blipFill>
        <p:spPr>
          <a:xfrm>
            <a:off x="479520" y="4724280"/>
            <a:ext cx="27129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Arial"/>
              </a:rPr>
              <a:t>"Спортивное путешествие" </a:t>
            </a:r>
            <a:endParaRPr b="1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28191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ведение итогов спортивного праздник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ручение призо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Шоу «Мыльных пузырей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Рисунок 1" descr=""/>
          <p:cNvPicPr/>
          <p:nvPr/>
        </p:nvPicPr>
        <p:blipFill>
          <a:blip r:embed="rId1"/>
          <a:stretch/>
        </p:blipFill>
        <p:spPr>
          <a:xfrm>
            <a:off x="2971800" y="609480"/>
            <a:ext cx="2706840" cy="20480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2" descr=""/>
          <p:cNvPicPr/>
          <p:nvPr/>
        </p:nvPicPr>
        <p:blipFill>
          <a:blip r:embed="rId2"/>
          <a:stretch/>
        </p:blipFill>
        <p:spPr>
          <a:xfrm>
            <a:off x="5678640" y="4267080"/>
            <a:ext cx="25304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man</dc:creator>
  <dc:description/>
  <dc:language>en-US</dc:language>
  <cp:lastModifiedBy>Roman</cp:lastModifiedBy>
  <dcterms:modified xsi:type="dcterms:W3CDTF">2015-02-01T08:42:4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