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9.gif" ContentType="image/gif"/>
  <Override PartName="/ppt/media/image13.gif" ContentType="image/gif"/>
  <Override PartName="/ppt/media/image8.gif" ContentType="image/gif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gif" ContentType="image/gif"/>
  <Override PartName="/ppt/media/image18.png" ContentType="image/png"/>
  <Override PartName="/ppt/media/image14.wmf" ContentType="image/x-wmf"/>
  <Override PartName="/ppt/media/image2.jpeg" ContentType="image/jpeg"/>
  <Override PartName="/ppt/media/image4.png" ContentType="image/png"/>
  <Override PartName="/ppt/media/image6.wmf" ContentType="image/x-wmf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77BA-1C66-493D-952F-FFE5A54F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AD85-3A63-4661-A2CD-015591D4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6EF-275A-4A99-B3AF-D0DC1B10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86D9-E8AB-440F-9A1A-000F00DB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B066-248C-4D49-9FEF-1967EB11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87DC-B896-4F2F-8E7A-332BDDFD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B779-D7C4-4DE1-AA44-CEDD7930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EAD4-2B49-474C-8193-E19AD75F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7835-9E2A-4A47-B144-25AF7CAB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C186-10C6-4822-9FBD-FDD355F0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4B4A-47EC-4F8D-AECD-3EF91169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FB1-A835-43A8-A3E1-2F95E544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F92F-A92A-45B0-90D3-E2F0337AC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55640" y="306864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7200" spc="-1" strike="noStrike">
                <a:solidFill>
                  <a:srgbClr val="ffffff"/>
                </a:solidFill>
                <a:latin typeface="Arial"/>
              </a:rPr>
              <a:t>Суның үзлекләр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08000" y="274680"/>
            <a:ext cx="49784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333399"/>
                </a:solidFill>
                <a:latin typeface="Arial"/>
              </a:rPr>
              <a:t>Дәүләки төп гомумбелем бирү мәктәбенең  химия-биология укытучысы Хәйбуллина Фәния Фәридовна э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60280"/>
            <a:ext cx="9144000" cy="66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2.  ОКСИДЛАР БЕЛӘН.</a:t>
            </a:r>
            <a:r>
              <a:rPr b="0" lang="ru-RU" sz="2800" spc="-1" strike="noStrike">
                <a:solidFill>
                  <a:srgbClr val="ff6699"/>
                </a:solidFill>
                <a:latin typeface="Arial"/>
              </a:rPr>
              <a:t>а) метал оксидлар су белән тәэсир итешеп гидроксидлар барлыкка китерәлә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O  + 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 =  Ca(OH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кальций гидрокс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б) неметал оксидлар белән су кислоталар хасил ит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 =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ль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фа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ислота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2O5  +  3H2O  =  2H3PO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сфор кислот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3. </a:t>
            </a:r>
            <a:r>
              <a:rPr b="0" lang="ru-RU" sz="2000" spc="-1" strike="noStrike">
                <a:solidFill>
                  <a:srgbClr val="cc00cc"/>
                </a:solidFill>
                <a:latin typeface="Arial"/>
              </a:rPr>
              <a:t>СУНЫҢ ТАРКАЛУЫ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cc"/>
                </a:solidFill>
                <a:latin typeface="Arial"/>
              </a:rPr>
              <a:t>(ЭЛЕКТРОЛИ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H2O  =  2H2  ⁭  +  O2 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659640" y="3357720"/>
            <a:ext cx="196848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5640" y="2637000"/>
            <a:ext cx="7920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ӨЙ ЭШ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§</a:t>
            </a:r>
            <a:r>
              <a:rPr b="1" i="1" lang="tt-RU" sz="2800" spc="-1" strike="noStrike">
                <a:solidFill>
                  <a:srgbClr val="000099"/>
                </a:solidFill>
                <a:latin typeface="Arial"/>
                <a:ea typeface="Arial"/>
              </a:rPr>
              <a:t> 31 УКЫРГА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, 86 БИТ 5-6 СОРАУЛАРГА ҖАВАПЛ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020000" y="4076640"/>
            <a:ext cx="1913040" cy="2551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303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3645000"/>
            <a:ext cx="849636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әрес макс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 молекуласының төзелеше белән таны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Суның физик үзлекләрен өйрән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суның химик үзлекләрен өйрәнү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189000"/>
            <a:ext cx="48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20640"/>
            <a:ext cx="914400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1. СУ МОЛЕКУЛАСЫНЫҢ ТӨЗЕЛЕ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Tahoma"/>
              </a:rPr>
              <a:t>СУ МОЛЕКУЛАСЫ</a:t>
            </a:r>
            <a:r>
              <a:rPr b="0" i="1" lang="ru-RU" sz="2800" spc="-1" strike="noStrike">
                <a:solidFill>
                  <a:srgbClr val="990099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5050"/>
                </a:solidFill>
                <a:latin typeface="Tahoma"/>
              </a:rPr>
              <a:t>2 </a:t>
            </a:r>
            <a:r>
              <a:rPr b="0" i="1" lang="ru-RU" sz="2800" spc="-1" strike="noStrike">
                <a:solidFill>
                  <a:srgbClr val="cc00cc"/>
                </a:solidFill>
                <a:latin typeface="Tahoma"/>
              </a:rPr>
              <a:t>АТОМ ВОДОРОДТАН ҺӘМ</a:t>
            </a:r>
            <a:r>
              <a:rPr b="0" i="1" lang="ru-RU" sz="2800" spc="-1" strike="noStrike">
                <a:solidFill>
                  <a:srgbClr val="990099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5050"/>
                </a:solidFill>
                <a:latin typeface="Tahoma"/>
              </a:rPr>
              <a:t>1</a:t>
            </a:r>
            <a:r>
              <a:rPr b="0" i="1" lang="ru-RU" sz="2800" spc="-1" strike="noStrike">
                <a:solidFill>
                  <a:srgbClr val="990099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cc00cc"/>
                </a:solidFill>
                <a:latin typeface="Tahoma"/>
              </a:rPr>
              <a:t>АТОМ КИСЛОРОДТАН ТОРА, ВОДОРОД АТОМНАРЫ</a:t>
            </a:r>
            <a:r>
              <a:rPr b="0" i="1" lang="ru-RU" sz="2800" spc="-1" strike="noStrike">
                <a:solidFill>
                  <a:srgbClr val="990099"/>
                </a:solidFill>
                <a:latin typeface="Tahoma"/>
              </a:rPr>
              <a:t> Б</a:t>
            </a:r>
            <a:r>
              <a:rPr b="0" i="1" lang="ru-RU" sz="2800" spc="-1" strike="noStrike">
                <a:solidFill>
                  <a:srgbClr val="cc00cc"/>
                </a:solidFill>
                <a:latin typeface="Tahoma"/>
              </a:rPr>
              <a:t>ЕР-БЕРСЕННӘ</a:t>
            </a:r>
            <a:r>
              <a:rPr b="0" i="1" lang="ru-RU" sz="2800" spc="-1" strike="noStrike">
                <a:solidFill>
                  <a:srgbClr val="990099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5050"/>
                </a:solidFill>
                <a:latin typeface="Tahoma"/>
              </a:rPr>
              <a:t>105</a:t>
            </a:r>
            <a:r>
              <a:rPr b="0" i="1" lang="en-US" sz="2800" spc="-1" strike="noStrike">
                <a:solidFill>
                  <a:srgbClr val="ff5050"/>
                </a:solidFill>
                <a:latin typeface="Tahoma"/>
              </a:rPr>
              <a:t>°</a:t>
            </a:r>
            <a:r>
              <a:rPr b="0" i="1" lang="tt-RU" sz="28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0" i="1" lang="tt-RU" sz="2800" spc="-1" strike="noStrike">
                <a:solidFill>
                  <a:srgbClr val="cc00cc"/>
                </a:solidFill>
                <a:latin typeface="Tahoma"/>
              </a:rPr>
              <a:t>ПОЧМАК ЯСАП УРНАШАЛ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46072" t="18660" r="5903" b="15052"/>
          <a:stretch/>
        </p:blipFill>
        <p:spPr>
          <a:xfrm>
            <a:off x="3600360" y="2781360"/>
            <a:ext cx="5543640" cy="3817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>
            <a:lum contrast="24000"/>
          </a:blip>
          <a:srcRect l="62634" t="2848" r="0" b="66101"/>
          <a:stretch/>
        </p:blipFill>
        <p:spPr>
          <a:xfrm>
            <a:off x="900000" y="3789360"/>
            <a:ext cx="1981440" cy="1727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189000"/>
            <a:ext cx="104940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8000" y="81000"/>
            <a:ext cx="885672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2.  СУНЫҢ ФИЗИК ҮЗЛЕКЛӘ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6600"/>
                </a:solidFill>
                <a:latin typeface="Tahoma"/>
              </a:rPr>
              <a:t>ЧИСТА (ДИСТИЛЛИРЛАНГАН) СУ – ТӨССЕЗ СЫЕКЛЫК, ИСЕ ҺӘМ ТӘМЕ Ю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8000"/>
                </a:solidFill>
                <a:latin typeface="Tahoma"/>
              </a:rPr>
              <a:t>СУ , ҖИР ШАРЫНДА ӨЧ  АГРЕГАТ  ХАЛӘТТӘ БУЛУЧЫ БЕРДӘН-БЕР МАТД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КАЙНАУ ТЕМПЕРАТУРАСЫ 100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  <a:ea typeface="Arial"/>
              </a:rPr>
              <a:t>°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Tahoma"/>
                <a:ea typeface="Arial"/>
              </a:rPr>
              <a:t>КРИСТАЛЛИЗАЦИЯЛӘШ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Tahoma"/>
                <a:ea typeface="Arial"/>
              </a:rPr>
              <a:t>ТЕМПЕРАТУРАСЫ (ЭРҮ) 0</a:t>
            </a:r>
            <a:r>
              <a:rPr b="0" i="1" lang="en-US" sz="2800" spc="-1" strike="noStrike">
                <a:solidFill>
                  <a:srgbClr val="cc00cc"/>
                </a:solidFill>
                <a:latin typeface="Tahoma"/>
                <a:ea typeface="Arial"/>
              </a:rPr>
              <a:t>°</a:t>
            </a:r>
            <a:r>
              <a:rPr b="0" i="1" lang="ru-RU" sz="2800" spc="-1" strike="noStrike">
                <a:solidFill>
                  <a:srgbClr val="cc00cc"/>
                </a:solidFill>
                <a:latin typeface="Tahoma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7164360" y="3645000"/>
            <a:ext cx="1692360" cy="177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0" y="4869000"/>
            <a:ext cx="25210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8496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549360"/>
            <a:ext cx="84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836640"/>
            <a:ext cx="8642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8000"/>
                </a:solidFill>
                <a:latin typeface="Tahoma"/>
              </a:rPr>
              <a:t>СУНЫҢ 4</a:t>
            </a:r>
            <a:r>
              <a:rPr b="0" i="1" lang="en-US" sz="2800" spc="-1" strike="noStrike">
                <a:solidFill>
                  <a:srgbClr val="008000"/>
                </a:solidFill>
                <a:latin typeface="Tahoma"/>
              </a:rPr>
              <a:t>°</a:t>
            </a:r>
            <a:r>
              <a:rPr b="0" i="1" lang="ru-RU" sz="2800" spc="-1" strike="noStrike">
                <a:solidFill>
                  <a:srgbClr val="008000"/>
                </a:solidFill>
                <a:latin typeface="Tahoma"/>
              </a:rPr>
              <a:t>С МАКСИМАЛЬ ТЫГЫЗЛЫГЫ 1г/мл, КАЛГАН МАТДӘЛӘР СУНЫҢ ТЫГЫЗЛЫГЫ ҺӘМ МАССАСЫ БЕЛӘН ЧАГЫШТЫРЫЛАЛ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БОЗНЫҢ ТЫГЫЗЛЫГЫ, СЫЕКЛЫК  ХАЛӘТЕНДӘГЕ СУГА КАРАГАНДА КЕЧЕРӘК, БУ СУНЫҢ  АНОМАЛЬ ҮЗЛЕГЕ БУЛЫП 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6699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6699"/>
                </a:solidFill>
                <a:latin typeface="Tahoma"/>
              </a:rPr>
              <a:t>СУНЫҢ ҖЫЛЫСЫЕШЛЫЛЫГЫ ИҢ ЗУ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У ЭЛЕКТОР ТОГЫН ҮТКӘР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5364000" y="4437000"/>
            <a:ext cx="324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5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3. СУНЫҢ ХИМИК ҮЗЛЕКЛӘ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1.  МЕТАЛЛАР БЕЛӘ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а)   актив металлар су белән тәэсир итешкәндә  гидроксидлар һәм водород барлыкка китерәлә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  +  2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 =  2NaOH  + 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тр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идрокс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K  +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 =  2KOH  + 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лий гидрокс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  +  2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 =  Ca(OH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льций гидрокс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524720" y="4005360"/>
            <a:ext cx="142236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620640"/>
            <a:ext cx="820908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б) активлылыгы уртача булган  металлар җылытканда су белән тәэсир итешеп метал оксидлар һәм водород хасил итәлә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n  + 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 =  ZnO  + 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нк окс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в) активлылыклары әз булган металлар су белән реакц</a:t>
            </a:r>
            <a:r>
              <a:rPr b="0" lang="tt-RU" sz="2800" spc="-1" strike="noStrike">
                <a:solidFill>
                  <a:srgbClr val="3366ff"/>
                </a:solidFill>
                <a:latin typeface="Arial"/>
              </a:rPr>
              <a:t>иягә кермилә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72360" y="4365720"/>
            <a:ext cx="1936440" cy="1865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87280" y="4292640"/>
            <a:ext cx="3384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0:08:56Z</dcterms:created>
  <dc:creator>Фарида</dc:creator>
  <dc:description/>
  <dc:language>en-US</dc:language>
  <cp:lastModifiedBy>Фания</cp:lastModifiedBy>
  <dcterms:modified xsi:type="dcterms:W3CDTF">2009-01-31T16:50:07Z</dcterms:modified>
  <cp:revision>16</cp:revision>
  <dc:subject/>
  <dc:title>Слайд 1</dc:title>
</cp:coreProperties>
</file>