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gif" ContentType="image/gif"/>
  <Override PartName="/ppt/media/image18.png" ContentType="image/png"/>
  <Override PartName="/ppt/media/image14.wmf" ContentType="image/x-wmf"/>
  <Override PartName="/ppt/media/image2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5F9-DDD1-4D4E-9D7C-5D41F92E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714-D064-49FF-B642-717E5F33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276-829C-47F4-8CC3-AAEF26AD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CAF-98E4-416D-85E6-E3612A74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FEF-146E-4840-813E-4F9EBAD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CEB-1125-40A9-A2F9-071EE8AF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224-4F10-47FF-A010-39E7BBEC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4CB-8B7A-4BA5-8854-7465215C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F96-88A0-4A81-977E-B1B45D8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8C2-A847-4119-B1E7-7446A4DE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BCF-3D00-4242-B114-84F005D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EA7-67A9-4B48-854F-4686F1AE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63BE-93B8-45DD-9EE2-42B2729ED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306864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7200" spc="-1" strike="noStrike">
                <a:solidFill>
                  <a:srgbClr val="ffffff"/>
                </a:solidFill>
                <a:latin typeface="Arial"/>
              </a:rPr>
              <a:t>Суның үзлекләр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000" y="274680"/>
            <a:ext cx="497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333399"/>
                </a:solidFill>
                <a:latin typeface="Arial"/>
              </a:rPr>
              <a:t>Дәүләки төп гомумбелем бирү мәктәбенең  химия-биология укытучысы Хәйбуллина Фәния Фәридовна э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60280"/>
            <a:ext cx="9144000" cy="66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2.  ОКСИДЛАР БЕЛӘН.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а) метал оксидлар су белән тәэсир итешеп гидроксидлар барлыкка китерә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O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Ca(OH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кальций гидрокс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б) неметал оксидлар белән су кислоталар хасил ит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ль</a:t>
            </a: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ф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слот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2O5  +  3H2O  =  2H3PO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сфор кислот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СУНЫҢ ТАРКАЛУЫ</a:t>
            </a: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cc"/>
                </a:solidFill>
                <a:latin typeface="Arial"/>
              </a:rPr>
              <a:t>(ЭЛЕКТРОЛИ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2O  =  2H2  ⁭  +  O2 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19684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2637000"/>
            <a:ext cx="7920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ӨЙ ЭШ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§</a:t>
            </a:r>
            <a:r>
              <a:rPr b="1" i="1" lang="tt-RU" sz="2800" spc="-1" strike="noStrike">
                <a:solidFill>
                  <a:srgbClr val="000099"/>
                </a:solidFill>
                <a:latin typeface="Arial"/>
                <a:ea typeface="Arial"/>
              </a:rPr>
              <a:t> 31 УКЫРГА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, 86 БИТ 5-6 СОРАУЛАРГА ҖАВАПЛ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20000" y="4076640"/>
            <a:ext cx="1913040" cy="2551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303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3645000"/>
            <a:ext cx="84963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әрес макс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 молекуласының төзелеше белән таны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уның физик үзлекләрен өйрән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уның химик үзлекләрен өйрәнү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189000"/>
            <a:ext cx="48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20640"/>
            <a:ext cx="91440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. СУ МОЛЕКУЛАСЫНЫҢ ТӨЗЕЛЕ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ahoma"/>
              </a:rPr>
              <a:t>СУ МОЛЕКУЛАСЫ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5050"/>
                </a:solidFill>
                <a:latin typeface="Tahoma"/>
              </a:rPr>
              <a:t>2 </a:t>
            </a:r>
            <a:r>
              <a:rPr b="0" i="1" lang="ru-RU" sz="2800" spc="-1" strike="noStrike">
                <a:solidFill>
                  <a:srgbClr val="cc00cc"/>
                </a:solidFill>
                <a:latin typeface="Tahoma"/>
              </a:rPr>
              <a:t>АТОМ ВОДОРОДТАН ҺӘМ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5050"/>
                </a:solidFill>
                <a:latin typeface="Tahoma"/>
              </a:rPr>
              <a:t>1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cc00cc"/>
                </a:solidFill>
                <a:latin typeface="Tahoma"/>
              </a:rPr>
              <a:t>АТОМ КИСЛОРОДТАН ТОРА, ВОДОРОД АТОМНАРЫ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Б</a:t>
            </a:r>
            <a:r>
              <a:rPr b="0" i="1" lang="ru-RU" sz="2800" spc="-1" strike="noStrike">
                <a:solidFill>
                  <a:srgbClr val="cc00cc"/>
                </a:solidFill>
                <a:latin typeface="Tahoma"/>
              </a:rPr>
              <a:t>ЕР-БЕРСЕННӘ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5050"/>
                </a:solidFill>
                <a:latin typeface="Tahoma"/>
              </a:rPr>
              <a:t>105</a:t>
            </a:r>
            <a:r>
              <a:rPr b="0" i="1" lang="en-US" sz="2800" spc="-1" strike="noStrike">
                <a:solidFill>
                  <a:srgbClr val="ff5050"/>
                </a:solidFill>
                <a:latin typeface="Tahoma"/>
              </a:rPr>
              <a:t>°</a:t>
            </a:r>
            <a:r>
              <a:rPr b="0" i="1" lang="tt-RU" sz="2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i="1" lang="tt-RU" sz="2800" spc="-1" strike="noStrike">
                <a:solidFill>
                  <a:srgbClr val="cc00cc"/>
                </a:solidFill>
                <a:latin typeface="Tahoma"/>
              </a:rPr>
              <a:t>ПОЧМАК ЯСАП УРНАША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46072" t="18660" r="5903" b="15052"/>
          <a:stretch/>
        </p:blipFill>
        <p:spPr>
          <a:xfrm>
            <a:off x="3600360" y="2781360"/>
            <a:ext cx="5543640" cy="381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contrast="24000"/>
          </a:blip>
          <a:srcRect l="62634" t="2848" r="0" b="66101"/>
          <a:stretch/>
        </p:blipFill>
        <p:spPr>
          <a:xfrm>
            <a:off x="900000" y="3789360"/>
            <a:ext cx="1981440" cy="172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104940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81000"/>
            <a:ext cx="885672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.  СУНЫҢ ФИЗИК ҮЗЛЕКЛӘ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6600"/>
                </a:solidFill>
                <a:latin typeface="Tahoma"/>
              </a:rPr>
              <a:t>ЧИСТА (ДИСТИЛЛИРЛАНГАН) СУ – ТӨССЕЗ СЫЕКЛЫК, ИСЕ ҺӘМ ТӘМЕ Ю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СУ , ҖИР ШАРЫНДА ӨЧ  АГРЕГАТ  ХАЛӘТТӘ БУЛУЧЫ БЕРДӘН-БЕР МАТД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КАЙНАУ ТЕМПЕРАТУРАСЫ 100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  <a:ea typeface="Arial"/>
              </a:rPr>
              <a:t>°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ahoma"/>
                <a:ea typeface="Arial"/>
              </a:rPr>
              <a:t>КРИСТАЛЛИЗАЦИЯЛӘШ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Tahoma"/>
                <a:ea typeface="Arial"/>
              </a:rPr>
              <a:t>ТЕМПЕРАТУРАСЫ (ЭРҮ) 0</a:t>
            </a:r>
            <a:r>
              <a:rPr b="0" i="1" lang="en-US" sz="2800" spc="-1" strike="noStrike">
                <a:solidFill>
                  <a:srgbClr val="cc00cc"/>
                </a:solidFill>
                <a:latin typeface="Tahoma"/>
                <a:ea typeface="Arial"/>
              </a:rPr>
              <a:t>°</a:t>
            </a:r>
            <a:r>
              <a:rPr b="0" i="1" lang="ru-RU" sz="2800" spc="-1" strike="noStrike">
                <a:solidFill>
                  <a:srgbClr val="cc00cc"/>
                </a:solidFill>
                <a:latin typeface="Tahoma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7164360" y="3645000"/>
            <a:ext cx="1692360" cy="177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0" y="4869000"/>
            <a:ext cx="2521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54936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836640"/>
            <a:ext cx="86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СУНЫҢ 4</a:t>
            </a:r>
            <a:r>
              <a:rPr b="0" i="1" lang="en-US" sz="2800" spc="-1" strike="noStrike">
                <a:solidFill>
                  <a:srgbClr val="008000"/>
                </a:solidFill>
                <a:latin typeface="Tahoma"/>
              </a:rPr>
              <a:t>°</a:t>
            </a:r>
            <a:r>
              <a:rPr b="0" i="1" lang="ru-RU" sz="2800" spc="-1" strike="noStrike">
                <a:solidFill>
                  <a:srgbClr val="008000"/>
                </a:solidFill>
                <a:latin typeface="Tahoma"/>
              </a:rPr>
              <a:t>С МАКСИМАЛЬ ТЫГЫЗЛЫГЫ 1г/мл, КАЛГАН МАТДӘЛӘР СУНЫҢ ТЫГЫЗЛЫГЫ ҺӘМ МАССАСЫ БЕЛӘН ЧАГЫШТЫРЫЛА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БОЗНЫҢ ТЫГЫЗЛЫГЫ, СЫЕКЛЫК  ХАЛӘТЕНДӘГЕ СУГА КАРАГАНДА КЕЧЕРӘК, БУ СУНЫҢ  АНОМАЛЬ ҮЗЛЕГЕ БУЛЫП 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66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6699"/>
                </a:solidFill>
                <a:latin typeface="Tahoma"/>
              </a:rPr>
              <a:t>СУНЫҢ ҖЫЛЫСЫЕШЛЫЛЫГЫ ИҢ ЗУ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У ЭЛЕКТОР ТОГЫН ҮТКӘР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364000" y="4437000"/>
            <a:ext cx="324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5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3. СУНЫҢ ХИМИК ҮЗЛЕКЛӘ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1.  МЕТАЛЛАР БЕЛӘ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а)   актив металлар су белән тәэсир итешкәндә  гидроксидлар һәм водород барлыкка китерә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  +  2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2NaOH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тр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др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  +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2KOH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лий гидрокс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  +  2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Ca(OH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льций гидр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24720" y="4005360"/>
            <a:ext cx="14223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20640"/>
            <a:ext cx="8209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б) активлылыгы уртача булган  металлар җылытканда су белән тәэсир итешеп метал оксидлар һәм водород хасил итә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=  ZnO  + 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нк 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в) активлылыклары әз булган металлар су белән реакц</a:t>
            </a:r>
            <a:r>
              <a:rPr b="0" lang="tt-RU" sz="2800" spc="-1" strike="noStrike">
                <a:solidFill>
                  <a:srgbClr val="3366ff"/>
                </a:solidFill>
                <a:latin typeface="Arial"/>
              </a:rPr>
              <a:t>иягә кермилә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1936440" cy="1865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0:08:56Z</dcterms:created>
  <dc:creator>Фарида</dc:creator>
  <dc:description/>
  <dc:language>en-US</dc:language>
  <cp:lastModifiedBy>Фания</cp:lastModifiedBy>
  <dcterms:modified xsi:type="dcterms:W3CDTF">2009-01-31T16:50:07Z</dcterms:modified>
  <cp:revision>16</cp:revision>
  <dc:subject/>
  <dc:title>Слайд 1</dc:title>
</cp:coreProperties>
</file>