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1C1-09FD-4A7A-A2B1-2EA89546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EEC-92DA-4885-82C2-CC40B50C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6CE-AE85-42A6-87DF-D271B1C1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5AB-2251-458F-8C2A-B3034E2C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C70B-B50C-46DD-9549-9939D0E2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5813-32CA-49B8-9900-1ADF02D6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B3DF-352A-4A55-A0C1-BBA06462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6D2D-31AF-4AB4-85FE-5D265E69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CE18-2D2D-4F32-96E3-DAA9466D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A4E0-14A5-48A0-B3DB-EC5C4EA4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B4DC-FACF-472E-B371-F76BA463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F46-D63E-456B-A913-100A3902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F0E0-69FE-4181-A99D-5F0FC91F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99B3-D1FA-43F8-A58C-7ED0BD89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63B1-92FA-49D3-B3C5-441F6EE0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FE27-BC8B-4B7A-80C5-61A01054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6012-5E21-4E3E-A1E4-4A2A0787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201-06B5-4B3D-8615-4C665DCD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708-2E09-492B-9AB1-B6D2C0B3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5E6-735F-4C04-9CD8-76BF5726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2B5-F51A-483F-B5C9-3769899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3B1-D094-4460-893C-1719CC4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65E-9458-4BEE-A880-74A874F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E21-FC0D-40E9-BC11-F23ACF6F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6EFB-F96F-4931-9E1C-69C1846BF8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4E6-4F23-404C-9D87-C5C7D6215A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Тексты в памяти компьютера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лас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воичное кодирование текстовой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Как закодировать слово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031840"/>
          <a:ext cx="8229600" cy="269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20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2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1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11010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00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1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32"/>
          <p:cNvSpPr/>
          <p:nvPr/>
        </p:nvSpPr>
        <p:spPr>
          <a:xfrm>
            <a:off x="806400" y="5467320"/>
            <a:ext cx="76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Verdana"/>
              </a:rPr>
              <a:t>11001011110100111100110111000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ак узнать, какое слово закодировано двоичной последовательностью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1114560" y="5516640"/>
            <a:ext cx="66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011001110110100011100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ак узнать, какое слово закодировано двоичной последовательностью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031840"/>
          <a:ext cx="8229600" cy="269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25"/>
          <p:cNvSpPr/>
          <p:nvPr/>
        </p:nvSpPr>
        <p:spPr>
          <a:xfrm>
            <a:off x="1157040" y="5516640"/>
            <a:ext cx="69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111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1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ак узнать, какое слово закодировано двоичной последовательностью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2031840"/>
          <a:ext cx="8229600" cy="269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2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2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0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5"/>
          <p:cNvSpPr/>
          <p:nvPr/>
        </p:nvSpPr>
        <p:spPr>
          <a:xfrm>
            <a:off x="1157040" y="5516640"/>
            <a:ext cx="69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111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1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ак узнать, какое слово закодировано двоичной последовательностью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2031840"/>
          <a:ext cx="8229600" cy="269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2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2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0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25"/>
          <p:cNvSpPr/>
          <p:nvPr/>
        </p:nvSpPr>
        <p:spPr>
          <a:xfrm>
            <a:off x="1157040" y="5516640"/>
            <a:ext cx="69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111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1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одовые таблицы 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Windows 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и 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KOI8-R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197160" cy="489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395280" y="1700280"/>
          <a:ext cx="4968720" cy="2233440"/>
        </p:xfrm>
        <a:graphic>
          <a:graphicData uri="http://schemas.openxmlformats.org/drawingml/2006/table">
            <a:tbl>
              <a:tblPr/>
              <a:tblGrid>
                <a:gridCol w="1152360"/>
                <a:gridCol w="1927440"/>
                <a:gridCol w="1888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4292640"/>
          <a:ext cx="4968720" cy="2255760"/>
        </p:xfrm>
        <a:graphic>
          <a:graphicData uri="http://schemas.openxmlformats.org/drawingml/2006/table">
            <a:tbl>
              <a:tblPr/>
              <a:tblGrid>
                <a:gridCol w="1152360"/>
                <a:gridCol w="1927440"/>
                <a:gridCol w="1888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01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йНЛОЭЧЕРП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700280"/>
          <a:ext cx="8416800" cy="2376360"/>
        </p:xfrm>
        <a:graphic>
          <a:graphicData uri="http://schemas.openxmlformats.org/drawingml/2006/table">
            <a:tbl>
              <a:tblPr/>
              <a:tblGrid>
                <a:gridCol w="1530360"/>
                <a:gridCol w="765000"/>
                <a:gridCol w="765360"/>
                <a:gridCol w="765000"/>
                <a:gridCol w="765360"/>
                <a:gridCol w="765000"/>
                <a:gridCol w="765360"/>
                <a:gridCol w="765000"/>
                <a:gridCol w="765360"/>
                <a:gridCol w="765000"/>
              </a:tblGrid>
              <a:tr h="749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I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AutoShape 50"/>
          <p:cNvSpPr/>
          <p:nvPr/>
        </p:nvSpPr>
        <p:spPr>
          <a:xfrm>
            <a:off x="205092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51"/>
          <p:cNvSpPr/>
          <p:nvPr/>
        </p:nvSpPr>
        <p:spPr>
          <a:xfrm>
            <a:off x="2816280" y="2492280"/>
            <a:ext cx="649080" cy="64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649440"/>
              <a:gd name="textAreaBottom" fmla="*/ 617760 h 64944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52"/>
          <p:cNvSpPr/>
          <p:nvPr/>
        </p:nvSpPr>
        <p:spPr>
          <a:xfrm>
            <a:off x="358128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53"/>
          <p:cNvSpPr/>
          <p:nvPr/>
        </p:nvSpPr>
        <p:spPr>
          <a:xfrm>
            <a:off x="4346640" y="2492280"/>
            <a:ext cx="649080" cy="64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649440"/>
              <a:gd name="textAreaBottom" fmla="*/ 617760 h 64944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54"/>
          <p:cNvSpPr/>
          <p:nvPr/>
        </p:nvSpPr>
        <p:spPr>
          <a:xfrm>
            <a:off x="511164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55"/>
          <p:cNvSpPr/>
          <p:nvPr/>
        </p:nvSpPr>
        <p:spPr>
          <a:xfrm>
            <a:off x="5877000" y="2492280"/>
            <a:ext cx="649080" cy="64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649440"/>
              <a:gd name="textAreaBottom" fmla="*/ 617760 h 64944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56"/>
          <p:cNvSpPr/>
          <p:nvPr/>
        </p:nvSpPr>
        <p:spPr>
          <a:xfrm>
            <a:off x="664200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57"/>
          <p:cNvSpPr/>
          <p:nvPr/>
        </p:nvSpPr>
        <p:spPr>
          <a:xfrm>
            <a:off x="7407360" y="2492280"/>
            <a:ext cx="649080" cy="64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649440"/>
              <a:gd name="textAreaBottom" fmla="*/ 617760 h 64944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58"/>
          <p:cNvSpPr/>
          <p:nvPr/>
        </p:nvSpPr>
        <p:spPr>
          <a:xfrm>
            <a:off x="817236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59"/>
          <p:cNvSpPr/>
          <p:nvPr/>
        </p:nvSpPr>
        <p:spPr>
          <a:xfrm>
            <a:off x="205092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60"/>
          <p:cNvSpPr/>
          <p:nvPr/>
        </p:nvSpPr>
        <p:spPr>
          <a:xfrm>
            <a:off x="2816280" y="3357720"/>
            <a:ext cx="64908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61"/>
          <p:cNvSpPr/>
          <p:nvPr/>
        </p:nvSpPr>
        <p:spPr>
          <a:xfrm>
            <a:off x="358128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62"/>
          <p:cNvSpPr/>
          <p:nvPr/>
        </p:nvSpPr>
        <p:spPr>
          <a:xfrm>
            <a:off x="4346640" y="3357720"/>
            <a:ext cx="64908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63"/>
          <p:cNvSpPr/>
          <p:nvPr/>
        </p:nvSpPr>
        <p:spPr>
          <a:xfrm>
            <a:off x="511164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64"/>
          <p:cNvSpPr/>
          <p:nvPr/>
        </p:nvSpPr>
        <p:spPr>
          <a:xfrm>
            <a:off x="5877000" y="3357720"/>
            <a:ext cx="64908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65"/>
          <p:cNvSpPr/>
          <p:nvPr/>
        </p:nvSpPr>
        <p:spPr>
          <a:xfrm>
            <a:off x="664200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66"/>
          <p:cNvSpPr/>
          <p:nvPr/>
        </p:nvSpPr>
        <p:spPr>
          <a:xfrm>
            <a:off x="7407360" y="3357720"/>
            <a:ext cx="64908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67"/>
          <p:cNvSpPr/>
          <p:nvPr/>
        </p:nvSpPr>
        <p:spPr>
          <a:xfrm>
            <a:off x="817236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амое главное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двоичном кодировании тестовой информации каждому символу в соответствие ставитс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числовой ко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ще всего для кодирования используется цепочка из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 нулей и единиц, называема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байт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ует 256 таких цепоче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имволов и код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ется с помощью специальной </a:t>
            </a:r>
            <a:br>
              <a:rPr sz="2800"/>
            </a:b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кодовой таблиц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5076720" y="2349360"/>
            <a:ext cx="273528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6732720" y="3645000"/>
            <a:ext cx="15825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132000" y="4221000"/>
            <a:ext cx="71928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826920" y="5661000"/>
            <a:ext cx="345780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№ 6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1.3, стр. 21-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опр. 5 с. 28 пись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Вопросы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330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компьютер распознает текстовые символ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иногда вместо осмысленного текста при работе в сети Интернет мы видим на экране странные зна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такое йНЛОЭЧРЕП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585880" cy="196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40546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Как компьютер распознает текстовые символы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10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110100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двоичном кодировании текстовой информации каждому символу в соответствие ставитс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числовой ко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Как компьютер распознает текстовые символы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10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110100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двоичном кодировании тестовой информации каждому символу в соответствие ставитс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числовой ко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5076720" y="4508640"/>
            <a:ext cx="2808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оответствие символов и кодов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Соответ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мволов и кодов задается с помощью специальных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кодовых таблиц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19280" y="3500280"/>
          <a:ext cx="4968720" cy="2233800"/>
        </p:xfrm>
        <a:graphic>
          <a:graphicData uri="http://schemas.openxmlformats.org/drawingml/2006/table">
            <a:tbl>
              <a:tblPr/>
              <a:tblGrid>
                <a:gridCol w="1152360"/>
                <a:gridCol w="1927440"/>
                <a:gridCol w="1888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колько всего нужно символов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текстах мы использу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писные и строчные русские буквы Аа Бб Вв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писные и строчные латинские буквы Аа Bb Cc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ки препинания ! , ? .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ифры 0 1 2 3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ки арифметических операций + - ×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символы ( [ \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6165720"/>
            <a:ext cx="62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Достаточно 256 различных симво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имволы и байты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ще всего для кодирования используется цепочка из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 нулей и единиц, называема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байт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732720" y="2565360"/>
            <a:ext cx="151128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Фрагмент кодовой таблицы 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CP 1251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18440" cy="4572000"/>
        </p:xfrm>
        <a:graphic>
          <a:graphicData uri="http://schemas.openxmlformats.org/drawingml/2006/table">
            <a:tbl>
              <a:tblPr/>
              <a:tblGrid>
                <a:gridCol w="1628640"/>
                <a:gridCol w="3306960"/>
                <a:gridCol w="328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м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ичный к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оичный к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1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10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оответствие символов и кодов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Соответ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мволов и кодов задается с помощь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х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кодовых таблиц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аточно 256 различных символ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3419640" y="2565360"/>
            <a:ext cx="3384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059280" y="357336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51:15Z</dcterms:created>
  <dc:creator>student</dc:creator>
  <dc:description/>
  <dc:language>en-US</dc:language>
  <cp:lastModifiedBy>шщгшщ</cp:lastModifiedBy>
  <dcterms:modified xsi:type="dcterms:W3CDTF">2012-10-24T03:11:09Z</dcterms:modified>
  <cp:revision>94</cp:revision>
  <dc:subject/>
  <dc:title>Тексты в памяти компьютера</dc:title>
</cp:coreProperties>
</file>