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194-92D8-4337-BFDE-1A4B69F4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01A-35F7-4ED5-8BE2-E53D74C1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6A9-0FC7-4D16-BAF2-B649069D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A138-5CD6-419C-83B9-F066546B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DF3A-ACCB-48F8-A00F-576ECEA1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9444-D2E4-4A80-9010-35540184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E438-08B0-4A44-BAAE-05EE7037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B879-4AFD-4D32-89BE-3D1C410D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D46F-30CD-4DF7-BAB9-BFBA6488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222C-22FE-406D-9852-D96A94E4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595B-1BDF-4BF1-A814-3D4200C3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814D-F9D7-4A06-9560-5869A67F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3320-75AD-4BD1-A9C2-FC9260CA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A3C0-C133-4398-A3F9-59BFCAF2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3A84-1F62-43E1-9A9C-FEB151BF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4607-0BEC-46B3-B847-6340645A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67CC-1039-4627-B7F1-34BC1F9A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36D-DCED-4D95-84A2-741C73B8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E86-3572-4D7E-B92F-981D96E7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BF8D-79EC-4FAD-94A0-90C40B30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C26-423C-491B-910D-B544FF99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EDC-FFDF-42FE-BC7F-0B0A1DF8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E93C-9837-476E-9065-2615ACE0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930C-3504-42E7-BB19-87F3C4A3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8A8E-A0AA-406E-80A8-30B978EAFA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0DC3-B19B-4168-A444-C3E0135EE6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Тексты в памяти компьютера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клас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воичное кодирование текстовой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Как закодировать слово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2031840"/>
          <a:ext cx="8229600" cy="2692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6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20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21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0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19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01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11010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1001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110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32"/>
          <p:cNvSpPr/>
          <p:nvPr/>
        </p:nvSpPr>
        <p:spPr>
          <a:xfrm>
            <a:off x="806400" y="5467320"/>
            <a:ext cx="764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Verdana"/>
              </a:rPr>
              <a:t>110010111101001111001101110000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Как узнать, какое слово закодировано двоичной последовательностью?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1114560" y="5516640"/>
            <a:ext cx="666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10000110011101101000111000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Как узнать, какое слово закодировано двоичной последовательностью?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2031840"/>
          <a:ext cx="8229600" cy="2692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6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01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1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0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25"/>
          <p:cNvSpPr/>
          <p:nvPr/>
        </p:nvSpPr>
        <p:spPr>
          <a:xfrm>
            <a:off x="1157040" y="5516640"/>
            <a:ext cx="69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10000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01110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10001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00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Как узнать, какое слово закодировано двоичной последовательностью?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2031840"/>
          <a:ext cx="8229600" cy="2692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6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20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20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0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19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01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1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0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25"/>
          <p:cNvSpPr/>
          <p:nvPr/>
        </p:nvSpPr>
        <p:spPr>
          <a:xfrm>
            <a:off x="1157040" y="5516640"/>
            <a:ext cx="69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10000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01110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10001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00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Как узнать, какое слово закодировано двоичной последовательностью?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2031840"/>
          <a:ext cx="8229600" cy="2692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6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20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20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0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19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01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1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1100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25"/>
          <p:cNvSpPr/>
          <p:nvPr/>
        </p:nvSpPr>
        <p:spPr>
          <a:xfrm>
            <a:off x="1157040" y="5516640"/>
            <a:ext cx="69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10000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01110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10001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1" lang="ru-RU" sz="2800" spc="-1" strike="noStrike">
                <a:solidFill>
                  <a:srgbClr val="666699"/>
                </a:solidFill>
                <a:latin typeface="Verdana"/>
              </a:rPr>
              <a:t>11000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Кодовые таблицы 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Windows </a:t>
            </a: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и 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KOI8-R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5651640" y="1700280"/>
            <a:ext cx="3197160" cy="489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395280" y="1700280"/>
          <a:ext cx="4968720" cy="2233440"/>
        </p:xfrm>
        <a:graphic>
          <a:graphicData uri="http://schemas.openxmlformats.org/drawingml/2006/table">
            <a:tbl>
              <a:tblPr/>
              <a:tblGrid>
                <a:gridCol w="1152360"/>
                <a:gridCol w="1927440"/>
                <a:gridCol w="18889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Симв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Десят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Дво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1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95280" y="4292640"/>
          <a:ext cx="4968720" cy="2255760"/>
        </p:xfrm>
        <a:graphic>
          <a:graphicData uri="http://schemas.openxmlformats.org/drawingml/2006/table">
            <a:tbl>
              <a:tblPr/>
              <a:tblGrid>
                <a:gridCol w="1152360"/>
                <a:gridCol w="1927440"/>
                <a:gridCol w="18889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Симв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Десят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Дво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101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йНЛОЭЧЕРП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700280"/>
          <a:ext cx="8416800" cy="2376360"/>
        </p:xfrm>
        <a:graphic>
          <a:graphicData uri="http://schemas.openxmlformats.org/drawingml/2006/table">
            <a:tbl>
              <a:tblPr/>
              <a:tblGrid>
                <a:gridCol w="1530360"/>
                <a:gridCol w="765000"/>
                <a:gridCol w="765360"/>
                <a:gridCol w="765000"/>
                <a:gridCol w="765360"/>
                <a:gridCol w="765000"/>
                <a:gridCol w="765360"/>
                <a:gridCol w="765000"/>
                <a:gridCol w="765360"/>
                <a:gridCol w="765000"/>
              </a:tblGrid>
              <a:tr h="749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I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d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AutoShape 50"/>
          <p:cNvSpPr/>
          <p:nvPr/>
        </p:nvSpPr>
        <p:spPr>
          <a:xfrm>
            <a:off x="2050920" y="2492280"/>
            <a:ext cx="649440" cy="64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AutoShape 51"/>
          <p:cNvSpPr/>
          <p:nvPr/>
        </p:nvSpPr>
        <p:spPr>
          <a:xfrm>
            <a:off x="2816280" y="2492280"/>
            <a:ext cx="649080" cy="64944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649440"/>
              <a:gd name="textAreaBottom" fmla="*/ 617760 h 64944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AutoShape 52"/>
          <p:cNvSpPr/>
          <p:nvPr/>
        </p:nvSpPr>
        <p:spPr>
          <a:xfrm>
            <a:off x="3581280" y="2492280"/>
            <a:ext cx="649440" cy="64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53"/>
          <p:cNvSpPr/>
          <p:nvPr/>
        </p:nvSpPr>
        <p:spPr>
          <a:xfrm>
            <a:off x="4346640" y="2492280"/>
            <a:ext cx="649080" cy="64944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649440"/>
              <a:gd name="textAreaBottom" fmla="*/ 617760 h 64944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54"/>
          <p:cNvSpPr/>
          <p:nvPr/>
        </p:nvSpPr>
        <p:spPr>
          <a:xfrm>
            <a:off x="5111640" y="2492280"/>
            <a:ext cx="649440" cy="64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AutoShape 55"/>
          <p:cNvSpPr/>
          <p:nvPr/>
        </p:nvSpPr>
        <p:spPr>
          <a:xfrm>
            <a:off x="5877000" y="2492280"/>
            <a:ext cx="649080" cy="64944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649440"/>
              <a:gd name="textAreaBottom" fmla="*/ 617760 h 64944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AutoShape 56"/>
          <p:cNvSpPr/>
          <p:nvPr/>
        </p:nvSpPr>
        <p:spPr>
          <a:xfrm>
            <a:off x="6642000" y="2492280"/>
            <a:ext cx="649440" cy="64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AutoShape 57"/>
          <p:cNvSpPr/>
          <p:nvPr/>
        </p:nvSpPr>
        <p:spPr>
          <a:xfrm>
            <a:off x="7407360" y="2492280"/>
            <a:ext cx="649080" cy="64944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649440"/>
              <a:gd name="textAreaBottom" fmla="*/ 617760 h 64944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58"/>
          <p:cNvSpPr/>
          <p:nvPr/>
        </p:nvSpPr>
        <p:spPr>
          <a:xfrm>
            <a:off x="8172360" y="2492280"/>
            <a:ext cx="649440" cy="64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59"/>
          <p:cNvSpPr/>
          <p:nvPr/>
        </p:nvSpPr>
        <p:spPr>
          <a:xfrm>
            <a:off x="2050920" y="3357720"/>
            <a:ext cx="64944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60"/>
          <p:cNvSpPr/>
          <p:nvPr/>
        </p:nvSpPr>
        <p:spPr>
          <a:xfrm>
            <a:off x="2816280" y="3357720"/>
            <a:ext cx="64908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61"/>
          <p:cNvSpPr/>
          <p:nvPr/>
        </p:nvSpPr>
        <p:spPr>
          <a:xfrm>
            <a:off x="3581280" y="3357720"/>
            <a:ext cx="64944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62"/>
          <p:cNvSpPr/>
          <p:nvPr/>
        </p:nvSpPr>
        <p:spPr>
          <a:xfrm>
            <a:off x="4346640" y="3357720"/>
            <a:ext cx="64908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63"/>
          <p:cNvSpPr/>
          <p:nvPr/>
        </p:nvSpPr>
        <p:spPr>
          <a:xfrm>
            <a:off x="5111640" y="3357720"/>
            <a:ext cx="64944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64"/>
          <p:cNvSpPr/>
          <p:nvPr/>
        </p:nvSpPr>
        <p:spPr>
          <a:xfrm>
            <a:off x="5877000" y="3357720"/>
            <a:ext cx="64908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65"/>
          <p:cNvSpPr/>
          <p:nvPr/>
        </p:nvSpPr>
        <p:spPr>
          <a:xfrm>
            <a:off x="6642000" y="3357720"/>
            <a:ext cx="64944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66"/>
          <p:cNvSpPr/>
          <p:nvPr/>
        </p:nvSpPr>
        <p:spPr>
          <a:xfrm>
            <a:off x="7407360" y="3357720"/>
            <a:ext cx="64908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67"/>
          <p:cNvSpPr/>
          <p:nvPr/>
        </p:nvSpPr>
        <p:spPr>
          <a:xfrm>
            <a:off x="8172360" y="3357720"/>
            <a:ext cx="64944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Самое главное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двоичном кодировании тестовой информации каждому символу в соответствие ставится </a:t>
            </a:r>
            <a:r>
              <a:rPr b="0" lang="ru-RU" sz="2800" spc="-1" strike="noStrike">
                <a:solidFill>
                  <a:srgbClr val="666699"/>
                </a:solidFill>
                <a:latin typeface="Verdana"/>
              </a:rPr>
              <a:t>числовой код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ще всего для кодирования используется цепочка из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8 нулей и единиц, называемая </a:t>
            </a:r>
            <a:r>
              <a:rPr b="0" lang="ru-RU" sz="2800" spc="-1" strike="noStrike">
                <a:solidFill>
                  <a:srgbClr val="666699"/>
                </a:solidFill>
                <a:latin typeface="Verdana"/>
              </a:rPr>
              <a:t>байто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ществует 256 таких цепоче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имволов и кодо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ется с помощью специальной </a:t>
            </a:r>
            <a:br>
              <a:rPr sz="2800"/>
            </a:br>
            <a:r>
              <a:rPr b="0" lang="ru-RU" sz="2800" spc="-1" strike="noStrike">
                <a:solidFill>
                  <a:srgbClr val="666699"/>
                </a:solidFill>
                <a:latin typeface="Verdana"/>
              </a:rPr>
              <a:t>кодовой таблиц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5076720" y="2349360"/>
            <a:ext cx="273528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6732720" y="3645000"/>
            <a:ext cx="158256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132000" y="4221000"/>
            <a:ext cx="71928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826920" y="5661000"/>
            <a:ext cx="345780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Домашнее задание</a:t>
            </a: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№ 6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§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1.3, стр. 21-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опр. 5 с. 28 пись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Вопросы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330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компьютер распознает текстовые символ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иногда вместо осмысленного текста при работе в сети Интернет мы видим на экране странные зна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такое йНЛОЭЧРЕП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2585880" cy="1965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40546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Как компьютер распознает текстовые символы?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210 </a:t>
            </a:r>
            <a:r>
              <a:rPr b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1101001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двоичном кодировании текстовой информации каждому символу в соответствие ставится </a:t>
            </a:r>
            <a:r>
              <a:rPr b="0" lang="ru-RU" sz="2800" spc="-1" strike="noStrike">
                <a:solidFill>
                  <a:srgbClr val="666699"/>
                </a:solidFill>
                <a:latin typeface="Verdana"/>
              </a:rPr>
              <a:t>числовой код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Как компьютер распознает текстовые символы?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210 </a:t>
            </a:r>
            <a:r>
              <a:rPr b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1101001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двоичном кодировании тестовой информации каждому символу в соответствие ставится </a:t>
            </a:r>
            <a:r>
              <a:rPr b="0" lang="ru-RU" sz="2800" spc="-1" strike="noStrike">
                <a:solidFill>
                  <a:srgbClr val="666699"/>
                </a:solidFill>
                <a:latin typeface="Verdana"/>
              </a:rPr>
              <a:t>числовой код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5076720" y="4508640"/>
            <a:ext cx="280836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Соответствие символов и кодов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Verdana"/>
              </a:rPr>
              <a:t>Соответств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имволов и кодов задается с помощью специальных </a:t>
            </a:r>
            <a:r>
              <a:rPr b="0" lang="ru-RU" sz="2800" spc="-1" strike="noStrike">
                <a:solidFill>
                  <a:srgbClr val="666699"/>
                </a:solidFill>
                <a:latin typeface="Verdana"/>
              </a:rPr>
              <a:t>кодовых таблиц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619280" y="3500280"/>
          <a:ext cx="4968720" cy="2233800"/>
        </p:xfrm>
        <a:graphic>
          <a:graphicData uri="http://schemas.openxmlformats.org/drawingml/2006/table">
            <a:tbl>
              <a:tblPr/>
              <a:tblGrid>
                <a:gridCol w="1152360"/>
                <a:gridCol w="1927440"/>
                <a:gridCol w="18889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Симв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Десят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99"/>
                          </a:solidFill>
                          <a:latin typeface="Verdana"/>
                        </a:rPr>
                        <a:t>Дво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1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Сколько всего нужно символов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текстах мы использу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писные и строчные русские буквы Аа Бб Вв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писные и строчные латинские буквы Аа Bb Cc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ки препинания ! , ? .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ифры 0 1 2 3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ки арифметических операций + - ×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символы ( [ \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258920" y="6165720"/>
            <a:ext cx="62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Достаточно 256 различных символ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Символы и байты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ще всего для кодирования используется цепочка из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8 нулей и единиц, называемая </a:t>
            </a:r>
            <a:r>
              <a:rPr b="0" lang="ru-RU" sz="2800" spc="-1" strike="noStrike">
                <a:solidFill>
                  <a:srgbClr val="666699"/>
                </a:solidFill>
                <a:latin typeface="Verdana"/>
              </a:rPr>
              <a:t>байто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6732720" y="2565360"/>
            <a:ext cx="151128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Фрагмент кодовой таблицы 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CP 1251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18440" cy="4572000"/>
        </p:xfrm>
        <a:graphic>
          <a:graphicData uri="http://schemas.openxmlformats.org/drawingml/2006/table">
            <a:tbl>
              <a:tblPr/>
              <a:tblGrid>
                <a:gridCol w="1628640"/>
                <a:gridCol w="3306960"/>
                <a:gridCol w="328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мв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сятичный к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оичный к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бе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10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10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11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110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1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1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Соответствие символов и кодов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Verdana"/>
              </a:rPr>
              <a:t>Соответств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имволов и кодов задается с помощью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х </a:t>
            </a:r>
            <a:r>
              <a:rPr b="0" lang="ru-RU" sz="2800" spc="-1" strike="noStrike">
                <a:solidFill>
                  <a:srgbClr val="666699"/>
                </a:solidFill>
                <a:latin typeface="Verdana"/>
              </a:rPr>
              <a:t>кодовых таблиц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аточно 256 различных символ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3419640" y="2565360"/>
            <a:ext cx="338436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3059280" y="3573360"/>
            <a:ext cx="79200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6:51:15Z</dcterms:created>
  <dc:creator>student</dc:creator>
  <dc:description/>
  <dc:language>en-US</dc:language>
  <cp:lastModifiedBy>шщгшщ</cp:lastModifiedBy>
  <dcterms:modified xsi:type="dcterms:W3CDTF">2012-10-24T03:11:09Z</dcterms:modified>
  <cp:revision>94</cp:revision>
  <dc:subject/>
  <dc:title>Тексты в памяти компьютера</dc:title>
</cp:coreProperties>
</file>