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816-CD6A-4DB4-AB2B-135F1B62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9AE-6EFC-4872-AD73-FBC620B3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9B078-F07D-4892-8338-A5AAA474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D2F26-147D-4CF2-B852-67EFFE69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84F59-DF48-466E-85CC-8860F992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E263F-AA11-40AF-82D2-E82B8532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26D5E-9842-489D-8C12-F8519665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BB5A5-5A58-47FF-9F25-4CBF370D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8E077-9882-47EC-99FD-C3102342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D5064-2066-4331-BD25-355B6647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A9D82-7911-4065-A262-6CA8DEA7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0931D-6139-4BF5-A0E4-9A26F5F7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17E-4E40-4668-9B02-6F6F6A61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5FA38-BF8F-4692-8772-35909391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5CC2A-E346-44CF-A19B-61A4A8C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1AA16-0F90-477F-8CB3-6972BDB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7198B-48C5-4866-9A2E-8637CEF4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94A8C-F7CA-4561-A191-7600CB2C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0FE59-3ED9-456E-87C1-FACC205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0ED32-B9F3-43A9-9E0B-1C778CD9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98BA3-6290-486D-A54A-4845109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4CFBA-B6AE-4B56-BA6F-74717A0F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A1C62-1337-4C06-BB92-AA30F7FD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71F-6908-479B-B342-5D5770B8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80750-9A04-466A-98D3-BB3A5916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D8B83-FA7F-4832-ADC6-801E83EF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C0B90-AF6B-44CC-86B9-EE02563A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D17EC-2043-4838-86F8-24885CAB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EDB65-9525-4566-8D34-1131AD4B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E7DE4-3386-4304-8CCC-D188754C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A7AF8-F132-4275-9E76-6DE81E62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8D8F1-5A80-48C3-B9E3-AF286A73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20936-B3E9-41EF-BFC7-92ED8355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C3B6E-A1B6-4865-998C-49257CB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D536-A5E9-4082-A59B-709955BA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1591B-793D-48D4-B96F-F9709F16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75379-95B1-4B52-9A0C-28BCB05F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15B50-7F95-41D5-AAE8-88CDBB3C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0F928-8893-4AA5-B31A-649CAB53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F6340-7A52-469D-BFD6-7A71B95F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F458F-1BF3-4587-8863-FA90AAA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2D4A4-9243-4E33-BE5D-93C22422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A25EE-3FBD-4BE1-AFE3-38DB8EF6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238AB-A8E6-4CE3-9398-A7E852DC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B8B51-3135-43E8-9B52-6F82BCA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C4F7-D8EB-4732-A630-47DA1506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52113-C7A2-40D1-89D7-E0D33063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A6BD6-75AD-4B2A-A6D6-69639E34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17F00-FE42-4F26-84E9-4B46EC21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71677-E5E9-481A-9422-04A7DAD6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047A4-CCDD-49F1-814E-B0E428C6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48A41-385F-496D-9A7E-C23A9717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710BE-015B-4BB3-B3C6-87EE5167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B33AB-D5BA-4801-ADBF-249E23C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18A9E-AF22-4DBC-840A-A8EE71AC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C04BD-E839-40F7-ADC7-B50C5FAE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6446-EAF8-4C35-8B3F-62C5C91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839A0-132F-4013-9E33-86C11C78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977D9-993E-495A-A156-BD0B4288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5166D-A89D-4897-8EF8-AB4753CF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72151-B310-4380-AC9E-6407C65F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D8EAA-D2A7-4486-BCB3-D1A77EE7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5E034-00B8-437A-8D1C-B92970F4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123D1-2559-4BA2-B52E-93D72429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7FA3-7027-41E7-81E4-21AD5476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2270-FBFC-4A0B-A0AC-FF48376B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4E60-F6FA-400F-BE97-48EAAA3A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02EC-2F20-4E40-883C-DE23B2C7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3AE-4A21-4848-906F-029C0024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316A-BC68-4C7E-AF01-11629B2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25E1-AFA8-41A9-AE8B-4B794A77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B2D9-3953-4BC3-8B1F-BB1F7FD6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4913-43E5-4E18-ABF4-A1A95530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65A9-B40B-4131-837A-3E608862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5FCB-687A-42FA-9896-C940789C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358F-7443-4449-A8BE-4BEF3D48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714E-7DC3-48E4-98C5-500C2283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950C-AC2F-473C-8946-049FFAF1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F8DE-FD60-4387-BF5B-92263989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83A-1F75-425E-B8F1-22865A09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2F08-936C-429B-9687-F0416108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35BB-19A2-40F0-B86B-64676D4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0DAF-F475-4BCB-AA18-68508CA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BE41-0AE8-453A-B93B-D5505B7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DE0D-2F40-41A3-920E-54231ED2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9EA1-F938-4CDA-AB48-955DBFE0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3A80-7DBD-447B-B94F-5DA1A66B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1A96-81FA-4E94-AA71-0C835C53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5509-326A-4076-BD9A-49BC6BB8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DB56-A5F7-4D6B-82D6-5B30AED8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58D-E874-4F42-B108-5E2CCF8B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0659-D5E6-476E-BD91-2578BAC9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980D9-C9DA-432E-9375-24EE16BD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70537-FFC2-40C7-9AEC-E3B99A86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5D62-2333-4A0A-9616-A56E7BF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2F7A-DEA9-4254-A1A5-E3CEFC1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7394-4150-4919-8716-6CC698F2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7295-DC49-4B16-9090-89502FAC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344E-BE38-4120-ABE7-12834131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28255-6C23-45CB-B967-1C09B793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EACBB-BC91-4D60-9606-54EE04D4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F75-4B0A-4136-BD07-66EF2F88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39ADD-567C-4994-B108-883F3F69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056A9-D155-458E-BC3B-E3D817C4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D8CD-B92B-4D42-8FEF-F9FFB411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7EDC-2C01-4C7D-B426-470A8F66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CD7C8-59DA-48ED-AA88-ABC44AB5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91E16-CD35-454B-B99A-2C3BB624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54A21-97D2-4EAC-A7A9-6B62845F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1510E-EEB5-4623-B6B3-448A29CE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35CDA-0410-4869-B620-D5F85F58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7059-D75A-46AA-8F5B-0F3C495B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A07-696D-4C96-B9FF-1C9A480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26B82-7A8C-44A2-B68B-E7486A77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EFB93-3A51-40CE-B89A-4D7CAD63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48D47-8F92-4A6C-B7F8-71214860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B167-5F67-4FB7-81A6-19B4D871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30D71-BC00-4023-A2A7-5F086FB0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3E608-0FE8-4DB2-A5DA-DE9147C7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0D53E-A53E-44BC-81E6-62FB82DB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3EF7B-5970-46A1-BC86-9982D333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94EC-656E-4525-BECB-63796FDF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8FA7D-A010-4FC1-BB80-7DC7550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5AF-5E67-4ACE-BDEF-E0D34790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C8252-1FF8-4BC5-826E-DC28196E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986F0-67DD-40C0-9EF1-6B81B279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1F98A-FC0F-44E6-8495-BB77F8E8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C4136-65FA-49C8-837A-F93C972D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E742-7FFE-4B5A-8277-35A5C02A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2A83E-B432-443A-A82A-E39C329F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65B1E-CE9B-4490-A097-8C0ED79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41983-C53C-4642-AB39-572C9BE3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2D9C1-1043-4701-8DD5-F4E976DA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68496-6104-4E06-915F-A3125B31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845-63FE-4220-9AC6-362E5DB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F7C0A-D02E-4E99-9D0E-C1F3FE0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18692-4516-4EFC-BD67-8855643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AF12-BAE5-4510-8245-1D320C1E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B02B8-7243-4D71-8BD8-F99A93AD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E1E5-6749-4064-8583-1B3CE3B2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EAA6B-0CB3-4D09-BFB9-CFF9AC06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23595-022D-402C-AA6D-AE4BDDAC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63247-E725-4160-B872-C7CA8AFB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CFF5F-EF47-46BE-A96F-AECC4DEC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839A-629D-4005-ABF8-4F77668D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3E8-B2A0-4863-9E8D-730EDB4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60E27-F1E5-4B22-B520-680A958A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B2200-1292-4336-A0CC-D71EE94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09AEF-0400-4C6E-A06A-54428146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757D-6F6A-4258-B416-E00718D0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DA3C1-B00D-445D-A917-F173EB61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72418-F76B-4A7C-A7CF-4078935D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C5DDF-41A1-48EA-84BA-06A104A7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4483B-E594-4056-9BEA-B5C7D788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07046-A6C7-4F5D-93A0-22C480E8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1AC54-DFAF-4CC0-8226-31ACACCE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CB29-3640-4374-B203-553EC8676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BDA5-8622-4A65-97BD-7982AF47B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4014-BF3C-46BB-A990-3AFCFCD38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DD5C-F1E1-4A06-92A8-DAAEA9342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05D6-B84D-4F04-A6D8-0B320AB12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4AB4-81C4-4080-B56A-B18F437A50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B543-BF51-4F6F-8CF6-ED45290B8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4432-751B-4377-A112-B446C19BF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429D-FA48-4D9B-9112-1BBD73D55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A6FE-F0FA-4ADA-997E-107D2EA77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E5B7-D6CF-4163-8EE5-5258199DD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C611-5733-41EE-AC51-E2CB64D1A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6077-EFA5-47E6-8DEA-BAF351AF7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Bookman Old Style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499840" y="2927520"/>
            <a:ext cx="618660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«Категория состояния как часть ре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Работа с учебником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Упражнение 275, 27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3" descr="67ba56191dac43f469a54475669cf627.gif"/>
          <p:cNvPicPr/>
          <p:nvPr/>
        </p:nvPicPr>
        <p:blipFill>
          <a:blip r:embed="rId1"/>
          <a:stretch/>
        </p:blipFill>
        <p:spPr>
          <a:xfrm>
            <a:off x="2214720" y="3357720"/>
            <a:ext cx="5727600" cy="309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Морфологический разбор категории состоя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езмолвн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и тихо было в этом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Безмолвно – категория состо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. Было (каково?) безмолвно; состояние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2. Неизм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3. Было безмол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Контрольные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Что называется категорией состоя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Чем отличаются слова категории состояния от нареч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Упражнение 279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Рисунок 4" descr="3.gif"/>
          <p:cNvPicPr/>
          <p:nvPr/>
        </p:nvPicPr>
        <p:blipFill>
          <a:blip r:embed="rId1"/>
          <a:stretch/>
        </p:blipFill>
        <p:spPr>
          <a:xfrm>
            <a:off x="4643280" y="1714680"/>
            <a:ext cx="3976920" cy="411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Познакомиться со словами категории состояния как частью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Объяснительный дикта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85480" y="1214280"/>
            <a:ext cx="871524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(С)начала сентября воздух начинает (по)немногу холодеть. Утром вы замечаете что трава (чуть)чуть побелела. Свеж…  Лужи сплош…  засыпа(н,нн)ы листьями. (По)осеннему мелкие дожди совсем (не)похожи на летние: они идут бе..преста(н,нн)о и земля (не)просыхает скоро. Ветер дует ( без)устали разнося (далеко)далеко созревшие сем..на дерев..ев. Листья на дерев..ях нач..нают (кое)где желтеть. Поля (мало)помалу желтеют лиш…(по)прежнему зеленеет озим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Прочитайте. С помощью каких языковых средств описано состояние природы или человека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Морозило крепк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Его знобило и лом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В сосновом лесу легко дыш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Вывод: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при помощи безличных глаголов. Вспомним, какие глаголы называются безлич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 выражено состояние природы и человека в следующих предложен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небесах торжественно и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пит земля в сиянье голуб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Что же мне так больно и так тру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Жду ль чего? Жалею ли о 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man Old Style"/>
              </a:rPr>
              <a:t>Категория состояния – э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амостоятельная часть речи, которая обозначает состояние природы,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е изме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Является сказуемым в безличных предложен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Bookman Old Style"/>
              </a:rPr>
              <a:t>Срав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b0f0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Тихо </a:t>
            </a: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ответили жители,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тихо </a:t>
            </a: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проехал обо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071680" y="2361960"/>
            <a:ext cx="3459240" cy="3724200"/>
          </a:xfrm>
          <a:prstGeom prst="rect">
            <a:avLst/>
          </a:prstGeom>
          <a:noFill/>
          <a:ln w="57240">
            <a:solidFill>
              <a:srgbClr val="00b0f0"/>
            </a:solidFill>
            <a:prstDash val="dash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Тихо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в темной деревне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Слова категории состояния часто сочетаются с глаголами </a:t>
            </a: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быть, становиться, дел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Днем было жар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не стало стыд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Ему сделалось грус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Состояние может быть выражено не только в положительной, но и в сравнительной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чера ему нездоровилось, а сегодня стало луч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В комнате становилось все холодн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1:22:07Z</dcterms:created>
  <dc:creator>Admin</dc:creator>
  <dc:description/>
  <dc:language>en-US</dc:language>
  <cp:lastModifiedBy>Admin</cp:lastModifiedBy>
  <dcterms:modified xsi:type="dcterms:W3CDTF">2015-01-31T12:33:28Z</dcterms:modified>
  <cp:revision>12</cp:revision>
  <dc:subject/>
  <dc:title>Тема урока:</dc:title>
</cp:coreProperties>
</file>