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194-E899-42FE-9772-0F5ED522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748-8459-42FD-887C-2086CFF0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AAAEB-408B-4473-850A-A937F295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E42E3-99C8-4D3B-9DB0-E04471C9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46162-C682-4980-A6C9-E8341260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69463-9375-46C7-96B6-B2DB848A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E1EDB-279B-45D7-B373-2759753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7D784-E24E-4DF3-ABF1-F1D4A92E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0E0DC-76D1-470A-BFA6-0CEDB13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61B33-A58A-49BA-95ED-42D110CC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6985D-83BA-4CF8-8D04-22CD4922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EB777-43AE-42E2-910C-CBAB9DFF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343-CAA5-4E37-B9EC-6272ECC9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D411F-4F83-43B5-B61C-A4CD69F7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923A3-87FD-42C3-A620-DD09274C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593EA-9E68-46F5-AFA3-E2A92911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9A999-ED58-40B8-A5C9-8ABF5DB2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335AF-7C84-42ED-B53B-D1A73C57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82BC5-9938-441D-9078-79E4FD23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68882-FC5A-4BCD-A15B-583506F0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A4666-4F57-4D15-A72D-59A362BF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39BFE-326A-42C8-B9D9-CC0EA16C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80C4F-BFF4-48A9-97F8-DA29A74B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0D7-E39D-43B6-A8EB-0FC20C21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B7CD9-2AC1-49F2-BAD1-9352EFF8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D3D05-6CAD-4FD4-A244-56D1D00B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F4B8F-268E-47F8-919E-51BCE9D6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8E645-1578-4D48-960A-07D08CE4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00BDC-2AD4-480A-957C-E60C31FB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0DDF8-964A-4421-8AE6-A8C3E25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875A6-49D3-4F4D-99C8-9DAC1566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87926-E14E-4369-9793-C8535EA2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4D22E-722C-4728-AB97-EF042CA3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AE244-9A74-4171-9771-8B446220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5236-62D3-424D-943F-5AD41B14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8C91D-1A22-4AFC-8D87-A4B50C38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4EE9E-ADB9-4199-AC19-42D83B6E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9D69C-0750-496D-83C8-A6F3D846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B4D70-1105-4203-9A7B-7439D2E9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E5B4C-936C-4CB8-B3E6-03CD3B84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17D04-AC7E-4D03-92DF-E5FEE902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75C6B-D866-4B42-B32B-C74F3C0A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47BFD-D0B6-4409-B9C5-2E57B2C5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4B814-78A7-43DA-963F-579AEB1B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F8632-043B-49BB-9B4C-973AE009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14AB-20D6-4CE9-907D-7E356ACA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84381-19C7-4CA5-8F14-F8C97A63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CECA4-5F56-4DDE-894D-1DB63FAF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027B7-F5D3-4EBD-A5E1-6CA74723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93B11-408E-422E-A0C6-C2391FA4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B8D15-51ED-4B59-825D-EC0D0160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6F7DE-7C14-46BF-8429-C52AB7BB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7120E-00B9-45D5-8DA1-2AC03CE0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D5FC9-3C14-4DDE-A50F-F582B010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E6A30-67C2-4A47-9C47-F0E2FCAD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6660C-4884-4267-BFA7-B10AE35A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5B99-C4E5-44F8-A416-D399D93E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AB9AD-E696-48CF-ABCC-34194219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47029-F617-4552-A8B0-70F10B4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F599E-520C-4CFA-92C3-1497E1C0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CC04F-A3CF-4BB9-A3D3-9B2A46E7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2F96D-30E3-4D91-B84B-DE6BE7B3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7F3B0-0B3B-4274-B62F-BACAD602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2170D-3282-44E1-9233-A223C1D2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41F2-3BAB-415C-AC89-F482EF5A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2E3D-F044-4226-9250-45A2848B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41BC-CAF4-4EA1-B77B-0B744555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FAB1-FE5B-4513-82A2-02C27B06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CBA-DDFC-41EB-800F-A8B50130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A510-05E1-406E-A4CE-FEC3F85D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D968-AC53-4E16-9086-1EE682FF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2B88-9CE8-46C6-B761-8F67A9B0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68D1-B454-42A2-A10A-94DC5624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5284-5F8E-460D-B1E6-3419C034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2B63-D7B8-4C41-A3F9-77AEA4C4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E511-9597-4B3F-8B8D-0A4AEACE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85CD-C272-4380-9801-362866F1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0513-4AC3-4250-9528-0815DB48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C8BA-3E50-4F62-9B49-C6D2BC79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1B1-53C2-47FE-85D6-0A81E2F1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7F719-1256-4253-8E95-8BE599A2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DB87-2648-4B40-932B-9A30614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7226-88B5-4161-93CB-D92A128F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F465A-514F-41E5-A096-15773C7B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D586-2E5D-48D2-9643-95B4D2CB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EE58-36C3-4F84-9414-990C84C6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8AC3-776F-4C10-981B-D64C351A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94AB1-3798-4F56-9615-2B6B56C9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C7C3-0C80-45DE-A1E7-99E9E587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7378-2F68-43B0-9CCB-6FC07746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294-C386-4997-A6E0-72468957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D643F-4558-4C7D-97B9-A9C1AB3F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0D885-0E84-4E73-A2D3-3C0C12B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2533-2D03-451E-AEB5-4749AE4C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73CC7-747E-4853-8EFE-CAC9FE7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C28F3-2C72-4727-8117-0BF22790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1EED-53BD-4708-B14B-5C29608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79EFD-4E69-44FD-953A-E1051B1F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F732D-F809-45D0-AC33-72856985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F521B-691D-4E57-BF22-E6D0CC71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D0100-8571-4244-9C26-30A7B7B5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8E3-6479-4C42-A60F-F99C055B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A11D-D57F-411A-8109-E892295B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D199A-650D-4D9F-84D7-C5226DD4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E92D1-37CC-4537-9048-78F89405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AF2E6-EFE0-4500-B88B-87ECCACC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0968C-54D1-4F6F-AE77-C54F5C0C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AA3BF-1A11-4E95-A413-E43C6267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6EC15-B863-4CDF-B3B0-15B5BBF4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1FCFA-81EB-4702-B7E8-BCEA37B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C6E59-A134-4E54-8D07-04FC98EA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8B453-6810-459D-A091-CB65F064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40D-DD59-4AF6-A975-2852CFB0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C6F59-EE6B-44E1-97A2-E3C86154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CA32D-2F8D-4D29-B826-EF169C3F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D5273-7EF8-4B95-8F56-DEF99222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B078-4C98-403F-BEFE-9C86AED5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2A13-2830-4C8D-A654-E2A50FDA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BD019-43EC-45CA-97E8-C45DC836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4A194-8643-454E-94BD-4C34DEE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79A5A-6CBE-4AF5-8E9B-2E39C5E7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E9A71-6BAC-4363-92A9-585A73F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9110D-2730-4281-837F-47E0FEF1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E50-2DD3-4453-B4FA-50571A41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CB8D7-3034-4C6B-8A0D-C6F62E09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905E1-C681-4935-A724-6C790A12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6FBF3-26B5-4429-AB66-59664703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3D20B-A305-4451-9402-37151FBB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BE6BF-5E59-49AC-A43B-7F1D5682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DC89C-6B71-491B-AB94-ABB27054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1472C-B1F4-44EC-9CCE-47E8FBF7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E6D4A-EE37-4235-BC82-E222AF02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DB845-D93E-4E31-AADC-B4212E1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33552-3D23-4B4C-A9C2-1ECE2CB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B61-B888-4F14-A9B7-424FDF6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F669-5F4D-40B9-B7D9-D14BDD3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5318E-57EA-47F7-9DFB-21DBEC13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03487-E7DD-4D53-AB75-9FD2032F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2531F-DE6C-4881-B9E2-0BB084A2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7BD85-A40D-43A4-AD7B-B84BB167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43C78-6285-4B96-B793-1BF061FA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B743-DD26-4D13-AA34-51810B81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9662-6067-4389-BDB9-0B4DCCAC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0A4C6-ED90-42C7-89BA-606FFA48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8F7A9-37DA-40F5-BEFC-0C657256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D4B-FAFD-4EC3-A0FE-700F0546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3EEC-0ED9-4F91-9F6D-CEF60633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6810-54DC-446B-98AD-64A77C8B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475D9-55AA-43C5-B0A8-4AA314F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884CC-4A4F-43D9-85E0-C93BDEDA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97E1F-4EEC-457D-A355-DD4B7D55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F72B0-1A7C-4EA6-A0FC-11760959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A74A1-BBA3-4912-A907-BED702D6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863BC-2A12-433F-86C9-ABBE2382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D2C40-450A-4CC5-A526-25B9DFBC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CE965-F567-40FB-80AD-D20516E3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2E7B-D14D-4ED3-B64D-71F011BCF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87A1-C403-4F49-9E0F-8C24757FF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EC75-5E42-4DFD-A870-A6727D738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ECC1-F9C1-47C9-A9ED-EDDACAC83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704C-438B-4ED4-B3FE-1FE7FB28F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4E49-1D39-4ECE-8C03-CF549413AF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98CE-BC37-490A-AB82-ECBA46EB2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8D4A-A2CE-45AD-A1CB-7816BADAE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B4E8-616E-413F-A546-2E22CA827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6DF8-2D0D-455C-8AFE-DC1662D3B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18E6-7373-48F8-8DE7-48177B43D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B2B4-8F42-436B-BFEC-E26E4C7B7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4CCC-875F-4C59-B876-F732E673C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Bookman Old Style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499840" y="2927520"/>
            <a:ext cx="618660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«Категория состояния как часть ре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Работа с учебником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Упражнение 275, 27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3" descr="67ba56191dac43f469a54475669cf627.gif"/>
          <p:cNvPicPr/>
          <p:nvPr/>
        </p:nvPicPr>
        <p:blipFill>
          <a:blip r:embed="rId1"/>
          <a:stretch/>
        </p:blipFill>
        <p:spPr>
          <a:xfrm>
            <a:off x="2214720" y="3357720"/>
            <a:ext cx="5727600" cy="309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Морфологический разбор категории состоя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езмолвн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и тихо было в этом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Безмолвно – категория состо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. Было (каково?) безмолвно; состояние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2. Неизм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3. Было безмол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Контрольные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Что называется категорией состоя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Чем отличаются слова категории состояния от нареч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Упражнение 279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Рисунок 4" descr="3.gif"/>
          <p:cNvPicPr/>
          <p:nvPr/>
        </p:nvPicPr>
        <p:blipFill>
          <a:blip r:embed="rId1"/>
          <a:stretch/>
        </p:blipFill>
        <p:spPr>
          <a:xfrm>
            <a:off x="4643280" y="1714680"/>
            <a:ext cx="3976920" cy="411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Познакомиться со словами категории состояния как частью р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Объяснительный дикта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85480" y="1214280"/>
            <a:ext cx="871524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(С)начала сентября воздух начинает (по)немногу холодеть. Утром вы замечаете что трава (чуть)чуть побелела. Свеж…  Лужи сплош…  засыпа(н,нн)ы листьями. (По)осеннему мелкие дожди совсем (не)похожи на летние: они идут бе..преста(н,нн)о и земля (не)просыхает скоро. Ветер дует ( без)устали разнося (далеко)далеко созревшие сем..на дерев..ев. Листья на дерев..ях нач..нают (кое)где желтеть. Поля (мало)помалу желтеют лиш…(по)прежнему зеленеет озим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Прочитайте. С помощью каких языковых средств описано состояние природы или человека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Морозило крепк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Его знобило и лом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В сосновом лесу легко дыш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Вывод: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при помощи безличных глаголов. Вспомним, какие глаголы называются безлич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 выражено состояние природы и человека в следующих предлож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небесах торжественно и ч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пит земля в сиянье голуб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Что же мне так больно и так тру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Жду ль чего? Жалею ли о 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man Old Style"/>
              </a:rPr>
              <a:t>Категория состояния – э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амостоятельная часть речи, которая обозначает состояние природы,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е изме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Является сказуемым в безличных предложен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Bookman Old Style"/>
              </a:rPr>
              <a:t>Сравн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00b0f0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Тихо </a:t>
            </a: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ответили жители,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тихо </a:t>
            </a: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проехал обо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071680" y="2361960"/>
            <a:ext cx="3459240" cy="3724200"/>
          </a:xfrm>
          <a:prstGeom prst="rect">
            <a:avLst/>
          </a:prstGeom>
          <a:noFill/>
          <a:ln w="57240">
            <a:solidFill>
              <a:srgbClr val="00b0f0"/>
            </a:solidFill>
            <a:prstDash val="dash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Тихо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в темной деревне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Слова категории состояния часто сочетаются с глаголами </a:t>
            </a: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быть, становиться, дел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Днем было жар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не стало стыд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Ему сделалось грус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Состояние может быть выражено не только в положительной, но и в сравнительной степ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Вчера ему нездоровилось, а сегодня стало луч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В комнате становилось все холодн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1:22:07Z</dcterms:created>
  <dc:creator>Admin</dc:creator>
  <dc:description/>
  <dc:language>en-US</dc:language>
  <cp:lastModifiedBy>Admin</cp:lastModifiedBy>
  <dcterms:modified xsi:type="dcterms:W3CDTF">2015-01-31T12:33:28Z</dcterms:modified>
  <cp:revision>12</cp:revision>
  <dc:subject/>
  <dc:title>Тема урока:</dc:title>
</cp:coreProperties>
</file>