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D62-B7D7-484C-9DA1-85E16C32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53B-0A2A-420B-AE92-AE0A11E4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BC8-2A88-4BE6-8C94-84FFAE38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D2A-E099-4153-937D-59147759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540-D378-4D36-AB68-71BB7697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B5C-F12E-48CF-9F3D-10F08ED1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0B9-EDBE-46E2-A693-C0C2C09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9FC-6E8D-45E8-80C3-9F2F4059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194-7AED-4250-B84B-2304EBD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497-BFFE-4BBD-94CD-68C9484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9EB-9336-4357-8BDA-B97861D6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BDB-1423-48A4-87B1-7B06957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768-88DD-4F7D-9EDB-F09B79D71B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65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59840" cy="11952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3" descr="russia_300120071616_REG463069602.jpg"/>
          <p:cNvPicPr/>
          <p:nvPr/>
        </p:nvPicPr>
        <p:blipFill>
          <a:blip r:embed="rId2"/>
          <a:stretch/>
        </p:blipFill>
        <p:spPr>
          <a:xfrm>
            <a:off x="1071720" y="1571760"/>
            <a:ext cx="6500520" cy="488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59840" cy="132264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01043v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PICT1457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4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4461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PICT2479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72880" cy="1659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2a94f6501587.jpg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2gn3zxvsdp7ln46w.jpg"/>
          <p:cNvPicPr/>
          <p:nvPr/>
        </p:nvPicPr>
        <p:blipFill>
          <a:blip r:embed="rId2"/>
          <a:stretch/>
        </p:blipFill>
        <p:spPr>
          <a:xfrm>
            <a:off x="0" y="1474920"/>
            <a:ext cx="9144000" cy="538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3b882996d92bf650dec78c1f7cceee08.jpe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6:19:56Z</dcterms:created>
  <dc:creator>NickOn</dc:creator>
  <dc:description/>
  <dc:language>en-US</dc:language>
  <cp:lastModifiedBy>NickOn</cp:lastModifiedBy>
  <dcterms:modified xsi:type="dcterms:W3CDTF">2012-11-22T12:29:22Z</dcterms:modified>
  <cp:revision>8</cp:revision>
  <dc:subject/>
  <dc:title>Слайд 1</dc:title>
</cp:coreProperties>
</file>