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0600-71D2-4789-A2C8-33C3555CCA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CEFD-1B8A-481D-A570-93A7B6BB77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BA4-1901-4FB0-A6AE-330DF86D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9FF5-DAAB-4CE3-B9D5-095FAF75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0404-89D8-45CA-82BD-612CFB44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6109-2BD8-4629-A221-11DB922A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865-CAAD-4557-8CE3-712CDD5D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9F9-D883-4557-8161-E4A952AA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FD0-CCA9-4BCA-B1DE-A58F504E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B25-22D4-4002-ACDA-8EE9F367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E13B-B203-464D-AA5E-690F6B22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8EC-9A3E-40EA-BD6B-85B8D7D8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18B-3769-4697-A8D5-0518C80A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E27D-63FF-452E-9BCD-8792F775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A7FD-53A2-4E30-ADF7-56FB0C79CE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ение цвет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Прямоугольник с двумя вырезанными соседними углами 5"/>
          <p:cNvSpPr/>
          <p:nvPr/>
        </p:nvSpPr>
        <p:spPr>
          <a:xfrm flipV="1" rot="5400000">
            <a:off x="857160" y="2427840"/>
            <a:ext cx="1143000" cy="2428920"/>
          </a:xfrm>
          <a:custGeom>
            <a:avLst/>
            <a:gdLst/>
            <a:ahLst/>
            <a:rect l="l" t="t" r="r" b="b"/>
            <a:pathLst>
              <a:path w="1143000" h="2428875">
                <a:moveTo>
                  <a:pt x="190504" y="0"/>
                </a:moveTo>
                <a:lnTo>
                  <a:pt x="952496" y="0"/>
                </a:lnTo>
                <a:lnTo>
                  <a:pt x="1143000" y="190504"/>
                </a:lnTo>
                <a:lnTo>
                  <a:pt x="1143000" y="2428875"/>
                </a:lnTo>
                <a:lnTo>
                  <a:pt x="1143000" y="2428875"/>
                </a:lnTo>
                <a:lnTo>
                  <a:pt x="0" y="2428875"/>
                </a:lnTo>
                <a:lnTo>
                  <a:pt x="0" y="2428875"/>
                </a:lnTo>
                <a:lnTo>
                  <a:pt x="0" y="190504"/>
                </a:lnTo>
                <a:lnTo>
                  <a:pt x="190504" y="0"/>
                </a:lnTo>
                <a:close/>
              </a:path>
            </a:pathLst>
          </a:custGeom>
          <a:solidFill>
            <a:srgbClr val="ff388c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7"/>
          <p:cNvSpPr/>
          <p:nvPr/>
        </p:nvSpPr>
        <p:spPr>
          <a:xfrm>
            <a:off x="2428920" y="3571920"/>
            <a:ext cx="5286240" cy="0"/>
          </a:xfrm>
          <a:prstGeom prst="line">
            <a:avLst/>
          </a:prstGeom>
          <a:ln w="3816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9"/>
          <p:cNvSpPr/>
          <p:nvPr/>
        </p:nvSpPr>
        <p:spPr>
          <a:xfrm flipV="1">
            <a:off x="3071160" y="1571400"/>
            <a:ext cx="785880" cy="192852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12"/>
          <p:cNvSpPr/>
          <p:nvPr/>
        </p:nvSpPr>
        <p:spPr>
          <a:xfrm flipV="1">
            <a:off x="4214160" y="1714320"/>
            <a:ext cx="785880" cy="185724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3"/>
          <p:cNvSpPr/>
          <p:nvPr/>
        </p:nvSpPr>
        <p:spPr>
          <a:xfrm flipV="1">
            <a:off x="5643000" y="1785600"/>
            <a:ext cx="857160" cy="178596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15"/>
          <p:cNvSpPr/>
          <p:nvPr/>
        </p:nvSpPr>
        <p:spPr>
          <a:xfrm flipH="1" flipV="1">
            <a:off x="3071880" y="3571920"/>
            <a:ext cx="928800" cy="164304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7"/>
          <p:cNvSpPr/>
          <p:nvPr/>
        </p:nvSpPr>
        <p:spPr>
          <a:xfrm flipH="1" flipV="1">
            <a:off x="4214880" y="3571920"/>
            <a:ext cx="928800" cy="171432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8"/>
          <p:cNvSpPr/>
          <p:nvPr/>
        </p:nvSpPr>
        <p:spPr>
          <a:xfrm flipH="1" flipV="1">
            <a:off x="5643720" y="3571560"/>
            <a:ext cx="1000080" cy="178596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5"/>
          <p:cNvSpPr/>
          <p:nvPr/>
        </p:nvSpPr>
        <p:spPr>
          <a:xfrm rot="17458200">
            <a:off x="2599200" y="2110320"/>
            <a:ext cx="231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оцве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6"/>
          <p:cNvSpPr/>
          <p:nvPr/>
        </p:nvSpPr>
        <p:spPr>
          <a:xfrm rot="17686200">
            <a:off x="4207320" y="239724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е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7"/>
          <p:cNvSpPr/>
          <p:nvPr/>
        </p:nvSpPr>
        <p:spPr>
          <a:xfrm rot="17538600">
            <a:off x="5434200" y="2439000"/>
            <a:ext cx="18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ч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Равнобедренный треугольник 35"/>
          <p:cNvSpPr/>
          <p:nvPr/>
        </p:nvSpPr>
        <p:spPr>
          <a:xfrm rot="16200000">
            <a:off x="6286320" y="2143080"/>
            <a:ext cx="2857680" cy="2857320"/>
          </a:xfrm>
          <a:prstGeom prst="triangle">
            <a:avLst>
              <a:gd name="adj" fmla="val 50750"/>
            </a:avLst>
          </a:prstGeom>
          <a:solidFill>
            <a:srgbClr val="ff388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6"/>
          <p:cNvSpPr/>
          <p:nvPr/>
        </p:nvSpPr>
        <p:spPr>
          <a:xfrm rot="14326200">
            <a:off x="2574720" y="408348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38"/>
          <p:cNvSpPr/>
          <p:nvPr/>
        </p:nvSpPr>
        <p:spPr>
          <a:xfrm rot="14491200">
            <a:off x="3038760" y="4070520"/>
            <a:ext cx="17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лечение насеко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0"/>
          <p:cNvSpPr/>
          <p:nvPr/>
        </p:nvSpPr>
        <p:spPr>
          <a:xfrm rot="14526600">
            <a:off x="4057920" y="3992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зование плод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сем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41"/>
          <p:cNvSpPr/>
          <p:nvPr/>
        </p:nvSpPr>
        <p:spPr>
          <a:xfrm rot="14474400">
            <a:off x="5416200" y="3730680"/>
            <a:ext cx="219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ыльцы с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рм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3"/>
          <p:cNvSpPr/>
          <p:nvPr/>
        </p:nvSpPr>
        <p:spPr>
          <a:xfrm>
            <a:off x="2714760" y="285840"/>
            <a:ext cx="428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4"/>
          <p:cNvSpPr/>
          <p:nvPr/>
        </p:nvSpPr>
        <p:spPr>
          <a:xfrm>
            <a:off x="4000680" y="5715000"/>
            <a:ext cx="300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8"/>
          <p:cNvSpPr/>
          <p:nvPr/>
        </p:nvSpPr>
        <p:spPr>
          <a:xfrm>
            <a:off x="428760" y="33577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ть цвел цветок и в нужный срок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в том беда, не дал плода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жской цвето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еполые  цв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Хорда 3"/>
          <p:cNvSpPr/>
          <p:nvPr/>
        </p:nvSpPr>
        <p:spPr>
          <a:xfrm rot="6718200">
            <a:off x="3636720" y="4065480"/>
            <a:ext cx="1285920" cy="1285920"/>
          </a:xfrm>
          <a:custGeom>
            <a:avLst/>
            <a:gdLst/>
            <a:ahLst/>
            <a:rect l="l" t="t" r="r" b="b"/>
            <a:pathLst>
              <a:path w="1285875" h="1285875">
                <a:moveTo>
                  <a:pt x="1097563" y="1097563"/>
                </a:moveTo>
                <a:cubicBezTo>
                  <a:pt x="891797" y="1303329"/>
                  <a:pt x="573479" y="1345237"/>
                  <a:pt x="321468" y="1199738"/>
                </a:cubicBezTo>
                <a:cubicBezTo>
                  <a:pt x="69457" y="1054239"/>
                  <a:pt x="-53409" y="757615"/>
                  <a:pt x="21907" y="476533"/>
                </a:cubicBezTo>
                <a:cubicBezTo>
                  <a:pt x="97223" y="195451"/>
                  <a:pt x="351940" y="0"/>
                  <a:pt x="642937" y="0"/>
                </a:cubicBezTo>
                <a:lnTo>
                  <a:pt x="1097563" y="1097563"/>
                </a:lnTo>
                <a:close/>
              </a:path>
            </a:pathLst>
          </a:custGeom>
          <a:solidFill>
            <a:srgbClr val="0066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Капля 4"/>
          <p:cNvSpPr/>
          <p:nvPr/>
        </p:nvSpPr>
        <p:spPr>
          <a:xfrm rot="10800000">
            <a:off x="4857480" y="3000240"/>
            <a:ext cx="2786040" cy="1857600"/>
          </a:xfrm>
          <a:custGeom>
            <a:avLst/>
            <a:gdLst/>
            <a:ahLst/>
            <a:rect l="l" t="t" r="r" b="b"/>
            <a:pathLst>
              <a:path w="2786063" h="1857375">
                <a:moveTo>
                  <a:pt x="0" y="928688"/>
                </a:moveTo>
                <a:cubicBezTo>
                  <a:pt x="0" y="415788"/>
                  <a:pt x="623682" y="0"/>
                  <a:pt x="1393032" y="0"/>
                </a:cubicBezTo>
                <a:cubicBezTo>
                  <a:pt x="1913185" y="0"/>
                  <a:pt x="2433338" y="-37206"/>
                  <a:pt x="2953491" y="-111619"/>
                </a:cubicBezTo>
                <a:cubicBezTo>
                  <a:pt x="2841872" y="235150"/>
                  <a:pt x="2786063" y="581919"/>
                  <a:pt x="2786063" y="928688"/>
                </a:cubicBezTo>
                <a:cubicBezTo>
                  <a:pt x="2786063" y="1441588"/>
                  <a:pt x="2162381" y="1857376"/>
                  <a:pt x="1393031" y="1857376"/>
                </a:cubicBezTo>
                <a:cubicBezTo>
                  <a:pt x="623681" y="1857376"/>
                  <a:pt x="-1" y="1441588"/>
                  <a:pt x="-1" y="928688"/>
                </a:cubicBezTo>
                <a:lnTo>
                  <a:pt x="0" y="92868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Капля 6"/>
          <p:cNvSpPr/>
          <p:nvPr/>
        </p:nvSpPr>
        <p:spPr>
          <a:xfrm rot="5163600">
            <a:off x="1258920" y="2611440"/>
            <a:ext cx="1874880" cy="2843280"/>
          </a:xfrm>
          <a:custGeom>
            <a:avLst/>
            <a:gdLst/>
            <a:ahLst/>
            <a:rect l="l" t="t" r="r" b="b"/>
            <a:pathLst>
              <a:path w="1874838" h="2843213">
                <a:moveTo>
                  <a:pt x="0" y="1421607"/>
                </a:moveTo>
                <a:cubicBezTo>
                  <a:pt x="0" y="636475"/>
                  <a:pt x="419697" y="0"/>
                  <a:pt x="937419" y="0"/>
                </a:cubicBezTo>
                <a:cubicBezTo>
                  <a:pt x="1287326" y="0"/>
                  <a:pt x="1637234" y="-56769"/>
                  <a:pt x="1987141" y="-170308"/>
                </a:cubicBezTo>
                <a:cubicBezTo>
                  <a:pt x="1912272" y="360330"/>
                  <a:pt x="1874838" y="890968"/>
                  <a:pt x="1874838" y="1421607"/>
                </a:cubicBezTo>
                <a:cubicBezTo>
                  <a:pt x="1874838" y="2206739"/>
                  <a:pt x="1455141" y="2843214"/>
                  <a:pt x="937419" y="2843214"/>
                </a:cubicBezTo>
                <a:cubicBezTo>
                  <a:pt x="419697" y="2843214"/>
                  <a:pt x="0" y="2206739"/>
                  <a:pt x="0" y="1421607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3929040" y="2571840"/>
            <a:ext cx="642960" cy="157140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8"/>
          <p:cNvSpPr/>
          <p:nvPr/>
        </p:nvSpPr>
        <p:spPr>
          <a:xfrm>
            <a:off x="3571920" y="2500200"/>
            <a:ext cx="135720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Равнобедренный треугольник 9"/>
          <p:cNvSpPr/>
          <p:nvPr/>
        </p:nvSpPr>
        <p:spPr>
          <a:xfrm rot="10800000">
            <a:off x="3857400" y="4928760"/>
            <a:ext cx="857160" cy="785880"/>
          </a:xfrm>
          <a:prstGeom prst="triangle">
            <a:avLst>
              <a:gd name="adj" fmla="val 53606"/>
            </a:avLst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11"/>
          <p:cNvSpPr/>
          <p:nvPr/>
        </p:nvSpPr>
        <p:spPr>
          <a:xfrm>
            <a:off x="4071960" y="5357880"/>
            <a:ext cx="428760" cy="50004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10"/>
          <p:cNvSpPr/>
          <p:nvPr/>
        </p:nvSpPr>
        <p:spPr>
          <a:xfrm>
            <a:off x="7286760" y="1643040"/>
            <a:ext cx="428400" cy="428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13"/>
          <p:cNvSpPr/>
          <p:nvPr/>
        </p:nvSpPr>
        <p:spPr>
          <a:xfrm flipH="1">
            <a:off x="7500960" y="2071800"/>
            <a:ext cx="1440" cy="28548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16"/>
          <p:cNvSpPr/>
          <p:nvPr/>
        </p:nvSpPr>
        <p:spPr>
          <a:xfrm>
            <a:off x="7358040" y="2214720"/>
            <a:ext cx="28584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15"/>
          <p:cNvSpPr/>
          <p:nvPr/>
        </p:nvSpPr>
        <p:spPr>
          <a:xfrm flipH="1">
            <a:off x="4642920" y="2357280"/>
            <a:ext cx="785880" cy="185760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18"/>
          <p:cNvSpPr/>
          <p:nvPr/>
        </p:nvSpPr>
        <p:spPr>
          <a:xfrm>
            <a:off x="3000240" y="2357280"/>
            <a:ext cx="857520" cy="185760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Овал 22"/>
          <p:cNvSpPr/>
          <p:nvPr/>
        </p:nvSpPr>
        <p:spPr>
          <a:xfrm rot="1393800">
            <a:off x="5191200" y="2026800"/>
            <a:ext cx="57132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Овал 23"/>
          <p:cNvSpPr/>
          <p:nvPr/>
        </p:nvSpPr>
        <p:spPr>
          <a:xfrm rot="20800200">
            <a:off x="2550600" y="2061720"/>
            <a:ext cx="57168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Прямая со стрелкой 25"/>
          <p:cNvCxnSpPr/>
          <p:nvPr/>
        </p:nvCxnSpPr>
        <p:spPr>
          <a:xfrm flipV="1">
            <a:off x="7572240" y="1285560"/>
            <a:ext cx="207360" cy="34992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187" name="Прямоугольник 19"/>
          <p:cNvSpPr/>
          <p:nvPr/>
        </p:nvSpPr>
        <p:spPr>
          <a:xfrm>
            <a:off x="3429000" y="5072040"/>
            <a:ext cx="57168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0"/>
          <p:cNvSpPr/>
          <p:nvPr/>
        </p:nvSpPr>
        <p:spPr>
          <a:xfrm>
            <a:off x="4572000" y="5072040"/>
            <a:ext cx="56196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ские (пестичные) цв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Хорда 3"/>
          <p:cNvSpPr/>
          <p:nvPr/>
        </p:nvSpPr>
        <p:spPr>
          <a:xfrm rot="6718200">
            <a:off x="3636720" y="4065480"/>
            <a:ext cx="1285920" cy="1285920"/>
          </a:xfrm>
          <a:custGeom>
            <a:avLst/>
            <a:gdLst/>
            <a:ahLst/>
            <a:rect l="l" t="t" r="r" b="b"/>
            <a:pathLst>
              <a:path w="1285875" h="1285875">
                <a:moveTo>
                  <a:pt x="1097563" y="1097563"/>
                </a:moveTo>
                <a:cubicBezTo>
                  <a:pt x="891797" y="1303329"/>
                  <a:pt x="573479" y="1345237"/>
                  <a:pt x="321468" y="1199738"/>
                </a:cubicBezTo>
                <a:cubicBezTo>
                  <a:pt x="69457" y="1054239"/>
                  <a:pt x="-53409" y="757615"/>
                  <a:pt x="21907" y="476533"/>
                </a:cubicBezTo>
                <a:cubicBezTo>
                  <a:pt x="97223" y="195451"/>
                  <a:pt x="351940" y="0"/>
                  <a:pt x="642937" y="0"/>
                </a:cubicBezTo>
                <a:lnTo>
                  <a:pt x="1097563" y="1097563"/>
                </a:lnTo>
                <a:close/>
              </a:path>
            </a:pathLst>
          </a:custGeom>
          <a:solidFill>
            <a:srgbClr val="0066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Капля 4"/>
          <p:cNvSpPr/>
          <p:nvPr/>
        </p:nvSpPr>
        <p:spPr>
          <a:xfrm rot="10800000">
            <a:off x="4857480" y="3000240"/>
            <a:ext cx="2786040" cy="1857600"/>
          </a:xfrm>
          <a:custGeom>
            <a:avLst/>
            <a:gdLst/>
            <a:ahLst/>
            <a:rect l="l" t="t" r="r" b="b"/>
            <a:pathLst>
              <a:path w="2786063" h="1857375">
                <a:moveTo>
                  <a:pt x="0" y="928688"/>
                </a:moveTo>
                <a:cubicBezTo>
                  <a:pt x="0" y="415788"/>
                  <a:pt x="623682" y="0"/>
                  <a:pt x="1393032" y="0"/>
                </a:cubicBezTo>
                <a:cubicBezTo>
                  <a:pt x="1913185" y="0"/>
                  <a:pt x="2433338" y="-37206"/>
                  <a:pt x="2953491" y="-111619"/>
                </a:cubicBezTo>
                <a:cubicBezTo>
                  <a:pt x="2841872" y="235150"/>
                  <a:pt x="2786063" y="581919"/>
                  <a:pt x="2786063" y="928688"/>
                </a:cubicBezTo>
                <a:cubicBezTo>
                  <a:pt x="2786063" y="1441588"/>
                  <a:pt x="2162381" y="1857376"/>
                  <a:pt x="1393031" y="1857376"/>
                </a:cubicBezTo>
                <a:cubicBezTo>
                  <a:pt x="623681" y="1857376"/>
                  <a:pt x="-1" y="1441588"/>
                  <a:pt x="-1" y="928688"/>
                </a:cubicBezTo>
                <a:lnTo>
                  <a:pt x="0" y="92868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Капля 6"/>
          <p:cNvSpPr/>
          <p:nvPr/>
        </p:nvSpPr>
        <p:spPr>
          <a:xfrm rot="5163600">
            <a:off x="1258920" y="2611440"/>
            <a:ext cx="1874880" cy="2843280"/>
          </a:xfrm>
          <a:custGeom>
            <a:avLst/>
            <a:gdLst/>
            <a:ahLst/>
            <a:rect l="l" t="t" r="r" b="b"/>
            <a:pathLst>
              <a:path w="1874838" h="2843213">
                <a:moveTo>
                  <a:pt x="0" y="1421607"/>
                </a:moveTo>
                <a:cubicBezTo>
                  <a:pt x="0" y="636475"/>
                  <a:pt x="419697" y="0"/>
                  <a:pt x="937419" y="0"/>
                </a:cubicBezTo>
                <a:cubicBezTo>
                  <a:pt x="1287326" y="0"/>
                  <a:pt x="1637234" y="-56769"/>
                  <a:pt x="1987141" y="-170308"/>
                </a:cubicBezTo>
                <a:cubicBezTo>
                  <a:pt x="1912272" y="360330"/>
                  <a:pt x="1874838" y="890968"/>
                  <a:pt x="1874838" y="1421607"/>
                </a:cubicBezTo>
                <a:cubicBezTo>
                  <a:pt x="1874838" y="2206739"/>
                  <a:pt x="1455141" y="2843214"/>
                  <a:pt x="937419" y="2843214"/>
                </a:cubicBezTo>
                <a:cubicBezTo>
                  <a:pt x="419697" y="2843214"/>
                  <a:pt x="0" y="2206739"/>
                  <a:pt x="0" y="1421607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7"/>
          <p:cNvSpPr/>
          <p:nvPr/>
        </p:nvSpPr>
        <p:spPr>
          <a:xfrm>
            <a:off x="3929040" y="2571840"/>
            <a:ext cx="642960" cy="157140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8"/>
          <p:cNvSpPr/>
          <p:nvPr/>
        </p:nvSpPr>
        <p:spPr>
          <a:xfrm>
            <a:off x="3571920" y="2500200"/>
            <a:ext cx="135720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Равнобедренный треугольник 9"/>
          <p:cNvSpPr/>
          <p:nvPr/>
        </p:nvSpPr>
        <p:spPr>
          <a:xfrm rot="10800000">
            <a:off x="3857400" y="4928760"/>
            <a:ext cx="857160" cy="785880"/>
          </a:xfrm>
          <a:prstGeom prst="triangle">
            <a:avLst>
              <a:gd name="adj" fmla="val 53606"/>
            </a:avLst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1"/>
          <p:cNvSpPr/>
          <p:nvPr/>
        </p:nvSpPr>
        <p:spPr>
          <a:xfrm>
            <a:off x="4071960" y="5357880"/>
            <a:ext cx="428760" cy="50004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Овал 10"/>
          <p:cNvSpPr/>
          <p:nvPr/>
        </p:nvSpPr>
        <p:spPr>
          <a:xfrm>
            <a:off x="7286760" y="1643040"/>
            <a:ext cx="428400" cy="428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13"/>
          <p:cNvSpPr/>
          <p:nvPr/>
        </p:nvSpPr>
        <p:spPr>
          <a:xfrm flipH="1">
            <a:off x="7500960" y="2071800"/>
            <a:ext cx="1440" cy="285480"/>
          </a:xfrm>
          <a:prstGeom prst="line">
            <a:avLst/>
          </a:prstGeom>
          <a:ln w="572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16"/>
          <p:cNvSpPr/>
          <p:nvPr/>
        </p:nvSpPr>
        <p:spPr>
          <a:xfrm>
            <a:off x="7358040" y="2214720"/>
            <a:ext cx="285840" cy="1440"/>
          </a:xfrm>
          <a:prstGeom prst="line">
            <a:avLst/>
          </a:prstGeom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3429000" y="5072040"/>
            <a:ext cx="57168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5"/>
          <p:cNvSpPr/>
          <p:nvPr/>
        </p:nvSpPr>
        <p:spPr>
          <a:xfrm>
            <a:off x="4572000" y="5072040"/>
            <a:ext cx="56196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жские (тычиночные) цве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Хорда 3"/>
          <p:cNvSpPr/>
          <p:nvPr/>
        </p:nvSpPr>
        <p:spPr>
          <a:xfrm rot="6718200">
            <a:off x="3636720" y="4065480"/>
            <a:ext cx="1285920" cy="1285920"/>
          </a:xfrm>
          <a:custGeom>
            <a:avLst/>
            <a:gdLst/>
            <a:ahLst/>
            <a:rect l="l" t="t" r="r" b="b"/>
            <a:pathLst>
              <a:path w="1285875" h="1285875">
                <a:moveTo>
                  <a:pt x="1097563" y="1097563"/>
                </a:moveTo>
                <a:cubicBezTo>
                  <a:pt x="891797" y="1303329"/>
                  <a:pt x="573479" y="1345237"/>
                  <a:pt x="321468" y="1199738"/>
                </a:cubicBezTo>
                <a:cubicBezTo>
                  <a:pt x="69457" y="1054239"/>
                  <a:pt x="-53409" y="757615"/>
                  <a:pt x="21907" y="476533"/>
                </a:cubicBezTo>
                <a:cubicBezTo>
                  <a:pt x="97223" y="195451"/>
                  <a:pt x="351940" y="0"/>
                  <a:pt x="642937" y="0"/>
                </a:cubicBezTo>
                <a:lnTo>
                  <a:pt x="1097563" y="1097563"/>
                </a:lnTo>
                <a:close/>
              </a:path>
            </a:pathLst>
          </a:custGeom>
          <a:solidFill>
            <a:srgbClr val="0066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Капля 4"/>
          <p:cNvSpPr/>
          <p:nvPr/>
        </p:nvSpPr>
        <p:spPr>
          <a:xfrm rot="10800000">
            <a:off x="4857480" y="3000240"/>
            <a:ext cx="2786040" cy="1857600"/>
          </a:xfrm>
          <a:custGeom>
            <a:avLst/>
            <a:gdLst/>
            <a:ahLst/>
            <a:rect l="l" t="t" r="r" b="b"/>
            <a:pathLst>
              <a:path w="2786063" h="1857375">
                <a:moveTo>
                  <a:pt x="0" y="928688"/>
                </a:moveTo>
                <a:cubicBezTo>
                  <a:pt x="0" y="415788"/>
                  <a:pt x="623682" y="0"/>
                  <a:pt x="1393032" y="0"/>
                </a:cubicBezTo>
                <a:cubicBezTo>
                  <a:pt x="1913185" y="0"/>
                  <a:pt x="2433338" y="-37206"/>
                  <a:pt x="2953491" y="-111619"/>
                </a:cubicBezTo>
                <a:cubicBezTo>
                  <a:pt x="2841872" y="235150"/>
                  <a:pt x="2786063" y="581919"/>
                  <a:pt x="2786063" y="928688"/>
                </a:cubicBezTo>
                <a:cubicBezTo>
                  <a:pt x="2786063" y="1441588"/>
                  <a:pt x="2162381" y="1857376"/>
                  <a:pt x="1393031" y="1857376"/>
                </a:cubicBezTo>
                <a:cubicBezTo>
                  <a:pt x="623681" y="1857376"/>
                  <a:pt x="-1" y="1441588"/>
                  <a:pt x="-1" y="928688"/>
                </a:cubicBezTo>
                <a:lnTo>
                  <a:pt x="0" y="92868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Капля 6"/>
          <p:cNvSpPr/>
          <p:nvPr/>
        </p:nvSpPr>
        <p:spPr>
          <a:xfrm rot="5163600">
            <a:off x="1258920" y="2611440"/>
            <a:ext cx="1874880" cy="2843280"/>
          </a:xfrm>
          <a:custGeom>
            <a:avLst/>
            <a:gdLst/>
            <a:ahLst/>
            <a:rect l="l" t="t" r="r" b="b"/>
            <a:pathLst>
              <a:path w="1874838" h="2843213">
                <a:moveTo>
                  <a:pt x="0" y="1421607"/>
                </a:moveTo>
                <a:cubicBezTo>
                  <a:pt x="0" y="636475"/>
                  <a:pt x="419697" y="0"/>
                  <a:pt x="937419" y="0"/>
                </a:cubicBezTo>
                <a:cubicBezTo>
                  <a:pt x="1287326" y="0"/>
                  <a:pt x="1637234" y="-56769"/>
                  <a:pt x="1987141" y="-170308"/>
                </a:cubicBezTo>
                <a:cubicBezTo>
                  <a:pt x="1912272" y="360330"/>
                  <a:pt x="1874838" y="890968"/>
                  <a:pt x="1874838" y="1421607"/>
                </a:cubicBezTo>
                <a:cubicBezTo>
                  <a:pt x="1874838" y="2206739"/>
                  <a:pt x="1455141" y="2843214"/>
                  <a:pt x="937419" y="2843214"/>
                </a:cubicBezTo>
                <a:cubicBezTo>
                  <a:pt x="419697" y="2843214"/>
                  <a:pt x="0" y="2206739"/>
                  <a:pt x="0" y="1421607"/>
                </a:cubicBezTo>
                <a:close/>
              </a:path>
            </a:pathLst>
          </a:custGeom>
          <a:solidFill>
            <a:srgbClr val="ff0000"/>
          </a:solidFill>
          <a:ln w="25560">
            <a:solidFill>
              <a:srgbClr val="bc266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Равнобедренный треугольник 9"/>
          <p:cNvSpPr/>
          <p:nvPr/>
        </p:nvSpPr>
        <p:spPr>
          <a:xfrm rot="10800000">
            <a:off x="3857400" y="4928760"/>
            <a:ext cx="857160" cy="785880"/>
          </a:xfrm>
          <a:prstGeom prst="triangle">
            <a:avLst>
              <a:gd name="adj" fmla="val 53606"/>
            </a:avLst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1"/>
          <p:cNvSpPr/>
          <p:nvPr/>
        </p:nvSpPr>
        <p:spPr>
          <a:xfrm>
            <a:off x="4071960" y="5357880"/>
            <a:ext cx="428760" cy="50004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3"/>
          <p:cNvSpPr/>
          <p:nvPr/>
        </p:nvSpPr>
        <p:spPr>
          <a:xfrm>
            <a:off x="3571200" y="2428920"/>
            <a:ext cx="428760" cy="17143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4"/>
          <p:cNvSpPr/>
          <p:nvPr/>
        </p:nvSpPr>
        <p:spPr>
          <a:xfrm flipH="1">
            <a:off x="4571640" y="2428920"/>
            <a:ext cx="428760" cy="171432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20"/>
          <p:cNvSpPr/>
          <p:nvPr/>
        </p:nvSpPr>
        <p:spPr>
          <a:xfrm flipH="1">
            <a:off x="4285800" y="2143080"/>
            <a:ext cx="1800" cy="1928880"/>
          </a:xfrm>
          <a:prstGeom prst="line">
            <a:avLst/>
          </a:prstGeom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25"/>
          <p:cNvSpPr/>
          <p:nvPr/>
        </p:nvSpPr>
        <p:spPr>
          <a:xfrm>
            <a:off x="3214800" y="2143080"/>
            <a:ext cx="50004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26"/>
          <p:cNvSpPr/>
          <p:nvPr/>
        </p:nvSpPr>
        <p:spPr>
          <a:xfrm>
            <a:off x="4071960" y="1928880"/>
            <a:ext cx="50004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28"/>
          <p:cNvSpPr/>
          <p:nvPr/>
        </p:nvSpPr>
        <p:spPr>
          <a:xfrm>
            <a:off x="4786200" y="2143080"/>
            <a:ext cx="500040" cy="3571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29"/>
          <p:cNvSpPr/>
          <p:nvPr/>
        </p:nvSpPr>
        <p:spPr>
          <a:xfrm>
            <a:off x="7286760" y="2143080"/>
            <a:ext cx="428400" cy="428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Прямая со стрелкой 31"/>
          <p:cNvCxnSpPr/>
          <p:nvPr/>
        </p:nvCxnSpPr>
        <p:spPr>
          <a:xfrm flipV="1">
            <a:off x="7643880" y="1928520"/>
            <a:ext cx="357840" cy="2865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218" name="Прямоугольник 16"/>
          <p:cNvSpPr/>
          <p:nvPr/>
        </p:nvSpPr>
        <p:spPr>
          <a:xfrm>
            <a:off x="4572000" y="5072040"/>
            <a:ext cx="57168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17"/>
          <p:cNvSpPr/>
          <p:nvPr/>
        </p:nvSpPr>
        <p:spPr>
          <a:xfrm>
            <a:off x="3429000" y="5072040"/>
            <a:ext cx="571680" cy="142920"/>
          </a:xfrm>
          <a:prstGeom prst="rect">
            <a:avLst/>
          </a:prstGeom>
          <a:solidFill>
            <a:srgbClr val="00660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Овал 3"/>
          <p:cNvSpPr/>
          <p:nvPr/>
        </p:nvSpPr>
        <p:spPr>
          <a:xfrm>
            <a:off x="500040" y="1357200"/>
            <a:ext cx="3214800" cy="1285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епо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4"/>
          <p:cNvSpPr/>
          <p:nvPr/>
        </p:nvSpPr>
        <p:spPr>
          <a:xfrm>
            <a:off x="5000760" y="1357200"/>
            <a:ext cx="3429000" cy="1285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пол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5"/>
          <p:cNvSpPr/>
          <p:nvPr/>
        </p:nvSpPr>
        <p:spPr>
          <a:xfrm>
            <a:off x="785880" y="3929040"/>
            <a:ext cx="2500200" cy="1643040"/>
          </a:xfrm>
          <a:prstGeom prst="rect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чинки и пестики в одном цве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6"/>
          <p:cNvSpPr/>
          <p:nvPr/>
        </p:nvSpPr>
        <p:spPr>
          <a:xfrm>
            <a:off x="3857760" y="3571920"/>
            <a:ext cx="2357280" cy="1000080"/>
          </a:xfrm>
          <a:prstGeom prst="rect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сти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7"/>
          <p:cNvSpPr/>
          <p:nvPr/>
        </p:nvSpPr>
        <p:spPr>
          <a:xfrm>
            <a:off x="6572160" y="3571920"/>
            <a:ext cx="2357640" cy="1000080"/>
          </a:xfrm>
          <a:prstGeom prst="rect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чино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7" name="Прямая со стрелкой 9"/>
          <p:cNvCxnSpPr/>
          <p:nvPr/>
        </p:nvCxnSpPr>
        <p:spPr>
          <a:xfrm flipH="1">
            <a:off x="5142960" y="2642760"/>
            <a:ext cx="500760" cy="71532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228" name="Прямая со стрелкой 11"/>
          <p:cNvCxnSpPr/>
          <p:nvPr/>
        </p:nvCxnSpPr>
        <p:spPr>
          <a:xfrm flipH="1">
            <a:off x="2142360" y="2786040"/>
            <a:ext cx="2520" cy="10008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229" name="Прямая со стрелкой 14"/>
          <p:cNvCxnSpPr/>
          <p:nvPr/>
        </p:nvCxnSpPr>
        <p:spPr>
          <a:xfrm>
            <a:off x="7571160" y="2714760"/>
            <a:ext cx="358200" cy="64332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30" name="Овал 12"/>
          <p:cNvSpPr/>
          <p:nvPr/>
        </p:nvSpPr>
        <p:spPr>
          <a:xfrm>
            <a:off x="1785960" y="5857920"/>
            <a:ext cx="428760" cy="428760"/>
          </a:xfrm>
          <a:prstGeom prst="ellipse">
            <a:avLst/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Прямая со стрелкой 15"/>
          <p:cNvCxnSpPr/>
          <p:nvPr/>
        </p:nvCxnSpPr>
        <p:spPr>
          <a:xfrm flipV="1">
            <a:off x="7857000" y="4928760"/>
            <a:ext cx="214920" cy="2865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2" name="Прямая соединительная линия 18"/>
          <p:cNvSpPr/>
          <p:nvPr/>
        </p:nvSpPr>
        <p:spPr>
          <a:xfrm flipH="1">
            <a:off x="1999800" y="6286680"/>
            <a:ext cx="1800" cy="28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20"/>
          <p:cNvSpPr/>
          <p:nvPr/>
        </p:nvSpPr>
        <p:spPr>
          <a:xfrm flipH="1" flipV="1">
            <a:off x="1857240" y="6428880"/>
            <a:ext cx="2858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35"/>
          <p:cNvSpPr/>
          <p:nvPr/>
        </p:nvSpPr>
        <p:spPr>
          <a:xfrm>
            <a:off x="4714920" y="5072040"/>
            <a:ext cx="428760" cy="428760"/>
          </a:xfrm>
          <a:prstGeom prst="ellipse">
            <a:avLst/>
          </a:prstGeom>
          <a:solidFill>
            <a:srgbClr val="4f81bd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Овал 36"/>
          <p:cNvSpPr/>
          <p:nvPr/>
        </p:nvSpPr>
        <p:spPr>
          <a:xfrm>
            <a:off x="7572240" y="5143680"/>
            <a:ext cx="428760" cy="428400"/>
          </a:xfrm>
          <a:prstGeom prst="ellipse">
            <a:avLst/>
          </a:prstGeom>
          <a:solidFill>
            <a:srgbClr val="2c71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Прямая со стрелкой 37"/>
          <p:cNvCxnSpPr/>
          <p:nvPr/>
        </p:nvCxnSpPr>
        <p:spPr>
          <a:xfrm flipV="1">
            <a:off x="2143080" y="5785560"/>
            <a:ext cx="286560" cy="135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Прямая соединительная линия 45"/>
          <p:cNvSpPr/>
          <p:nvPr/>
        </p:nvSpPr>
        <p:spPr>
          <a:xfrm flipH="1">
            <a:off x="4928760" y="550224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48"/>
          <p:cNvSpPr/>
          <p:nvPr/>
        </p:nvSpPr>
        <p:spPr>
          <a:xfrm>
            <a:off x="4786200" y="5643720"/>
            <a:ext cx="28584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ния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Овал 3"/>
          <p:cNvSpPr/>
          <p:nvPr/>
        </p:nvSpPr>
        <p:spPr>
          <a:xfrm>
            <a:off x="357120" y="1214280"/>
            <a:ext cx="3643560" cy="100044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до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4"/>
          <p:cNvSpPr/>
          <p:nvPr/>
        </p:nvSpPr>
        <p:spPr>
          <a:xfrm>
            <a:off x="4714920" y="1214280"/>
            <a:ext cx="4000320" cy="100044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удом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6"/>
          <p:cNvSpPr/>
          <p:nvPr/>
        </p:nvSpPr>
        <p:spPr>
          <a:xfrm flipH="1">
            <a:off x="2498760" y="2571840"/>
            <a:ext cx="1440" cy="243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7"/>
          <p:cNvSpPr/>
          <p:nvPr/>
        </p:nvSpPr>
        <p:spPr>
          <a:xfrm>
            <a:off x="3000240" y="2714760"/>
            <a:ext cx="1143000" cy="1143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8"/>
          <p:cNvSpPr/>
          <p:nvPr/>
        </p:nvSpPr>
        <p:spPr>
          <a:xfrm>
            <a:off x="857160" y="2571840"/>
            <a:ext cx="1143000" cy="1143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10"/>
          <p:cNvSpPr/>
          <p:nvPr/>
        </p:nvSpPr>
        <p:spPr>
          <a:xfrm flipH="1">
            <a:off x="5500800" y="3929040"/>
            <a:ext cx="428400" cy="428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11"/>
          <p:cNvSpPr/>
          <p:nvPr/>
        </p:nvSpPr>
        <p:spPr>
          <a:xfrm>
            <a:off x="1928880" y="3429000"/>
            <a:ext cx="571320" cy="500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ая соединительная линия 15"/>
          <p:cNvSpPr/>
          <p:nvPr/>
        </p:nvSpPr>
        <p:spPr>
          <a:xfrm flipH="1">
            <a:off x="5500800" y="3000240"/>
            <a:ext cx="1440" cy="2286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ая соединительная линия 26"/>
          <p:cNvSpPr/>
          <p:nvPr/>
        </p:nvSpPr>
        <p:spPr>
          <a:xfrm flipH="1">
            <a:off x="7214760" y="2857680"/>
            <a:ext cx="1800" cy="243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28"/>
          <p:cNvSpPr/>
          <p:nvPr/>
        </p:nvSpPr>
        <p:spPr>
          <a:xfrm>
            <a:off x="7715160" y="2714760"/>
            <a:ext cx="1133640" cy="11430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29"/>
          <p:cNvSpPr/>
          <p:nvPr/>
        </p:nvSpPr>
        <p:spPr>
          <a:xfrm>
            <a:off x="5786280" y="3000240"/>
            <a:ext cx="1143000" cy="1143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30"/>
          <p:cNvSpPr/>
          <p:nvPr/>
        </p:nvSpPr>
        <p:spPr>
          <a:xfrm flipH="1">
            <a:off x="7215120" y="3571200"/>
            <a:ext cx="571680" cy="5000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32"/>
          <p:cNvSpPr/>
          <p:nvPr/>
        </p:nvSpPr>
        <p:spPr>
          <a:xfrm flipH="1">
            <a:off x="2500200" y="3643200"/>
            <a:ext cx="642960" cy="642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7"/>
          <p:cNvSpPr/>
          <p:nvPr/>
        </p:nvSpPr>
        <p:spPr>
          <a:xfrm>
            <a:off x="0" y="55008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урцы, тыква, кукур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8"/>
          <p:cNvSpPr/>
          <p:nvPr/>
        </p:nvSpPr>
        <p:spPr>
          <a:xfrm>
            <a:off x="4786200" y="5357880"/>
            <a:ext cx="40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, тополь, облепиха, крап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20"/>
          <p:cNvSpPr/>
          <p:nvPr/>
        </p:nvSpPr>
        <p:spPr>
          <a:xfrm>
            <a:off x="8281440" y="3857760"/>
            <a:ext cx="4680" cy="500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22"/>
          <p:cNvSpPr/>
          <p:nvPr/>
        </p:nvSpPr>
        <p:spPr>
          <a:xfrm>
            <a:off x="8072280" y="4071960"/>
            <a:ext cx="42876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27"/>
          <p:cNvSpPr/>
          <p:nvPr/>
        </p:nvSpPr>
        <p:spPr>
          <a:xfrm>
            <a:off x="3571200" y="3857760"/>
            <a:ext cx="4680" cy="500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31"/>
          <p:cNvSpPr/>
          <p:nvPr/>
        </p:nvSpPr>
        <p:spPr>
          <a:xfrm>
            <a:off x="3357720" y="4071960"/>
            <a:ext cx="428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Прямая со стрелкой 34"/>
          <p:cNvCxnSpPr/>
          <p:nvPr/>
        </p:nvCxnSpPr>
        <p:spPr>
          <a:xfrm flipV="1">
            <a:off x="1856160" y="2428560"/>
            <a:ext cx="358200" cy="357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0" name="Прямая со стрелкой 36"/>
          <p:cNvCxnSpPr/>
          <p:nvPr/>
        </p:nvCxnSpPr>
        <p:spPr>
          <a:xfrm flipV="1">
            <a:off x="6715080" y="2785680"/>
            <a:ext cx="357840" cy="3578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Овал 3"/>
          <p:cNvSpPr/>
          <p:nvPr/>
        </p:nvSpPr>
        <p:spPr>
          <a:xfrm>
            <a:off x="3786120" y="3000240"/>
            <a:ext cx="1428840" cy="1214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88c"/>
                </a:solidFill>
                <a:latin typeface="Times New Roman"/>
                <a:ea typeface="Times New Roman"/>
              </a:rPr>
              <a:t>цве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Прямая со стрелкой 5"/>
          <p:cNvCxnSpPr>
            <a:stCxn id="263" idx="6"/>
          </p:cNvCxnSpPr>
          <p:nvPr/>
        </p:nvCxnSpPr>
        <p:spPr>
          <a:xfrm flipV="1">
            <a:off x="5214960" y="3571200"/>
            <a:ext cx="2929680" cy="37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5" name="Прямая со стрелкой 7"/>
          <p:cNvCxnSpPr>
            <a:stCxn id="263" idx="2"/>
          </p:cNvCxnSpPr>
          <p:nvPr/>
        </p:nvCxnSpPr>
        <p:spPr>
          <a:xfrm flipH="1">
            <a:off x="642240" y="3607200"/>
            <a:ext cx="3143880" cy="356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6" name="Прямая со стрелкой 9"/>
          <p:cNvCxnSpPr/>
          <p:nvPr/>
        </p:nvCxnSpPr>
        <p:spPr>
          <a:xfrm flipV="1">
            <a:off x="4500720" y="428400"/>
            <a:ext cx="2160" cy="26438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67" name="Прямая со стрелкой 12"/>
          <p:cNvCxnSpPr/>
          <p:nvPr/>
        </p:nvCxnSpPr>
        <p:spPr>
          <a:xfrm flipH="1">
            <a:off x="4500360" y="4286160"/>
            <a:ext cx="2160" cy="257256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8" name="TextBox 14"/>
          <p:cNvSpPr/>
          <p:nvPr/>
        </p:nvSpPr>
        <p:spPr>
          <a:xfrm>
            <a:off x="357120" y="278604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Форм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7"/>
          <p:cNvSpPr/>
          <p:nvPr/>
        </p:nvSpPr>
        <p:spPr>
          <a:xfrm>
            <a:off x="4500720" y="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ест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9"/>
          <p:cNvSpPr/>
          <p:nvPr/>
        </p:nvSpPr>
        <p:spPr>
          <a:xfrm>
            <a:off x="7286760" y="29289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Тыч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0"/>
          <p:cNvSpPr/>
          <p:nvPr/>
        </p:nvSpPr>
        <p:spPr>
          <a:xfrm>
            <a:off x="2714760" y="63579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23"/>
          <p:cNvSpPr/>
          <p:nvPr/>
        </p:nvSpPr>
        <p:spPr>
          <a:xfrm>
            <a:off x="3357720" y="3571920"/>
            <a:ext cx="14256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24"/>
          <p:cNvSpPr/>
          <p:nvPr/>
        </p:nvSpPr>
        <p:spPr>
          <a:xfrm>
            <a:off x="2643120" y="357192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Овал 25"/>
          <p:cNvSpPr/>
          <p:nvPr/>
        </p:nvSpPr>
        <p:spPr>
          <a:xfrm>
            <a:off x="1928880" y="357192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Овал 26"/>
          <p:cNvSpPr/>
          <p:nvPr/>
        </p:nvSpPr>
        <p:spPr>
          <a:xfrm>
            <a:off x="1285920" y="357192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Овал 27"/>
          <p:cNvSpPr/>
          <p:nvPr/>
        </p:nvSpPr>
        <p:spPr>
          <a:xfrm>
            <a:off x="5715000" y="350028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Овал 28"/>
          <p:cNvSpPr/>
          <p:nvPr/>
        </p:nvSpPr>
        <p:spPr>
          <a:xfrm>
            <a:off x="6929280" y="350028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Овал 29"/>
          <p:cNvSpPr/>
          <p:nvPr/>
        </p:nvSpPr>
        <p:spPr>
          <a:xfrm>
            <a:off x="4429080" y="242892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30"/>
          <p:cNvSpPr/>
          <p:nvPr/>
        </p:nvSpPr>
        <p:spPr>
          <a:xfrm>
            <a:off x="4429080" y="1714680"/>
            <a:ext cx="142920" cy="14256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31"/>
          <p:cNvSpPr/>
          <p:nvPr/>
        </p:nvSpPr>
        <p:spPr>
          <a:xfrm>
            <a:off x="4429080" y="928800"/>
            <a:ext cx="11736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32"/>
          <p:cNvSpPr/>
          <p:nvPr/>
        </p:nvSpPr>
        <p:spPr>
          <a:xfrm>
            <a:off x="4429080" y="4500720"/>
            <a:ext cx="142920" cy="14256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Овал 33"/>
          <p:cNvSpPr/>
          <p:nvPr/>
        </p:nvSpPr>
        <p:spPr>
          <a:xfrm>
            <a:off x="4429080" y="492912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вал 34"/>
          <p:cNvSpPr/>
          <p:nvPr/>
        </p:nvSpPr>
        <p:spPr>
          <a:xfrm flipH="1">
            <a:off x="4428360" y="528624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Овал 35"/>
          <p:cNvSpPr/>
          <p:nvPr/>
        </p:nvSpPr>
        <p:spPr>
          <a:xfrm flipH="1">
            <a:off x="4428360" y="571500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3214800" y="385776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38"/>
          <p:cNvSpPr/>
          <p:nvPr/>
        </p:nvSpPr>
        <p:spPr>
          <a:xfrm>
            <a:off x="2500200" y="3857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39"/>
          <p:cNvSpPr/>
          <p:nvPr/>
        </p:nvSpPr>
        <p:spPr>
          <a:xfrm>
            <a:off x="1857240" y="38577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40"/>
          <p:cNvSpPr/>
          <p:nvPr/>
        </p:nvSpPr>
        <p:spPr>
          <a:xfrm>
            <a:off x="1214280" y="385776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1"/>
          <p:cNvSpPr/>
          <p:nvPr/>
        </p:nvSpPr>
        <p:spPr>
          <a:xfrm>
            <a:off x="4643280" y="2357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ы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2"/>
          <p:cNvSpPr/>
          <p:nvPr/>
        </p:nvSpPr>
        <p:spPr>
          <a:xfrm>
            <a:off x="4643280" y="642960"/>
            <a:ext cx="16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3"/>
          <p:cNvSpPr/>
          <p:nvPr/>
        </p:nvSpPr>
        <p:spPr>
          <a:xfrm>
            <a:off x="4714920" y="1500120"/>
            <a:ext cx="42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б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Прямая со стрелкой 45"/>
          <p:cNvCxnSpPr/>
          <p:nvPr/>
        </p:nvCxnSpPr>
        <p:spPr>
          <a:xfrm flipV="1">
            <a:off x="4857840" y="4358520"/>
            <a:ext cx="2160" cy="4294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3" name="5-конечная звезда 72"/>
          <p:cNvSpPr/>
          <p:nvPr/>
        </p:nvSpPr>
        <p:spPr>
          <a:xfrm>
            <a:off x="3857760" y="4786200"/>
            <a:ext cx="485640" cy="428760"/>
          </a:xfrm>
          <a:custGeom>
            <a:avLst/>
            <a:gdLst/>
            <a:ahLst/>
            <a:rect l="l" t="t" r="r" b="b"/>
            <a:pathLst>
              <a:path w="485775" h="428625">
                <a:moveTo>
                  <a:pt x="1" y="163720"/>
                </a:moveTo>
                <a:lnTo>
                  <a:pt x="242888" y="236937"/>
                </a:lnTo>
                <a:lnTo>
                  <a:pt x="242888" y="0"/>
                </a:lnTo>
                <a:lnTo>
                  <a:pt x="242888" y="236937"/>
                </a:lnTo>
                <a:lnTo>
                  <a:pt x="485774" y="163720"/>
                </a:lnTo>
                <a:lnTo>
                  <a:pt x="242888" y="236937"/>
                </a:lnTo>
                <a:lnTo>
                  <a:pt x="393000" y="428624"/>
                </a:lnTo>
                <a:lnTo>
                  <a:pt x="242888" y="236937"/>
                </a:lnTo>
                <a:lnTo>
                  <a:pt x="92775" y="428624"/>
                </a:lnTo>
                <a:lnTo>
                  <a:pt x="242888" y="236937"/>
                </a:lnTo>
                <a:lnTo>
                  <a:pt x="1" y="163720"/>
                </a:lnTo>
                <a:close/>
              </a:path>
            </a:pathLst>
          </a:custGeom>
          <a:solidFill>
            <a:srgbClr val="ff388c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73"/>
          <p:cNvSpPr/>
          <p:nvPr/>
        </p:nvSpPr>
        <p:spPr>
          <a:xfrm>
            <a:off x="4643280" y="521496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74"/>
          <p:cNvSpPr/>
          <p:nvPr/>
        </p:nvSpPr>
        <p:spPr>
          <a:xfrm>
            <a:off x="4000680" y="5643720"/>
            <a:ext cx="28548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Прямая со стрелкой 76"/>
          <p:cNvCxnSpPr>
            <a:stCxn id="294" idx="7"/>
          </p:cNvCxnSpPr>
          <p:nvPr/>
        </p:nvCxnSpPr>
        <p:spPr>
          <a:xfrm flipV="1">
            <a:off x="4888080" y="5000760"/>
            <a:ext cx="327600" cy="2559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7" name="Прямая соединительная линия 80"/>
          <p:cNvSpPr/>
          <p:nvPr/>
        </p:nvSpPr>
        <p:spPr>
          <a:xfrm flipH="1">
            <a:off x="4141800" y="5931000"/>
            <a:ext cx="1440" cy="21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81"/>
          <p:cNvSpPr/>
          <p:nvPr/>
        </p:nvSpPr>
        <p:spPr>
          <a:xfrm>
            <a:off x="4786200" y="60721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84"/>
          <p:cNvSpPr/>
          <p:nvPr/>
        </p:nvSpPr>
        <p:spPr>
          <a:xfrm>
            <a:off x="4000680" y="6000840"/>
            <a:ext cx="2854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 88"/>
          <p:cNvSpPr/>
          <p:nvPr/>
        </p:nvSpPr>
        <p:spPr>
          <a:xfrm>
            <a:off x="4429080" y="6215040"/>
            <a:ext cx="142920" cy="142920"/>
          </a:xfrm>
          <a:prstGeom prst="ellips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90"/>
          <p:cNvSpPr/>
          <p:nvPr/>
        </p:nvSpPr>
        <p:spPr>
          <a:xfrm flipH="1">
            <a:off x="4928760" y="6357960"/>
            <a:ext cx="1800" cy="214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96"/>
          <p:cNvSpPr/>
          <p:nvPr/>
        </p:nvSpPr>
        <p:spPr>
          <a:xfrm>
            <a:off x="4786200" y="6429240"/>
            <a:ext cx="28584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Прямая со стрелкой 99"/>
          <p:cNvCxnSpPr/>
          <p:nvPr/>
        </p:nvCxnSpPr>
        <p:spPr>
          <a:xfrm flipV="1">
            <a:off x="5000760" y="5857200"/>
            <a:ext cx="255960" cy="214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TextBox 101"/>
          <p:cNvSpPr/>
          <p:nvPr/>
        </p:nvSpPr>
        <p:spPr>
          <a:xfrm>
            <a:off x="5072040" y="378612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чиночная 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02"/>
          <p:cNvSpPr/>
          <p:nvPr/>
        </p:nvSpPr>
        <p:spPr>
          <a:xfrm>
            <a:off x="7000920" y="371484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ы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579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Заполните схе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2071800"/>
            <a:ext cx="8929800" cy="43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2786040" y="1071720"/>
            <a:ext cx="3500640" cy="92844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ы 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1214280" y="2214720"/>
            <a:ext cx="2214720" cy="71424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гет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6143760" y="2286000"/>
            <a:ext cx="2000160" cy="71424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"/>
          <p:cNvSpPr/>
          <p:nvPr/>
        </p:nvSpPr>
        <p:spPr>
          <a:xfrm>
            <a:off x="571680" y="3643200"/>
            <a:ext cx="1285560" cy="57168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7"/>
          <p:cNvSpPr/>
          <p:nvPr/>
        </p:nvSpPr>
        <p:spPr>
          <a:xfrm>
            <a:off x="2714760" y="3643200"/>
            <a:ext cx="1357200" cy="57168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8"/>
          <p:cNvSpPr/>
          <p:nvPr/>
        </p:nvSpPr>
        <p:spPr>
          <a:xfrm>
            <a:off x="5143680" y="3714840"/>
            <a:ext cx="1000080" cy="42840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в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9"/>
          <p:cNvSpPr/>
          <p:nvPr/>
        </p:nvSpPr>
        <p:spPr>
          <a:xfrm>
            <a:off x="6572160" y="3714840"/>
            <a:ext cx="1000080" cy="42840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0"/>
          <p:cNvSpPr/>
          <p:nvPr/>
        </p:nvSpPr>
        <p:spPr>
          <a:xfrm>
            <a:off x="8001000" y="3714840"/>
            <a:ext cx="928800" cy="42840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1"/>
          <p:cNvSpPr/>
          <p:nvPr/>
        </p:nvSpPr>
        <p:spPr>
          <a:xfrm>
            <a:off x="1071720" y="5143680"/>
            <a:ext cx="1357200" cy="57132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2714760" y="5143680"/>
            <a:ext cx="1214280" cy="57132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4286160" y="5143680"/>
            <a:ext cx="1214640" cy="571320"/>
          </a:xfrm>
          <a:prstGeom prst="rect">
            <a:avLst/>
          </a:prstGeom>
          <a:solidFill>
            <a:srgbClr val="ff388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Прямая со стрелкой 16"/>
          <p:cNvCxnSpPr/>
          <p:nvPr/>
        </p:nvCxnSpPr>
        <p:spPr>
          <a:xfrm flipH="1">
            <a:off x="1142280" y="3000240"/>
            <a:ext cx="50076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64" name="Прямая со стрелкой 18"/>
          <p:cNvCxnSpPr/>
          <p:nvPr/>
        </p:nvCxnSpPr>
        <p:spPr>
          <a:xfrm>
            <a:off x="2642040" y="3000240"/>
            <a:ext cx="42948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65" name="Прямая со стрелкой 23"/>
          <p:cNvCxnSpPr/>
          <p:nvPr/>
        </p:nvCxnSpPr>
        <p:spPr>
          <a:xfrm>
            <a:off x="8142840" y="3071520"/>
            <a:ext cx="429480" cy="57204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66" name="Прямая со стрелкой 27"/>
          <p:cNvCxnSpPr/>
          <p:nvPr/>
        </p:nvCxnSpPr>
        <p:spPr>
          <a:xfrm flipH="1">
            <a:off x="7071480" y="3071880"/>
            <a:ext cx="2520" cy="64332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67" name="Прямая со стрелкой 32"/>
          <p:cNvCxnSpPr/>
          <p:nvPr/>
        </p:nvCxnSpPr>
        <p:spPr>
          <a:xfrm flipH="1">
            <a:off x="1928160" y="4357800"/>
            <a:ext cx="786600" cy="71496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68" name="Прямая со стрелкой 34"/>
          <p:cNvCxnSpPr/>
          <p:nvPr/>
        </p:nvCxnSpPr>
        <p:spPr>
          <a:xfrm>
            <a:off x="3356640" y="4357800"/>
            <a:ext cx="1080" cy="71496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69" name="Прямая со стрелкой 41"/>
          <p:cNvCxnSpPr/>
          <p:nvPr/>
        </p:nvCxnSpPr>
        <p:spPr>
          <a:xfrm>
            <a:off x="3999600" y="4357800"/>
            <a:ext cx="572040" cy="64332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70" name="Прямая со стрелкой 45"/>
          <p:cNvCxnSpPr/>
          <p:nvPr/>
        </p:nvCxnSpPr>
        <p:spPr>
          <a:xfrm flipH="1">
            <a:off x="5643000" y="3071520"/>
            <a:ext cx="500760" cy="57204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71" name="Прямая со стрелкой 48"/>
          <p:cNvCxnSpPr/>
          <p:nvPr/>
        </p:nvCxnSpPr>
        <p:spPr>
          <a:xfrm flipH="1">
            <a:off x="1928160" y="1500120"/>
            <a:ext cx="78660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72" name="Прямая со стрелкой 49"/>
          <p:cNvCxnSpPr/>
          <p:nvPr/>
        </p:nvCxnSpPr>
        <p:spPr>
          <a:xfrm>
            <a:off x="6429240" y="1500120"/>
            <a:ext cx="929520" cy="572400"/>
          </a:xfrm>
          <a:prstGeom prst="straightConnector1">
            <a:avLst/>
          </a:prstGeom>
          <a:ln w="57240">
            <a:solidFill>
              <a:srgbClr val="fe328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-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строение цве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 виды цве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крыть биологическое значение частей цвет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D:\Мои документы\101_PANA\P1010950.JPG"/>
          <p:cNvPicPr/>
          <p:nvPr/>
        </p:nvPicPr>
        <p:blipFill>
          <a:blip r:embed="rId1"/>
          <a:stretch/>
        </p:blipFill>
        <p:spPr>
          <a:xfrm>
            <a:off x="4857840" y="50004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D:\Мои документы\101_PANA\P1010932.JPG"/>
          <p:cNvPicPr/>
          <p:nvPr/>
        </p:nvPicPr>
        <p:blipFill>
          <a:blip r:embed="rId2"/>
          <a:stretch/>
        </p:blipFill>
        <p:spPr>
          <a:xfrm>
            <a:off x="571680" y="500040"/>
            <a:ext cx="3857400" cy="2892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7972"/>
          <p:cNvPicPr/>
          <p:nvPr/>
        </p:nvPicPr>
        <p:blipFill>
          <a:blip r:embed="rId3"/>
          <a:stretch/>
        </p:blipFill>
        <p:spPr>
          <a:xfrm>
            <a:off x="4714920" y="3643200"/>
            <a:ext cx="4000320" cy="3000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P1000305"/>
          <p:cNvPicPr/>
          <p:nvPr/>
        </p:nvPicPr>
        <p:blipFill>
          <a:blip r:embed="rId4"/>
          <a:stretch/>
        </p:blipFill>
        <p:spPr>
          <a:xfrm>
            <a:off x="474840" y="3571920"/>
            <a:ext cx="4025880" cy="3286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P8260010"/>
          <p:cNvPicPr/>
          <p:nvPr/>
        </p:nvPicPr>
        <p:blipFill>
          <a:blip r:embed="rId5"/>
          <a:stretch/>
        </p:blipFill>
        <p:spPr>
          <a:xfrm>
            <a:off x="3857760" y="0"/>
            <a:ext cx="4572000" cy="3738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P1010831"/>
          <p:cNvPicPr/>
          <p:nvPr/>
        </p:nvPicPr>
        <p:blipFill>
          <a:blip r:embed="rId6"/>
          <a:stretch/>
        </p:blipFill>
        <p:spPr>
          <a:xfrm>
            <a:off x="1285920" y="2714760"/>
            <a:ext cx="45054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Содержимое 3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5297760" cy="6126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84" name="Прямоугольник 4"/>
          <p:cNvSpPr/>
          <p:nvPr/>
        </p:nvSpPr>
        <p:spPr>
          <a:xfrm>
            <a:off x="4857840" y="571680"/>
            <a:ext cx="42840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4857840" y="235728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4857840" y="3857760"/>
            <a:ext cx="42840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4214880" y="14292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714760" y="35712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4"/>
          <p:cNvSpPr/>
          <p:nvPr/>
        </p:nvSpPr>
        <p:spPr>
          <a:xfrm>
            <a:off x="3357720" y="8571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5"/>
          <p:cNvSpPr/>
          <p:nvPr/>
        </p:nvSpPr>
        <p:spPr>
          <a:xfrm>
            <a:off x="3500280" y="2071800"/>
            <a:ext cx="357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6"/>
          <p:cNvSpPr/>
          <p:nvPr/>
        </p:nvSpPr>
        <p:spPr>
          <a:xfrm>
            <a:off x="428760" y="342900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7"/>
          <p:cNvSpPr/>
          <p:nvPr/>
        </p:nvSpPr>
        <p:spPr>
          <a:xfrm>
            <a:off x="642960" y="52149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8"/>
          <p:cNvSpPr/>
          <p:nvPr/>
        </p:nvSpPr>
        <p:spPr>
          <a:xfrm>
            <a:off x="1928880" y="578628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9"/>
          <p:cNvSpPr/>
          <p:nvPr/>
        </p:nvSpPr>
        <p:spPr>
          <a:xfrm>
            <a:off x="2714760" y="592920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5715000" y="642960"/>
            <a:ext cx="3429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исуйте схему цвет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пишите  его част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гадайте загад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шка есть – не для водицы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венок – не для девиц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лоцвет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58040" cy="1417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околоцвет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9" descr="1124_aec13656"/>
          <p:cNvPicPr/>
          <p:nvPr/>
        </p:nvPicPr>
        <p:blipFill>
          <a:blip r:embed="rId1"/>
          <a:stretch/>
        </p:blipFill>
        <p:spPr>
          <a:xfrm>
            <a:off x="5072040" y="2143080"/>
            <a:ext cx="3643200" cy="36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convallaria"/>
          <p:cNvPicPr/>
          <p:nvPr/>
        </p:nvPicPr>
        <p:blipFill>
          <a:blip r:embed="rId2"/>
          <a:stretch/>
        </p:blipFill>
        <p:spPr>
          <a:xfrm>
            <a:off x="285840" y="2214720"/>
            <a:ext cx="3863880" cy="3460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0"/>
          <p:cNvSpPr/>
          <p:nvPr/>
        </p:nvSpPr>
        <p:spPr>
          <a:xfrm>
            <a:off x="857160" y="15717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6215040" y="15717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й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00040" y="5715000"/>
            <a:ext cx="400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листочки одинаков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12"/>
          <p:cNvCxnSpPr/>
          <p:nvPr/>
        </p:nvCxnSpPr>
        <p:spPr>
          <a:xfrm flipH="1">
            <a:off x="1642680" y="1000080"/>
            <a:ext cx="572400" cy="6433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5" name="Прямая со стрелкой 13"/>
          <p:cNvCxnSpPr/>
          <p:nvPr/>
        </p:nvCxnSpPr>
        <p:spPr>
          <a:xfrm>
            <a:off x="6856920" y="999720"/>
            <a:ext cx="500760" cy="71532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/>
          <p:nvPr/>
        </p:nvCxnSpPr>
        <p:spPr>
          <a:xfrm flipV="1">
            <a:off x="784800" y="4214160"/>
            <a:ext cx="1572120" cy="15721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7" name="TextBox 18"/>
          <p:cNvSpPr/>
          <p:nvPr/>
        </p:nvSpPr>
        <p:spPr>
          <a:xfrm>
            <a:off x="3786120" y="592920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н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 стрелкой 19"/>
          <p:cNvCxnSpPr/>
          <p:nvPr/>
        </p:nvCxnSpPr>
        <p:spPr>
          <a:xfrm flipH="1" flipV="1">
            <a:off x="7428960" y="4071240"/>
            <a:ext cx="929160" cy="207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" name="TextBox 21"/>
          <p:cNvSpPr/>
          <p:nvPr/>
        </p:nvSpPr>
        <p:spPr>
          <a:xfrm>
            <a:off x="7215120" y="60008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ш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22"/>
          <p:cNvCxnSpPr/>
          <p:nvPr/>
        </p:nvCxnSpPr>
        <p:spPr>
          <a:xfrm flipV="1">
            <a:off x="4499640" y="4428720"/>
            <a:ext cx="1572120" cy="15724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ы цвет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0_82f0_33ce45d9_XL"/>
          <p:cNvPicPr/>
          <p:nvPr/>
        </p:nvPicPr>
        <p:blipFill>
          <a:blip r:embed="rId1"/>
          <a:stretch/>
        </p:blipFill>
        <p:spPr>
          <a:xfrm>
            <a:off x="5072040" y="2500200"/>
            <a:ext cx="3500640" cy="33908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ая соединительная линия 15"/>
          <p:cNvSpPr/>
          <p:nvPr/>
        </p:nvSpPr>
        <p:spPr>
          <a:xfrm flipH="1">
            <a:off x="5785920" y="1714680"/>
            <a:ext cx="2000520" cy="492912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9"/>
          <p:cNvSpPr/>
          <p:nvPr/>
        </p:nvSpPr>
        <p:spPr>
          <a:xfrm>
            <a:off x="4572000" y="2000160"/>
            <a:ext cx="4071960" cy="400068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1"/>
          <p:cNvSpPr/>
          <p:nvPr/>
        </p:nvSpPr>
        <p:spPr>
          <a:xfrm flipV="1">
            <a:off x="4357800" y="3357720"/>
            <a:ext cx="4786200" cy="171432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928800" y="62150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2"/>
          <p:cNvSpPr/>
          <p:nvPr/>
        </p:nvSpPr>
        <p:spPr>
          <a:xfrm flipH="1">
            <a:off x="2428560" y="1785960"/>
            <a:ext cx="214200" cy="21420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3"/>
          <p:cNvSpPr/>
          <p:nvPr/>
        </p:nvSpPr>
        <p:spPr>
          <a:xfrm>
            <a:off x="2643120" y="1785960"/>
            <a:ext cx="214560" cy="21420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5929200" y="6286680"/>
            <a:ext cx="25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0" descr="4982"/>
          <p:cNvPicPr/>
          <p:nvPr/>
        </p:nvPicPr>
        <p:blipFill>
          <a:blip r:embed="rId2"/>
          <a:stretch/>
        </p:blipFill>
        <p:spPr>
          <a:xfrm>
            <a:off x="428760" y="2571840"/>
            <a:ext cx="3824280" cy="318600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ая соединительная линия 20"/>
          <p:cNvSpPr/>
          <p:nvPr/>
        </p:nvSpPr>
        <p:spPr>
          <a:xfrm flipH="1">
            <a:off x="2571840" y="1857240"/>
            <a:ext cx="71280" cy="4429440"/>
          </a:xfrm>
          <a:prstGeom prst="line">
            <a:avLst/>
          </a:prstGeom>
          <a:ln w="57240">
            <a:solidFill>
              <a:srgbClr val="fe32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Содержимое 3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5297760" cy="6126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24" name="Прямоугольник 4"/>
          <p:cNvSpPr/>
          <p:nvPr/>
        </p:nvSpPr>
        <p:spPr>
          <a:xfrm>
            <a:off x="4857840" y="571680"/>
            <a:ext cx="42840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"/>
          <p:cNvSpPr/>
          <p:nvPr/>
        </p:nvSpPr>
        <p:spPr>
          <a:xfrm>
            <a:off x="4857840" y="235728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4857840" y="3857760"/>
            <a:ext cx="42840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4214880" y="14292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2714760" y="357120"/>
            <a:ext cx="4284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4"/>
          <p:cNvSpPr/>
          <p:nvPr/>
        </p:nvSpPr>
        <p:spPr>
          <a:xfrm>
            <a:off x="3357720" y="8571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5"/>
          <p:cNvSpPr/>
          <p:nvPr/>
        </p:nvSpPr>
        <p:spPr>
          <a:xfrm>
            <a:off x="3500280" y="2071800"/>
            <a:ext cx="35748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6"/>
          <p:cNvSpPr/>
          <p:nvPr/>
        </p:nvSpPr>
        <p:spPr>
          <a:xfrm>
            <a:off x="428760" y="3429000"/>
            <a:ext cx="357120" cy="42876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7"/>
          <p:cNvSpPr/>
          <p:nvPr/>
        </p:nvSpPr>
        <p:spPr>
          <a:xfrm>
            <a:off x="642960" y="5214960"/>
            <a:ext cx="35712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8"/>
          <p:cNvSpPr/>
          <p:nvPr/>
        </p:nvSpPr>
        <p:spPr>
          <a:xfrm>
            <a:off x="1928880" y="578628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9"/>
          <p:cNvSpPr/>
          <p:nvPr/>
        </p:nvSpPr>
        <p:spPr>
          <a:xfrm>
            <a:off x="2714760" y="5929200"/>
            <a:ext cx="35712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20"/>
          <p:cNvSpPr/>
          <p:nvPr/>
        </p:nvSpPr>
        <p:spPr>
          <a:xfrm>
            <a:off x="3857760" y="3857760"/>
            <a:ext cx="642960" cy="85716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21"/>
          <p:cNvSpPr/>
          <p:nvPr/>
        </p:nvSpPr>
        <p:spPr>
          <a:xfrm>
            <a:off x="4000680" y="3929040"/>
            <a:ext cx="357120" cy="5716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Дуга 22"/>
          <p:cNvSpPr/>
          <p:nvPr/>
        </p:nvSpPr>
        <p:spPr>
          <a:xfrm>
            <a:off x="4071960" y="4143240"/>
            <a:ext cx="357120" cy="571680"/>
          </a:xfrm>
          <a:custGeom>
            <a:avLst/>
            <a:gdLst/>
            <a:ahLst/>
            <a:rect l="l" t="t" r="r" b="b"/>
            <a:pathLst>
              <a:path stroke="0" w="357187" h="571500">
                <a:moveTo>
                  <a:pt x="178593" y="0"/>
                </a:moveTo>
                <a:cubicBezTo>
                  <a:pt x="277228" y="0"/>
                  <a:pt x="357187" y="127935"/>
                  <a:pt x="357187" y="285750"/>
                </a:cubicBezTo>
                <a:lnTo>
                  <a:pt x="178594" y="285750"/>
                </a:lnTo>
                <a:cubicBezTo>
                  <a:pt x="178594" y="190500"/>
                  <a:pt x="178593" y="95250"/>
                  <a:pt x="178593" y="0"/>
                </a:cubicBezTo>
                <a:close/>
              </a:path>
              <a:path fill="none" w="357187" h="571500">
                <a:moveTo>
                  <a:pt x="178593" y="0"/>
                </a:moveTo>
                <a:cubicBezTo>
                  <a:pt x="277228" y="0"/>
                  <a:pt x="357187" y="127935"/>
                  <a:pt x="357187" y="285750"/>
                </a:cubicBezTo>
              </a:path>
            </a:pathLst>
          </a:custGeom>
          <a:noFill/>
          <a:ln w="76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3"/>
          <p:cNvSpPr/>
          <p:nvPr/>
        </p:nvSpPr>
        <p:spPr>
          <a:xfrm>
            <a:off x="5857920" y="71424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 -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5"/>
          <p:cNvSpPr/>
          <p:nvPr/>
        </p:nvSpPr>
        <p:spPr>
          <a:xfrm>
            <a:off x="5857920" y="1857240"/>
            <a:ext cx="2214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6"/>
          <p:cNvSpPr/>
          <p:nvPr/>
        </p:nvSpPr>
        <p:spPr>
          <a:xfrm>
            <a:off x="5929200" y="150012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 -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авая фигурная скобка 27"/>
          <p:cNvSpPr/>
          <p:nvPr/>
        </p:nvSpPr>
        <p:spPr>
          <a:xfrm>
            <a:off x="7286760" y="1071720"/>
            <a:ext cx="214200" cy="928440"/>
          </a:xfrm>
          <a:custGeom>
            <a:avLst/>
            <a:gdLst>
              <a:gd name="textAreaLeft" fmla="*/ 0 w 214200"/>
              <a:gd name="textAreaRight" fmla="*/ 77400 w 214200"/>
              <a:gd name="textAreaTop" fmla="*/ 5400 h 928440"/>
              <a:gd name="textAreaBottom" fmla="*/ 92304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16200" y="10800"/>
                  <a:pt x="21600" y="10800"/>
                </a:cubicBezTo>
                <a:cubicBezTo>
                  <a:pt x="162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5400" y="21600"/>
                  <a:pt x="0" y="21600"/>
                </a:cubicBezTo>
              </a:path>
            </a:pathLst>
          </a:custGeom>
          <a:solidFill>
            <a:srgbClr val="005bd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8"/>
          <p:cNvSpPr/>
          <p:nvPr/>
        </p:nvSpPr>
        <p:spPr>
          <a:xfrm>
            <a:off x="7500960" y="128592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ыч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9"/>
          <p:cNvSpPr/>
          <p:nvPr/>
        </p:nvSpPr>
        <p:spPr>
          <a:xfrm>
            <a:off x="6000840" y="3071880"/>
            <a:ext cx="185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 -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0"/>
          <p:cNvSpPr/>
          <p:nvPr/>
        </p:nvSpPr>
        <p:spPr>
          <a:xfrm>
            <a:off x="6000840" y="392904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 -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1"/>
          <p:cNvSpPr/>
          <p:nvPr/>
        </p:nvSpPr>
        <p:spPr>
          <a:xfrm>
            <a:off x="6000840" y="4714920"/>
            <a:ext cx="150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-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авая фигурная скобка 32"/>
          <p:cNvSpPr/>
          <p:nvPr/>
        </p:nvSpPr>
        <p:spPr>
          <a:xfrm>
            <a:off x="7215120" y="3500280"/>
            <a:ext cx="714600" cy="1643400"/>
          </a:xfrm>
          <a:custGeom>
            <a:avLst/>
            <a:gdLst>
              <a:gd name="textAreaLeft" fmla="*/ 0 w 714600"/>
              <a:gd name="textAreaRight" fmla="*/ 258120 w 714600"/>
              <a:gd name="textAreaTop" fmla="*/ 18360 h 1643400"/>
              <a:gd name="textAreaBottom" fmla="*/ 1625040 h 16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92"/>
                  <a:pt x="10800" y="783"/>
                </a:cubicBezTo>
                <a:lnTo>
                  <a:pt x="10800" y="10017"/>
                </a:lnTo>
                <a:cubicBezTo>
                  <a:pt x="10800" y="10409"/>
                  <a:pt x="16200" y="10800"/>
                  <a:pt x="21600" y="10800"/>
                </a:cubicBezTo>
                <a:cubicBezTo>
                  <a:pt x="16200" y="10800"/>
                  <a:pt x="10800" y="11192"/>
                  <a:pt x="10800" y="11583"/>
                </a:cubicBezTo>
                <a:lnTo>
                  <a:pt x="10800" y="20817"/>
                </a:lnTo>
                <a:cubicBezTo>
                  <a:pt x="10800" y="21209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3"/>
          <p:cNvSpPr/>
          <p:nvPr/>
        </p:nvSpPr>
        <p:spPr>
          <a:xfrm>
            <a:off x="8001000" y="41432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ст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6:55:16Z</dcterms:created>
  <dc:creator>Admin</dc:creator>
  <dc:description/>
  <dc:language>en-US</dc:language>
  <cp:lastModifiedBy>User</cp:lastModifiedBy>
  <dcterms:modified xsi:type="dcterms:W3CDTF">2014-11-24T18:28:06Z</dcterms:modified>
  <cp:revision>77</cp:revision>
  <dc:subject/>
  <dc:title>Строение цветка</dc:title>
</cp:coreProperties>
</file>