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73DA-A069-4640-AF7E-44B0D98F3E18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7DF7-9372-4B97-AC7F-C9882E530076}" type="slidenum">
              <a:rPr b="1" i="1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1E8-6831-47E9-95F4-EBCCE477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E05-478E-4B5A-9535-6E56E768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DF7-AB8E-4B96-ADFD-777C7007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DF2-9824-4BA5-8C1F-4BAD64BD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F1FA-74DE-4B45-A515-0259B1EA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C7B2-0A30-48CF-AC87-E967D29B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1CD4-8E98-443D-84B4-13901F08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D5B0-D67A-418D-B681-6AD70C50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2062-97D1-4BA8-BC9B-3879C9F2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7D1F-64DE-4CFC-A8D3-44301154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5004-4DA3-4D12-BA97-DD405D87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956-0E00-4E8F-93D5-39ED2F46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7335-8CBF-43B8-A4F5-415015F2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2C7D-4184-4063-92C6-41E029A2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9009-EB57-4E86-B541-07FCD3DE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D21B-2B58-461E-BBB1-1DEA298F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51BA-E458-411B-8F17-50042ECD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A0CC-0C0E-4D77-97E8-56FA0474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E99B-DA45-4BA0-9283-1CCD1C48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2E1A-7963-4E69-97D1-272837A5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C0ED7-3E27-407F-B071-446C404C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D6C7-893A-4951-AB5D-3F20DE64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B55-D04B-43FC-B8CD-2A3CCD99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933D-CC5F-4130-91FB-1164065B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E02D-043D-49DF-A33F-ABB5FBC9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9A29-FC4B-46BF-941F-9416945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EA7C-05E1-4E31-A076-E38013F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B878-9A20-40F8-A37F-FC07F68E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6C65-D3BF-4669-9EBB-D719AC9E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1A0C-18C4-4AF1-9212-15D7E8B7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CF3C8-B674-464C-8185-49DF13D9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4BD5-53BB-46FE-8279-1D8E33F1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FFF24-2202-4230-B81C-F4728EC2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16E-955C-4FDB-8672-4B56A877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063BC-5E25-4698-BDDF-3CF10E34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0EF18-A727-4A5F-802B-ED27D2FF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2AFA-D6F5-4000-87AE-EBD25115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7EAA-81C6-4547-8A2E-3A4DC86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3020-C3A8-4EF4-94F3-33BB7EB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36626-69F0-44F4-A786-A872C82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6564-3D67-40B3-AE9C-AC3ADA96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F5F0-ADC5-4471-A143-F4FF943B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C1F0-2AE2-410A-BD58-90FFD7DD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814-E581-4088-A497-69FA3000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87C-DF43-4D5E-86FF-C1D4D31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A97-4AED-48C1-8D79-E3F65329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26D-62C7-4ABD-8D58-4E42843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4BD-B7DB-4506-ABED-604979E8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F09B-D893-4E9B-BFE1-5F2F0061159B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2D7C-3D78-4E1B-8E93-3DC600180167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4E59-084A-452C-8B07-CCE535989C71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E303-1332-4F4D-A353-514766BFD93F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Урок по предмету «Обучение грамоте». 1 клас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зентацию подготовила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вольская Людмила Юрьев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У «СОШ № 14» г. Новомосковс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Заголовок 5" descr=""/>
          <p:cNvPicPr/>
          <p:nvPr/>
        </p:nvPicPr>
        <p:blipFill>
          <a:blip r:embed="rId2"/>
          <a:stretch/>
        </p:blipFill>
        <p:spPr>
          <a:xfrm>
            <a:off x="426960" y="1365120"/>
            <a:ext cx="82044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357120" y="3571920"/>
            <a:ext cx="56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Мухи белые летели,</a:t>
            </a:r>
            <a:endParaRPr b="1" i="1" lang="en-US" sz="36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На дворы на крыши сели.</a:t>
            </a:r>
            <a:endParaRPr b="1" i="1" lang="en-US" sz="36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Не сочтёте белых мух,</a:t>
            </a:r>
            <a:endParaRPr b="1" i="1" lang="en-US" sz="36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Что летают, словно пух.</a:t>
            </a:r>
            <a:endParaRPr b="1" i="1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41" name="Рисунок 4" descr="216a.jpg"/>
          <p:cNvPicPr/>
          <p:nvPr/>
        </p:nvPicPr>
        <p:blipFill>
          <a:blip r:embed="rId1"/>
          <a:stretch/>
        </p:blipFill>
        <p:spPr>
          <a:xfrm>
            <a:off x="4071960" y="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515160" y="1357200"/>
            <a:ext cx="26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снежинки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928800" y="928800"/>
            <a:ext cx="2786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лыжи     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жук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ножи        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жираф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моржи      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снежинка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            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5072040" y="107172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6929280" y="107172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000840" y="107172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7" name="Прямоугольник 5"/>
          <p:cNvSpPr/>
          <p:nvPr/>
        </p:nvSpPr>
        <p:spPr>
          <a:xfrm>
            <a:off x="7858080" y="107172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4429080" y="40006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9" name="Прямоугольник 7"/>
          <p:cNvSpPr/>
          <p:nvPr/>
        </p:nvSpPr>
        <p:spPr>
          <a:xfrm>
            <a:off x="5286240" y="40006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0" name="Прямоугольник 8"/>
          <p:cNvSpPr/>
          <p:nvPr/>
        </p:nvSpPr>
        <p:spPr>
          <a:xfrm>
            <a:off x="6215040" y="40006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1" name="Прямоугольник 9"/>
          <p:cNvSpPr/>
          <p:nvPr/>
        </p:nvSpPr>
        <p:spPr>
          <a:xfrm>
            <a:off x="7143840" y="40006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2" name="Прямоугольник 10"/>
          <p:cNvSpPr/>
          <p:nvPr/>
        </p:nvSpPr>
        <p:spPr>
          <a:xfrm>
            <a:off x="8001000" y="40006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2"/>
          <p:cNvSpPr/>
          <p:nvPr/>
        </p:nvSpPr>
        <p:spPr>
          <a:xfrm>
            <a:off x="2500200" y="1285920"/>
            <a:ext cx="2500560" cy="35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5"/>
          <p:cNvSpPr/>
          <p:nvPr/>
        </p:nvSpPr>
        <p:spPr>
          <a:xfrm flipV="1">
            <a:off x="2286000" y="1642680"/>
            <a:ext cx="271476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7"/>
          <p:cNvSpPr/>
          <p:nvPr/>
        </p:nvSpPr>
        <p:spPr>
          <a:xfrm flipV="1">
            <a:off x="2714760" y="3171600"/>
            <a:ext cx="16430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 flipV="1">
            <a:off x="2714760" y="4357800"/>
            <a:ext cx="1643040" cy="35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7" name="Прямоугольник 28"/>
          <p:cNvSpPr/>
          <p:nvPr/>
        </p:nvSpPr>
        <p:spPr>
          <a:xfrm>
            <a:off x="4357800" y="271476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8" name="Прямоугольник 29"/>
          <p:cNvSpPr/>
          <p:nvPr/>
        </p:nvSpPr>
        <p:spPr>
          <a:xfrm>
            <a:off x="6215040" y="271476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8072280" y="271476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0" name="Прямоугольник 31"/>
          <p:cNvSpPr/>
          <p:nvPr/>
        </p:nvSpPr>
        <p:spPr>
          <a:xfrm>
            <a:off x="5286240" y="271476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1" name="Прямоугольник 32"/>
          <p:cNvSpPr/>
          <p:nvPr/>
        </p:nvSpPr>
        <p:spPr>
          <a:xfrm>
            <a:off x="7143840" y="271476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Times New Roman"/>
              </a:rPr>
              <a:t>Моржи.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3238560" cy="4181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143240" y="2357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Times New Roman"/>
              </a:rPr>
              <a:t>Снежинка.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4038480" cy="4306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4648320" y="2119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онравилось сегодня на урок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собенно понравилос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знали новог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им правилом познакомилис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буква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дружит с буквой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ая соединительная линия 3"/>
          <p:cNvSpPr/>
          <p:nvPr/>
        </p:nvSpPr>
        <p:spPr>
          <a:xfrm>
            <a:off x="2071800" y="2143080"/>
            <a:ext cx="0" cy="3357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6" name="Прямая соединительная линия 7"/>
          <p:cNvSpPr/>
          <p:nvPr/>
        </p:nvSpPr>
        <p:spPr>
          <a:xfrm>
            <a:off x="3857760" y="2214720"/>
            <a:ext cx="0" cy="3214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7" name="Прямая соединительная линия 12"/>
          <p:cNvSpPr/>
          <p:nvPr/>
        </p:nvSpPr>
        <p:spPr>
          <a:xfrm flipH="1">
            <a:off x="2071440" y="2143080"/>
            <a:ext cx="1857240" cy="3357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TextBox 21"/>
          <p:cNvSpPr/>
          <p:nvPr/>
        </p:nvSpPr>
        <p:spPr>
          <a:xfrm flipV="1">
            <a:off x="4857840" y="2916720"/>
            <a:ext cx="6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И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5572080" y="2857680"/>
            <a:ext cx="7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В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0" name="TextBox 23"/>
          <p:cNvSpPr/>
          <p:nvPr/>
        </p:nvSpPr>
        <p:spPr>
          <a:xfrm flipV="1" rot="10800000">
            <a:off x="6714720" y="28198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ы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4286160" y="285768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Р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2" name="TextBox 25"/>
          <p:cNvSpPr/>
          <p:nvPr/>
        </p:nvSpPr>
        <p:spPr>
          <a:xfrm>
            <a:off x="6215040" y="285768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З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3" name="Дуга 14"/>
          <p:cNvSpPr/>
          <p:nvPr/>
        </p:nvSpPr>
        <p:spPr>
          <a:xfrm>
            <a:off x="1785960" y="2286000"/>
            <a:ext cx="1285920" cy="15001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4" name="Дуга 15"/>
          <p:cNvSpPr/>
          <p:nvPr/>
        </p:nvSpPr>
        <p:spPr>
          <a:xfrm>
            <a:off x="1571760" y="3786120"/>
            <a:ext cx="1857240" cy="17146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585440" y="1428840"/>
            <a:ext cx="2696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И – РЫ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И – ЗЫ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 – ВЫ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И – ЛЫ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0" y="1357200"/>
            <a:ext cx="3000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Р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Р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З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З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Ы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Л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Л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Ы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Times New Roman"/>
              </a:rPr>
              <a:t>Фонетическая разминка: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856880"/>
            <a:ext cx="82155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Как жужжит шмель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357120" y="3143160"/>
            <a:ext cx="1905120" cy="14382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3233160" y="3357720"/>
            <a:ext cx="46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Ж –ж – ж – ж – ж!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Ж                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Ж                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Ж                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Ж                О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1763640" y="1052640"/>
            <a:ext cx="43200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1763640" y="2637000"/>
            <a:ext cx="43200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1692360" y="4076640"/>
            <a:ext cx="43164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1763640" y="5589720"/>
            <a:ext cx="43200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8.51064E-007 L 0.45678 8.51064E-007 E">
                                      <p:cBhvr>
                                        <p:cTn id="75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11841E-006 L 0.45678 -2.11841E-006 E">
                                      <p:cBhvr>
                                        <p:cTn id="7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8.51064E-007 L 0.47257 8.51064E-007 E">
                                      <p:cBhvr>
                                        <p:cTn id="8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11841E-006 L 0.46459 -2.11841E-006 E">
                                      <p:cBhvr>
                                        <p:cTn id="8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ужи да ежи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4560" y="2142720"/>
            <a:ext cx="240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Times New Roman"/>
              </a:rPr>
              <a:t>[ </a:t>
            </a:r>
            <a:r>
              <a:rPr b="0" lang="ru-RU" sz="6600" spc="-1" strike="noStrike">
                <a:solidFill>
                  <a:srgbClr val="1f497d"/>
                </a:solidFill>
                <a:latin typeface="Times New Roman"/>
              </a:rPr>
              <a:t>ж ы</a:t>
            </a:r>
            <a:r>
              <a:rPr b="0" lang="en-US" sz="6600" spc="-1" strike="noStrike">
                <a:solidFill>
                  <a:srgbClr val="1f497d"/>
                </a:solidFill>
                <a:latin typeface="Times New Roman"/>
              </a:rPr>
              <a:t> ]</a:t>
            </a:r>
            <a:endParaRPr b="0" lang="en-US" sz="6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2356920"/>
            <a:ext cx="403848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99680" y="1928520"/>
            <a:ext cx="3429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1500120" y="2357280"/>
            <a:ext cx="914400" cy="91440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2357280" y="2357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5286240" y="385776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ЖИ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Times New Roman"/>
              </a:rPr>
              <a:t>Загадки.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400" y="1928880"/>
            <a:ext cx="57862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и по снегу быстро мча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провалиться не боя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28760" y="3286080"/>
            <a:ext cx="4794120" cy="32400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5937120" y="4357800"/>
            <a:ext cx="16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лыжи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5480" y="2071800"/>
            <a:ext cx="45003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ёрен, да не ворон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гат, да не бык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тит – вое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ядет – землю ро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4416480" y="500040"/>
            <a:ext cx="4727520" cy="3600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5857920" y="4143240"/>
            <a:ext cx="16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Times New Roman"/>
              </a:rPr>
              <a:t>жук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3:34:20Z</dcterms:created>
  <dc:creator>user 09</dc:creator>
  <dc:description/>
  <dc:language>en-US</dc:language>
  <cp:lastModifiedBy>Admin</cp:lastModifiedBy>
  <dcterms:modified xsi:type="dcterms:W3CDTF">2015-02-01T07:52:44Z</dcterms:modified>
  <cp:revision>114</cp:revision>
  <dc:subject/>
  <dc:title>Слова с сочетаниями жи.</dc:title>
</cp:coreProperties>
</file>