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1495-C823-407D-B716-760DE408BFAB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B3E-6085-4F6E-B47A-8033A141CE61}" type="slidenum">
              <a:rPr b="1" i="1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CF3-DCE1-4214-AE8D-FF0F5653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3D6-BF70-4E42-A05B-6A6DE932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A87-004F-45DA-8F3B-F77D7703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7FC-9D21-44E9-89D2-DDF87FB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B67-0BB5-48D6-BCC2-BF7A689D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8380-8099-46D3-BB70-11C7A48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896-1197-4C90-BC99-94336DA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E6D2-10B0-457C-90B3-6F790BB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B44-1E78-4EE8-AED8-D83D683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B5DC-C379-46DA-8D63-69308AE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2EAC-993D-42D0-B508-21E47CD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636-AF6D-43FE-84E9-0268005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CEB9-CE46-47D4-A038-89B3B7F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F24-B177-4EB9-BF46-96797F4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1E67-D915-4A81-8C4F-CA33C13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DB08-92E9-4C93-8390-E5339E7C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231-A3E9-43F9-BA7F-6B18AB61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3654-D175-4F3F-B566-2319B2CE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2771-9674-4675-A0A2-36A516C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8120A-7025-4807-A7F5-CBA51005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B29D-99A9-4086-904C-EF7FA2E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A74F-C522-43FF-9B64-31C2168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4C9-35D1-47EF-BC27-A3BE092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A4A9-7011-4E58-B7E5-DB45E17B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CFD5-79BA-4E09-AC6B-D144BDD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FB5B-EC54-4A79-A888-3F5B6B6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438F-5CCD-407E-85DA-90847A8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C639-D122-4AE7-B7CA-87E41EC2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4B86-1AF5-48CA-9082-5BEE9CE3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1706-6F9C-4C70-9242-8F38AFA0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6B857-600D-4CCD-8C94-63CFB362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F3D4-BCB0-4D4F-B656-A5ADE17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DA95-989D-43EA-9B7F-78C18AA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03C-8704-4C6C-A315-1C36F68E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8A93-C012-4546-9D4C-6309D86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F2D6-F319-43D9-B211-CD1A296B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DFD5-FB17-46C5-A944-6906BAE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DEB0-C8E8-4FE0-B186-85F7B83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54A5-9772-4AF7-975D-783F54E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10D2-D99F-453D-A4AD-DFC2F198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3533-15AC-4632-A682-9DCAE4A2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F1B2-FAAE-42D6-9762-268EA5B5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5A10-8A5C-4147-A6A3-DD8E2416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527-5343-4C79-B2D6-82E86B9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54A-9303-44E0-9F1E-C1112AF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A2D-925E-4224-BDC7-54A38C56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4F7-0ED6-45F9-88F6-060ED91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00E-B04C-43C2-9118-00E1027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93D5-0DED-48DF-BA2C-55784B00A88A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D02-5A85-4E0B-850E-9FBF4C04D59F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1f49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BBE7-6065-4259-8D89-A48D307C92BE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9CF-DD12-4792-BB9B-E3F5B91DC1F4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Урок по предмету «Обучение грамоте». 1 клас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езентацию подготовил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вольская Людмила Юрьев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У «СОШ № 14» г. Новомосковс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Заголовок 5" descr=""/>
          <p:cNvPicPr/>
          <p:nvPr/>
        </p:nvPicPr>
        <p:blipFill>
          <a:blip r:embed="rId2"/>
          <a:stretch/>
        </p:blipFill>
        <p:spPr>
          <a:xfrm>
            <a:off x="426960" y="1365120"/>
            <a:ext cx="82044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357120" y="3571920"/>
            <a:ext cx="56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Мухи белые летели,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На дворы на крыши сели.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Не сочтёте белых мух,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Что летают, словно пух.</a:t>
            </a:r>
            <a:endParaRPr b="1" i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41" name="Рисунок 4" descr="216a.jpg"/>
          <p:cNvPicPr/>
          <p:nvPr/>
        </p:nvPicPr>
        <p:blipFill>
          <a:blip r:embed="rId1"/>
          <a:stretch/>
        </p:blipFill>
        <p:spPr>
          <a:xfrm>
            <a:off x="4071960" y="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15160" y="135720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нежинк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928800" y="928800"/>
            <a:ext cx="2786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лыжи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ук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ножи  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ираф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моржи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нежинка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            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072040" y="1071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6929280" y="107172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000840" y="10717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7858080" y="107172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442908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5286240" y="40006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621504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7143840" y="40006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8001000" y="40006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12"/>
          <p:cNvSpPr/>
          <p:nvPr/>
        </p:nvSpPr>
        <p:spPr>
          <a:xfrm>
            <a:off x="2500200" y="1285920"/>
            <a:ext cx="250056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15"/>
          <p:cNvSpPr/>
          <p:nvPr/>
        </p:nvSpPr>
        <p:spPr>
          <a:xfrm flipV="1">
            <a:off x="2286000" y="1642680"/>
            <a:ext cx="271476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17"/>
          <p:cNvSpPr/>
          <p:nvPr/>
        </p:nvSpPr>
        <p:spPr>
          <a:xfrm flipV="1">
            <a:off x="2714760" y="3171600"/>
            <a:ext cx="16430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 flipV="1">
            <a:off x="2714760" y="4357800"/>
            <a:ext cx="164304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435780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621504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8072280" y="271476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5286240" y="27147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1" name="Прямоугольник 32"/>
          <p:cNvSpPr/>
          <p:nvPr/>
        </p:nvSpPr>
        <p:spPr>
          <a:xfrm>
            <a:off x="7143840" y="271476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Моржи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3238560" cy="4181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143240" y="2357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Снежинка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038480" cy="430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4648320" y="21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онравилось сегодня на урок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собенно понравило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знали новог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 правилом познакомили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укв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дружит с буквой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3"/>
          <p:cNvSpPr/>
          <p:nvPr/>
        </p:nvSpPr>
        <p:spPr>
          <a:xfrm>
            <a:off x="2071800" y="2143080"/>
            <a:ext cx="0" cy="335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7"/>
          <p:cNvSpPr/>
          <p:nvPr/>
        </p:nvSpPr>
        <p:spPr>
          <a:xfrm>
            <a:off x="3857760" y="2214720"/>
            <a:ext cx="0" cy="3214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2"/>
          <p:cNvSpPr/>
          <p:nvPr/>
        </p:nvSpPr>
        <p:spPr>
          <a:xfrm flipH="1">
            <a:off x="2071440" y="2143080"/>
            <a:ext cx="1857240" cy="335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8" name="TextBox 21"/>
          <p:cNvSpPr/>
          <p:nvPr/>
        </p:nvSpPr>
        <p:spPr>
          <a:xfrm flipV="1">
            <a:off x="4857840" y="2916720"/>
            <a:ext cx="6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5572080" y="2857680"/>
            <a:ext cx="7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В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0" name="TextBox 23"/>
          <p:cNvSpPr/>
          <p:nvPr/>
        </p:nvSpPr>
        <p:spPr>
          <a:xfrm flipV="1" rot="10800000">
            <a:off x="6714720" y="28198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4286160" y="285768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6215040" y="28576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З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3" name="Дуга 14"/>
          <p:cNvSpPr/>
          <p:nvPr/>
        </p:nvSpPr>
        <p:spPr>
          <a:xfrm>
            <a:off x="1785960" y="2286000"/>
            <a:ext cx="1285920" cy="1500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4" name="Дуга 15"/>
          <p:cNvSpPr/>
          <p:nvPr/>
        </p:nvSpPr>
        <p:spPr>
          <a:xfrm>
            <a:off x="1571760" y="3786120"/>
            <a:ext cx="1857240" cy="17146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585440" y="1428840"/>
            <a:ext cx="2696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И – Р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И – З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 – В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 – ЛЫ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0" y="1357200"/>
            <a:ext cx="300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З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00b0f0"/>
                </a:solidFill>
                <a:latin typeface="Times New Roman"/>
              </a:rPr>
              <a:t>Л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Фонетическая разминка: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856880"/>
            <a:ext cx="8215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Как жужжит шмел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357120" y="3143160"/>
            <a:ext cx="190512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233160" y="3357720"/>
            <a:ext cx="46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 –ж – ж – ж – ж!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Ж                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1763640" y="105264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763640" y="263700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692360" y="4076640"/>
            <a:ext cx="43164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763640" y="5589720"/>
            <a:ext cx="43200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51064E-007 L 0.45678 8.51064E-007 E">
                                      <p:cBhvr>
                                        <p:cTn id="7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11841E-006 L 0.45678 -2.11841E-006 E">
                                      <p:cBhvr>
                                        <p:cTn id="7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8.51064E-007 L 0.47257 8.51064E-007 E">
                                      <p:cBhvr>
                                        <p:cTn id="8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1841E-006 L 0.46459 -2.11841E-006 E">
                                      <p:cBhvr>
                                        <p:cTn id="8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ужи да ежи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4560" y="2142720"/>
            <a:ext cx="240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Times New Roman"/>
              </a:rPr>
              <a:t>[ </a:t>
            </a:r>
            <a:r>
              <a:rPr b="0" lang="ru-RU" sz="6600" spc="-1" strike="noStrike">
                <a:solidFill>
                  <a:srgbClr val="1f497d"/>
                </a:solidFill>
                <a:latin typeface="Times New Roman"/>
              </a:rPr>
              <a:t>ж ы</a:t>
            </a:r>
            <a:r>
              <a:rPr b="0" lang="en-US" sz="6600" spc="-1" strike="noStrike">
                <a:solidFill>
                  <a:srgbClr val="1f497d"/>
                </a:solidFill>
                <a:latin typeface="Times New Roman"/>
              </a:rPr>
              <a:t> ]</a:t>
            </a:r>
            <a:endParaRPr b="0" lang="en-US" sz="6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356920"/>
            <a:ext cx="403848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9680" y="1928520"/>
            <a:ext cx="3429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500120" y="2357280"/>
            <a:ext cx="914400" cy="91440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2357280" y="235728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5286240" y="385776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Ж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Times New Roman"/>
              </a:rPr>
              <a:t>Загадки.</a:t>
            </a: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00" y="1928880"/>
            <a:ext cx="5786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и по снегу быстро мча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провалиться не боя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28760" y="3286080"/>
            <a:ext cx="479412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5937120" y="4357800"/>
            <a:ext cx="16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лыжи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5480" y="2071800"/>
            <a:ext cx="45003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ёрен, да не ворон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гат, да не бы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ит – во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ядет – землю ро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416480" y="500040"/>
            <a:ext cx="4727520" cy="3600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5857920" y="4143240"/>
            <a:ext cx="16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Times New Roman"/>
              </a:rPr>
              <a:t>жук</a:t>
            </a:r>
            <a:endParaRPr b="1" i="1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3:34:20Z</dcterms:created>
  <dc:creator>user 09</dc:creator>
  <dc:description/>
  <dc:language>en-US</dc:language>
  <cp:lastModifiedBy>Admin</cp:lastModifiedBy>
  <dcterms:modified xsi:type="dcterms:W3CDTF">2015-02-01T07:52:44Z</dcterms:modified>
  <cp:revision>114</cp:revision>
  <dc:subject/>
  <dc:title>Слова с сочетаниями жи.</dc:title>
</cp:coreProperties>
</file>