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31.gif" ContentType="image/gif"/>
  <Override PartName="/ppt/media/image21.gif" ContentType="image/gif"/>
  <Override PartName="/ppt/media/image14.png" ContentType="image/png"/>
  <Override PartName="/ppt/media/image19.jpeg" ContentType="image/jpeg"/>
  <Override PartName="/ppt/media/image25.png" ContentType="image/png"/>
  <Override PartName="/ppt/media/image22.png" ContentType="image/png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28.png" ContentType="image/png"/>
  <Override PartName="/ppt/media/image35.gif" ContentType="image/gi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gif" ContentType="image/gif"/>
  <Override PartName="/ppt/media/image34.wmf" ContentType="image/x-wmf"/>
  <Override PartName="/ppt/media/image12.gif" ContentType="image/gif"/>
  <Override PartName="/ppt/media/image18.gif" ContentType="image/gif"/>
  <Override PartName="/ppt/media/image13.jpeg" ContentType="image/jpeg"/>
  <Override PartName="/ppt/media/image23.png" ContentType="image/png"/>
  <Override PartName="/ppt/media/image30.png" ContentType="image/png"/>
  <Override PartName="/ppt/media/image37.jpeg" ContentType="image/jpeg"/>
  <Override PartName="/ppt/media/image41.jpeg" ContentType="image/jpeg"/>
  <Override PartName="/ppt/media/image44.gif" ContentType="image/gif"/>
  <Override PartName="/ppt/media/image7.png" ContentType="image/png"/>
  <Override PartName="/ppt/media/image43.gif" ContentType="image/gif"/>
  <Override PartName="/ppt/media/image6.png" ContentType="image/png"/>
  <Override PartName="/ppt/media/image36.gif" ContentType="image/gif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4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D53-DA1E-4C5D-B198-57C492EF21F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51F9-1A16-4D61-A50B-3C9332DA43D6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CEA-77F7-4864-A53B-B9C15907CA05}" type="slidenum">
              <a:rPr b="0" lang="ru-RU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872-0177-4361-BE2F-739B59E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E0F-A0E0-4C01-9E57-CAAA16C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EB6-95C1-45B7-9300-C983A4D3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500-61E9-4D8C-95A4-FE05E7BE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C835-75C6-4338-9392-07A062B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B7F8-2DF1-4D24-B1A2-B79574C1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DEC-0994-4B13-BEE7-A5E4F858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FDB-ACB3-4906-B32A-F7B58300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6B1B-3297-45B4-9D73-B34AEFCA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D863-A520-4969-BB0A-B39B5EF9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E6BF-F1AA-48AF-A73D-59E9B8D5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C51-880B-438B-9030-CC3A884D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3A34-290A-4D74-B69C-1C8FBA5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809-8B38-4B00-B10F-3D6DFE3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843-EF3F-4BE8-8559-E05FDA34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DCAA-C4AE-4DE0-A80C-2F7971BB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511-F3CD-42CA-8AEF-4A64A045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7349-E809-4A58-B6E2-43AEDC28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7E94-4F4F-4B42-9F93-8BEE132B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05C4-BBE8-4B1F-9441-63E8C33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D714-EBB4-4406-BB4D-4670E110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AB9A-8C90-4EEF-9399-C90EE6E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7D2-C6AE-44D7-B5D9-58B39403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B633-E169-4F03-AE1E-3D78A4A7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AB0A-8B37-4987-B092-1024243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CD37-D9ED-4E60-A16E-4149F47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EC1D-05B2-4215-AEE6-B1FFC24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872C-5088-454A-96F8-038C44DD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953E-6BD7-41C3-98EF-98EDA514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47F9-31E1-460D-A5D4-2B247EAA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1849A-1639-4F75-AF77-5F1A4249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5B70-A08D-4E50-B2D9-E382BA10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5C20-D0A5-4579-BD8C-E13D5508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57F-144A-4E7E-B6CB-7C337C1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3A1F-7021-4F94-90BC-47A3C965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2793-927C-4E82-9141-CA9A85E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2309-A48C-447A-965B-068501E7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1CAB-E4B0-4FF8-860B-A1B411B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516C-682C-405C-9402-4CE3D31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EADF-94BA-48A0-A194-A63C119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F018-D558-4886-9F7A-A6D8EFD7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DBEF-A89D-47B2-844E-A4F653DB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BBFF-DD99-45C4-8D35-788FEFD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0F6-E6EA-4E32-83FE-F2E9EF67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8C7-6DC5-4AFF-A098-E3BCD8BF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8D2-C7F7-49D7-936A-F265389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E26-C776-4629-8B58-4D70280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F10-7BDA-4CAC-A593-3E10463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234-A263-4534-87CD-A34CBE3B4B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4480" y="511560"/>
                  <a:ext cx="43128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1000" y="273960"/>
                  <a:ext cx="80964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0840" y="1414800"/>
                  <a:ext cx="27072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9360"/>
                  <a:ext cx="29016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4640" y="204120"/>
                  <a:ext cx="28692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BC4-CB1A-42DE-B374-581B89E3E22F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FA00-1028-4FE1-92FC-F204266D7A8E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900E-F110-452A-B1ED-875E56289475}" type="slidenum">
              <a:rPr b="0" lang="ru-RU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5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7.png"/><Relationship Id="rId13" Type="http://schemas.openxmlformats.org/officeDocument/2006/relationships/image" Target="../media/image22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11.gi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Математику, друзья,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Не любить никак нельзя.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Очень точная наука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Очень строгая наука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Интересная наука –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Это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45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cc00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520" y="1000080"/>
            <a:ext cx="83343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Цели урок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.Знакомство с приёмом деления на 0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Закрепить решение составных задач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3.Совершенствовать вычислительные навыки, знания таблиц умноже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4.Развиватьмышление,математическую речь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Токката.mp3" descr=""/>
          <p:cNvPicPr/>
          <p:nvPr/>
        </p:nvPicPr>
        <p:blipFill>
          <a:blip r:embed="rId1"/>
          <a:stretch/>
        </p:blipFill>
        <p:spPr>
          <a:xfrm>
            <a:off x="883908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58304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4647960" cy="1219320"/>
          </a:xfrm>
          <a:prstGeom prst="rect">
            <a:avLst/>
          </a:prstGeom>
          <a:solidFill>
            <a:srgbClr val="ffe60d"/>
          </a:solidFill>
          <a:ln w="38160">
            <a:solidFill>
              <a:srgbClr val="00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0:6     0:9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28240" y="1828800"/>
            <a:ext cx="8381880" cy="3657600"/>
          </a:xfrm>
          <a:prstGeom prst="rect">
            <a:avLst/>
          </a:prstGeom>
          <a:solidFill>
            <a:srgbClr val="ffe60d"/>
          </a:solidFill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делении 0 на любое число, получается  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МН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ить на 0 нельзя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2514600" y="2971800"/>
            <a:ext cx="327672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 :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2514600" y="4419720"/>
            <a:ext cx="327672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 : 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Прямая соединительная линия 8"/>
          <p:cNvSpPr/>
          <p:nvPr/>
        </p:nvSpPr>
        <p:spPr>
          <a:xfrm flipV="1">
            <a:off x="2590920" y="4495680"/>
            <a:ext cx="3200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Прямая соединительная линия 10"/>
          <p:cNvSpPr/>
          <p:nvPr/>
        </p:nvSpPr>
        <p:spPr>
          <a:xfrm>
            <a:off x="2590920" y="4495680"/>
            <a:ext cx="32004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21" descr="88b"/>
          <p:cNvPicPr/>
          <p:nvPr/>
        </p:nvPicPr>
        <p:blipFill>
          <a:blip r:embed="rId2"/>
          <a:stretch/>
        </p:blipFill>
        <p:spPr>
          <a:xfrm>
            <a:off x="6400800" y="3276720"/>
            <a:ext cx="254952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72320" cy="356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mbria"/>
              </a:rPr>
              <a:t>Нуль или ноль?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258920" y="981000"/>
            <a:ext cx="6842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рительная физминутка «Наш снежный гость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AutoShape 3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1" name="Picture 6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9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1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307" name="Oval 22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23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24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AutoShape 26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2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8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9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0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1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2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3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4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5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1" name="Picture 36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9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293" dur="3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6000"/>
                            </p:stCondLst>
                            <p:childTnLst>
                              <p:par>
                                <p:cTn id="30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1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4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3000"/>
                            </p:stCondLst>
                            <p:childTnLst>
                              <p:par>
                                <p:cTn id="41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41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3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10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417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2000"/>
                            </p:stCondLst>
                            <p:childTnLst>
                              <p:par>
                                <p:cTn id="4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420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3000"/>
                            </p:stCondLst>
                            <p:childTnLst>
                              <p:par>
                                <p:cTn id="4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423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4000"/>
                            </p:stCondLst>
                            <p:childTnLst>
                              <p:par>
                                <p:cTn id="4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4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5000"/>
                            </p:stCondLst>
                            <p:childTnLst>
                              <p:par>
                                <p:cTn id="4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429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6000"/>
                            </p:stCondLst>
                            <p:childTnLst>
                              <p:par>
                                <p:cTn id="4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432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4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435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mbria"/>
              </a:rPr>
              <a:t>Задача №5 стр. 75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447920"/>
          <a:ext cx="7620120" cy="167616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 1 ящ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ящи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 всех ящ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solidFill>
                      <a:srgbClr val="cae2aa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 – 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 1)  (: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аков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ш – 9к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   2)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∙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00"/>
                      </a:solidFill>
                    </a:lnL>
                    <a:lnR w="5760">
                      <a:solidFill>
                        <a:srgbClr val="808000"/>
                      </a:solidFill>
                    </a:lnR>
                    <a:lnT w="5760">
                      <a:solidFill>
                        <a:srgbClr val="808000"/>
                      </a:solidFill>
                    </a:lnT>
                    <a:lnB w="5760">
                      <a:solidFill>
                        <a:srgbClr val="8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Box 6"/>
          <p:cNvSpPr/>
          <p:nvPr/>
        </p:nvSpPr>
        <p:spPr>
          <a:xfrm>
            <a:off x="3048480" y="327672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TextBox 7"/>
          <p:cNvSpPr/>
          <p:nvPr/>
        </p:nvSpPr>
        <p:spPr>
          <a:xfrm>
            <a:off x="610920" y="3886200"/>
            <a:ext cx="35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1)  48 : 8 = 6 (ящ.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2)  9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∙ 6 = 54 (кг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687960" y="502920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твет:  54 кг груш привезли на рынок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7" name="Picture 5" descr="105"/>
          <p:cNvPicPr/>
          <p:nvPr/>
        </p:nvPicPr>
        <p:blipFill>
          <a:blip r:embed="rId2"/>
          <a:stretch/>
        </p:blipFill>
        <p:spPr>
          <a:xfrm>
            <a:off x="7054920" y="4265640"/>
            <a:ext cx="208908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omic Sans MS"/>
              </a:rPr>
              <a:t>Найдите площади фигур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3564000" y="4724280"/>
            <a:ext cx="1973160" cy="16002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6"/>
          <p:cNvSpPr/>
          <p:nvPr/>
        </p:nvSpPr>
        <p:spPr>
          <a:xfrm>
            <a:off x="429336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059280" y="5300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4796640" y="544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TextBox 9"/>
          <p:cNvSpPr/>
          <p:nvPr/>
        </p:nvSpPr>
        <p:spPr>
          <a:xfrm>
            <a:off x="5508720" y="587700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Прямоугольник 11"/>
          <p:cNvSpPr/>
          <p:nvPr/>
        </p:nvSpPr>
        <p:spPr>
          <a:xfrm>
            <a:off x="549936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2411280" y="2349360"/>
            <a:ext cx="4105440" cy="165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4140360" y="19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1619280" y="2924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см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омашнее задание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№4, №6(2) стр. 75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39" name="Рисунок 4" descr="BL00130_.WMF"/>
          <p:cNvPicPr/>
          <p:nvPr/>
        </p:nvPicPr>
        <p:blipFill>
          <a:blip r:embed="rId2"/>
          <a:stretch/>
        </p:blipFill>
        <p:spPr>
          <a:xfrm>
            <a:off x="3581280" y="3048120"/>
            <a:ext cx="3800520" cy="329076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2"/>
          <p:cNvSpPr/>
          <p:nvPr/>
        </p:nvSpPr>
        <p:spPr>
          <a:xfrm>
            <a:off x="3200400" y="380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6400800" y="609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53352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8077320" y="3962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2438280" y="3352680"/>
            <a:ext cx="609840" cy="60984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2286000" y="525780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914400" y="3505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cap="sq"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7" name="Picture 4" descr="21M2"/>
          <p:cNvPicPr/>
          <p:nvPr/>
        </p:nvPicPr>
        <p:blipFill>
          <a:blip r:embed="rId3"/>
          <a:stretch/>
        </p:blipFill>
        <p:spPr>
          <a:xfrm>
            <a:off x="304920" y="1447920"/>
            <a:ext cx="1095120" cy="1152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1" descr="HOMEWORK"/>
          <p:cNvPicPr/>
          <p:nvPr/>
        </p:nvPicPr>
        <p:blipFill>
          <a:blip r:embed="rId4"/>
          <a:stretch/>
        </p:blipFill>
        <p:spPr>
          <a:xfrm>
            <a:off x="7010280" y="1600200"/>
            <a:ext cx="1422360" cy="1066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Наши открытия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не понравилось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хочу похвалить одноклассника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 хочу похвалить себя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186240" cy="4298760"/>
          </a:xfrm>
          <a:prstGeom prst="rect">
            <a:avLst/>
          </a:prstGeom>
          <a:ln w="0">
            <a:noFill/>
          </a:ln>
        </p:spPr>
      </p:pic>
      <p:pic>
        <p:nvPicPr>
          <p:cNvPr id="352" name="Заголовок 1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394840" cy="2219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103"/>
          <p:cNvPicPr/>
          <p:nvPr/>
        </p:nvPicPr>
        <p:blipFill>
          <a:blip r:embed="rId4"/>
          <a:stretch/>
        </p:blipFill>
        <p:spPr>
          <a:xfrm rot="20131200">
            <a:off x="655560" y="3902040"/>
            <a:ext cx="2309760" cy="1828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ever_small"/>
          <p:cNvPicPr/>
          <p:nvPr/>
        </p:nvPicPr>
        <p:blipFill>
          <a:blip r:embed="rId5"/>
          <a:stretch/>
        </p:blipFill>
        <p:spPr>
          <a:xfrm>
            <a:off x="228600" y="228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Токката.mp3" descr=""/>
          <p:cNvPicPr/>
          <p:nvPr/>
        </p:nvPicPr>
        <p:blipFill>
          <a:blip r:embed="rId6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"/>
              </a:rPr>
              <a:t>Пиши красиво!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286000" y="1643040"/>
            <a:ext cx="4124160" cy="192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2286000" y="4000680"/>
            <a:ext cx="4029120" cy="1785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Times New Roman"/>
              </a:rPr>
              <a:t>СПАСИБО ЗА УРОК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Picture 5" descr="holy_small"/>
          <p:cNvPicPr/>
          <p:nvPr/>
        </p:nvPicPr>
        <p:blipFill>
          <a:blip r:embed="rId2"/>
          <a:stretch/>
        </p:blipFill>
        <p:spPr>
          <a:xfrm>
            <a:off x="0" y="69228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23M5"/>
          <p:cNvPicPr/>
          <p:nvPr/>
        </p:nvPicPr>
        <p:blipFill>
          <a:blip r:embed="rId3"/>
          <a:stretch/>
        </p:blipFill>
        <p:spPr>
          <a:xfrm>
            <a:off x="1905120" y="4437000"/>
            <a:ext cx="4647960" cy="216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oliday57"/>
          <p:cNvPicPr/>
          <p:nvPr/>
        </p:nvPicPr>
        <p:blipFill>
          <a:blip r:embed="rId4"/>
          <a:stretch/>
        </p:blipFill>
        <p:spPr>
          <a:xfrm>
            <a:off x="0" y="3808440"/>
            <a:ext cx="2165400" cy="3049560"/>
          </a:xfrm>
          <a:prstGeom prst="rect">
            <a:avLst/>
          </a:prstGeom>
          <a:ln w="0">
            <a:noFill/>
          </a:ln>
        </p:spPr>
      </p:pic>
      <p:sp>
        <p:nvSpPr>
          <p:cNvPr id="360" name="WordArt 2"/>
          <p:cNvSpPr txBox="1"/>
          <p:nvPr/>
        </p:nvSpPr>
        <p:spPr>
          <a:xfrm>
            <a:off x="1523880" y="2362320"/>
            <a:ext cx="6143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о новых встреч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6324E-006 C 0.25243 -0.00255 0.50486 -0.00509 0.6059 -0.00625 E">
                                      <p:cBhvr>
                                        <p:cTn id="494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85840"/>
            <a:ext cx="74883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400"/>
            </a:br>
            <a:br>
              <a:rPr sz="7400"/>
            </a:br>
            <a:r>
              <a:rPr b="0" i="1" lang="ru-RU" sz="7400" spc="-1" strike="noStrike">
                <a:solidFill>
                  <a:srgbClr val="ffff00"/>
                </a:solidFill>
                <a:latin typeface="Times New Roman"/>
              </a:rPr>
              <a:t>11 декабря.</a:t>
            </a:r>
            <a:br>
              <a:rPr sz="7400"/>
            </a:br>
            <a:r>
              <a:rPr b="0" i="1" lang="ru-RU" sz="7400" spc="-1" strike="noStrike">
                <a:solidFill>
                  <a:srgbClr val="ffff00"/>
                </a:solidFill>
                <a:latin typeface="Times New Roman"/>
              </a:rPr>
              <a:t>Классная работа.</a:t>
            </a:r>
            <a:endParaRPr b="0" lang="en-US" sz="7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28800" y="2286000"/>
            <a:ext cx="750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Математику, друзья,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Не любить никак нельзя.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чень точная наука,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чень строгая наука,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Интересная наука –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Это математика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6715080" y="3959280"/>
            <a:ext cx="2214720" cy="2954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cc00"/>
            </a:outerShdw>
          </a:effectLst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865160" y="420840"/>
            <a:ext cx="5334120" cy="1242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914400" y="3047760"/>
            <a:ext cx="7238880" cy="3475080"/>
          </a:xfrm>
          <a:prstGeom prst="rect">
            <a:avLst/>
          </a:prstGeom>
          <a:solidFill>
            <a:srgbClr val="f3cd60"/>
          </a:solidFill>
          <a:ln w="9360">
            <a:solidFill>
              <a:srgbClr val="7c4b3b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Все ли правильно сидят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Все внимательно глядя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Каждый хочет получа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Franklin Gothic Book"/>
              </a:rPr>
              <a:t>Только лишь оценку пять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4" name="Picture 10" descr="ever_small"/>
          <p:cNvPicPr/>
          <p:nvPr/>
        </p:nvPicPr>
        <p:blipFill>
          <a:blip r:embed="rId2"/>
          <a:stretch/>
        </p:blipFill>
        <p:spPr>
          <a:xfrm>
            <a:off x="457200" y="380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0004"/>
          <p:cNvPicPr/>
          <p:nvPr/>
        </p:nvPicPr>
        <p:blipFill>
          <a:blip r:embed="rId3"/>
          <a:stretch/>
        </p:blipFill>
        <p:spPr>
          <a:xfrm>
            <a:off x="4648320" y="9144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0004"/>
          <p:cNvPicPr/>
          <p:nvPr/>
        </p:nvPicPr>
        <p:blipFill>
          <a:blip r:embed="rId4"/>
          <a:stretch/>
        </p:blipFill>
        <p:spPr>
          <a:xfrm>
            <a:off x="3352680" y="205740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0004"/>
          <p:cNvPicPr/>
          <p:nvPr/>
        </p:nvPicPr>
        <p:blipFill>
          <a:blip r:embed="rId5"/>
          <a:stretch/>
        </p:blipFill>
        <p:spPr>
          <a:xfrm>
            <a:off x="1763640" y="981000"/>
            <a:ext cx="1714680" cy="1451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0004"/>
          <p:cNvPicPr/>
          <p:nvPr/>
        </p:nvPicPr>
        <p:blipFill>
          <a:blip r:embed="rId6"/>
          <a:stretch/>
        </p:blipFill>
        <p:spPr>
          <a:xfrm>
            <a:off x="7086600" y="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0004"/>
          <p:cNvPicPr/>
          <p:nvPr/>
        </p:nvPicPr>
        <p:blipFill>
          <a:blip r:embed="rId7"/>
          <a:stretch/>
        </p:blipFill>
        <p:spPr>
          <a:xfrm>
            <a:off x="0" y="190512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0004"/>
          <p:cNvPicPr/>
          <p:nvPr/>
        </p:nvPicPr>
        <p:blipFill>
          <a:blip r:embed="rId8"/>
          <a:stretch/>
        </p:blipFill>
        <p:spPr>
          <a:xfrm>
            <a:off x="6858000" y="18288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Устный счёт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Игра «День и ночь»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2"/>
          <a:stretch/>
        </p:blipFill>
        <p:spPr>
          <a:xfrm>
            <a:off x="682560" y="328680"/>
            <a:ext cx="7248600" cy="194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FACE"/>
          <p:cNvPicPr/>
          <p:nvPr/>
        </p:nvPicPr>
        <p:blipFill>
          <a:blip r:embed="rId3"/>
          <a:stretch/>
        </p:blipFill>
        <p:spPr>
          <a:xfrm>
            <a:off x="228600" y="137160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arg-4-25-trans-y"/>
          <p:cNvPicPr/>
          <p:nvPr/>
        </p:nvPicPr>
        <p:blipFill>
          <a:blip r:embed="rId4"/>
          <a:stretch/>
        </p:blipFill>
        <p:spPr>
          <a:xfrm>
            <a:off x="2819520" y="5105520"/>
            <a:ext cx="1562040" cy="1326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9" descr="arg-5-50-trans"/>
          <p:cNvPicPr/>
          <p:nvPr/>
        </p:nvPicPr>
        <p:blipFill>
          <a:blip r:embed="rId5"/>
          <a:stretch/>
        </p:blipFill>
        <p:spPr>
          <a:xfrm>
            <a:off x="5562720" y="4876920"/>
            <a:ext cx="1295280" cy="155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9" descr="arg-3-25-trans-y"/>
          <p:cNvPicPr/>
          <p:nvPr/>
        </p:nvPicPr>
        <p:blipFill>
          <a:blip r:embed="rId6"/>
          <a:stretch/>
        </p:blipFill>
        <p:spPr>
          <a:xfrm>
            <a:off x="6858000" y="1752480"/>
            <a:ext cx="148896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Ответы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40, 8, 7, 32, 4, 7, 6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99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mbria"/>
              </a:rPr>
              <a:t>Из примеров на умножение составьте все возможные примеры на деление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3071520"/>
            <a:ext cx="76960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4х6=24                8х1=8               6х0=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7"/>
          <p:cNvSpPr txBox="1"/>
          <p:nvPr/>
        </p:nvSpPr>
        <p:spPr>
          <a:xfrm>
            <a:off x="6553080" y="5334120"/>
            <a:ext cx="1038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60912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«Умножение и деление с числами 1, 0. 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Деление 0 на число. »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7308720" y="3213000"/>
            <a:ext cx="847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4" name="WordArt 6"/>
          <p:cNvSpPr txBox="1"/>
          <p:nvPr/>
        </p:nvSpPr>
        <p:spPr>
          <a:xfrm rot="888000">
            <a:off x="456840" y="762120"/>
            <a:ext cx="733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39640" y="3789360"/>
            <a:ext cx="126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ut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00:49Z</dcterms:created>
  <dc:creator/>
  <dc:description/>
  <dc:language>en-US</dc:language>
  <cp:lastModifiedBy>Сергей</cp:lastModifiedBy>
  <dcterms:modified xsi:type="dcterms:W3CDTF">2013-12-10T18:10:06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