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598-5958-485D-957E-B79F1815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2F0-A966-40F7-BB8A-F7119EF1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AF8-5450-4797-B857-A9842317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FCC-070D-42F9-95AD-132F8863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91A2-437E-4C68-9F43-BAA4FFBE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A662-B0E1-4389-9C2F-18D38F73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6546-4DA8-4C1B-AC69-67666FE3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AAF9-247C-41C5-BD92-3621F3D8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B5B3-37CC-4DA6-BEEA-78DB05B9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8364-DEB8-48E1-A20B-7E21F8B2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12A7-7B74-4C49-BF2A-5B719D9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597-7434-4009-9B8C-4D356043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D3A6-D665-4F81-BA4E-73197E52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95BE-8FAC-4DC6-943D-A79CB02B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053D-C408-4EF4-BE14-5D9280B2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0263-6EF9-4070-B1D4-E4752A76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273B-FC57-421C-9577-F673E16E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1E6-01BC-4C34-876E-9F54EC1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71A-636D-4729-ADC6-F7E431C2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5AB-763C-4807-A64A-F10203DF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A18-D0FA-4F78-BB58-D3D7E3F1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6D0-4189-4837-8CD5-11845E2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D61-536E-4FE2-AD4F-94202F77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D74-E7A2-41E8-85C4-6B91A8A0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752A-BD77-4F8C-A6F6-BAA450A59D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185-83B6-4103-BB61-CD944C6D72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kk-KZ" sz="8200" spc="-1" strike="noStrike">
                <a:solidFill>
                  <a:srgbClr val="655af8"/>
                </a:solidFill>
                <a:latin typeface="Times New Roman"/>
              </a:rPr>
              <a:t>Знатоки прав</a:t>
            </a:r>
            <a:endParaRPr b="0" lang="en-US" sz="8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834920" y="1412640"/>
            <a:ext cx="5825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655af8"/>
                </a:solidFill>
                <a:latin typeface="Arial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3887640" cy="273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3694320" cy="270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64680" y="537372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5af8"/>
                </a:solidFill>
                <a:latin typeface="Arial"/>
              </a:rPr>
              <a:t>Выполнила: Головина Окса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5af8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55af8"/>
                </a:solidFill>
                <a:latin typeface="Arial"/>
              </a:rPr>
              <a:t>МБОУ СОШ № 74 г.о. Сам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-603360"/>
            <a:ext cx="800244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Какие дети имеют право на особый уход и защит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и-инвал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и в возрасте с 15 до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е дети имеют такое 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-532080"/>
            <a:ext cx="7931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Какие дети имеют право на особый уход и защит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и-инвал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и в возрасте с 15 до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Все дети имеют такое 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Ребёнок имеет право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вободно выражать своё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слушаться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ходить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Ребёнок имеет право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На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Свободно выражать своё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слушаться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ходить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Как называется сказка и кто её автор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11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249800" cy="489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8680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Лиса говорит «Колобок, Колобок, я тебя съем!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должен ответить Колобок, защищая свои пр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55af8"/>
                </a:solidFill>
                <a:latin typeface="Arial"/>
              </a:rPr>
              <a:t>«Не имеешь права лишать меня жиз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Как называется эта сказка? Кто её написал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1"/>
          <a:stretch/>
        </p:blipFill>
        <p:spPr>
          <a:xfrm>
            <a:off x="2633760" y="1782720"/>
            <a:ext cx="4333680" cy="4165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0024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Медведь говорит «Машенька, будешь у меня жить, печку топить, кашу варить»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793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кое право нарушил медведь, не отпуская Машеньку до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«Не имеешь права лишать меня свобод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Назовите сказку. Кто автор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6535800" cy="485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-675000"/>
            <a:ext cx="785988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Что должен ответить Буратино  Карабасу-Барабас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55af8"/>
                </a:solidFill>
                <a:latin typeface="Arial"/>
              </a:rPr>
              <a:t>«Не имеешь права подвергать меня пыткам и жестокому обращени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-243000"/>
            <a:ext cx="77043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Назовите основной закон государств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Декла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476360" y="189000"/>
            <a:ext cx="662472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553080" cy="4805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-171360"/>
            <a:ext cx="78598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Назовите основной закон государств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Декла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655af8"/>
                </a:solidFill>
                <a:latin typeface="Arial"/>
              </a:rPr>
              <a:t>Конститу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-458640"/>
            <a:ext cx="76186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Какой международный документ закрепляет права детей</a:t>
            </a:r>
            <a:r>
              <a:rPr b="0" lang="kk-KZ" sz="38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ституция 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Устав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венция о правах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60372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Какой международный документ </a:t>
            </a: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br>
              <a:rPr sz="3800"/>
            </a:b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i="1" lang="kk-KZ" sz="3800" spc="-1" strike="noStrike">
                <a:solidFill>
                  <a:srgbClr val="330033"/>
                </a:solidFill>
                <a:latin typeface="Times New Roman"/>
              </a:rPr>
              <a:t>закрепляет права детей</a:t>
            </a:r>
            <a:r>
              <a:rPr b="0" lang="kk-KZ" sz="38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Конституция 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Устав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655af8"/>
                </a:solidFill>
                <a:latin typeface="Arial"/>
              </a:rPr>
              <a:t>Конвенция о правах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16360" y="429264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Что такое прав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вокупность прав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яза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Что такое прав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Совокупность прав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яза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Ребёнок – это человек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ый ходит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ый ходит в 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ому не исполнилось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Ребёнок – это человек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ый ходит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торый ходит в 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55af8"/>
                </a:solidFill>
                <a:latin typeface="Arial"/>
              </a:rPr>
              <a:t>Которому не исполнилось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02" descr=""/>
          <p:cNvPicPr/>
          <p:nvPr/>
        </p:nvPicPr>
        <p:blipFill>
          <a:blip r:embed="rId1"/>
          <a:stretch/>
        </p:blipFill>
        <p:spPr>
          <a:xfrm>
            <a:off x="2916360" y="3297240"/>
            <a:ext cx="3168360" cy="3560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5:07:21Z</dcterms:created>
  <dc:creator>Admin</dc:creator>
  <dc:description/>
  <dc:language>en-US</dc:language>
  <cp:lastModifiedBy>Zver</cp:lastModifiedBy>
  <dcterms:modified xsi:type="dcterms:W3CDTF">2015-02-01T18:16:22Z</dcterms:modified>
  <cp:revision>10</cp:revision>
  <dc:subject/>
  <dc:title>Знатоки прав</dc:title>
</cp:coreProperties>
</file>