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96F-D59F-4A11-B16F-35E2441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463-7911-4826-ACCA-5476DCA8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278-6431-4B47-A7B9-2D437635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7EA-DE3A-440F-AB9E-65A5BF43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67B6-54D6-482E-9BC1-22D47649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6BAD-FFB5-4AE7-B4FD-2B41FD8D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053A-6EEB-4B05-BE4E-E0044A4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FB9C-B7BB-429B-9F4D-262C59A1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875-65D5-478C-AFF0-2ECA4DE2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7D18-4B76-48DE-A0E0-38A56FF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661E-9341-4FC2-A3C1-A84A1B7A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98D-AAA9-44EE-ACEE-52527ABA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2F51-19C4-439B-A815-94078AE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237-5EA6-422E-98DB-25CEA93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2510-03C4-4492-8FF2-BE161E10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41E8-EFDC-4632-9A86-444E644E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656-56E6-4E5A-B55C-B8444C20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D6E-3DCE-4F6D-B071-78EFC4FF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115-DE03-4445-818E-514C91EC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5C8-2924-4FC7-B1A5-A93FADF1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788-40EA-40C7-8088-0B2D09F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89E-6394-454D-98F7-4574BA3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34E-481F-487D-8B22-070B2302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654-022F-4136-96D5-373F09B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D458-4494-463D-8F4C-E98C54C161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5A65-980C-42A3-988D-9B789D27C5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kk-KZ" sz="8200" spc="-1" strike="noStrike">
                <a:solidFill>
                  <a:srgbClr val="655af8"/>
                </a:solidFill>
                <a:latin typeface="Times New Roman"/>
              </a:rPr>
              <a:t>Знатоки прав</a:t>
            </a:r>
            <a:endParaRPr b="0" lang="en-US" sz="8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34920" y="1412640"/>
            <a:ext cx="5825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655af8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887640" cy="273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694320" cy="270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64680" y="537372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5af8"/>
                </a:solidFill>
                <a:latin typeface="Arial"/>
              </a:rPr>
              <a:t>Выполнила: Головина Окса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5af8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5af8"/>
                </a:solidFill>
                <a:latin typeface="Arial"/>
              </a:rPr>
              <a:t>МБОУ СОШ № 74 г.о. Сам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-603360"/>
            <a:ext cx="800244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ие дети имеют право на особый уход и защит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-инвал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 в возрасте с 15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е дети имеют такое 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-532080"/>
            <a:ext cx="7931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ие дети имеют право на особый уход и защит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-инвал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 в возрасте с 15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Все дети имеют такое 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имеет право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вободно выражать своё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слушатьс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ходить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имеет право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На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Свободно выражать своё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слушатьс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ходить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 называется сказка и кто её автор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24980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868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Лиса говорит «Колобок, Колобок, я тебя съем!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должен ответить Колобок, защищая свои пр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55af8"/>
                </a:solidFill>
                <a:latin typeface="Arial"/>
              </a:rPr>
              <a:t>«Не имеешь права лишать меня жиз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 называется эта сказка? Кто её написал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1"/>
          <a:stretch/>
        </p:blipFill>
        <p:spPr>
          <a:xfrm>
            <a:off x="2633760" y="1782720"/>
            <a:ext cx="4333680" cy="4165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0024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Медведь говорит «Машенька, будешь у меня жить, печку топить, кашу варить»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793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кое право нарушил медведь, не отпуская Машеньку до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«Не имеешь права лишать меня свобо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Назовите сказку. Кто автор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535800" cy="485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-675000"/>
            <a:ext cx="785988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Что должен ответить Буратино  Карабасу-Барабас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55af8"/>
                </a:solidFill>
                <a:latin typeface="Arial"/>
              </a:rPr>
              <a:t>«Не имеешь права подвергать меня пыткам и жестокому обращени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-243000"/>
            <a:ext cx="7704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Назовите основной закон государств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476360" y="189000"/>
            <a:ext cx="662472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553080" cy="4805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-171360"/>
            <a:ext cx="78598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Назовите основной закон государств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655af8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-458640"/>
            <a:ext cx="76186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Какой международный документ закрепляет права детей</a:t>
            </a:r>
            <a:r>
              <a:rPr b="0" lang="kk-KZ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ституция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Устав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венция о правах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60372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Какой международный документ </a:t>
            </a: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закрепляет права детей</a:t>
            </a:r>
            <a:r>
              <a:rPr b="0" lang="kk-KZ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ституция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Устав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655af8"/>
                </a:solidFill>
                <a:latin typeface="Arial"/>
              </a:rPr>
              <a:t>Конвенция о правах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16360" y="429264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Что такое прав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вокупность пра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Что такое прав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Совокупность пра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– это человек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ому не исполнилось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– это человек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Которому не исполнилось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02" descr=""/>
          <p:cNvPicPr/>
          <p:nvPr/>
        </p:nvPicPr>
        <p:blipFill>
          <a:blip r:embed="rId1"/>
          <a:stretch/>
        </p:blipFill>
        <p:spPr>
          <a:xfrm>
            <a:off x="2916360" y="3297240"/>
            <a:ext cx="3168360" cy="3560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5:07:21Z</dcterms:created>
  <dc:creator>Admin</dc:creator>
  <dc:description/>
  <dc:language>en-US</dc:language>
  <cp:lastModifiedBy>Zver</cp:lastModifiedBy>
  <dcterms:modified xsi:type="dcterms:W3CDTF">2015-02-01T18:16:22Z</dcterms:modified>
  <cp:revision>10</cp:revision>
  <dc:subject/>
  <dc:title>Знатоки прав</dc:title>
</cp:coreProperties>
</file>