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CAB-066A-433F-BAB2-9A5448F9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5C6C-B96C-4795-A37B-0FB50B8A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C0A4-B5D4-473B-8B7F-497E3BED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6B16-FA58-4B49-95D1-9870A8C4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0925-C6BF-4316-9181-E17451A5B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AF83-0220-4722-8AA2-FD700FED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71DA-B8A2-4A96-AD0A-C5BDB9BF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94BB-D369-4716-83EE-6FEEF160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F18C-1A7E-4B1F-B82D-39EBB44D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CDCB-0EFB-4C91-A987-042DE3E2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02E8-0050-4231-BA32-79AE3D89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7DB2-598D-44A0-ABE9-49670A60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F8D1-02B2-470F-827D-85A9B1F4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9F2CF-31E5-4745-BA4D-5B654B07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C261-F428-4697-8D25-E87E2521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C311-2D29-4741-B974-0B80AD67C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DB71-206E-4BDC-8E93-4AB1329F3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87F3-7027-492D-AB62-A70ADE4B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DDA7-C95A-4D5A-B1AD-9DC34E25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BC8-7F5E-40C5-9DCD-CC2F9546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B34-8F4E-42C4-8C02-B28D1927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40FD-80AD-4BB1-910E-5599E822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9B80-86BB-4576-A365-5DCE2C93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7349-DCCE-4A70-A72A-1DC59EC8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10EF-F64F-46CD-9E63-3FB81BA03576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E589-8566-4E7F-BB9A-0F90AE6DEA57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12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ndexmed.net/uploads/images/4/3/3/8/898/fda06eb2b8.jpg" TargetMode="External"/><Relationship Id="rId2" Type="http://schemas.openxmlformats.org/officeDocument/2006/relationships/hyperlink" Target="http://s006.radikal.ru/i215/1002/56/b8d367f888de.jpg" TargetMode="External"/><Relationship Id="rId3" Type="http://schemas.openxmlformats.org/officeDocument/2006/relationships/hyperlink" Target="http://images.cosmo.ru/upload/2009/cosmo/03/keira-knightley-pic_wmark.jpg" TargetMode="External"/><Relationship Id="rId4" Type="http://schemas.openxmlformats.org/officeDocument/2006/relationships/hyperlink" Target="http://www.sunhome.ru/UsersGallery/journal/raspoznanie_lic_lyudei.jpg" TargetMode="External"/><Relationship Id="rId5" Type="http://schemas.openxmlformats.org/officeDocument/2006/relationships/hyperlink" Target="http://www.klinikasoyuz.info/wp-content/uploads/stariki-4.jpghttp://s002.radikal.ru/i198/1006/39/6addd5cbde3f.jpg" TargetMode="External"/><Relationship Id="rId6" Type="http://schemas.openxmlformats.org/officeDocument/2006/relationships/hyperlink" Target="http://uk.wikipedia.org/wiki/&#1030;&#1085;&#1092;&#1072;&#1088;&#1082;&#1090;_&#1084;&#1110;&#1086;&#1082;&#1072;&#1088;&#1076;&#1072;" TargetMode="External"/><Relationship Id="rId7" Type="http://schemas.openxmlformats.org/officeDocument/2006/relationships/hyperlink" Target="http://uk.wikipedia.org/wiki/&#1043;&#1110;&#1087;&#1077;&#1088;&#1090;&#1086;&#1085;&#1110;&#1103;" TargetMode="External"/><Relationship Id="rId8" Type="http://schemas.openxmlformats.org/officeDocument/2006/relationships/hyperlink" Target="http://uk.wikipedia.org/wiki/&#1043;&#1110;&#1087;&#1077;&#1088;&#1090;&#1086;&#1085;&#1110;&#1103;" TargetMode="Externa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987640" y="620640"/>
            <a:ext cx="3352680" cy="2225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 rot="20984400">
            <a:off x="610920" y="475920"/>
            <a:ext cx="1908000" cy="25430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 rot="932400">
            <a:off x="7524360" y="2133720"/>
            <a:ext cx="1401840" cy="17604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0" y="2276640"/>
            <a:ext cx="1955880" cy="1977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 rot="862800">
            <a:off x="6156000" y="691920"/>
            <a:ext cx="2062080" cy="1546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7397640" y="3860640"/>
            <a:ext cx="1746360" cy="244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 rot="583800">
            <a:off x="4427640" y="4149360"/>
            <a:ext cx="3090600" cy="2193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rcRect l="0" t="0" r="0" b="8208"/>
          <a:stretch/>
        </p:blipFill>
        <p:spPr>
          <a:xfrm rot="20771400">
            <a:off x="2987640" y="4076640"/>
            <a:ext cx="1774800" cy="244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9"/>
          <a:srcRect l="0" t="0" r="0" b="7668"/>
          <a:stretch/>
        </p:blipFill>
        <p:spPr>
          <a:xfrm rot="1435800">
            <a:off x="826560" y="4220640"/>
            <a:ext cx="1843200" cy="2376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2050920" y="2997360"/>
            <a:ext cx="518508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«Я хочу жити!»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1916280"/>
            <a:ext cx="2448000" cy="3024000"/>
          </a:xfrm>
          <a:prstGeom prst="rec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f8f8f8"/>
                </a:solidFill>
                <a:latin typeface="Times New Roman"/>
              </a:rPr>
              <a:t>?</a:t>
            </a:r>
            <a:endParaRPr b="0" lang="en-US" sz="200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340000" y="47628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Хвороби артері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4464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ahoma"/>
              </a:rPr>
              <a:t>       </a:t>
            </a:r>
            <a:r>
              <a:rPr b="1" lang="uk-UA" sz="3200" spc="-1" strike="noStrike">
                <a:solidFill>
                  <a:srgbClr val="ccecff"/>
                </a:solidFill>
                <a:latin typeface="Tahoma"/>
              </a:rPr>
              <a:t>Інсульт</a:t>
            </a:r>
            <a:r>
              <a:rPr b="0" lang="uk-UA" sz="3200" spc="-1" strike="noStrike">
                <a:solidFill>
                  <a:srgbClr val="ccecff"/>
                </a:solidFill>
                <a:latin typeface="Tahoma"/>
              </a:rPr>
              <a:t>  — гостре порушення мозкового кровообігу, що спричинює ушкодження тканин мозку і розлади його функцій.</a:t>
            </a:r>
            <a:r>
              <a:rPr b="0" lang="uk-UA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859280" y="3789360"/>
            <a:ext cx="391176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4360" y="220464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ff"/>
                </a:solidFill>
                <a:latin typeface="Tahoma"/>
              </a:rPr>
              <a:t>Фактори ризику інсульту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похилий вік;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гіпертонія;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захворювання серця</a:t>
            </a: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;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перевантаження негативними емоціями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куріння;</a:t>
            </a: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атеросклероз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68360" y="692280"/>
            <a:ext cx="6193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Хвороби артерій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2340000" y="47628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Хвороби артері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44640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ahoma"/>
              </a:rPr>
              <a:t>       </a:t>
            </a:r>
            <a:r>
              <a:rPr b="1" lang="uk-UA" sz="3200" spc="-1" strike="noStrike">
                <a:solidFill>
                  <a:srgbClr val="ccecff"/>
                </a:solidFill>
                <a:latin typeface="Tahoma"/>
              </a:rPr>
              <a:t>Дистонія</a:t>
            </a:r>
            <a:r>
              <a:rPr b="0" lang="uk-UA" sz="3200" spc="-1" strike="noStrike">
                <a:solidFill>
                  <a:srgbClr val="ccecff"/>
                </a:solidFill>
                <a:latin typeface="Tahoma"/>
              </a:rPr>
              <a:t>  — порушення тонусу судин.</a:t>
            </a:r>
            <a:r>
              <a:rPr b="0" lang="uk-UA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4653000"/>
            <a:ext cx="554184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ccecff"/>
                </a:solidFill>
                <a:latin typeface="Tahoma"/>
              </a:rPr>
              <a:t>Характеризується порушенням кровообігу і кровопостачання органів</a:t>
            </a:r>
            <a:r>
              <a:rPr b="0" lang="uk-UA" sz="2400" spc="-1" strike="noStrike">
                <a:solidFill>
                  <a:srgbClr val="ccec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435640" y="3860640"/>
            <a:ext cx="32814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256500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ff"/>
                </a:solidFill>
                <a:latin typeface="Tahoma"/>
              </a:rPr>
              <a:t>Фактори ризику дистонії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невідповідна нервова регуляція судин;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неврози;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низька фізична активність</a:t>
            </a: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;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268360" y="692280"/>
            <a:ext cx="6193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Хвороби артерій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340000" y="47628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Хвороби артерій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4464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       </a:t>
            </a:r>
            <a:r>
              <a:rPr b="1" lang="uk-UA" sz="2800" spc="-1" strike="noStrike">
                <a:solidFill>
                  <a:srgbClr val="ccecff"/>
                </a:solidFill>
                <a:latin typeface="Tahoma"/>
              </a:rPr>
              <a:t>Атеросклероз</a:t>
            </a: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  — хронічне захворювання, що характерізується ущільненням стінок артерій, звуженням їхнього просвіту й частим утворенням тромбів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076720" y="3645000"/>
            <a:ext cx="36496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ff"/>
                </a:solidFill>
                <a:latin typeface="Tahoma"/>
              </a:rPr>
              <a:t>Фактори ризику атеросклерозу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гіпертонія;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цукровий діабет;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ожиріння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надмірне вживання жирної їжі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нервові перенапруження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вживання алкоголю.</a:t>
            </a: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2268360" y="692280"/>
            <a:ext cx="6193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Хвороби артерій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2771640" y="620640"/>
            <a:ext cx="5112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Хвороби вен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87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44640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ahoma"/>
              </a:rPr>
              <a:t>       </a:t>
            </a:r>
            <a:r>
              <a:rPr b="1" lang="uk-UA" sz="3200" spc="-1" strike="noStrike">
                <a:solidFill>
                  <a:srgbClr val="ccecff"/>
                </a:solidFill>
                <a:latin typeface="Tahoma"/>
              </a:rPr>
              <a:t>Варикозне розширення вен</a:t>
            </a:r>
            <a:r>
              <a:rPr b="0" lang="uk-UA" sz="3200" spc="-1" strike="noStrike">
                <a:solidFill>
                  <a:srgbClr val="ccecff"/>
                </a:solidFill>
                <a:latin typeface="Tahoma"/>
              </a:rPr>
              <a:t>  — захворювання, що проявляється нерівномірним розширенням вен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508720" y="2565360"/>
            <a:ext cx="30477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360" y="2565360"/>
            <a:ext cx="77724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ff"/>
                </a:solidFill>
                <a:latin typeface="Tahoma"/>
              </a:rPr>
              <a:t>Фактори ризику атеросклерозу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гіподинамія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надмірне вживання жирної їжі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нервові перенапруження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шкідливі звички.</a:t>
            </a: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771640" y="620640"/>
            <a:ext cx="5112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Хвороби вен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Джерела інформації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Сердце - </a:t>
            </a:r>
            <a:r>
              <a:rPr b="0" lang="ru-RU" sz="1600" spc="-1" strike="noStrike" u="sng">
                <a:solidFill>
                  <a:srgbClr val="00ffff"/>
                </a:solidFill>
                <a:uFillTx/>
                <a:latin typeface="Tahoma"/>
                <a:hlinkClick r:id="rId1"/>
              </a:rPr>
              <a:t>http://indexmed.net/uploads/images/4/3/3/8/898/fda06eb2b8.jpg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Лица - </a:t>
            </a:r>
            <a:r>
              <a:rPr b="0" lang="ru-RU" sz="1600" spc="-1" strike="noStrike" u="sng">
                <a:solidFill>
                  <a:srgbClr val="00ffff"/>
                </a:solidFill>
                <a:uFillTx/>
                <a:latin typeface="Tahoma"/>
                <a:hlinkClick r:id="rId2"/>
              </a:rPr>
              <a:t>http://s006.radikal.ru/i215/1002/56/b8d367f888de.jpg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, </a:t>
            </a:r>
            <a:r>
              <a:rPr b="0" lang="ru-RU" sz="1600" spc="-1" strike="noStrike" u="sng">
                <a:solidFill>
                  <a:srgbClr val="00ffff"/>
                </a:solidFill>
                <a:uFillTx/>
                <a:latin typeface="Tahoma"/>
                <a:hlinkClick r:id="rId3"/>
              </a:rPr>
              <a:t>http://images.cosmo.ru/upload/2009/cosmo/03/keira-knightley-pic_wmark.jpg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, </a:t>
            </a:r>
            <a:r>
              <a:rPr b="0" lang="ru-RU" sz="1600" spc="-1" strike="noStrike" u="sng">
                <a:solidFill>
                  <a:srgbClr val="00ffff"/>
                </a:solidFill>
                <a:uFillTx/>
                <a:latin typeface="Tahoma"/>
                <a:hlinkClick r:id="rId4"/>
              </a:rPr>
              <a:t>http://www.sunhome.ru/UsersGallery/journal/raspoznanie_lic_lyudei.jpg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, </a:t>
            </a:r>
            <a:r>
              <a:rPr b="0" lang="ru-RU" sz="1600" spc="-1" strike="noStrike" u="sng">
                <a:solidFill>
                  <a:srgbClr val="00ffff"/>
                </a:solidFill>
                <a:uFillTx/>
                <a:latin typeface="Tahoma"/>
                <a:hlinkClick r:id="rId5"/>
              </a:rPr>
              <a:t>http://www.klinikasoyuz.info/wp-content/uploads/stariki-4.jpghttp://s002.radikal.ru/i198/1006/39/6addd5cbde3f.jpg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,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ffff"/>
                </a:solidFill>
                <a:uFillTx/>
                <a:latin typeface="Tahoma"/>
                <a:hlinkClick r:id="rId6"/>
              </a:rPr>
              <a:t>http://uk.wikipedia.org/wiki/Інфаркт_міокарда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8f8f8"/>
                </a:solidFill>
                <a:latin typeface="Tahoma"/>
              </a:rPr>
              <a:t>Серце гипертоника-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http://lechenie-gipertonii.info/wp-content/uploads/2011/04/3.jpg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ffff"/>
                </a:solidFill>
                <a:uFillTx/>
                <a:latin typeface="Tahoma"/>
                <a:hlinkClick r:id="rId7"/>
              </a:rPr>
              <a:t>http</a:t>
            </a:r>
            <a:r>
              <a:rPr b="0" lang="ru-RU" sz="1600" spc="-1" strike="noStrike" u="sng">
                <a:solidFill>
                  <a:srgbClr val="00ffff"/>
                </a:solidFill>
                <a:uFillTx/>
                <a:latin typeface="Tahoma"/>
                <a:hlinkClick r:id="rId8"/>
              </a:rPr>
              <a:t>://uk.wikipedia.org/wiki/Гіпертонія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http://uk.wikipedia.org/wiki/Аритмія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8f8f8"/>
                </a:solidFill>
                <a:latin typeface="Tahoma"/>
              </a:rPr>
              <a:t>Інсульт -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http://operativno.com/wp-content/uploads/2010/10/162.jpg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8f8f8"/>
                </a:solidFill>
                <a:latin typeface="Tahoma"/>
              </a:rPr>
              <a:t>Атеросклероз -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http://medprep.info/img/ail/891_891_1.jpg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8f8f8"/>
                </a:solidFill>
                <a:latin typeface="Tahoma"/>
              </a:rPr>
              <a:t>Варикозне розширення вен - </a:t>
            </a:r>
            <a:r>
              <a:rPr b="0" lang="ru-RU" sz="1600" spc="-1" strike="noStrike">
                <a:solidFill>
                  <a:srgbClr val="f8f8f8"/>
                </a:solidFill>
                <a:latin typeface="Tahoma"/>
              </a:rPr>
              <a:t>http://stattitablohy.ezreklama.com/uploads/a/admin/art_942_b27b19ced2.jpg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8f8f8"/>
                </a:solidFill>
                <a:latin typeface="Tahoma"/>
              </a:rPr>
              <a:t>Підручник для 8/9 класу, автор М.Н.Шабатура, вид. “Генеза”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2852640"/>
            <a:ext cx="8229600" cy="28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ecff"/>
                </a:solidFill>
                <a:latin typeface="Tahoma"/>
              </a:rPr>
              <a:t>Серцеві хвороби</a:t>
            </a:r>
            <a:r>
              <a:rPr b="0" lang="uk-UA" sz="3200" spc="-1" strike="noStrike">
                <a:solidFill>
                  <a:srgbClr val="ccecff"/>
                </a:solidFill>
                <a:latin typeface="Tahoma"/>
              </a:rPr>
              <a:t>  — це цілий ряд різних захворювань які вражають серце та серцево-судинну систему. Вивченням хвороб серця, їх профілактикою та лікуванням займається кардіологія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340000" y="47628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ерцеві хвороб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340000" y="47628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ерцеві хвороб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4360" y="263664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        </a:t>
            </a: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Щорічно вперше виявляється близько </a:t>
            </a:r>
            <a:r>
              <a:rPr b="1" lang="uk-UA" sz="2800" spc="-1" strike="noStrike">
                <a:solidFill>
                  <a:srgbClr val="ccecff"/>
                </a:solidFill>
                <a:latin typeface="Tahoma"/>
              </a:rPr>
              <a:t>2 млн</a:t>
            </a: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. хворих з цією патологією, з них кожний другий — працездатного віку. Смертність від хвороб серця та системи кровообігу в Україні займає </a:t>
            </a:r>
            <a:r>
              <a:rPr b="1" lang="uk-UA" sz="2800" spc="-1" strike="noStrike">
                <a:solidFill>
                  <a:srgbClr val="ccecff"/>
                </a:solidFill>
                <a:latin typeface="Tahoma"/>
              </a:rPr>
              <a:t>перше місце</a:t>
            </a: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 і у 2-4 рази вища, ніж у країнах ЄС та світу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340000" y="47628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Хвороби серц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39640" y="2349360"/>
            <a:ext cx="561672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ecff"/>
                </a:solidFill>
                <a:latin typeface="Tahoma"/>
              </a:rPr>
              <a:t>Інфаркт міокарда</a:t>
            </a: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 - патологічний  стан, що характеризується абсолютним або відносним порушенням кровопостачання міокарду  внаслідок враження коронарних артерій серця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372360" y="3357720"/>
            <a:ext cx="2317680" cy="3001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9640" y="5373720"/>
            <a:ext cx="554220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ccecff"/>
                </a:solidFill>
                <a:latin typeface="Tahoma"/>
              </a:rPr>
              <a:t>Характеризується змертвінням частини м'язових клітин серця</a:t>
            </a:r>
            <a:r>
              <a:rPr b="0" lang="uk-UA" sz="2400" spc="-1" strike="noStrike">
                <a:solidFill>
                  <a:srgbClr val="ccec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340000" y="47628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ерцеві хвороб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84360" y="220464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ff"/>
                </a:solidFill>
                <a:latin typeface="Tahoma"/>
              </a:rPr>
              <a:t>Фактори ризику інфаркту міокарда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Куріння тютюну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Ожиріння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Стрес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Алкоголь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Фізичні навантаження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8101080" y="5877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7301"/>
                </a:moveTo>
                <a:lnTo>
                  <a:pt x="6498" y="7301"/>
                </a:lnTo>
                <a:lnTo>
                  <a:pt x="6881" y="7667"/>
                </a:lnTo>
                <a:lnTo>
                  <a:pt x="16090" y="7667"/>
                </a:lnTo>
                <a:lnTo>
                  <a:pt x="16647" y="8224"/>
                </a:lnTo>
                <a:lnTo>
                  <a:pt x="16647" y="8772"/>
                </a:lnTo>
                <a:lnTo>
                  <a:pt x="18492" y="8772"/>
                </a:lnTo>
                <a:lnTo>
                  <a:pt x="18858" y="8224"/>
                </a:lnTo>
                <a:lnTo>
                  <a:pt x="19597" y="8224"/>
                </a:lnTo>
                <a:lnTo>
                  <a:pt x="19597" y="13376"/>
                </a:lnTo>
                <a:lnTo>
                  <a:pt x="18858" y="13376"/>
                </a:lnTo>
                <a:lnTo>
                  <a:pt x="18492" y="12828"/>
                </a:lnTo>
                <a:lnTo>
                  <a:pt x="16647" y="12828"/>
                </a:lnTo>
                <a:lnTo>
                  <a:pt x="16647" y="14107"/>
                </a:lnTo>
                <a:lnTo>
                  <a:pt x="7064" y="14107"/>
                </a:lnTo>
                <a:lnTo>
                  <a:pt x="7064" y="9877"/>
                </a:lnTo>
                <a:lnTo>
                  <a:pt x="6881" y="9877"/>
                </a:lnTo>
                <a:lnTo>
                  <a:pt x="6498" y="10243"/>
                </a:lnTo>
                <a:lnTo>
                  <a:pt x="5585" y="10243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340000" y="47628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ерцеві хвороб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55640" y="2349000"/>
            <a:ext cx="4464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ahoma"/>
              </a:rPr>
              <a:t>       </a:t>
            </a:r>
            <a:r>
              <a:rPr b="1" lang="ru-RU" sz="3200" spc="-1" strike="noStrike">
                <a:solidFill>
                  <a:srgbClr val="ccecff"/>
                </a:solidFill>
                <a:latin typeface="Tahoma"/>
              </a:rPr>
              <a:t>Гіпертонія </a:t>
            </a:r>
            <a:r>
              <a:rPr b="0" lang="ru-RU" sz="3200" spc="-1" strike="noStrike">
                <a:solidFill>
                  <a:srgbClr val="ccecff"/>
                </a:solidFill>
                <a:latin typeface="Tahoma"/>
              </a:rPr>
              <a:t> — синдром підвищення артеріального тиску.</a:t>
            </a: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203640" y="4581360"/>
            <a:ext cx="2519280" cy="1675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rcRect l="0" t="0" r="47313" b="0"/>
          <a:stretch/>
        </p:blipFill>
        <p:spPr>
          <a:xfrm>
            <a:off x="6012000" y="2349360"/>
            <a:ext cx="26096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340000" y="47628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ерцеві хвороб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4360" y="220464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ff"/>
                </a:solidFill>
                <a:latin typeface="Tahoma"/>
              </a:rPr>
              <a:t>Фактори ризику гіпертонії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розумові перевантаження,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шкідливі звички (паління, алкоголь, наркотики),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атеросклероз,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перевантаження негативними емоціями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340000" y="47628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ерцеві хвороб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4464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ahoma"/>
              </a:rPr>
              <a:t>       </a:t>
            </a:r>
            <a:r>
              <a:rPr b="1" lang="ru-RU" sz="2800" spc="-1" strike="noStrike">
                <a:solidFill>
                  <a:srgbClr val="ccecff"/>
                </a:solidFill>
                <a:latin typeface="Tahoma"/>
              </a:rPr>
              <a:t>Аритмі́ї се́рця </a:t>
            </a: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 — </a:t>
            </a: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група порушень діяльності серця, пов'язаних з розладом ритмічності, послідовності і сили скорочень серцевого м'яза</a:t>
            </a:r>
            <a:r>
              <a:rPr b="0" lang="uk-UA" sz="28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5651640" y="2492280"/>
            <a:ext cx="2979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340000" y="476280"/>
            <a:ext cx="61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ерцеві хвороб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98720" cy="1998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0" y="206064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4360" y="2205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ff"/>
                </a:solidFill>
                <a:latin typeface="Tahoma"/>
              </a:rPr>
              <a:t>Фактори ризику аритмії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шкідливі звички (паління, алкоголь, наркотики),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інфекційні захворювання,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cecff"/>
                </a:solidFill>
                <a:latin typeface="Tahoma"/>
              </a:rPr>
              <a:t>перевантаження негативними емоціями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9T12:57:08Z</dcterms:created>
  <dc:creator>User</dc:creator>
  <dc:description/>
  <dc:language>en-US</dc:language>
  <cp:lastModifiedBy>User</cp:lastModifiedBy>
  <dcterms:modified xsi:type="dcterms:W3CDTF">2011-08-09T15:34:27Z</dcterms:modified>
  <cp:revision>22</cp:revision>
  <dc:subject/>
  <dc:title>«Я хочу жить!»</dc:title>
</cp:coreProperties>
</file>