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981-C178-43DE-AC8F-E613A388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EF5-9626-49FB-8382-2614A485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C90-23D1-4646-A4AF-F050D32B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6A5-CA28-4D4A-B73E-70594E65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4663-80D3-44EE-98EE-3CD2B1B9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4D60-22E7-4D8C-9E59-76E877B7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DA29-8ED1-43FD-8FC8-969FEBAF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FC56-0B90-4167-9823-CEA25F2C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02C6-99C3-42E5-B5F5-BB99A9F6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3699-E432-47D2-9924-544683A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2690-6B57-4ABC-A225-D6C81830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7A1-F65C-419D-BD47-9D5D859A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18A6-33D9-4148-B05C-9282FA16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4A4B-3680-4FC4-BD1D-96713E6C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FB3D-73A7-4FD1-856E-2E6AF5AC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E1A0-989A-4303-BC8A-2480BA48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4A66-F8CA-4F32-A9A8-3D070ED7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397-417A-44FE-ADEB-F5E245DE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77A-81CC-4DF5-9E35-7ADBD411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22C-18A8-4E15-BF25-E1E5E3E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1EA-12AD-4F85-92D2-3EC5B7D7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9AC-D14F-410B-8B9E-767CDEC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CD6-B8CD-4D22-9127-1E5EF3D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3B9-F25F-453C-90EE-E210F103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7C8E-61FC-4A15-871E-A74A32ACB8D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C34F-72DF-4616-B08E-96CA2B4A184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ndexmed.net/uploads/images/4/3/3/8/898/fda06eb2b8.jpg" TargetMode="External"/><Relationship Id="rId2" Type="http://schemas.openxmlformats.org/officeDocument/2006/relationships/hyperlink" Target="http://s006.radikal.ru/i215/1002/56/b8d367f888de.jpg" TargetMode="External"/><Relationship Id="rId3" Type="http://schemas.openxmlformats.org/officeDocument/2006/relationships/hyperlink" Target="http://images.cosmo.ru/upload/2009/cosmo/03/keira-knightley-pic_wmark.jpg" TargetMode="External"/><Relationship Id="rId4" Type="http://schemas.openxmlformats.org/officeDocument/2006/relationships/hyperlink" Target="http://www.sunhome.ru/UsersGallery/journal/raspoznanie_lic_lyudei.jpg" TargetMode="External"/><Relationship Id="rId5" Type="http://schemas.openxmlformats.org/officeDocument/2006/relationships/hyperlink" Target="http://www.klinikasoyuz.info/wp-content/uploads/stariki-4.jpghttp://s002.radikal.ru/i198/1006/39/6addd5cbde3f.jpg" TargetMode="External"/><Relationship Id="rId6" Type="http://schemas.openxmlformats.org/officeDocument/2006/relationships/hyperlink" Target="http://uk.wikipedia.org/wiki/&#1030;&#1085;&#1092;&#1072;&#1088;&#1082;&#1090;_&#1084;&#1110;&#1086;&#1082;&#1072;&#1088;&#1076;&#1072;" TargetMode="External"/><Relationship Id="rId7" Type="http://schemas.openxmlformats.org/officeDocument/2006/relationships/hyperlink" Target="http://uk.wikipedia.org/wiki/&#1043;&#1110;&#1087;&#1077;&#1088;&#1090;&#1086;&#1085;&#1110;&#1103;" TargetMode="External"/><Relationship Id="rId8" Type="http://schemas.openxmlformats.org/officeDocument/2006/relationships/hyperlink" Target="http://uk.wikipedia.org/wiki/&#1043;&#1110;&#1087;&#1077;&#1088;&#1090;&#1086;&#1085;&#1110;&#1103;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3352680" cy="222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rot="20984400">
            <a:off x="610920" y="475920"/>
            <a:ext cx="1908000" cy="2543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rot="932400">
            <a:off x="7524360" y="2133720"/>
            <a:ext cx="1401840" cy="176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1955880" cy="1977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 rot="862800">
            <a:off x="6156000" y="691920"/>
            <a:ext cx="206208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7397640" y="3860640"/>
            <a:ext cx="1746360" cy="244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 rot="583800">
            <a:off x="4427640" y="4149360"/>
            <a:ext cx="3090600" cy="2193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rcRect l="0" t="0" r="0" b="8208"/>
          <a:stretch/>
        </p:blipFill>
        <p:spPr>
          <a:xfrm rot="20771400">
            <a:off x="2987640" y="4076640"/>
            <a:ext cx="1774800" cy="244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rcRect l="0" t="0" r="0" b="7668"/>
          <a:stretch/>
        </p:blipFill>
        <p:spPr>
          <a:xfrm rot="1435800">
            <a:off x="826560" y="4220640"/>
            <a:ext cx="1843200" cy="2376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050920" y="2997360"/>
            <a:ext cx="518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«Я хочу жити!»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916280"/>
            <a:ext cx="2448000" cy="302400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446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uk-UA" sz="3200" spc="-1" strike="noStrike">
                <a:solidFill>
                  <a:srgbClr val="ccecff"/>
                </a:solidFill>
                <a:latin typeface="Tahoma"/>
              </a:rPr>
              <a:t>Інсульт</a:t>
            </a:r>
            <a:r>
              <a:rPr b="0" lang="uk-UA" sz="3200" spc="-1" strike="noStrike">
                <a:solidFill>
                  <a:srgbClr val="ccecff"/>
                </a:solidFill>
                <a:latin typeface="Tahoma"/>
              </a:rPr>
              <a:t>  — гостре порушення мозкового кровообігу, що спричинює ушкодження тканин мозку і розлади його функцій.</a:t>
            </a:r>
            <a:r>
              <a:rPr b="0" lang="uk-UA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859280" y="3789360"/>
            <a:ext cx="39117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інсульту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похилий вік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гіпертонія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захворювання серця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перевантаження негативними емоціям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куріння;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атеросклероз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68360" y="69228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446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uk-UA" sz="3200" spc="-1" strike="noStrike">
                <a:solidFill>
                  <a:srgbClr val="ccecff"/>
                </a:solidFill>
                <a:latin typeface="Tahoma"/>
              </a:rPr>
              <a:t>Дистонія</a:t>
            </a:r>
            <a:r>
              <a:rPr b="0" lang="uk-UA" sz="3200" spc="-1" strike="noStrike">
                <a:solidFill>
                  <a:srgbClr val="ccecff"/>
                </a:solidFill>
                <a:latin typeface="Tahoma"/>
              </a:rPr>
              <a:t>  — порушення тонусу судин.</a:t>
            </a:r>
            <a:r>
              <a:rPr b="0" lang="uk-UA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653000"/>
            <a:ext cx="554184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Tahoma"/>
              </a:rPr>
              <a:t>Характеризується порушенням кровообігу і кровопостачання органів</a:t>
            </a:r>
            <a:r>
              <a:rPr b="0" lang="uk-UA" sz="24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435640" y="3860640"/>
            <a:ext cx="3281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дистонії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евідповідна нервова регуляція судин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еврози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изька фізична активність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68360" y="69228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446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uk-UA" sz="2800" spc="-1" strike="noStrike">
                <a:solidFill>
                  <a:srgbClr val="ccecff"/>
                </a:solidFill>
                <a:latin typeface="Tahoma"/>
              </a:rPr>
              <a:t>Атеросклероз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  — хронічне захворювання, що характерізується ущільненням стінок артерій, звуженням їхнього просвіту й частим утворенням тромбі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076720" y="3645000"/>
            <a:ext cx="36496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атеросклерозу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гіпертонія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цукровий діабет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ожирінн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адмірне вживання жирної їжі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ервові перенапруженн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вживання алкоголю.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68360" y="69228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771640" y="620640"/>
            <a:ext cx="511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ве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446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uk-UA" sz="3200" spc="-1" strike="noStrike">
                <a:solidFill>
                  <a:srgbClr val="ccecff"/>
                </a:solidFill>
                <a:latin typeface="Tahoma"/>
              </a:rPr>
              <a:t>Варикозне розширення вен</a:t>
            </a:r>
            <a:r>
              <a:rPr b="0" lang="uk-UA" sz="3200" spc="-1" strike="noStrike">
                <a:solidFill>
                  <a:srgbClr val="ccecff"/>
                </a:solidFill>
                <a:latin typeface="Tahoma"/>
              </a:rPr>
              <a:t>  — захворювання, що проявляється нерівномірним розширенням вен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508720" y="2565360"/>
            <a:ext cx="3047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атеросклерозу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гіподинамі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адмірне вживання жирної їжі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ервові перенапруженн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шкідливі звички.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771640" y="620640"/>
            <a:ext cx="511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вен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Джерела інформаці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Сердце -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indexmed.net/uploads/images/4/3/3/8/898/fda06eb2b8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Лица -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2"/>
              </a:rPr>
              <a:t>http://s006.radikal.ru/i215/1002/56/b8d367f888de.jpg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3"/>
              </a:rPr>
              <a:t>http://images.cosmo.ru/upload/2009/cosmo/03/keira-knightley-pic_wmark.jpg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4"/>
              </a:rPr>
              <a:t>http://www.sunhome.ru/UsersGallery/journal/raspoznanie_lic_lyudei.jpg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5"/>
              </a:rPr>
              <a:t>http://www.klinikasoyuz.info/wp-content/uploads/stariki-4.jpghttp://s002.radikal.ru/i198/1006/39/6addd5cbde3f.jpg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6"/>
              </a:rPr>
              <a:t>http://uk.wikipedia.org/wiki/Інфаркт_міокарда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Серце гипертоника-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lechenie-gipertonii.info/wp-content/uploads/2011/04/3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7"/>
              </a:rPr>
              <a:t>http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8"/>
              </a:rPr>
              <a:t>://uk.wikipedia.org/wiki/Гіпертонія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uk.wikipedia.org/wiki/Аритмія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Інсульт -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operativno.com/wp-content/uploads/2010/10/162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Атеросклероз -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medprep.info/img/ail/891_891_1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Варикозне розширення вен -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stattitablohy.ezreklama.com/uploads/a/admin/art_942_b27b19ced2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Підручник для 8/9 класу, автор М.Н.Шабатура, вид. “Генеза”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2852640"/>
            <a:ext cx="822960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Tahoma"/>
              </a:rPr>
              <a:t>Серцеві хвороби</a:t>
            </a:r>
            <a:r>
              <a:rPr b="0" lang="uk-UA" sz="3200" spc="-1" strike="noStrike">
                <a:solidFill>
                  <a:srgbClr val="ccecff"/>
                </a:solidFill>
                <a:latin typeface="Tahoma"/>
              </a:rPr>
              <a:t>  — це цілий ряд різних захворювань які вражають серце та серцево-судинну систему. Вивченням хвороб серця, їх профілактикою та лікуванням займається кардіологія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2636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        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Щорічно вперше виявляється близько </a:t>
            </a:r>
            <a:r>
              <a:rPr b="1" lang="uk-UA" sz="2800" spc="-1" strike="noStrike">
                <a:solidFill>
                  <a:srgbClr val="ccecff"/>
                </a:solidFill>
                <a:latin typeface="Tahoma"/>
              </a:rPr>
              <a:t>2 млн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. хворих з цією патологією, з них кожний другий — працездатного віку. Смертність від хвороб серця та системи кровообігу в Україні займає </a:t>
            </a:r>
            <a:r>
              <a:rPr b="1" lang="uk-UA" sz="2800" spc="-1" strike="noStrike">
                <a:solidFill>
                  <a:srgbClr val="ccecff"/>
                </a:solidFill>
                <a:latin typeface="Tahoma"/>
              </a:rPr>
              <a:t>перше місце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 і у 2-4 рази вища, ніж у країнах ЄС та світу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серц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5616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Tahoma"/>
              </a:rPr>
              <a:t>Інфаркт міокарда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 - патологічний  стан, що характеризується абсолютним або відносним порушенням кровопостачання міокарду  внаслідок враження коронарних артерій серця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372360" y="3357720"/>
            <a:ext cx="2317680" cy="300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5373720"/>
            <a:ext cx="55422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Tahoma"/>
              </a:rPr>
              <a:t>Характеризується змертвінням частини м'язових клітин серця</a:t>
            </a:r>
            <a:r>
              <a:rPr b="0" lang="uk-UA" sz="24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інфаркту міокард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Куріння тютюну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Ожирінн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Стре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Алкоголь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Фізичні навантаженн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10108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301"/>
                </a:moveTo>
                <a:lnTo>
                  <a:pt x="6498" y="7301"/>
                </a:lnTo>
                <a:lnTo>
                  <a:pt x="6881" y="7667"/>
                </a:lnTo>
                <a:lnTo>
                  <a:pt x="16090" y="7667"/>
                </a:lnTo>
                <a:lnTo>
                  <a:pt x="16647" y="8224"/>
                </a:lnTo>
                <a:lnTo>
                  <a:pt x="16647" y="8772"/>
                </a:lnTo>
                <a:lnTo>
                  <a:pt x="18492" y="8772"/>
                </a:lnTo>
                <a:lnTo>
                  <a:pt x="18858" y="8224"/>
                </a:lnTo>
                <a:lnTo>
                  <a:pt x="19597" y="8224"/>
                </a:lnTo>
                <a:lnTo>
                  <a:pt x="19597" y="13376"/>
                </a:lnTo>
                <a:lnTo>
                  <a:pt x="18858" y="13376"/>
                </a:lnTo>
                <a:lnTo>
                  <a:pt x="18492" y="12828"/>
                </a:lnTo>
                <a:lnTo>
                  <a:pt x="16647" y="12828"/>
                </a:lnTo>
                <a:lnTo>
                  <a:pt x="16647" y="14107"/>
                </a:lnTo>
                <a:lnTo>
                  <a:pt x="7064" y="14107"/>
                </a:lnTo>
                <a:lnTo>
                  <a:pt x="7064" y="9877"/>
                </a:lnTo>
                <a:lnTo>
                  <a:pt x="6881" y="9877"/>
                </a:lnTo>
                <a:lnTo>
                  <a:pt x="6498" y="10243"/>
                </a:lnTo>
                <a:lnTo>
                  <a:pt x="5585" y="10243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446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ccecff"/>
                </a:solidFill>
                <a:latin typeface="Tahoma"/>
              </a:rPr>
              <a:t>Гіпертонія </a:t>
            </a:r>
            <a:r>
              <a:rPr b="0" lang="ru-RU" sz="3200" spc="-1" strike="noStrike">
                <a:solidFill>
                  <a:srgbClr val="ccecff"/>
                </a:solidFill>
                <a:latin typeface="Tahoma"/>
              </a:rPr>
              <a:t> — синдром підвищення артеріального тиску.</a:t>
            </a: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03640" y="4581360"/>
            <a:ext cx="2519280" cy="167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rcRect l="0" t="0" r="47313" b="0"/>
          <a:stretch/>
        </p:blipFill>
        <p:spPr>
          <a:xfrm>
            <a:off x="6012000" y="2349360"/>
            <a:ext cx="2609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гіпертонії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розумові перевантаження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шкідливі звички (паління, алкоголь, наркотики)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атеросклероз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перевантаження негативними емоціям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46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ccecff"/>
                </a:solidFill>
                <a:latin typeface="Tahoma"/>
              </a:rPr>
              <a:t>Аритмі́ї се́рця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група порушень діяльності серця, пов'язаних з розладом ритмічності, послідовності і сили скорочень серцевого м'яза</a:t>
            </a:r>
            <a:r>
              <a:rPr b="0" lang="uk-UA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651640" y="2492280"/>
            <a:ext cx="2979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205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аритмії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шкідливі звички (паління, алкоголь, наркотики)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інфекційні захворювання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перевантаження негативними емоціям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2:57:08Z</dcterms:created>
  <dc:creator>User</dc:creator>
  <dc:description/>
  <dc:language>en-US</dc:language>
  <cp:lastModifiedBy>User</cp:lastModifiedBy>
  <dcterms:modified xsi:type="dcterms:W3CDTF">2011-08-09T15:34:27Z</dcterms:modified>
  <cp:revision>22</cp:revision>
  <dc:subject/>
  <dc:title>«Я хочу жить!»</dc:title>
</cp:coreProperties>
</file>