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22.jpeg" ContentType="image/jpeg"/>
  <Override PartName="/ppt/media/image7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3FEF-B4E9-440B-B4F2-FCF51C34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01B6-2563-463B-9DA9-61890049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84E6-1DD7-4AFB-8A9E-F77254E9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BCFD-48A1-475A-8CDC-A4D61F66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1F5E-25EB-47BC-A8D7-AE2C0648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6D1B-7582-4C53-81C7-C30D93E9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FCE3-558D-4759-AC1E-A17CC656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671F-85C3-40F1-AFF0-D459FE24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E36-A9BE-4D10-AADF-034C0956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40AB-9796-4BF0-81AC-8B5FD931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6166-5417-4C64-A853-BF6341D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F76A-3A5B-4562-A68B-A8E10CFF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8B26-9CA3-4E4E-8297-FAFD211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0044-B912-400E-ABFE-970CC2FE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CD28-FCCC-448B-A171-27E170D8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A77B-9BDB-450E-B46A-5AA999C0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4DC5-7E33-4AED-82DA-EFF16518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29BB-FA14-4819-A826-1569DCDC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A434-BBBA-4679-BA3C-4BB6407D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C00AC-A164-4371-9827-1D74F846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5E57-C627-426D-B7EF-54D6EC3A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F353-C48F-45DA-8AA4-ED0040A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EC98-511E-43E0-A4CE-0FE95DD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E4F7-1E8C-4199-9761-49183344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F613-DE37-4FEF-9060-FD93DB95AF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183A-9A73-4184-BDE7-CB132148B7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tagilka.info/uploadedFiles/images/000609_Emal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86;&#1080;&#1085;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11280" y="399960"/>
            <a:ext cx="7993080" cy="5977080"/>
            <a:chOff x="611280" y="399960"/>
            <a:chExt cx="7993080" cy="5977080"/>
          </a:xfrm>
        </p:grpSpPr>
        <p:pic>
          <p:nvPicPr>
            <p:cNvPr id="100" name="" descr=""/>
            <p:cNvPicPr/>
            <p:nvPr/>
          </p:nvPicPr>
          <p:blipFill>
            <a:blip r:embed="rId1">
              <a:lum contrast="26000"/>
            </a:blip>
            <a:stretch/>
          </p:blipFill>
          <p:spPr>
            <a:xfrm>
              <a:off x="611280" y="399960"/>
              <a:ext cx="799308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435640" y="5589720"/>
              <a:ext cx="2449440" cy="3362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572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2010 году к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личество наркоманов в Томской области выросло почти на            .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049640" cy="2544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539640" y="333360"/>
            <a:ext cx="820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НАРКОМАНИЯ   В   ТОМСКОЙ  ОБЛАСТИ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4032000" cy="2775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58920" y="4437000"/>
            <a:ext cx="108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 %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906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ажды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40 жителе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Томской области приходится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1 нарком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такая статистика озвучена на заседании областной антинаркотической комиссии. По оценкам, в регионе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принимают наркотики до 30 тысяч человек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и лишь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5  тысяч из них состоят на уч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349236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32000" y="112536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191628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56000" y="4221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58136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0000" y="501336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549360"/>
            <a:ext cx="8208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нные ФСКН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Томской области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22251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Молчановский райо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ходит в первую тройку районов области, где в большей ме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ркотики распространены в молодежной среде, совершается больше преступле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вязанных с ними. А из трех районов, которые курируются ФСКН, самое сложное полож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Кривошеинс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429000"/>
            <a:ext cx="3598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6381720"/>
            <a:ext cx="2808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3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5040360" cy="390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39640" y="4653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и употреблении наркотиков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чинает разлагаться печень, изменяют свою работу почки и вслед за ними начинают разрушаться все органы в организме,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делая употребляющего наркотики инвалидом на всю жизнь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42920" y="26028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ркоман - раб наркотика; ради него он пойдёт на любую низость и преступление, что рано или поздно приведёт его к смерти.  Даже одного приёма достаточно, чтобы стать "зависимым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4845" r="0" b="4535"/>
          <a:stretch/>
        </p:blipFill>
        <p:spPr>
          <a:xfrm>
            <a:off x="755640" y="2349360"/>
            <a:ext cx="3387600" cy="4033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9213" t="0" r="11339" b="6146"/>
          <a:stretch/>
        </p:blipFill>
        <p:spPr>
          <a:xfrm>
            <a:off x="4500720" y="2349360"/>
            <a:ext cx="4090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124000" y="260280"/>
            <a:ext cx="49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РИЗНАКИ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92560" y="418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8360" y="141300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Внешние призна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50800" y="3686400"/>
            <a:ext cx="67932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Бледность кож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Расширенные или суженные зра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красневшие или помутневшие глаз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Замедленная реч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лохая координация движ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худение или прибавка в ве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Блеск в глаз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рушение пищеварения.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87280" y="436284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леды от уколов, порезы, синя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вернутые в трубочку бумаж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Маленькие ложе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Капсулы, бутылочки, пузырь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Запахи табачного дыма с примесями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запахов трав или синтетики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917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64000" y="177336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Очевидные призна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547640" y="692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ЗАНЯТИЯ: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311120"/>
            <a:ext cx="864216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ознакомиться с истоками наркомании, видами наркотиков, признаками и последствиями их употреблени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знать масштабы  распространения наркомании в России, Томской област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03640" y="3171240"/>
            <a:ext cx="56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арастающее безразлич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евозможность сосредоточи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Болезненная реакция на крити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Частая и резкая смена настро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мена круга знакомы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Безобразное отношение к учебе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Проявление грубости, л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арушение сна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126828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Изменения   в поведен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89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Егор Быч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Глава фонда «Город без наркотиков» в Нижнем Тагил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Картинка 2 из 1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84280"/>
            <a:ext cx="39625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contrast="30000"/>
          </a:blip>
          <a:srcRect l="5208" t="12039" r="4074" b="2743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Garamond"/>
              </a:rPr>
              <a:t>Обработка и интерпрета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лученные ответы соотносятся с ключом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 а              5. б                9. а               13. 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а              6. б                10. б             14. 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  б             7. б                11. б             15. 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.  б             8. б                12. б             16. 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11-16 </a:t>
            </a: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Garamond"/>
              </a:rPr>
              <a:t>красный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6-10    </a:t>
            </a: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600" spc="-1" strike="noStrike">
                <a:solidFill>
                  <a:srgbClr val="00ff00"/>
                </a:solidFill>
                <a:latin typeface="Garamond"/>
              </a:rPr>
              <a:t>зеленый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0-5      </a:t>
            </a: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Garamond"/>
              </a:rPr>
              <a:t>желтый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95280" y="333360"/>
            <a:ext cx="4211640" cy="1368360"/>
            <a:chOff x="395280" y="333360"/>
            <a:chExt cx="4211640" cy="1368360"/>
          </a:xfrm>
        </p:grpSpPr>
        <p:grpSp>
          <p:nvGrpSpPr>
            <p:cNvPr id="206" name=""/>
            <p:cNvGrpSpPr/>
            <p:nvPr/>
          </p:nvGrpSpPr>
          <p:grpSpPr>
            <a:xfrm>
              <a:off x="395280" y="333360"/>
              <a:ext cx="4211640" cy="1368360"/>
              <a:chOff x="395280" y="333360"/>
              <a:chExt cx="4211640" cy="1368360"/>
            </a:xfrm>
          </p:grpSpPr>
          <p:sp>
            <p:nvSpPr>
              <p:cNvPr id="207" name=""/>
              <p:cNvSpPr/>
              <p:nvPr/>
            </p:nvSpPr>
            <p:spPr>
              <a:xfrm>
                <a:off x="1941480" y="333360"/>
                <a:ext cx="2665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Какие причины могут подтолкнуть ребят попробовать наркотики</a:t>
                </a:r>
                <a:r>
                  <a:rPr b="1" lang="en-US" sz="1800" spc="-1" strike="noStrike">
                    <a:solidFill>
                      <a:srgbClr val="ffffcc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95280" y="333360"/>
                <a:ext cx="1584360" cy="136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09" name=""/>
            <p:cNvSpPr txBox="1"/>
            <p:nvPr/>
          </p:nvSpPr>
          <p:spPr>
            <a:xfrm>
              <a:off x="900000" y="404640"/>
              <a:ext cx="360360" cy="10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284720" y="981000"/>
            <a:ext cx="4464000" cy="1739880"/>
            <a:chOff x="4284720" y="981000"/>
            <a:chExt cx="4464000" cy="1739880"/>
          </a:xfrm>
        </p:grpSpPr>
        <p:grpSp>
          <p:nvGrpSpPr>
            <p:cNvPr id="211" name=""/>
            <p:cNvGrpSpPr/>
            <p:nvPr/>
          </p:nvGrpSpPr>
          <p:grpSpPr>
            <a:xfrm>
              <a:off x="4284720" y="981000"/>
              <a:ext cx="4464000" cy="1739880"/>
              <a:chOff x="4284720" y="981000"/>
              <a:chExt cx="4464000" cy="1739880"/>
            </a:xfrm>
          </p:grpSpPr>
          <p:sp>
            <p:nvSpPr>
              <p:cNvPr id="212" name=""/>
              <p:cNvSpPr/>
              <p:nvPr/>
            </p:nvSpPr>
            <p:spPr>
              <a:xfrm>
                <a:off x="5797800" y="981000"/>
                <a:ext cx="29509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Вам предлагают попробовать наркоти-ки. Назовите     4 – 5 приемов и аргументов, которые можно исполь-зовать для отказа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4284720" y="1196640"/>
                <a:ext cx="1513080" cy="1441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4716360" y="1413000"/>
              <a:ext cx="6476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50920" y="2852640"/>
            <a:ext cx="7994520" cy="2027160"/>
            <a:chOff x="250920" y="2852640"/>
            <a:chExt cx="7994520" cy="2027160"/>
          </a:xfrm>
        </p:grpSpPr>
        <p:grpSp>
          <p:nvGrpSpPr>
            <p:cNvPr id="216" name=""/>
            <p:cNvGrpSpPr/>
            <p:nvPr/>
          </p:nvGrpSpPr>
          <p:grpSpPr>
            <a:xfrm>
              <a:off x="250920" y="2852640"/>
              <a:ext cx="7994520" cy="2027160"/>
              <a:chOff x="250920" y="2852640"/>
              <a:chExt cx="7994520" cy="2027160"/>
            </a:xfrm>
          </p:grpSpPr>
          <p:sp>
            <p:nvSpPr>
              <p:cNvPr id="217" name=""/>
              <p:cNvSpPr/>
              <p:nvPr/>
            </p:nvSpPr>
            <p:spPr>
              <a:xfrm>
                <a:off x="1692360" y="3139920"/>
                <a:ext cx="6553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  </a:t>
                </a: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Твой друг принимает наркотики.                                     Как тебе вести  себя с ним:</a:t>
                </a:r>
                <a:r>
                  <a:rPr b="1" lang="en-US" sz="18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                                                                                                    а) бороться с его привычкой;                                                            б) продолжить общаться с таким, какой он есть;          в) прекратить общение с ним</a:t>
                </a:r>
                <a:r>
                  <a:rPr b="1" lang="en-US" sz="1800" spc="-1" strike="noStrike">
                    <a:solidFill>
                      <a:srgbClr val="ffffcc"/>
                    </a:solidFill>
                    <a:latin typeface="Arial"/>
                  </a:rPr>
                  <a:t>?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250920" y="2852640"/>
                <a:ext cx="1439640" cy="165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19" name=""/>
            <p:cNvSpPr txBox="1"/>
            <p:nvPr/>
          </p:nvSpPr>
          <p:spPr>
            <a:xfrm>
              <a:off x="684360" y="2997360"/>
              <a:ext cx="647640" cy="12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348000" y="4941720"/>
            <a:ext cx="5256360" cy="1509840"/>
            <a:chOff x="3348000" y="4941720"/>
            <a:chExt cx="5256360" cy="1509840"/>
          </a:xfrm>
        </p:grpSpPr>
        <p:grpSp>
          <p:nvGrpSpPr>
            <p:cNvPr id="221" name=""/>
            <p:cNvGrpSpPr/>
            <p:nvPr/>
          </p:nvGrpSpPr>
          <p:grpSpPr>
            <a:xfrm>
              <a:off x="3348000" y="4941720"/>
              <a:ext cx="5256360" cy="1509840"/>
              <a:chOff x="3348000" y="4941720"/>
              <a:chExt cx="5256360" cy="1509840"/>
            </a:xfrm>
          </p:grpSpPr>
          <p:sp>
            <p:nvSpPr>
              <p:cNvPr id="222" name=""/>
              <p:cNvSpPr/>
              <p:nvPr/>
            </p:nvSpPr>
            <p:spPr>
              <a:xfrm>
                <a:off x="4716360" y="4941720"/>
                <a:ext cx="388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ffffcc"/>
                    </a:solidFill>
                    <a:latin typeface="Arial"/>
                  </a:rPr>
                  <a:t>Нужно ли проблемами наркомании заниматься           на государственном уровне  или это проблема самого человека и его близких</a:t>
                </a:r>
                <a:r>
                  <a:rPr b="1" lang="en-US" sz="1800" spc="-1" strike="noStrike">
                    <a:solidFill>
                      <a:srgbClr val="ffffcc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3348000" y="5013360"/>
                <a:ext cx="1368360" cy="1438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66ff66"/>
                      </a:solidFill>
                      <a:miter/>
                    </a:ln>
                    <a:solidFill>
                      <a:srgbClr val="66ff66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9360">
                    <a:solidFill>
                      <a:srgbClr val="66ff66"/>
                    </a:solidFill>
                    <a:miter/>
                  </a:ln>
                  <a:solidFill>
                    <a:srgbClr val="66ff66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3635280" y="5084640"/>
              <a:ext cx="6494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404640"/>
            <a:ext cx="4079880" cy="6120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356000" y="1333440"/>
            <a:ext cx="4788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кого есть здоровье,          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того есть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надежда.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кого есть надежда,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바탕"/>
              </a:rPr>
              <a:t>у того есть всё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바탕"/>
              </a:rPr>
              <a:t>Восточная  мудрость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89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0" y="3357720"/>
            <a:ext cx="4176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ookman Old Style"/>
              </a:rPr>
              <a:t>жизнь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4508640"/>
            <a:ext cx="4248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008080"/>
                  </a:solidFill>
                  <a:miter/>
                </a:ln>
                <a:solidFill>
                  <a:srgbClr val="00b4b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ыбираю</a:t>
            </a:r>
            <a:endParaRPr b="1" lang="en-US" sz="4400" spc="1" strike="noStrike">
              <a:ln w="38160">
                <a:solidFill>
                  <a:srgbClr val="008080"/>
                </a:solidFill>
                <a:miter/>
              </a:ln>
              <a:solidFill>
                <a:srgbClr val="00b4b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5280" y="476280"/>
            <a:ext cx="3745080" cy="230508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95280" y="404640"/>
            <a:ext cx="3672000" cy="24480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0"/>
                            </p:stCondLst>
                            <p:childTnLst>
                              <p:par>
                                <p:cTn id="5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8000"/>
                            </p:stCondLst>
                            <p:childTnLst>
                              <p:par>
                                <p:cTn id="59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73760" y="1700280"/>
            <a:ext cx="3921120" cy="489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889440" cy="48974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403280" y="1989000"/>
            <a:ext cx="6284880" cy="4319640"/>
            <a:chOff x="1403280" y="1989000"/>
            <a:chExt cx="6284880" cy="4319640"/>
          </a:xfrm>
        </p:grpSpPr>
        <p:sp>
          <p:nvSpPr>
            <p:cNvPr id="107" name=""/>
            <p:cNvSpPr/>
            <p:nvPr/>
          </p:nvSpPr>
          <p:spPr>
            <a:xfrm>
              <a:off x="1403280" y="1989000"/>
              <a:ext cx="6284880" cy="4319640"/>
            </a:xfrm>
            <a:prstGeom prst="ellipse">
              <a:avLst/>
            </a:prstGeom>
            <a:solidFill>
              <a:srgbClr val="ffffcc">
                <a:alpha val="77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8000" y="2421000"/>
              <a:ext cx="5040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Наркомания</a:t>
              </a:r>
              <a:r>
                <a:rPr b="1" lang="ru-RU" sz="2000" spc="-1" strike="noStrike">
                  <a:solidFill>
                    <a:srgbClr val="754e27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- патологическое                                         влечение к приему наркотических средств. </a:t>
              </a:r>
              <a:br>
                <a:rPr sz="2000"/>
              </a:b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Термин </a:t>
              </a:r>
              <a:r>
                <a:rPr b="1" i="1" lang="ru-RU" sz="2000" spc="-1" strike="noStrike">
                  <a:solidFill>
                    <a:srgbClr val="003399"/>
                  </a:solidFill>
                  <a:latin typeface="Arial"/>
                </a:rPr>
                <a:t>"наркотик"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происходит от греческого глагола </a:t>
              </a:r>
              <a:r>
                <a:rPr b="1" i="1" lang="ru-RU" sz="2000" spc="-1" strike="noStrike">
                  <a:solidFill>
                    <a:srgbClr val="003399"/>
                  </a:solidFill>
                  <a:latin typeface="Arial"/>
                </a:rPr>
                <a:t>"narkoo"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, что означает оцепенеть, сделаться нечувствительным. </a:t>
              </a:r>
              <a:br>
                <a:rPr sz="2000"/>
              </a:br>
              <a:r>
                <a:rPr b="1" lang="ru-RU" sz="2000" spc="-1" strike="noStrike" u="sng">
                  <a:solidFill>
                    <a:srgbClr val="003399"/>
                  </a:solidFill>
                  <a:uFillTx/>
                  <a:latin typeface="Arial"/>
                </a:rPr>
                <a:t>Основные группы наркотиков: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     опиаты, психостимуляторы, галлюциногены,   снотворные,      ингаляты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4140360" y="4869000"/>
            <a:ext cx="1035000" cy="15573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39640" y="260280"/>
            <a:ext cx="8064720" cy="1298520"/>
            <a:chOff x="539640" y="260280"/>
            <a:chExt cx="8064720" cy="1298520"/>
          </a:xfrm>
        </p:grpSpPr>
        <p:sp>
          <p:nvSpPr>
            <p:cNvPr id="112" name=""/>
            <p:cNvSpPr/>
            <p:nvPr/>
          </p:nvSpPr>
          <p:spPr>
            <a:xfrm>
              <a:off x="539640" y="260280"/>
              <a:ext cx="8064720" cy="1008000"/>
            </a:xfrm>
            <a:prstGeom prst="wedgeRoundRectCallout">
              <a:avLst>
                <a:gd name="adj1" fmla="val 4939"/>
                <a:gd name="adj2" fmla="val 179134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4640" y="333360"/>
              <a:ext cx="792972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Психостимуляторы</a:t>
              </a: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- вещества,стимулирующие центральную нервную систему- кокаин, эфедрин и другие. Сюда же относятся и марихуана, высушенные и измельченные листья конопли, гашиша, смола конопли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059280" y="2637000"/>
            <a:ext cx="3024000" cy="1728720"/>
            <a:chOff x="3059280" y="2637000"/>
            <a:chExt cx="3024000" cy="1728720"/>
          </a:xfrm>
        </p:grpSpPr>
        <p:sp>
          <p:nvSpPr>
            <p:cNvPr id="115" name=""/>
            <p:cNvSpPr/>
            <p:nvPr/>
          </p:nvSpPr>
          <p:spPr>
            <a:xfrm>
              <a:off x="3419640" y="2637000"/>
              <a:ext cx="2304720" cy="172872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9280" y="2997360"/>
              <a:ext cx="302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ОСНОВНЫЕ                                       ГРУППЫ   НАРКОТИК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6360" y="2349360"/>
            <a:ext cx="2809800" cy="1828440"/>
            <a:chOff x="6156360" y="2349360"/>
            <a:chExt cx="2809800" cy="1828440"/>
          </a:xfrm>
        </p:grpSpPr>
        <p:sp>
          <p:nvSpPr>
            <p:cNvPr id="118" name=""/>
            <p:cNvSpPr/>
            <p:nvPr/>
          </p:nvSpPr>
          <p:spPr>
            <a:xfrm>
              <a:off x="6156360" y="2349360"/>
              <a:ext cx="2808360" cy="1675440"/>
            </a:xfrm>
            <a:prstGeom prst="wedgeRoundRectCallout">
              <a:avLst>
                <a:gd name="adj1" fmla="val -78499"/>
                <a:gd name="adj2" fmla="val -22143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6360" y="2349360"/>
              <a:ext cx="28098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Опиаты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вещества, выделяемые из мака и их производные: морфин и кодеин, из морфина синтетически получают героин.</a:t>
              </a:r>
              <a:br>
                <a:rPr sz="1600"/>
              </a:b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92720" y="5300640"/>
            <a:ext cx="3600360" cy="2076120"/>
            <a:chOff x="5292720" y="5300640"/>
            <a:chExt cx="3600360" cy="2076120"/>
          </a:xfrm>
        </p:grpSpPr>
        <p:sp>
          <p:nvSpPr>
            <p:cNvPr id="121" name=""/>
            <p:cNvSpPr/>
            <p:nvPr/>
          </p:nvSpPr>
          <p:spPr>
            <a:xfrm>
              <a:off x="5292720" y="5300640"/>
              <a:ext cx="3600360" cy="1368360"/>
            </a:xfrm>
            <a:prstGeom prst="wedgeRoundRectCallout">
              <a:avLst>
                <a:gd name="adj1" fmla="val -58157"/>
                <a:gd name="adj2" fmla="val -120648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64000" y="5421240"/>
              <a:ext cx="352908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Снотворные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безобидные на         первый взгляд лекарства могут развивать привыкание,                                                                                                 как настоящие наркотики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0920" y="5157720"/>
            <a:ext cx="3759120" cy="1772640"/>
            <a:chOff x="250920" y="5157720"/>
            <a:chExt cx="3759120" cy="1772640"/>
          </a:xfrm>
        </p:grpSpPr>
        <p:sp>
          <p:nvSpPr>
            <p:cNvPr id="124" name=""/>
            <p:cNvSpPr/>
            <p:nvPr/>
          </p:nvSpPr>
          <p:spPr>
            <a:xfrm>
              <a:off x="250920" y="5157720"/>
              <a:ext cx="3744720" cy="1498680"/>
            </a:xfrm>
            <a:prstGeom prst="wedgeRoundRectCallout">
              <a:avLst>
                <a:gd name="adj1" fmla="val 48726"/>
                <a:gd name="adj2" fmla="val -102226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" y="5218200"/>
              <a:ext cx="3745080" cy="17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Ингалянты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Arial"/>
                </a:rPr>
                <a:t>- вещества, которые вводят в организм через дыхательные пути. Это клей, бензин, ацетон и другие, токсические вещества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24000" y="2781360"/>
            <a:ext cx="2519280" cy="2089080"/>
            <a:chOff x="324000" y="2781360"/>
            <a:chExt cx="2519280" cy="2089080"/>
          </a:xfrm>
        </p:grpSpPr>
        <p:sp>
          <p:nvSpPr>
            <p:cNvPr id="127" name=""/>
            <p:cNvSpPr/>
            <p:nvPr/>
          </p:nvSpPr>
          <p:spPr>
            <a:xfrm>
              <a:off x="324000" y="2781360"/>
              <a:ext cx="2519280" cy="2089080"/>
            </a:xfrm>
            <a:prstGeom prst="wedgeRoundRectCallout">
              <a:avLst>
                <a:gd name="adj1" fmla="val 71675"/>
                <a:gd name="adj2" fmla="val -27356"/>
                <a:gd name="adj3" fmla="val 16667"/>
              </a:avLst>
            </a:prstGeom>
            <a:gradFill rotWithShape="0">
              <a:gsLst>
                <a:gs pos="0">
                  <a:srgbClr val="a886e0"/>
                </a:gs>
                <a:gs pos="50000">
                  <a:srgbClr val="e5e5ff"/>
                </a:gs>
                <a:gs pos="100000">
                  <a:srgbClr val="a886e0"/>
                </a:gs>
              </a:gsLst>
              <a:lin ang="108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280" y="2852640"/>
              <a:ext cx="239400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Галлюциногены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- вещества, способные вызывать глубокие изменения психики, что ведет к галлюцинациям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236000" y="1341360"/>
            <a:ext cx="1511280" cy="85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539640" y="1413000"/>
            <a:ext cx="1656000" cy="113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627280" y="1413000"/>
          <a:ext cx="1728720" cy="110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1413000"/>
                    <a:ext cx="172872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020000" y="4221000"/>
          <a:ext cx="1800000" cy="94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20000" y="4221000"/>
                    <a:ext cx="180000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НАРКОТИК  НОВОЙ ВОЛНЫ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514"/>
                </a:solidFill>
                <a:latin typeface="Garamond"/>
              </a:rPr>
              <a:t>Занимает второе место после </a:t>
            </a:r>
            <a:r>
              <a:rPr b="0" lang="en-US" sz="4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героина</a:t>
            </a:r>
            <a:r>
              <a:rPr b="0" lang="en-US" sz="4800" spc="-1" strike="noStrike" u="sng">
                <a:solidFill>
                  <a:srgbClr val="000514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Стремительно распространяется после 2005 года.</a:t>
            </a:r>
            <a:r>
              <a:rPr b="0" lang="en-US" sz="4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63640" y="33336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ЗОМОРФИН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400" y="4438800"/>
            <a:ext cx="45561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Шахтеры Боливии издавна получали часть жалованья не деньгами, а листьями растения, содержащего кокаин, которые жевали или курили. Вообще нет такого народа, который не употреблял бы в том или ином    виде наркотические вещества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58920" y="404640"/>
            <a:ext cx="648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ИСТОКИ  НАРКОМАНИИ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356000" y="4581360"/>
            <a:ext cx="4392720" cy="2013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32000" y="1268280"/>
            <a:ext cx="601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С веществами, которые теперь называют наркотиками, человек познакомился давно. Древние египтяне готовили из мака снотворное. Они получали опиум и употребляли его, желая уснуть или приглушить бо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2852640"/>
            <a:ext cx="59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едуины, отправляясь в дальний переход, запасались бангом - смолой, известной под названием марихуаны или гашиша. Смолу курили, желая снять психическую нагрузку, вызванную однообразным пейзажем пусты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2692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6" presetSubtype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8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" nodeType="afterEffect" fill="hold" presetClass="entr" presetID="16" presetSubtype="37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464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Проблема наркомании затрагивает  около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30 млн.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человек, то есть практически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каждого пятого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жителя страны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Сегодня в России не   осталось ни одного  региона,  где не были бы зафиксированы  случаи употребления наркотиков или их  распростране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По данным международной организации «Врачи без границ», уже сегодня в России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т 3 до 4 млн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наркоманов, а некоторыми специалистами их число оценивается даже выше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млн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че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157640" cy="4176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619280" y="404640"/>
            <a:ext cx="626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НАРКОМАНИЯ   В   РОССИИ</a:t>
            </a:r>
            <a:endParaRPr b="1" lang="en-US" sz="2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647800" cy="28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3500280"/>
            <a:ext cx="5398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редний возраст приобщения к наркотикам в России составляет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15-17 лет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,  но участились случаи первичного употребления нарко-тиков детьми </a:t>
            </a: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11-13 лет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  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 Отмечены  и случаи употребле-ния наркотиков детьми </a:t>
            </a:r>
            <a:r>
              <a:rPr b="1" lang="ru-RU" sz="2400" spc="-1" strike="noStrike">
                <a:solidFill>
                  <a:srgbClr val="66ff66"/>
                </a:solidFill>
                <a:latin typeface="Arial"/>
              </a:rPr>
              <a:t>6-7 лет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404640"/>
            <a:ext cx="43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ркомания в России продолжает "молодеть". По последним данным,  </a:t>
            </a: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более 60 %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наркоманов - люди в  возрасте </a:t>
            </a: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18-30 лет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и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почти 20 % - школьник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500"/>
                            </p:stCondLst>
                            <p:childTnLst>
                              <p:par>
                                <p:cTn id="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менно образовательные учреждения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наркомания среди детей и подростков выросл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7:54:03Z</dcterms:created>
  <dc:creator>Оля</dc:creator>
  <dc:description/>
  <dc:language>en-US</dc:language>
  <cp:lastModifiedBy>Admin</cp:lastModifiedBy>
  <dcterms:modified xsi:type="dcterms:W3CDTF">2010-11-10T03:16:59Z</dcterms:modified>
  <cp:revision>40</cp:revision>
  <dc:subject/>
  <dc:title>Слайд 1</dc:title>
</cp:coreProperties>
</file>