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8.png" ContentType="image/png"/>
  <Override PartName="/ppt/media/image14.jpeg" ContentType="image/jpeg"/>
  <Override PartName="/ppt/media/image33.png" ContentType="image/png"/>
  <Override PartName="/ppt/media/image22.jpeg" ContentType="image/jpeg"/>
  <Override PartName="/ppt/media/image7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png" ContentType="image/pn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2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D2F12-C326-46E3-8AB9-5C0C7288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7C708-E6C7-4462-B7F7-E97B7E19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BCF11-4B57-4F83-AE3E-C09A6B2C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F4163-6D05-4A56-90E0-D8DD447F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93B4-9204-459D-BE9F-DC4C6FD4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3B0B-D9E8-405E-8139-1DF86168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9D40-3CE4-4BC9-B097-A8E50FB2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424A-8B33-4AFB-BB3B-C6962B90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1D80-6F78-4ED6-A169-5DF5629B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7C59-2E24-4FCE-8675-E12BA49D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2345-D637-495C-8344-993FCADD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E6FED-FF10-450F-9E2F-17041DC6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090B-2384-441A-B5E8-6DCFA03D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3EF4-74D7-49A7-8852-18FD90B8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E9D8-E1DE-47F5-A12E-2845D915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B685-72C5-4333-A5C2-5A598C22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98C0-B3F4-403A-A904-CAF03A85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6107E-CE72-4D74-A7C8-CFCAE5AF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11191-BD3D-4F15-8C10-D9B572A6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8982F-5D45-4FAB-9FA8-6CF04EFC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EDC81-76CD-40C0-84C6-9A48E5C2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59DF5-B08E-4E44-B1C4-00155571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1055F-5221-466F-8FA8-AAA9BA6A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7D60D-1E41-4799-92DC-3CA70285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422E-4159-4860-86D7-0E33A7FD92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E85E-7548-442A-9FAD-4B521AE415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tagilka.info/uploadedFiles/images/000609_Emal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77;&#1088;&#1086;&#1080;&#1085;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611280" y="399960"/>
            <a:ext cx="7993080" cy="5977080"/>
            <a:chOff x="611280" y="399960"/>
            <a:chExt cx="7993080" cy="5977080"/>
          </a:xfrm>
        </p:grpSpPr>
        <p:pic>
          <p:nvPicPr>
            <p:cNvPr id="100" name="" descr=""/>
            <p:cNvPicPr/>
            <p:nvPr/>
          </p:nvPicPr>
          <p:blipFill>
            <a:blip r:embed="rId1">
              <a:lum contrast="26000"/>
            </a:blip>
            <a:stretch/>
          </p:blipFill>
          <p:spPr>
            <a:xfrm>
              <a:off x="611280" y="399960"/>
              <a:ext cx="7993080" cy="59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435640" y="5589720"/>
              <a:ext cx="2449440" cy="3362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4572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 2010 году к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личество наркоманов в Томской области выросло почти на            .         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4049640" cy="2544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539640" y="333360"/>
            <a:ext cx="820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НАРКОМАНИЯ   В   ТОМСКОЙ  ОБЛАСТИ</a:t>
            </a:r>
            <a:endParaRPr b="1" lang="en-US" sz="20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88000" y="3860640"/>
            <a:ext cx="4032000" cy="2775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1258920" y="4437000"/>
            <a:ext cx="1081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 %</a:t>
            </a:r>
            <a:endParaRPr b="0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906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 каждых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40 жителе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Томской области приходится </a:t>
            </a: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1 наркоман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- такая статистика озвучена на заседании областной антинаркотической комиссии. По оценкам, в регионе </a:t>
            </a: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принимают наркотики до 30 тысяч человек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и лишь </a:t>
            </a: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5  тысяч из них состоят на учет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651640" y="1052640"/>
            <a:ext cx="3492360" cy="3600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132000" y="1125360"/>
            <a:ext cx="1871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1916280"/>
            <a:ext cx="1871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56000" y="422100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458136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80000" y="5013360"/>
            <a:ext cx="1368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500"/>
                            </p:stCondLst>
                            <p:childTnLst>
                              <p:par>
                                <p:cTn id="2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500"/>
                            </p:stCondLst>
                            <p:childTnLst>
                              <p:par>
                                <p:cTn id="2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4000" y="549360"/>
            <a:ext cx="8208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анные ФСКН 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Томской области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222516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Молчановский район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входит в первую тройку районов области, где в большей мер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ркотики распространены в молодежной среде, совершается больше преступлени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вязанных с ними. А из трех районов, которые курируются ФСКН, самое сложное полож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Кривошеинс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3429000"/>
            <a:ext cx="3598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6381720"/>
            <a:ext cx="2808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492360" y="1341360"/>
            <a:ext cx="1800360" cy="1440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1979640" y="333360"/>
            <a:ext cx="532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ПОСЛЕДСТВИЯ</a:t>
            </a:r>
            <a:endParaRPr b="1" lang="en-US" sz="20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486900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В первую очередь наркотики влияют на психику,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она приводит к духовной деградации и полному физическому истощению организм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00720" y="2637000"/>
            <a:ext cx="45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465300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1800000" cy="1527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332000" y="1341360"/>
            <a:ext cx="1636560" cy="3240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5891040" y="1341360"/>
            <a:ext cx="2171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500"/>
                            </p:stCondLst>
                            <p:childTnLst>
                              <p:par>
                                <p:cTn id="33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5040360" cy="3907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39640" y="4653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При употреблении наркотиков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начинает разлагаться печень, изменяют свою работу почки и вслед за ними начинают разрушаться все органы в организме,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делая употребляющего наркотики инвалидом на всю жизнь.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42920" y="26028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Наркоман - раб наркотика; ради него он пойдёт на любую низость и преступление, что рано или поздно приведёт его к смерти.  Даже одного приёма достаточно, чтобы стать "зависимым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4845" r="0" b="4535"/>
          <a:stretch/>
        </p:blipFill>
        <p:spPr>
          <a:xfrm>
            <a:off x="755640" y="2349360"/>
            <a:ext cx="3387600" cy="4033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rcRect l="9213" t="0" r="11339" b="6146"/>
          <a:stretch/>
        </p:blipFill>
        <p:spPr>
          <a:xfrm>
            <a:off x="4500720" y="2349360"/>
            <a:ext cx="40906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37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508720" y="476280"/>
            <a:ext cx="3313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Средняя продолжительность жизни активного наркомана составляет 3 года. Дети, рождённые от наркоманов, умирают очень быстро, доживая максимум до            4 месяцев. Наркотик губит наше будущее поколение, наших детей, а значит, и будущее всей ст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2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0" y="3549600"/>
            <a:ext cx="4032360" cy="26877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3343320" cy="5112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067280" y="404640"/>
            <a:ext cx="453528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МНИТ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 людей, принимающих наркотики, рождаются дети-уроды или нежизнеспособные де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124000" y="260280"/>
            <a:ext cx="496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ПРИЗНАКИ</a:t>
            </a:r>
            <a:endParaRPr b="1" lang="en-US" sz="20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3816360" cy="2737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92560" y="418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48360" y="1413000"/>
            <a:ext cx="36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Внешние призна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50800" y="3686400"/>
            <a:ext cx="67932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Бледность кож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Расширенные или суженные зрач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Покрасневшие или помутневшие глаз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Замедленная реч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Плохая координация движ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Похудение или прибавка в вес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Блеск в глаз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Нарушение пищеварения.</a:t>
            </a: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1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0"/>
                            </p:stCondLst>
                            <p:childTnLst>
                              <p:par>
                                <p:cTn id="4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9" dur="1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3" dur="10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7000"/>
                            </p:stCondLst>
                            <p:childTnLst>
                              <p:par>
                                <p:cTn id="4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7" dur="10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87280" y="4362840"/>
            <a:ext cx="73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Следы от уколов, порезы, синя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Свернутые в трубочку бумаж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Маленькие ложеч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Капсулы, бутылочки, пузырь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Запахи табачного дыма с примесями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   запахов трав или синтетики.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680000" cy="39178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64000" y="1773360"/>
            <a:ext cx="36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Очевидные призна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4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3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7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1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5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000"/>
                            </p:stCondLst>
                            <p:childTnLst>
                              <p:par>
                                <p:cTn id="4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9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547640" y="69228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Ь ЗАНЯТИЯ: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311120"/>
            <a:ext cx="864216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Познакомиться с истоками наркомании, видами наркотиков, признаками и последствиями их употребления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Узнать масштабы  распространения наркомании в России, Томской област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03640" y="3171240"/>
            <a:ext cx="56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Нарастающее безразлич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Невозможность сосредоточить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Болезненная реакция на крити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Частая и резкая смена настро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Смена круга знакомы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Безобразное отношение к учебе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Проявление грубости, ле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Нарушение сна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1268280"/>
            <a:ext cx="36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Изменения   в поведен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2894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9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1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0"/>
                            </p:stCondLst>
                            <p:childTnLst>
                              <p:par>
                                <p:cTn id="5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5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6000"/>
                            </p:stCondLst>
                            <p:childTnLst>
                              <p:par>
                                <p:cTn id="5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9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3" dur="1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Егор Бычк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71600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Глава фонда «Город без наркотиков» в Нижнем Тагиле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0" name="" descr="Картинка 2 из 1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484280"/>
            <a:ext cx="396252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>
            <a:lum contrast="30000"/>
          </a:blip>
          <a:srcRect l="5208" t="12039" r="4074" b="2743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ff00"/>
                </a:solidFill>
                <a:uFillTx/>
                <a:latin typeface="Garamond"/>
              </a:rPr>
              <a:t>Обработка и интерпретац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лученные ответы соотносятся с ключом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.  а              5. б                9. а               13. б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. а              6. б                10. б             14. б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.  б             7. б                11. б             15. б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4.  б             8. б                12. б             16. б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11-16 </a:t>
            </a:r>
            <a:r>
              <a:rPr b="0" lang="en-US" sz="6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Garamond"/>
              </a:rPr>
              <a:t>красный</a:t>
            </a: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6-10    </a:t>
            </a:r>
            <a:r>
              <a:rPr b="0" lang="en-US" sz="6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6600" spc="-1" strike="noStrike">
                <a:solidFill>
                  <a:srgbClr val="00ff00"/>
                </a:solidFill>
                <a:latin typeface="Garamond"/>
              </a:rPr>
              <a:t>зеленый</a:t>
            </a: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0-5      </a:t>
            </a:r>
            <a:r>
              <a:rPr b="0" lang="en-US" sz="6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6600" spc="-1" strike="noStrike">
                <a:solidFill>
                  <a:srgbClr val="ffff00"/>
                </a:solidFill>
                <a:latin typeface="Garamond"/>
              </a:rPr>
              <a:t>желтый</a:t>
            </a: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395280" y="333360"/>
            <a:ext cx="4211640" cy="1368360"/>
            <a:chOff x="395280" y="333360"/>
            <a:chExt cx="4211640" cy="1368360"/>
          </a:xfrm>
        </p:grpSpPr>
        <p:grpSp>
          <p:nvGrpSpPr>
            <p:cNvPr id="206" name=""/>
            <p:cNvGrpSpPr/>
            <p:nvPr/>
          </p:nvGrpSpPr>
          <p:grpSpPr>
            <a:xfrm>
              <a:off x="395280" y="333360"/>
              <a:ext cx="4211640" cy="1368360"/>
              <a:chOff x="395280" y="333360"/>
              <a:chExt cx="4211640" cy="1368360"/>
            </a:xfrm>
          </p:grpSpPr>
          <p:sp>
            <p:nvSpPr>
              <p:cNvPr id="207" name=""/>
              <p:cNvSpPr/>
              <p:nvPr/>
            </p:nvSpPr>
            <p:spPr>
              <a:xfrm>
                <a:off x="1941480" y="333360"/>
                <a:ext cx="2665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cc"/>
                    </a:solidFill>
                    <a:latin typeface="Arial"/>
                  </a:rPr>
                  <a:t>Какие причины могут подтолкнуть ребят попробовать наркотики</a:t>
                </a:r>
                <a:r>
                  <a:rPr b="1" lang="en-US" sz="1800" spc="-1" strike="noStrike">
                    <a:solidFill>
                      <a:srgbClr val="ffffcc"/>
                    </a:solidFill>
                    <a:latin typeface="Arial"/>
                  </a:rPr>
                  <a:t>?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395280" y="333360"/>
                <a:ext cx="1584360" cy="1368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66ff66"/>
                      </a:solidFill>
                      <a:miter/>
                    </a:ln>
                    <a:solidFill>
                      <a:srgbClr val="66ff66"/>
                    </a:solidFill>
                    <a:latin typeface="Arial"/>
                  </a:rPr>
                  <a:t>?</a:t>
                </a:r>
                <a:endParaRPr b="1" lang="en-US" sz="1800" spc="1" strike="noStrike">
                  <a:ln w="9360">
                    <a:solidFill>
                      <a:srgbClr val="66ff66"/>
                    </a:solidFill>
                    <a:miter/>
                  </a:ln>
                  <a:solidFill>
                    <a:srgbClr val="66ff66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09" name=""/>
            <p:cNvSpPr txBox="1"/>
            <p:nvPr/>
          </p:nvSpPr>
          <p:spPr>
            <a:xfrm>
              <a:off x="900000" y="404640"/>
              <a:ext cx="360360" cy="107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284720" y="981000"/>
            <a:ext cx="4464000" cy="1739880"/>
            <a:chOff x="4284720" y="981000"/>
            <a:chExt cx="4464000" cy="1739880"/>
          </a:xfrm>
        </p:grpSpPr>
        <p:grpSp>
          <p:nvGrpSpPr>
            <p:cNvPr id="211" name=""/>
            <p:cNvGrpSpPr/>
            <p:nvPr/>
          </p:nvGrpSpPr>
          <p:grpSpPr>
            <a:xfrm>
              <a:off x="4284720" y="981000"/>
              <a:ext cx="4464000" cy="1739880"/>
              <a:chOff x="4284720" y="981000"/>
              <a:chExt cx="4464000" cy="1739880"/>
            </a:xfrm>
          </p:grpSpPr>
          <p:sp>
            <p:nvSpPr>
              <p:cNvPr id="212" name=""/>
              <p:cNvSpPr/>
              <p:nvPr/>
            </p:nvSpPr>
            <p:spPr>
              <a:xfrm>
                <a:off x="5797800" y="981000"/>
                <a:ext cx="29509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cc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ffffcc"/>
                    </a:solidFill>
                    <a:latin typeface="Arial"/>
                  </a:rPr>
                  <a:t>Вам предлагают попробовать наркоти-ки. Назовите     4 – 5 приемов и аргументов, которые можно исполь-зовать для отказа.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4284720" y="1196640"/>
                <a:ext cx="1513080" cy="1441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66ff66"/>
                      </a:solidFill>
                      <a:miter/>
                    </a:ln>
                    <a:solidFill>
                      <a:srgbClr val="66ff66"/>
                    </a:solidFill>
                    <a:latin typeface="Arial"/>
                  </a:rPr>
                  <a:t>?</a:t>
                </a:r>
                <a:endParaRPr b="1" lang="en-US" sz="1800" spc="1" strike="noStrike">
                  <a:ln w="9360">
                    <a:solidFill>
                      <a:srgbClr val="66ff66"/>
                    </a:solidFill>
                    <a:miter/>
                  </a:ln>
                  <a:solidFill>
                    <a:srgbClr val="66ff66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14" name=""/>
            <p:cNvSpPr txBox="1"/>
            <p:nvPr/>
          </p:nvSpPr>
          <p:spPr>
            <a:xfrm>
              <a:off x="4716360" y="1413000"/>
              <a:ext cx="64764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50920" y="2852640"/>
            <a:ext cx="7994520" cy="2027160"/>
            <a:chOff x="250920" y="2852640"/>
            <a:chExt cx="7994520" cy="2027160"/>
          </a:xfrm>
        </p:grpSpPr>
        <p:grpSp>
          <p:nvGrpSpPr>
            <p:cNvPr id="216" name=""/>
            <p:cNvGrpSpPr/>
            <p:nvPr/>
          </p:nvGrpSpPr>
          <p:grpSpPr>
            <a:xfrm>
              <a:off x="250920" y="2852640"/>
              <a:ext cx="7994520" cy="2027160"/>
              <a:chOff x="250920" y="2852640"/>
              <a:chExt cx="7994520" cy="2027160"/>
            </a:xfrm>
          </p:grpSpPr>
          <p:sp>
            <p:nvSpPr>
              <p:cNvPr id="217" name=""/>
              <p:cNvSpPr/>
              <p:nvPr/>
            </p:nvSpPr>
            <p:spPr>
              <a:xfrm>
                <a:off x="1692360" y="3139920"/>
                <a:ext cx="65530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cc"/>
                    </a:solidFill>
                    <a:latin typeface="Arial"/>
                  </a:rPr>
                  <a:t>  </a:t>
                </a:r>
                <a:r>
                  <a:rPr b="1" lang="ru-RU" sz="1800" spc="-1" strike="noStrike">
                    <a:solidFill>
                      <a:srgbClr val="ffffcc"/>
                    </a:solidFill>
                    <a:latin typeface="Arial"/>
                  </a:rPr>
                  <a:t>Твой друг принимает наркотики.                                     Как тебе вести  себя с ним:</a:t>
                </a:r>
                <a:r>
                  <a:rPr b="1" lang="en-US" sz="1800" spc="-1" strike="noStrike">
                    <a:solidFill>
                      <a:srgbClr val="ffffcc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ffffcc"/>
                    </a:solidFill>
                    <a:latin typeface="Arial"/>
                  </a:rPr>
                  <a:t>                                                                                                    а) бороться с его привычкой;                                                            б) продолжить общаться с таким, какой он есть;          в) прекратить общение с ним</a:t>
                </a:r>
                <a:r>
                  <a:rPr b="1" lang="en-US" sz="1800" spc="-1" strike="noStrike">
                    <a:solidFill>
                      <a:srgbClr val="ffffcc"/>
                    </a:solidFill>
                    <a:latin typeface="Arial"/>
                  </a:rPr>
                  <a:t>?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250920" y="2852640"/>
                <a:ext cx="1439640" cy="165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66ff66"/>
                      </a:solidFill>
                      <a:miter/>
                    </a:ln>
                    <a:solidFill>
                      <a:srgbClr val="66ff66"/>
                    </a:solidFill>
                    <a:latin typeface="Arial"/>
                  </a:rPr>
                  <a:t>?</a:t>
                </a:r>
                <a:endParaRPr b="1" lang="en-US" sz="1800" spc="1" strike="noStrike">
                  <a:ln w="9360">
                    <a:solidFill>
                      <a:srgbClr val="66ff66"/>
                    </a:solidFill>
                    <a:miter/>
                  </a:ln>
                  <a:solidFill>
                    <a:srgbClr val="66ff66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19" name=""/>
            <p:cNvSpPr txBox="1"/>
            <p:nvPr/>
          </p:nvSpPr>
          <p:spPr>
            <a:xfrm>
              <a:off x="684360" y="2997360"/>
              <a:ext cx="647640" cy="122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348000" y="4941720"/>
            <a:ext cx="5256360" cy="1509840"/>
            <a:chOff x="3348000" y="4941720"/>
            <a:chExt cx="5256360" cy="1509840"/>
          </a:xfrm>
        </p:grpSpPr>
        <p:grpSp>
          <p:nvGrpSpPr>
            <p:cNvPr id="221" name=""/>
            <p:cNvGrpSpPr/>
            <p:nvPr/>
          </p:nvGrpSpPr>
          <p:grpSpPr>
            <a:xfrm>
              <a:off x="3348000" y="4941720"/>
              <a:ext cx="5256360" cy="1509840"/>
              <a:chOff x="3348000" y="4941720"/>
              <a:chExt cx="5256360" cy="1509840"/>
            </a:xfrm>
          </p:grpSpPr>
          <p:sp>
            <p:nvSpPr>
              <p:cNvPr id="222" name=""/>
              <p:cNvSpPr/>
              <p:nvPr/>
            </p:nvSpPr>
            <p:spPr>
              <a:xfrm>
                <a:off x="4716360" y="4941720"/>
                <a:ext cx="388800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cc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ffffcc"/>
                    </a:solidFill>
                    <a:latin typeface="Arial"/>
                  </a:rPr>
                  <a:t>Нужно ли проблемами наркомании заниматься           на государственном уровне  или это проблема самого человека и его близких</a:t>
                </a:r>
                <a:r>
                  <a:rPr b="1" lang="en-US" sz="1800" spc="-1" strike="noStrike">
                    <a:solidFill>
                      <a:srgbClr val="ffffcc"/>
                    </a:solidFill>
                    <a:latin typeface="Arial"/>
                  </a:rPr>
                  <a:t>?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 txBox="1"/>
              <p:nvPr/>
            </p:nvSpPr>
            <p:spPr>
              <a:xfrm>
                <a:off x="3348000" y="5013360"/>
                <a:ext cx="1368360" cy="1438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66ff66"/>
                      </a:solidFill>
                      <a:miter/>
                    </a:ln>
                    <a:solidFill>
                      <a:srgbClr val="66ff66"/>
                    </a:solidFill>
                    <a:latin typeface="Arial"/>
                  </a:rPr>
                  <a:t>?</a:t>
                </a:r>
                <a:endParaRPr b="1" lang="en-US" sz="1800" spc="1" strike="noStrike">
                  <a:ln w="9360">
                    <a:solidFill>
                      <a:srgbClr val="66ff66"/>
                    </a:solidFill>
                    <a:miter/>
                  </a:ln>
                  <a:solidFill>
                    <a:srgbClr val="66ff66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24" name=""/>
            <p:cNvSpPr txBox="1"/>
            <p:nvPr/>
          </p:nvSpPr>
          <p:spPr>
            <a:xfrm>
              <a:off x="3635280" y="5084640"/>
              <a:ext cx="64944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50920" y="404640"/>
            <a:ext cx="4079880" cy="6120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356000" y="1333440"/>
            <a:ext cx="478800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바탕"/>
              </a:rPr>
              <a:t>У кого есть здоровье,          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바탕"/>
              </a:rPr>
              <a:t>у того есть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바탕"/>
              </a:rPr>
              <a:t>надежда.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바탕"/>
              </a:rPr>
              <a:t>У кого есть надежда,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바탕"/>
              </a:rPr>
              <a:t>у того есть всё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바탕"/>
              </a:rPr>
              <a:t>Восточная  мудрость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6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389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0" y="3357720"/>
            <a:ext cx="4176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Bookman Old Style"/>
              </a:rPr>
              <a:t>жизнь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Bookman Old Style"/>
              <a:ea typeface="Bookman Old Style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8360" y="4508640"/>
            <a:ext cx="42480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38160">
                  <a:solidFill>
                    <a:srgbClr val="008080"/>
                  </a:solidFill>
                  <a:miter/>
                </a:ln>
                <a:solidFill>
                  <a:srgbClr val="00b4b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выбираю</a:t>
            </a:r>
            <a:endParaRPr b="1" lang="en-US" sz="4400" spc="1" strike="noStrike">
              <a:ln w="38160">
                <a:solidFill>
                  <a:srgbClr val="008080"/>
                </a:solidFill>
                <a:miter/>
              </a:ln>
              <a:solidFill>
                <a:srgbClr val="00b4b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95280" y="476280"/>
            <a:ext cx="3745080" cy="230508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95280" y="404640"/>
            <a:ext cx="3672000" cy="244800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7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0"/>
                            </p:stCondLst>
                            <p:childTnLst>
                              <p:par>
                                <p:cTn id="58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7000"/>
                            </p:stCondLst>
                            <p:childTnLst>
                              <p:par>
                                <p:cTn id="586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8000"/>
                            </p:stCondLst>
                            <p:childTnLst>
                              <p:par>
                                <p:cTn id="590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973760" y="1700280"/>
            <a:ext cx="3921120" cy="4897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3889440" cy="489744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1403280" y="1989000"/>
            <a:ext cx="6284880" cy="4319640"/>
            <a:chOff x="1403280" y="1989000"/>
            <a:chExt cx="6284880" cy="4319640"/>
          </a:xfrm>
        </p:grpSpPr>
        <p:sp>
          <p:nvSpPr>
            <p:cNvPr id="107" name=""/>
            <p:cNvSpPr/>
            <p:nvPr/>
          </p:nvSpPr>
          <p:spPr>
            <a:xfrm>
              <a:off x="1403280" y="1989000"/>
              <a:ext cx="6284880" cy="4319640"/>
            </a:xfrm>
            <a:prstGeom prst="ellipse">
              <a:avLst/>
            </a:prstGeom>
            <a:solidFill>
              <a:srgbClr val="ffffcc">
                <a:alpha val="77000"/>
              </a:srgbClr>
            </a:soli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08000" y="2421000"/>
              <a:ext cx="504036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Наркомания</a:t>
              </a:r>
              <a:r>
                <a:rPr b="1" lang="ru-RU" sz="2000" spc="-1" strike="noStrike">
                  <a:solidFill>
                    <a:srgbClr val="754e27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- патологическое                                         влечение к приему наркотических средств. </a:t>
              </a:r>
              <a:br>
                <a:rPr sz="2000"/>
              </a:b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Термин </a:t>
              </a:r>
              <a:r>
                <a:rPr b="1" i="1" lang="ru-RU" sz="2000" spc="-1" strike="noStrike">
                  <a:solidFill>
                    <a:srgbClr val="003399"/>
                  </a:solidFill>
                  <a:latin typeface="Arial"/>
                </a:rPr>
                <a:t>"наркотик"</a:t>
              </a: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 происходит от греческого глагола </a:t>
              </a:r>
              <a:r>
                <a:rPr b="1" i="1" lang="ru-RU" sz="2000" spc="-1" strike="noStrike">
                  <a:solidFill>
                    <a:srgbClr val="003399"/>
                  </a:solidFill>
                  <a:latin typeface="Arial"/>
                </a:rPr>
                <a:t>"narkoo"</a:t>
              </a: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, что означает оцепенеть, сделаться нечувствительным. </a:t>
              </a:r>
              <a:br>
                <a:rPr sz="2000"/>
              </a:br>
              <a:r>
                <a:rPr b="1" lang="ru-RU" sz="2000" spc="-1" strike="noStrike" u="sng">
                  <a:solidFill>
                    <a:srgbClr val="003399"/>
                  </a:solidFill>
                  <a:uFillTx/>
                  <a:latin typeface="Arial"/>
                </a:rPr>
                <a:t>Основные группы наркотиков:</a:t>
              </a: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      опиаты, психостимуляторы, галлюциногены,   снотворные,      ингаляты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"/>
          <p:cNvSpPr txBox="1"/>
          <p:nvPr/>
        </p:nvSpPr>
        <p:spPr>
          <a:xfrm>
            <a:off x="39528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>
            <a:lum contrast="8000"/>
          </a:blip>
          <a:stretch/>
        </p:blipFill>
        <p:spPr>
          <a:xfrm>
            <a:off x="4140360" y="4869000"/>
            <a:ext cx="1035000" cy="155736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539640" y="260280"/>
            <a:ext cx="8064720" cy="1298520"/>
            <a:chOff x="539640" y="260280"/>
            <a:chExt cx="8064720" cy="1298520"/>
          </a:xfrm>
        </p:grpSpPr>
        <p:sp>
          <p:nvSpPr>
            <p:cNvPr id="112" name=""/>
            <p:cNvSpPr/>
            <p:nvPr/>
          </p:nvSpPr>
          <p:spPr>
            <a:xfrm>
              <a:off x="539640" y="260280"/>
              <a:ext cx="8064720" cy="1008000"/>
            </a:xfrm>
            <a:prstGeom prst="wedgeRoundRectCallout">
              <a:avLst>
                <a:gd name="adj1" fmla="val 4939"/>
                <a:gd name="adj2" fmla="val 179134"/>
                <a:gd name="adj3" fmla="val 16667"/>
              </a:avLst>
            </a:prstGeom>
            <a:gradFill rotWithShape="0">
              <a:gsLst>
                <a:gs pos="0">
                  <a:srgbClr val="a886e0"/>
                </a:gs>
                <a:gs pos="50000">
                  <a:srgbClr val="e5e5ff"/>
                </a:gs>
                <a:gs pos="100000">
                  <a:srgbClr val="a886e0"/>
                </a:gs>
              </a:gsLst>
              <a:lin ang="10800000"/>
            </a:gra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4640" y="333360"/>
              <a:ext cx="792972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Психостимуляторы</a:t>
              </a:r>
              <a:r>
                <a:rPr b="1" lang="ru-RU" sz="1600" spc="-1" strike="noStrike">
                  <a:solidFill>
                    <a:srgbClr val="000099"/>
                  </a:solidFill>
                  <a:latin typeface="Arial"/>
                </a:rPr>
                <a:t>- вещества,стимулирующие центральную нервную систему- кокаин, эфедрин и другие. Сюда же относятся и марихуана, высушенные и измельченные листья конопли, гашиша, смола конопли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059280" y="2637000"/>
            <a:ext cx="3024000" cy="1728720"/>
            <a:chOff x="3059280" y="2637000"/>
            <a:chExt cx="3024000" cy="1728720"/>
          </a:xfrm>
        </p:grpSpPr>
        <p:sp>
          <p:nvSpPr>
            <p:cNvPr id="115" name=""/>
            <p:cNvSpPr/>
            <p:nvPr/>
          </p:nvSpPr>
          <p:spPr>
            <a:xfrm>
              <a:off x="3419640" y="2637000"/>
              <a:ext cx="2304720" cy="1728720"/>
            </a:xfrm>
            <a:prstGeom prst="ellipse">
              <a:avLst/>
            </a:prstGeom>
            <a:solidFill>
              <a:srgbClr val="ffffcc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9280" y="2997360"/>
              <a:ext cx="3024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ОСНОВНЫЕ                                       ГРУППЫ   НАРКОТИКО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156360" y="2349360"/>
            <a:ext cx="2809800" cy="1828440"/>
            <a:chOff x="6156360" y="2349360"/>
            <a:chExt cx="2809800" cy="1828440"/>
          </a:xfrm>
        </p:grpSpPr>
        <p:sp>
          <p:nvSpPr>
            <p:cNvPr id="118" name=""/>
            <p:cNvSpPr/>
            <p:nvPr/>
          </p:nvSpPr>
          <p:spPr>
            <a:xfrm>
              <a:off x="6156360" y="2349360"/>
              <a:ext cx="2808360" cy="1675440"/>
            </a:xfrm>
            <a:prstGeom prst="wedgeRoundRectCallout">
              <a:avLst>
                <a:gd name="adj1" fmla="val -78499"/>
                <a:gd name="adj2" fmla="val -22143"/>
                <a:gd name="adj3" fmla="val 16667"/>
              </a:avLst>
            </a:prstGeom>
            <a:gradFill rotWithShape="0">
              <a:gsLst>
                <a:gs pos="0">
                  <a:srgbClr val="a886e0"/>
                </a:gs>
                <a:gs pos="50000">
                  <a:srgbClr val="e5e5ff"/>
                </a:gs>
                <a:gs pos="100000">
                  <a:srgbClr val="a886e0"/>
                </a:gs>
              </a:gsLst>
              <a:lin ang="10800000"/>
            </a:gra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56360" y="2349360"/>
              <a:ext cx="280980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Опиаты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- вещества, выделяемые из мака и их производные: морфин и кодеин, из морфина синтетически получают героин.</a:t>
              </a:r>
              <a:br>
                <a:rPr sz="1600"/>
              </a:b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292720" y="5300640"/>
            <a:ext cx="3600360" cy="2076120"/>
            <a:chOff x="5292720" y="5300640"/>
            <a:chExt cx="3600360" cy="2076120"/>
          </a:xfrm>
        </p:grpSpPr>
        <p:sp>
          <p:nvSpPr>
            <p:cNvPr id="121" name=""/>
            <p:cNvSpPr/>
            <p:nvPr/>
          </p:nvSpPr>
          <p:spPr>
            <a:xfrm>
              <a:off x="5292720" y="5300640"/>
              <a:ext cx="3600360" cy="1368360"/>
            </a:xfrm>
            <a:prstGeom prst="wedgeRoundRectCallout">
              <a:avLst>
                <a:gd name="adj1" fmla="val -58157"/>
                <a:gd name="adj2" fmla="val -120648"/>
                <a:gd name="adj3" fmla="val 16667"/>
              </a:avLst>
            </a:prstGeom>
            <a:gradFill rotWithShape="0">
              <a:gsLst>
                <a:gs pos="0">
                  <a:srgbClr val="a886e0"/>
                </a:gs>
                <a:gs pos="50000">
                  <a:srgbClr val="e5e5ff"/>
                </a:gs>
                <a:gs pos="100000">
                  <a:srgbClr val="a886e0"/>
                </a:gs>
              </a:gsLst>
              <a:lin ang="10800000"/>
            </a:gra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64000" y="5421240"/>
              <a:ext cx="3529080" cy="19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Снотворные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- безобидные на         первый взгляд лекарства могут развивать привыкание,                                                                                                 как настоящие наркотики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50920" y="5157720"/>
            <a:ext cx="3759120" cy="1772640"/>
            <a:chOff x="250920" y="5157720"/>
            <a:chExt cx="3759120" cy="1772640"/>
          </a:xfrm>
        </p:grpSpPr>
        <p:sp>
          <p:nvSpPr>
            <p:cNvPr id="124" name=""/>
            <p:cNvSpPr/>
            <p:nvPr/>
          </p:nvSpPr>
          <p:spPr>
            <a:xfrm>
              <a:off x="250920" y="5157720"/>
              <a:ext cx="3744720" cy="1498680"/>
            </a:xfrm>
            <a:prstGeom prst="wedgeRoundRectCallout">
              <a:avLst>
                <a:gd name="adj1" fmla="val 48726"/>
                <a:gd name="adj2" fmla="val -102226"/>
                <a:gd name="adj3" fmla="val 16667"/>
              </a:avLst>
            </a:prstGeom>
            <a:gradFill rotWithShape="0">
              <a:gsLst>
                <a:gs pos="0">
                  <a:srgbClr val="a886e0"/>
                </a:gs>
                <a:gs pos="50000">
                  <a:srgbClr val="e5e5ff"/>
                </a:gs>
                <a:gs pos="100000">
                  <a:srgbClr val="a886e0"/>
                </a:gs>
              </a:gsLst>
              <a:lin ang="10800000"/>
            </a:gra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4960" y="5218200"/>
              <a:ext cx="3745080" cy="17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Ингалянты</a:t>
              </a: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0099"/>
                  </a:solidFill>
                  <a:latin typeface="Arial"/>
                </a:rPr>
                <a:t>- вещества, которые вводят в организм через дыхательные пути. Это клей, бензин, ацетон и другие, токсические вещества.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24000" y="2781360"/>
            <a:ext cx="2519280" cy="2089080"/>
            <a:chOff x="324000" y="2781360"/>
            <a:chExt cx="2519280" cy="2089080"/>
          </a:xfrm>
        </p:grpSpPr>
        <p:sp>
          <p:nvSpPr>
            <p:cNvPr id="127" name=""/>
            <p:cNvSpPr/>
            <p:nvPr/>
          </p:nvSpPr>
          <p:spPr>
            <a:xfrm>
              <a:off x="324000" y="2781360"/>
              <a:ext cx="2519280" cy="2089080"/>
            </a:xfrm>
            <a:prstGeom prst="wedgeRoundRectCallout">
              <a:avLst>
                <a:gd name="adj1" fmla="val 71675"/>
                <a:gd name="adj2" fmla="val -27356"/>
                <a:gd name="adj3" fmla="val 16667"/>
              </a:avLst>
            </a:prstGeom>
            <a:gradFill rotWithShape="0">
              <a:gsLst>
                <a:gs pos="0">
                  <a:srgbClr val="a886e0"/>
                </a:gs>
                <a:gs pos="50000">
                  <a:srgbClr val="e5e5ff"/>
                </a:gs>
                <a:gs pos="100000">
                  <a:srgbClr val="a886e0"/>
                </a:gs>
              </a:gsLst>
              <a:lin ang="10800000"/>
            </a:gra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5280" y="2852640"/>
              <a:ext cx="2394000" cy="15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Галлюциногены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- вещества, способные вызывать глубокие изменения психики, что ведет к галлюцинациям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7236000" y="1341360"/>
            <a:ext cx="1511280" cy="852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>
            <a:lum contrast="16000"/>
          </a:blip>
          <a:stretch/>
        </p:blipFill>
        <p:spPr>
          <a:xfrm>
            <a:off x="539640" y="1413000"/>
            <a:ext cx="1656000" cy="113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2627280" y="1413000"/>
          <a:ext cx="1728720" cy="110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27280" y="1413000"/>
                    <a:ext cx="172872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7020000" y="4221000"/>
          <a:ext cx="1800000" cy="94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20000" y="4221000"/>
                    <a:ext cx="180000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НАРКОТИК  НОВОЙ ВОЛНЫ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514"/>
                </a:solidFill>
                <a:latin typeface="Garamond"/>
              </a:rPr>
              <a:t>Занимает второе место после </a:t>
            </a:r>
            <a:r>
              <a:rPr b="0" lang="en-US" sz="4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героина</a:t>
            </a:r>
            <a:r>
              <a:rPr b="0" lang="en-US" sz="4800" spc="-1" strike="noStrike" u="sng">
                <a:solidFill>
                  <a:srgbClr val="000514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Garamond"/>
              </a:rPr>
              <a:t>Стремительно распространяется после 2005 года.</a:t>
            </a:r>
            <a:r>
              <a:rPr b="0" lang="en-US" sz="48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63640" y="333360"/>
            <a:ext cx="540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ЗОМОРФИН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4400" y="4438800"/>
            <a:ext cx="45561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Шахтеры Боливии издавна получали часть жалованья не деньгами, а листьями растения, содержащего кокаин, которые жевали или курили. Вообще нет такого народа, который не употреблял бы в том или ином    виде наркотические вещества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58920" y="404640"/>
            <a:ext cx="6481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ИСТОКИ  НАРКОМАНИИ</a:t>
            </a:r>
            <a:endParaRPr b="1" lang="en-US" sz="20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356000" y="4581360"/>
            <a:ext cx="4392720" cy="2013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132000" y="1268280"/>
            <a:ext cx="601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С веществами, которые теперь называют наркотиками, человек познакомился давно. Древние египтяне готовили из мака снотворное. Они получали опиум и употребляли его, желая уснуть или приглушить бо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2852640"/>
            <a:ext cx="59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Бедуины, отправляясь в дальний переход, запасались бангом - смолой, известной под названием марихуаны или гашиша. Смолу курили, желая снять психическую нагрузку, вызванную однообразным пейзажем пусты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26920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16" presetSubtype="42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8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2" nodeType="afterEffect" fill="hold" presetClass="entr" presetID="16" presetSubtype="37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4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4643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Проблема наркомании затрагивает  около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30 млн.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человек, то есть практически 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каждого пятого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жителя страны.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Сегодня в России не   осталось ни одного  региона,  где не были бы зафиксированы  случаи употребления наркотиков или их  распространения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По данным международной организации «Врачи без границ», уже сегодня в России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от 3 до 4 млн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наркоманов, а некоторыми специалистами их число оценивается даже выше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9 млн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че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788000" y="1989000"/>
            <a:ext cx="4157640" cy="4176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1619280" y="404640"/>
            <a:ext cx="6265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НАРКОМАНИЯ   В   РОССИИ</a:t>
            </a:r>
            <a:endParaRPr b="1" lang="en-US" sz="20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647800" cy="2879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276720" y="3500280"/>
            <a:ext cx="53989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редний возраст приобщения к наркотикам в России составляет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15-17 лет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,  но участились случаи первичного употребления нарко-тиков детьми </a:t>
            </a:r>
            <a:r>
              <a:rPr b="1" lang="ru-RU" sz="2400" spc="-1" strike="noStrike">
                <a:solidFill>
                  <a:srgbClr val="66ff66"/>
                </a:solidFill>
                <a:latin typeface="Arial"/>
              </a:rPr>
              <a:t>11-13 лет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.   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 Отмечены  и случаи употребле-ния наркотиков детьми </a:t>
            </a:r>
            <a:r>
              <a:rPr b="1" lang="ru-RU" sz="2400" spc="-1" strike="noStrike">
                <a:solidFill>
                  <a:srgbClr val="66ff66"/>
                </a:solidFill>
                <a:latin typeface="Arial"/>
              </a:rPr>
              <a:t>6-7 лет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404640"/>
            <a:ext cx="43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Наркомания в России продолжает "молодеть". По последним данным,  </a:t>
            </a:r>
            <a:r>
              <a:rPr b="1" lang="en-US" sz="2400" spc="-1" strike="noStrike">
                <a:solidFill>
                  <a:srgbClr val="66ff66"/>
                </a:solidFill>
                <a:latin typeface="Arial"/>
              </a:rPr>
              <a:t>более 60 %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наркоманов - люди в  возрасте </a:t>
            </a:r>
            <a:r>
              <a:rPr b="1" lang="en-US" sz="2400" spc="-1" strike="noStrike">
                <a:solidFill>
                  <a:srgbClr val="66ff66"/>
                </a:solidFill>
                <a:latin typeface="Arial"/>
              </a:rPr>
              <a:t>18-30 лет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и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почти 20 % - школьники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8500"/>
                            </p:stCondLst>
                            <p:childTnLst>
                              <p:par>
                                <p:cTn id="18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4365720"/>
            <a:ext cx="8604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Именно образовательные учреждения и места массового развлечения молодежи, в первую очередь дискотеки, являются сегодня основными местами распространения наркотиков. За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три года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наркомания среди детей и подростков выросла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очти в 6 раз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17:54:03Z</dcterms:created>
  <dc:creator>Оля</dc:creator>
  <dc:description/>
  <dc:language>en-US</dc:language>
  <cp:lastModifiedBy>Admin</cp:lastModifiedBy>
  <dcterms:modified xsi:type="dcterms:W3CDTF">2010-11-10T03:16:59Z</dcterms:modified>
  <cp:revision>40</cp:revision>
  <dc:subject/>
  <dc:title>Слайд 1</dc:title>
</cp:coreProperties>
</file>