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gif" ContentType="image/gif"/>
  <Override PartName="/ppt/media/image9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3E94-DFC4-4D8E-A416-7C1CFEFA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645-1C19-4773-9354-810DC190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90D-B330-46DC-9986-FAEA0F59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BE3-A887-47C3-9A74-AE9E6F89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54F3-6361-45FB-B051-299FE551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7271-3094-4D71-8ABE-037E3AA5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1037-C959-4007-87AF-0CE18FBF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447C-C4DE-4575-B590-406AEDF8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4AFA-64C4-4638-9AC2-9EA440A5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BE69-92C0-4958-91ED-FBE0AC10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E284-8480-4D22-B6DA-B5490BCD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8AA-E963-41EC-9B9E-26AE7052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4A17-78C5-46AB-9918-54C5D7B5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25FA-DCC2-4325-AA6F-C1911BB9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09D0-50F7-4AA6-B325-886908F1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2839-60DE-4023-8D4D-D1005D1C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48AC-66CC-4DA5-9B6F-A0674B30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9B5-7E7B-47A3-8952-26843CC5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AF1-0956-49CF-9CCC-C845633A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3B0F-7EF8-4CB3-B286-FD6F3766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EA2-20B1-4679-A0B0-9514500E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812-3A93-4C78-B27B-290EDFA2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8958-8B58-4973-A7B5-0B9FF4CA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2F3C-199E-4664-A5C7-9652F70F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5AE9-53E0-4826-9019-B1D31B4C036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E48E-E6D7-45C7-ADD7-6DFBB7CBEC6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676480" y="158400"/>
            <a:ext cx="346716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Verdana"/>
              </a:rPr>
              <a:t>Сәламәт яшәү рәвеше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Verdana"/>
              </a:rPr>
              <a:t>(Презент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ц</a:t>
            </a:r>
            <a:r>
              <a:rPr b="0" lang="tt-RU" sz="2000" spc="-1" strike="noStrike">
                <a:solidFill>
                  <a:srgbClr val="ffffff"/>
                </a:solidFill>
                <a:latin typeface="Verdana"/>
              </a:rPr>
              <a:t>ия рәвешендәге тәрбия сәгате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</a:t>
            </a:r>
            <a:r>
              <a:rPr b="0" lang="tt-RU" sz="1600" spc="-1" strike="noStrike">
                <a:solidFill>
                  <a:srgbClr val="ffffff"/>
                </a:solidFill>
                <a:latin typeface="Verdana"/>
              </a:rPr>
              <a:t>Эшләде: Хәйбуллина Фәния                                            Фәрид  кыз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J0233053"/>
          <p:cNvPicPr/>
          <p:nvPr/>
        </p:nvPicPr>
        <p:blipFill>
          <a:blip r:embed="rId1"/>
          <a:stretch/>
        </p:blipFill>
        <p:spPr>
          <a:xfrm>
            <a:off x="0" y="1484280"/>
            <a:ext cx="2432160" cy="21668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611280" y="69228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8" descr="J0150110"/>
          <p:cNvPicPr/>
          <p:nvPr/>
        </p:nvPicPr>
        <p:blipFill>
          <a:blip r:embed="rId2"/>
          <a:stretch/>
        </p:blipFill>
        <p:spPr>
          <a:xfrm>
            <a:off x="5940360" y="4365720"/>
            <a:ext cx="2849760" cy="21351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1"/>
          <p:cNvSpPr/>
          <p:nvPr/>
        </p:nvSpPr>
        <p:spPr>
          <a:xfrm>
            <a:off x="2050920" y="189000"/>
            <a:ext cx="684216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800000"/>
                </a:solidFill>
                <a:latin typeface="Arial"/>
              </a:rPr>
              <a:t>Яшәү рәвеше 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– ул кешеләрнең үз-үзләрен тотышы, гадәтләре һәм тормыш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ӘЛАМӘТЛ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492360" y="3500280"/>
            <a:ext cx="431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физик      психи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539640" y="4149720"/>
            <a:ext cx="51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әламәт яшәү рәвешен булдыру берничә өлештән тор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324000" y="4797360"/>
            <a:ext cx="459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Җенес, яшь, сәламәтлек халәт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шәү тирәлеге: климат, тора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номик шартлар: туклану, кие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ар гадәтләрнең булмав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5"/>
          <p:cNvSpPr/>
          <p:nvPr/>
        </p:nvSpPr>
        <p:spPr>
          <a:xfrm flipH="1">
            <a:off x="4500360" y="3213000"/>
            <a:ext cx="50292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6"/>
          <p:cNvSpPr/>
          <p:nvPr/>
        </p:nvSpPr>
        <p:spPr>
          <a:xfrm>
            <a:off x="5364000" y="328464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Наркомания һәм тәмәкенең профилактикасы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4680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 Тәмәке тарту, бөтен көченә барган поездан сикерү белән тиң»  Жан Кокт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РКОТИК – грекчадан «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rkoo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», аптырау, сизмәүчәнгә әйләнүне аңлат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J0189242"/>
          <p:cNvPicPr/>
          <p:nvPr/>
        </p:nvPicPr>
        <p:blipFill>
          <a:blip r:embed="rId3"/>
          <a:stretch/>
        </p:blipFill>
        <p:spPr>
          <a:xfrm>
            <a:off x="5867280" y="1843200"/>
            <a:ext cx="1656000" cy="1733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J0215243"/>
          <p:cNvPicPr/>
          <p:nvPr/>
        </p:nvPicPr>
        <p:blipFill>
          <a:blip r:embed="rId4"/>
          <a:stretch/>
        </p:blipFill>
        <p:spPr>
          <a:xfrm>
            <a:off x="5508720" y="3860640"/>
            <a:ext cx="2446200" cy="2664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324000" y="5661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Юк!» дияргә  өйрәнег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әламәт тәндә - сәламәт акыл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бигать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нең шундый законы бар – сәламәтлеген саклаган кеше генә, бәхетле була а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 Барлык авыру-ларыңны да ераккарак ку!                     Сәламәт булырга өйрән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4" descr="J0233047"/>
          <p:cNvPicPr/>
          <p:nvPr/>
        </p:nvPicPr>
        <p:blipFill>
          <a:blip r:embed="rId2"/>
          <a:stretch/>
        </p:blipFill>
        <p:spPr>
          <a:xfrm>
            <a:off x="5495760" y="1679400"/>
            <a:ext cx="2343240" cy="2030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J0233050"/>
          <p:cNvPicPr/>
          <p:nvPr/>
        </p:nvPicPr>
        <p:blipFill>
          <a:blip r:embed="rId3"/>
          <a:stretch/>
        </p:blipFill>
        <p:spPr>
          <a:xfrm>
            <a:off x="5435640" y="4146480"/>
            <a:ext cx="2460600" cy="17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Гаилә сәламәтлеге – милләт сәламәтлег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аиләдә ата белән ананың мөнәсәбәт-ләре – баланың тынычлыгы һәм алдагы тормышы өчен үрнәк булып тор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иләчәк буынның сәламәтлеге һәм бәхете, хәзерге балаларның сәламәтлегеннән тор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J0078835"/>
          <p:cNvPicPr/>
          <p:nvPr/>
        </p:nvPicPr>
        <p:blipFill>
          <a:blip r:embed="rId3"/>
          <a:stretch/>
        </p:blipFill>
        <p:spPr>
          <a:xfrm>
            <a:off x="5761080" y="1808280"/>
            <a:ext cx="1817640" cy="1774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J0324642"/>
          <p:cNvPicPr/>
          <p:nvPr/>
        </p:nvPicPr>
        <p:blipFill>
          <a:blip r:embed="rId4"/>
          <a:stretch/>
        </p:blipFill>
        <p:spPr>
          <a:xfrm>
            <a:off x="5783400" y="4129200"/>
            <a:ext cx="1763640" cy="18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ОРАУЛАР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3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сәламәт яшәү рәвешен» ничек аңлыйсыз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ркотиклар һәм тәмәкене ни белән тиңлиләр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 өчен күзне, күзнең күремен сакларга кирәк? Моны ничек эшләргә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Ничек сәламәт булырга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4" descr="J0316857"/>
          <p:cNvPicPr/>
          <p:nvPr/>
        </p:nvPicPr>
        <p:blipFill>
          <a:blip r:embed="rId5"/>
          <a:stretch/>
        </p:blipFill>
        <p:spPr>
          <a:xfrm>
            <a:off x="5508720" y="1413000"/>
            <a:ext cx="3635280" cy="2411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J0232064"/>
          <p:cNvPicPr/>
          <p:nvPr/>
        </p:nvPicPr>
        <p:blipFill>
          <a:blip r:embed="rId6"/>
          <a:stretch/>
        </p:blipFill>
        <p:spPr>
          <a:xfrm>
            <a:off x="5729400" y="4183200"/>
            <a:ext cx="1873080" cy="170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09:03:54Z</dcterms:created>
  <dc:creator>A0001</dc:creator>
  <dc:description/>
  <dc:language>en-US</dc:language>
  <cp:lastModifiedBy>Фагим</cp:lastModifiedBy>
  <dcterms:modified xsi:type="dcterms:W3CDTF">2015-01-31T21:03:27Z</dcterms:modified>
  <cp:revision>23</cp:revision>
  <dc:subject/>
  <dc:title>ЗДОРОВЫЙ  ОБРАЗ  ЖИЗНИ</dc:title>
</cp:coreProperties>
</file>