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3.png" ContentType="image/png"/>
  <Override PartName="/ppt/media/image17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2.jpeg" ContentType="image/jpeg"/>
  <Override PartName="/ppt/media/image1.png" ContentType="image/png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E0C-2460-4B77-8EE4-5D357BDB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E96-E7BE-488E-8D16-BB29F68F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CDA-F16B-499C-B7CE-CF365280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F69-25E4-46DF-AF56-12BA87FB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6C1-D6E9-4EF1-B82C-B9245B3F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22C6-7035-422E-ABAD-FDDE0ACD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544-67D3-40A5-B170-42CCEE6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1C20-611A-4C87-B061-1048D34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50F2-1EDF-4225-B6B4-FC3DAB18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FF64-6D71-456B-8EB1-E1573CCB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AFF-43FB-4B61-A90A-241B122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607-C636-474C-BCDE-1906CB2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E87-3A43-4C41-8DB0-98AC08D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E77E-568C-43FA-AE4D-726F7D8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640-879F-412C-8C87-B85B262A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5713-AB47-4444-A6A8-B2D08AC3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9BC2-794F-4AD5-86A0-DDD162D0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9004-8034-41A5-84FF-5E6E4428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3228-42F3-4822-8D9A-B928213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45CC-3D8A-4F24-9786-EBB165C6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FCA1-E342-42A8-9CCA-4E54896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266A-4E7E-44C8-83EC-0FC5843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66C-4485-46D2-8C42-35B69777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5123-E253-477E-84EC-AC195647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7146-3468-47E4-B5F7-45E633D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7DAE-1BF9-4D8F-9744-FC38C52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4A99-2F48-4F59-B90C-F7E51D0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4D2B-A15F-4FE6-8533-F10E69DF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5691-757D-460D-97F2-6B9C1486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E1BD-A8C7-4F9C-BB7F-62F9F3FB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CC97-AC86-4FDA-AEDD-8EC983DA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7D60-F0DD-4325-BC0B-6929990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B455-A038-415F-A8E2-A9EA5C0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284-E0B4-4065-A7B2-1C5BC3FD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A2EC-6446-47BA-832B-34F724A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59B0-A46D-405C-BB1E-E7FC5FD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4EFC-443D-4F93-892D-286FA1E7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187F-9EE9-4712-871C-B04EEE7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68EF-CEA0-447E-9313-E347FF5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826A-99C8-4E95-90D8-559E905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A487-E5EE-4D53-B210-1FC58209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332B-CA44-40EB-92BF-B59DBDFB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C455-A6CD-44EB-A852-647CD30E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89BB-B176-44EF-A9D3-649264D8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FD5-CF40-4DEE-B628-AB9B4E5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0FC2-4BBA-4655-80FF-558E13F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ADE0-43D9-4880-80DF-1089E3E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7DFE-69A2-493A-9572-0992C8F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AEAC8-F4D0-45DF-BD1E-0FFB7D8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E735-43AA-413B-A530-11B49C87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D6A2-2279-411C-80F5-11FC2E1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49C1-42B8-4024-8D8D-CACD003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EB78-FD15-4A3F-AB1F-33AF3EE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849F-9E36-4B32-AFC0-4FE791BC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4C11-19F5-4EBA-9CDE-F43E864F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CCC-86C3-4866-9B6F-AB198A8D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21B3-D10C-4B13-BEAA-E856FB1D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13CF-C2AD-4A9A-90C0-00A7142D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6649-A522-4A96-932E-22906E72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C528-1F91-42E2-AB45-57FD409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F03E-03C2-464E-AB2B-E87B39E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5DE0E-65DA-454D-99FA-BE8859C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4EBDD-25D4-404F-8E66-602585E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A6561-010A-48EA-9BB8-64A64FB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DB88-7887-41D1-A1AB-732AC20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CEBE-517B-4966-8378-433ACB8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EE0-A762-45C2-A37D-31151530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1BC27-8146-435B-B56B-79D7D47D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675C-0CF1-4F22-9882-7099A56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10A2-8D3A-44DA-AF28-0877E456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18D-52F5-46E3-A5C0-B2C43FCE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C04-8C3B-46CB-8017-08D2F02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7A55-B79E-4DBD-AD63-7A8C11E6E5C3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9f1c"/>
            </a:gs>
            <a:gs pos="100000">
              <a:srgbClr val="a7ff5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721-04B7-49A0-9224-28F2287490AF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9f1c"/>
            </a:gs>
            <a:gs pos="100000">
              <a:srgbClr val="a7ff5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F382-D18F-45E6-872C-0BD725BE4310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DFE0-6F47-4B2F-8F71-C7BD045552E8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AFF2-EE1D-4637-9D35-BEAF709309C6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58CE-63F6-4B3B-852C-165330D3B774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altai.fio.ru/projects/Group3/potok48/site/effective.htm" TargetMode="External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414360" y="463680"/>
            <a:ext cx="7297560" cy="434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TUDENT1"/>
          <p:cNvPicPr/>
          <p:nvPr/>
        </p:nvPicPr>
        <p:blipFill>
          <a:blip r:embed="rId2"/>
          <a:stretch/>
        </p:blipFill>
        <p:spPr>
          <a:xfrm>
            <a:off x="214200" y="4429080"/>
            <a:ext cx="2737080" cy="22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33cc"/>
                </a:solidFill>
                <a:latin typeface="Franklin Gothic Book"/>
              </a:rPr>
              <a:t>Начни с самого трудного - с того раздела, который знаешь хуже всего. Но если трудно «раскачаться», можно начать с того материала, который тебе больше всего интересен и приятен. Возможно, постепенно  войдешь в рабочий ритм, и дело пойдет.</a:t>
            </a:r>
            <a:r>
              <a:rPr b="1" lang="ru-RU" sz="1800" spc="-1" strike="noStrike">
                <a:solidFill>
                  <a:srgbClr val="9999ff"/>
                </a:solidFill>
                <a:latin typeface="Franklin Gothic Book"/>
              </a:rPr>
              <a:t>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Franklin Gothic Book"/>
              </a:rPr>
              <a:t>Не надо стремиться к тому, чтобы прочитать и запомнить весь учебник. Полезно структурировать материал за счет составления планов, схем, причем желательно на бумаге. Планы полезны и потому, что их легко использовать при кратком повторении материа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76" name="Picture 4" descr="пт"/>
          <p:cNvPicPr/>
          <p:nvPr/>
        </p:nvPicPr>
        <p:blipFill>
          <a:blip r:embed="rId1"/>
          <a:stretch/>
        </p:blipFill>
        <p:spPr>
          <a:xfrm>
            <a:off x="6227640" y="3645000"/>
            <a:ext cx="2305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356760"/>
            <a:ext cx="7400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-25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Чтобы организм работал как часы и не преподносил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еприятных сюрпризов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итанию  в период подготовки к экзаменам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еобходимо уделить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СОБОЕ ВНИМАНИЕ!!!!!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ание должно быть трёх-четырёхразовое, калорийное, богатое витаминами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авать предпочтение молочным продуктам, рыбе, мясу, овощам, фруктам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лучшат память: морковь с растительным маслом (стимулирует обмен веществ  в мозгу), стакан ананасового сока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нцентрировать внимание поможет половинка репчатого лука в день (помогает при умственном  переутомлении, психической усталости, способствует разжижению крови, улучшает снабжение мозга кислородом)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78" name="Picture 6" descr="C:\Documents and Settings\User\Рабочий стол\Новая папка\CA8IBS86.jpg"/>
          <p:cNvPicPr/>
          <p:nvPr/>
        </p:nvPicPr>
        <p:blipFill>
          <a:blip r:embed="rId1"/>
          <a:stretch/>
        </p:blipFill>
        <p:spPr>
          <a:xfrm>
            <a:off x="7215120" y="1214280"/>
            <a:ext cx="16858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142720" y="571320"/>
            <a:ext cx="46436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Успешно грызть гранит науки позволяют капуста (она снижает активность щитовидной железы, снимает нервозность)  и лимон (освежает мысли, облегчает восприятие информации за счёт ударной дозы витамина С)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Хорошее настроение  поддержат «фрукты счастья» -  бананы, содержащие  необходимое мозгу вещество – серотонин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80" name="Picture 4" descr="C:\Documents and Settings\User\Рабочий стол\Новая папка\CA8TCIN7.jpg"/>
          <p:cNvPicPr/>
          <p:nvPr/>
        </p:nvPicPr>
        <p:blipFill>
          <a:blip r:embed="rId1"/>
          <a:stretch/>
        </p:blipFill>
        <p:spPr>
          <a:xfrm>
            <a:off x="6929280" y="4214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User\Рабочий стол\Новая папка\CAKTWF27.jpg"/>
          <p:cNvPicPr/>
          <p:nvPr/>
        </p:nvPicPr>
        <p:blipFill>
          <a:blip r:embed="rId2"/>
          <a:stretch/>
        </p:blipFill>
        <p:spPr>
          <a:xfrm>
            <a:off x="428760" y="285840"/>
            <a:ext cx="1625400" cy="1714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Documents and Settings\User\Рабочий стол\Новая папка\CAMTVZKK.jpg"/>
          <p:cNvPicPr/>
          <p:nvPr/>
        </p:nvPicPr>
        <p:blipFill>
          <a:blip r:embed="rId3"/>
          <a:stretch/>
        </p:blipFill>
        <p:spPr>
          <a:xfrm>
            <a:off x="7143840" y="357120"/>
            <a:ext cx="1598400" cy="157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C:\Documents and Settings\User\Рабочий стол\Новая папка\ып.jpg"/>
          <p:cNvPicPr/>
          <p:nvPr/>
        </p:nvPicPr>
        <p:blipFill>
          <a:blip r:embed="rId4"/>
          <a:stretch/>
        </p:blipFill>
        <p:spPr>
          <a:xfrm>
            <a:off x="357120" y="4143240"/>
            <a:ext cx="17146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428760"/>
            <a:ext cx="7467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словия поддержки работоспособности: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ередуй умственный и физический труд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ереги  от переутомления глаза, давать им отдых, переключать внимание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инимум телевизионных передач, работы за компьютером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имулировать познавательные способности можно при помощи следующего упражнения: большим  и указательным пальцами одной руки с силой сдавливать фалангу каждого пальца другой руки, начиная от ногтевой фаланги, сначала в тыльно-ладонной, затем в межпальцевой плоскости. Затем руки меняем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нять настроение и наполнить себя свежей силой помогут вдохи и выдохи со звуками «Аааа», «Ииии», «Оооо», «Уууу».Важно чтобы при вдохе  звук пелся поступательно вверх(представьте, что вместе с воздухом вы вдыхаете светлые и радостные мысли), а при выдохе поступательно вниз ( при этом из вас вытекает ощущение усталости, утомления, скуки)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72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дуй занятия и отдых, скажем, 40 минут занятий, затем 10 минут – перерыв. Можно в это время помыть посуду, полить цветы, сделать зарядку, принять душ…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лушай расслабляющую музыку, танцуй, пой, делай спортивные упражнения, общайся с интересными людьми, помоги тем, кто особенно нуждается в твоей любви, заботе, ласк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86" name="Picture 3" descr="C:\Documents and Settings\User\Рабочий стол\Новая папка\CA0D597W.jpg"/>
          <p:cNvPicPr/>
          <p:nvPr/>
        </p:nvPicPr>
        <p:blipFill>
          <a:blip r:embed="rId1"/>
          <a:stretch/>
        </p:blipFill>
        <p:spPr>
          <a:xfrm>
            <a:off x="6786720" y="3643200"/>
            <a:ext cx="1884240" cy="153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User\Рабочий стол\Новая папка\CA2T8H85.jpg"/>
          <p:cNvPicPr/>
          <p:nvPr/>
        </p:nvPicPr>
        <p:blipFill>
          <a:blip r:embed="rId2"/>
          <a:stretch/>
        </p:blipFill>
        <p:spPr>
          <a:xfrm>
            <a:off x="357120" y="500076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Documents and Settings\User\Рабочий стол\Новая папка\CA5FOE9S.jpg"/>
          <p:cNvPicPr/>
          <p:nvPr/>
        </p:nvPicPr>
        <p:blipFill>
          <a:blip r:embed="rId3"/>
          <a:stretch/>
        </p:blipFill>
        <p:spPr>
          <a:xfrm>
            <a:off x="2214720" y="3643200"/>
            <a:ext cx="1928520" cy="1357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Documents and Settings\User\Рабочий стол\Новая папка\CA9XWBGS.jpg"/>
          <p:cNvPicPr/>
          <p:nvPr/>
        </p:nvPicPr>
        <p:blipFill>
          <a:blip r:embed="rId4"/>
          <a:stretch/>
        </p:blipFill>
        <p:spPr>
          <a:xfrm>
            <a:off x="4714920" y="4714920"/>
            <a:ext cx="17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9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товясь к экзаменам, никогда не думай о том, что не справишься, а, напротив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ысленно рисуй себе картину триумфа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Оставь один день перед экзаменом на то, чтобы вновь повторить все планы ответов, ещё раз остановиться на самых трудных вопросах.</a:t>
            </a:r>
            <a:br>
              <a:rPr sz="2000"/>
            </a:br>
            <a:endParaRPr b="0" lang="en-US" sz="2000" spc="-1" strike="noStrike">
              <a:solidFill>
                <a:srgbClr val="00969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ледует помнить, что без учёта своих индивидуальных особенностей и способностей все вышеуказанные действия обречены на неуспех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Как же сделать так, чтобы наши способности работали на нас?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Необходимо, в первую очередь, знать свои сильные стороны и умело их использовать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ейчас мы и попробуем с помощью несложных упражнений установить особенности восприятия вами учебной информации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92" name="Picture 6" descr="23449301_e3aa70c15629e93e8a7cdf2392a7998c_full"/>
          <p:cNvPicPr/>
          <p:nvPr/>
        </p:nvPicPr>
        <p:blipFill>
          <a:blip r:embed="rId1"/>
          <a:stretch/>
        </p:blipFill>
        <p:spPr>
          <a:xfrm>
            <a:off x="5589720" y="2119320"/>
            <a:ext cx="30859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684360" y="692280"/>
            <a:ext cx="7920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учивать и запоминать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формацию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059280" y="3573360"/>
            <a:ext cx="5041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чётом личног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дущег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вня восприятия 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5" name="Picture 4" descr="j0410917"/>
          <p:cNvPicPr/>
          <p:nvPr/>
        </p:nvPicPr>
        <p:blipFill>
          <a:blip r:embed="rId1"/>
          <a:stretch/>
        </p:blipFill>
        <p:spPr>
          <a:xfrm>
            <a:off x="468360" y="3789360"/>
            <a:ext cx="25336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260280"/>
            <a:ext cx="7467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ри хорошей зрительной памяти: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Читая  материал учебника (конспекта) выделяйте специальными знаками       ключевые (опорные) места  текста (записей),фиксируй их  на маленьких       листочках (карточках)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исьменно составляйте план ответа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Используйте сокращённую запись материала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оставляйте тезисы, опорные схемы и таблицы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пишите на карточки (желательно крупным шрифтом, разными цветами) основные        понятия и формулы, которые необходимо знать, разложите их на столе или развесьте        на   стенах, чтобы   они   постоянно  были  у      вас       перед       глазами, пока вы     готовитесь    к    экзамену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ваш ведущий вид восприятия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информации – звуковой: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итайте запоминаемый текст  вслух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ли у вас есть возможность, начитайте содержание вопроса на аудиокассету, а затем  периодически прослушивайте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чтении и записывании старайтесь проговаривать слова чётко, соблюдая интонацию, делая необходимые паузы в конце предложений, частей текста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но попытаться зарифмовать в небольшие стихотворения, песенки основные правила и теоремы, найти логическое соответствие исторических дат с событиями и явлениями современной или вашей личной жизни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зучив  содержание вопроса, перескажи его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мни, количество запоминаемого тем больше, чем выше степень понимания. Лучше учить с перерывами, чем подряд, лучше понемногу, чем сразу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524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Franklin Gothic Book"/>
              </a:rPr>
              <a:t>Экзамены</a:t>
            </a:r>
            <a:r>
              <a:rPr b="1" lang="ru-RU" sz="2800" spc="-1" strike="noStrike">
                <a:solidFill>
                  <a:srgbClr val="0033cc"/>
                </a:solidFill>
                <a:latin typeface="Franklin Gothic Book"/>
              </a:rPr>
              <a:t>  – это ответственный период в жизни любого человека, так как именно от их результатов зависит будущее. И сегодня  мы с вами поговорим о проблемах и трудностях экзаменационного периода, попытаемся найти возможные пути их преодоления, «проговорим» своё будущее поведение и состояние перед экзаменом.</a:t>
            </a:r>
            <a:endParaRPr b="0" lang="en-US" sz="28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57" name="Picture 10" descr="eme"/>
          <p:cNvPicPr/>
          <p:nvPr/>
        </p:nvPicPr>
        <p:blipFill>
          <a:blip r:embed="rId1"/>
          <a:stretch/>
        </p:blipFill>
        <p:spPr>
          <a:xfrm>
            <a:off x="5796000" y="3933720"/>
            <a:ext cx="2543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692"/>
                </a:solidFill>
                <a:latin typeface="Franklin Gothic Book"/>
              </a:rPr>
              <a:t>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и выраженной памяти на движения и ощущения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пытайтесь учить всё наизусть. Уясните смысл вопроса, а затем, выделив наиболее яркие образы, детали, фон попытайтесь представить мысленно или на бумаге в цветных рисунках, схемах основное содержание материала в виде мини-фильма, комикса, рекламного ролика или плакат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робуйте прочувствовать и  разобраться, какие ощущения и эмоции (радость, огорчение, негодование и т.д.) вызывает у вас содержание данного материал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фиксируйте полученный результат в памяти. Перед подготовкой ответа на экзамене, постарайтесь ненадолго закрыть глаза или посмотреть в окно, на стену и мысленно воспроизведите закрепившуюся в памяти картинку. Сознание поможет дорисовать её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ажно формировать умение видеть предмет или явление с разных сторон, замечать новое в  привычном, сравнивать, искать нестандартные решения поставленных задач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969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ат"/>
          <p:cNvPicPr/>
          <p:nvPr/>
        </p:nvPicPr>
        <p:blipFill>
          <a:blip r:embed="rId1"/>
          <a:stretch/>
        </p:blipFill>
        <p:spPr>
          <a:xfrm>
            <a:off x="5867280" y="476280"/>
            <a:ext cx="2449800" cy="259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птьы"/>
          <p:cNvPicPr/>
          <p:nvPr/>
        </p:nvPicPr>
        <p:blipFill>
          <a:blip r:embed="rId2"/>
          <a:stretch/>
        </p:blipFill>
        <p:spPr>
          <a:xfrm>
            <a:off x="539640" y="3213000"/>
            <a:ext cx="2592360" cy="2737080"/>
          </a:xfrm>
          <a:prstGeom prst="rect">
            <a:avLst/>
          </a:prstGeom>
          <a:ln w="0">
            <a:noFill/>
          </a:ln>
        </p:spPr>
      </p:pic>
      <p:sp>
        <p:nvSpPr>
          <p:cNvPr id="301" name="WordArt 9"/>
          <p:cNvSpPr txBox="1"/>
          <p:nvPr/>
        </p:nvSpPr>
        <p:spPr>
          <a:xfrm>
            <a:off x="4140360" y="2997360"/>
            <a:ext cx="3817800" cy="25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канун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заме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476280"/>
            <a:ext cx="7467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же устал, и не надо себя переутомлять. Напротив, с вечера перестань готовиться, прими душ, соверши прогулку. Выспись как можно лучше, чтобы встать отдохнувшим, с ощущением своего здоровья, силы, боевого настроя. Ведь экзамен – это своеобразная борьба, в которую нужно проявить себя, показать свои возможности и способности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03" name="Picture 5" descr="48"/>
          <p:cNvPicPr/>
          <p:nvPr/>
        </p:nvPicPr>
        <p:blipFill>
          <a:blip r:embed="rId1"/>
          <a:stretch/>
        </p:blipFill>
        <p:spPr>
          <a:xfrm>
            <a:off x="6012000" y="4797360"/>
            <a:ext cx="2560680" cy="17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563640" y="476280"/>
            <a:ext cx="4360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Важное условие успеха в момент экзаменационного марафона -</a:t>
            </a: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своевременный совет и поддержка товарищей. 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Можете ли вы на них рассчитывать, мы узнаем после выполнения следующего блока заданий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05" name="Picture 3" descr="ebe92cb4e5e3"/>
          <p:cNvPicPr/>
          <p:nvPr/>
        </p:nvPicPr>
        <p:blipFill>
          <a:blip r:embed="rId1"/>
          <a:stretch/>
        </p:blipFill>
        <p:spPr>
          <a:xfrm>
            <a:off x="611280" y="1413000"/>
            <a:ext cx="30286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755640" y="620640"/>
            <a:ext cx="489600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ести себ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7" name="WordArt 5"/>
          <p:cNvSpPr txBox="1"/>
          <p:nvPr/>
        </p:nvSpPr>
        <p:spPr>
          <a:xfrm>
            <a:off x="2627280" y="2205000"/>
            <a:ext cx="525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 время экзамена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8" name="Picture 3" descr="AG00317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221000"/>
            <a:ext cx="1825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7467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экзамен сдан успешно: 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хвали себя, позволь себе ласковые слова в свой адрес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старайся отыскать положительные действия и качества за которые стоит себя похвалить.  Скажи: «Какой я молодец! Я хвалю себя за то, что….»(продолжи фразу по своему усмотрению)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балуй себя сюрпризом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ты «завалил» экзамен: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Задумайся и попытайся ответить на вопросы «почему это произошло, в чём твоя ошибка?»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кажи себе: «Отрицательный результат – это тоже определённый опыт, из которого необходимо извлечь урок. Всем это под силу, все могут с этим справиться – и я смогу!»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Хорошенько разозлись на себя и берись за дальнейшее изучение материала с удвоенной силой!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7467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Хочется надеяться, что этот классный час настроил вас на «позитивную волну» и поможет благополучно преодолеть  рифы  экзаменационного периода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И,  тем не менее,  не забывайте о том,</a:t>
            </a: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что экзамен – это проверка знаний, а не приговор жизненным перспективам.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Относитесь к экзамену как к решению одной из нормальных жизненных задач</a:t>
            </a:r>
            <a:r>
              <a:rPr b="0" lang="ru-RU" sz="3000" spc="-1" strike="noStrike">
                <a:solidFill>
                  <a:srgbClr val="83fff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467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         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ИМЕННО  ВЫ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                   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автор и исполнитель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                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своей программы жизни, </a:t>
            </a:r>
            <a:br>
              <a:rPr sz="2600"/>
            </a:b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             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ОЛЬКО ОТ ВАС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зависит насколько успешно и полно вы сумеете раскрыть и реализовать личные планы и потенциальные возможности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ru-RU" sz="2600" spc="-1" strike="noStrike">
                <a:solidFill>
                  <a:srgbClr val="00c8c3"/>
                </a:solidFill>
                <a:latin typeface="Arial"/>
              </a:rPr>
              <a:t>!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!</a:t>
            </a:r>
            <a:br>
              <a:rPr sz="2600"/>
            </a:b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12" name="Picture 5" descr="%D1%8D%D0%BA%D0%B7%D0%B0%D0%BC%D0%B5%D0%BD4(1)"/>
          <p:cNvPicPr/>
          <p:nvPr/>
        </p:nvPicPr>
        <p:blipFill>
          <a:blip r:embed="rId1"/>
          <a:stretch/>
        </p:blipFill>
        <p:spPr>
          <a:xfrm>
            <a:off x="395280" y="3645000"/>
            <a:ext cx="3032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467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Экзамены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-(от  лат. - испытания) это не просто «отбарабанил» и ушел.</a:t>
            </a: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Это процесс многокомпонентный и сложный, где каждая из составляющих успеха просто незаменима. Психологическая готовность так же важна, как и хорошее владение знаниями по предмету. </a:t>
            </a: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59" name="Picture 9" descr="C:\Documents and Settings\User\Рабочий стол\Новая папка\тя.jpg"/>
          <p:cNvPicPr/>
          <p:nvPr/>
        </p:nvPicPr>
        <p:blipFill>
          <a:blip r:embed="rId1"/>
          <a:stretch/>
        </p:blipFill>
        <p:spPr>
          <a:xfrm>
            <a:off x="5072040" y="435780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333000"/>
            <a:ext cx="7467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692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бы экзамены не преподнесли нам неприятных сюрпризов к ним необходимо основательно подготовиться. Поэтому «здесь и сейчас» мы попытаемся заглянуть в недалёкое для всех нас будущее, проиграть ситуации, заранее обсудить вопросы, с которыми, возможно, вы столкнётесь в момент подготовки и сдачи экзаменов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Цель нашей встречи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– преодолеть важный рубеж –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61" name="Picture 5" descr="j0197983"/>
          <p:cNvPicPr/>
          <p:nvPr/>
        </p:nvPicPr>
        <p:blipFill>
          <a:blip r:embed="rId1"/>
          <a:stretch/>
        </p:blipFill>
        <p:spPr>
          <a:xfrm>
            <a:off x="6227640" y="4149720"/>
            <a:ext cx="2454480" cy="2220840"/>
          </a:xfrm>
          <a:prstGeom prst="rect">
            <a:avLst/>
          </a:prstGeom>
          <a:ln w="0">
            <a:noFill/>
          </a:ln>
        </p:spPr>
      </p:pic>
      <p:sp>
        <p:nvSpPr>
          <p:cNvPr id="262" name="WordArt 6"/>
          <p:cNvSpPr txBox="1"/>
          <p:nvPr/>
        </p:nvSpPr>
        <p:spPr>
          <a:xfrm>
            <a:off x="755640" y="3357720"/>
            <a:ext cx="33908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дать экзамен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2484360" y="3573360"/>
            <a:ext cx="4535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лёгкостью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9692"/>
                </a:solidFill>
                <a:latin typeface="Franklin Gothic Book"/>
              </a:rPr>
              <a:t>            </a:t>
            </a: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Навести порядок</a:t>
            </a:r>
            <a:br>
              <a:rPr sz="4600"/>
            </a:br>
            <a:r>
              <a:rPr b="0" lang="ru-RU" sz="4600" spc="-1" strike="noStrike">
                <a:solidFill>
                  <a:srgbClr val="009692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- в собственной голове!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                       - в организме!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                            - в окружающем пространстве!</a:t>
            </a:r>
            <a:endParaRPr b="0" lang="en-US" sz="28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187280" y="404640"/>
            <a:ext cx="6480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этого достаточно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6" name="Picture 5" descr="C:\Documents and Settings\User\Рабочий стол\Новая папка\п.jpg"/>
          <p:cNvPicPr/>
          <p:nvPr/>
        </p:nvPicPr>
        <p:blipFill>
          <a:blip r:embed="rId1"/>
          <a:stretch/>
        </p:blipFill>
        <p:spPr>
          <a:xfrm>
            <a:off x="3000240" y="4357800"/>
            <a:ext cx="27860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14960" cy="56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cc"/>
                </a:solidFill>
                <a:latin typeface="Franklin Gothic Book"/>
              </a:rPr>
              <a:t>Великий французский  просветитель Вольтер  как-то сказал, что </a:t>
            </a:r>
            <a:r>
              <a:rPr b="0" lang="ru-RU" sz="3100" spc="-1" strike="noStrike">
                <a:solidFill>
                  <a:srgbClr val="ffff00"/>
                </a:solidFill>
                <a:latin typeface="Franklin Gothic Book"/>
              </a:rPr>
              <a:t>«эмоции  - это ветер, который надувает парус судна. Он может привести корабль в движение, а может и потопить его…»</a:t>
            </a:r>
            <a:r>
              <a:rPr b="0" lang="ru-RU" sz="3100" spc="-1" strike="noStrike">
                <a:solidFill>
                  <a:srgbClr val="0033cc"/>
                </a:solidFill>
                <a:latin typeface="Franklin Gothic Book"/>
              </a:rPr>
              <a:t> Поэтому для начала давайте уточним каково ваше эмоциональное состояние  и отношение к этому важному периоду жизни.</a:t>
            </a:r>
            <a:br>
              <a:rPr sz="3100"/>
            </a:br>
            <a:endParaRPr b="0" lang="en-US" sz="31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68" name="Picture 4" descr="C:\Documents and Settings\User\Рабочий стол\Новая папка\CAMZ6TJN.jpg"/>
          <p:cNvPicPr/>
          <p:nvPr/>
        </p:nvPicPr>
        <p:blipFill>
          <a:blip r:embed="rId1"/>
          <a:stretch/>
        </p:blipFill>
        <p:spPr>
          <a:xfrm>
            <a:off x="6643800" y="214308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611280" y="40464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1332000" y="2276640"/>
            <a:ext cx="45878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дготовиться 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8"/>
          <p:cNvSpPr txBox="1"/>
          <p:nvPr/>
        </p:nvSpPr>
        <p:spPr>
          <a:xfrm>
            <a:off x="3419640" y="3141720"/>
            <a:ext cx="3836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 экзамену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340000" y="479736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сихологически?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549000"/>
            <a:ext cx="7467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080" indent="-10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ля того чтобы в кризисной ситуации не терять головы, необходимо не ставить перед собой сверхзадачи для достижения сверхцели. Необходимо начинать готовиться к экзаменам заранее, по частям, сохраняя спокойствие. 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рганизуй своё рабочее место так, чтобы никто и ничто не отвлекало тебя во время  работы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начала подготовь место для занятий: убери со стола лишние вещи, удобно расположи нужные учебники, пособия, тетради, бумагу, карандаши.  Можно ввести в интерьер комнаты желтый и фиолетовый цвета, поскольку они повышают интеллектуальную активность. Для этого бывает достаточно какой-нибудь картинки в этих тонах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7467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ставь план подготовки. Для начала определи, кто ты – «жаворонок» или «сова», и в зависимости от этого максимально используй утренние или вечерние часы. Составляя план на каждый день подготовки, необходимо четко определить, что именно сегодня будет изучаться. Не вообще: «немного позанимаюсь», а какие именно разделы и темы будут пройдены.   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аздели день на три части: учебный труд – 8 часов, отдых – 8 часов, сон – не менее 8 часов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42:16Z</dcterms:created>
  <dc:creator>Ira</dc:creator>
  <dc:description/>
  <dc:language>en-US</dc:language>
  <cp:lastModifiedBy>Зайка</cp:lastModifiedBy>
  <dcterms:modified xsi:type="dcterms:W3CDTF">2015-02-02T18:47:43Z</dcterms:modified>
  <cp:revision>67</cp:revision>
  <dc:subject/>
  <dc:title>  Как подготовиться к сдаче экзамена</dc:title>
</cp:coreProperties>
</file>