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C7F4-E72B-41FB-B2F4-280E7FDBC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870A-82E4-4F53-A976-12D1E472E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39E5-8D82-419B-9C41-56A4C8EA1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9F15-A04C-4750-8B21-65889D5A2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D79D-DAB9-4988-9FB1-F78109B43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47DC-2E61-4118-9A0F-FEEDAEE31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F86-65C9-4F36-8945-200F6D44C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9AFF-629C-4639-BD45-67A4FFD70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85F8-F149-4F76-A8CA-08C661C6E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F3B2-C6D6-422B-B8AE-D99654F9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15B5-4245-4812-A05E-4A8374065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AF68-17CF-49E2-8769-1AD76CF8E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D852D0-F4FA-4D17-894A-859F0133A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480360" cy="441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41280" y="163440"/>
            <a:ext cx="484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Palatino Linotype"/>
              </a:rPr>
              <a:t>Түбәнге Таһир урта мәктәбе</a:t>
            </a:r>
            <a:r>
              <a:rPr b="0" lang="ru-RU" sz="2400" spc="-1" strike="noStrike">
                <a:solidFill>
                  <a:srgbClr val="00cc99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4869000"/>
            <a:ext cx="88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2800" spc="-1" strike="noStrike">
                <a:solidFill>
                  <a:srgbClr val="a50021"/>
                </a:solidFill>
                <a:latin typeface="Palatino Linotype"/>
              </a:rPr>
              <a:t>Башҡорт теле һәм әҙәбиәте уҡытыусыһы</a:t>
            </a:r>
            <a:r>
              <a:rPr b="1" lang="be-BY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be-BY" sz="2800" spc="-1" strike="noStrike">
                <a:solidFill>
                  <a:srgbClr val="3333cc"/>
                </a:solidFill>
                <a:latin typeface="Palatino Linotype"/>
              </a:rPr>
              <a:t>Байраҡаева Гөлкәй Радик</a:t>
            </a:r>
            <a:r>
              <a:rPr b="0" lang="be-BY" sz="2800" spc="-1" strike="noStrike">
                <a:solidFill>
                  <a:srgbClr val="3333cc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266544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48564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33847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56664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90680" y="264960"/>
            <a:ext cx="4562640" cy="711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ffffcc"/>
                </a:solidFill>
                <a:latin typeface="Arial"/>
              </a:rPr>
              <a:t>Ҡурайҡайғ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3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09600" y="5589720"/>
            <a:ext cx="312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a-RU" sz="2600" spc="-1" strike="noStrike">
                <a:solidFill>
                  <a:srgbClr val="0000ff"/>
                </a:solidFill>
                <a:latin typeface="Arial"/>
              </a:rPr>
              <a:t>Шәйехзада</a:t>
            </a:r>
            <a:r>
              <a:rPr b="1" lang="be-BY" sz="2600" spc="-1" strike="noStrike">
                <a:solidFill>
                  <a:srgbClr val="0000ff"/>
                </a:solidFill>
                <a:latin typeface="Arial"/>
              </a:rPr>
              <a:t> Баби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ff"/>
                </a:solidFill>
                <a:latin typeface="Arial"/>
              </a:rPr>
              <a:t>(1895-19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582" t="5037" r="8700" b="5160"/>
          <a:stretch/>
        </p:blipFill>
        <p:spPr>
          <a:xfrm>
            <a:off x="3591000" y="1387440"/>
            <a:ext cx="250344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32000" y="1341360"/>
            <a:ext cx="2584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0086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616360" cy="421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736" t="22507" r="68317" b="39801"/>
          <a:stretch/>
        </p:blipFill>
        <p:spPr>
          <a:xfrm>
            <a:off x="2340000" y="1628640"/>
            <a:ext cx="148284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3242" t="49002" r="24873" b="12036"/>
          <a:stretch/>
        </p:blipFill>
        <p:spPr>
          <a:xfrm>
            <a:off x="4427640" y="1628640"/>
            <a:ext cx="208908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32400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000" y="4292640"/>
            <a:ext cx="36734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a-RU" sz="2200" spc="-1" strike="noStrike">
                <a:solidFill>
                  <a:srgbClr val="000000"/>
                </a:solidFill>
                <a:latin typeface="Arial"/>
              </a:rPr>
              <a:t>ӘХМӘТ- ЗӘКИ ВӘЛИД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5416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863640"/>
            <a:ext cx="6192720" cy="46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3240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408720" cy="480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178416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51640" y="692280"/>
            <a:ext cx="12920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43280" y="2786040"/>
            <a:ext cx="360036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Ҡурайҡайғ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жан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алымы/төр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темаһ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13992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яҙылыу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313992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образда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йәнләндере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сағыштыры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422100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Һүрәтләү сарала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429000"/>
            <a:ext cx="863640" cy="144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125360"/>
            <a:ext cx="1439640" cy="16560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12000" y="1123920"/>
            <a:ext cx="1439640" cy="16588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72000" y="1123920"/>
            <a:ext cx="1440" cy="16588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33720"/>
            <a:ext cx="1440" cy="2872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3429000"/>
            <a:ext cx="720720" cy="144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4795920"/>
            <a:ext cx="1656000" cy="9396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797360"/>
            <a:ext cx="1440" cy="93672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4797360"/>
            <a:ext cx="1800000" cy="93672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8:32:53Z</dcterms:created>
  <dc:creator>Admin</dc:creator>
  <dc:description/>
  <dc:language>en-US</dc:language>
  <cp:lastModifiedBy>User</cp:lastModifiedBy>
  <dcterms:modified xsi:type="dcterms:W3CDTF">2015-02-02T20:04:00Z</dcterms:modified>
  <cp:revision>59</cp:revision>
  <dc:subject/>
  <dc:title>Слайд 1</dc:title>
</cp:coreProperties>
</file>