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D8CC-267A-452D-BC5D-4D0162D52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79B0-63E5-41C0-BBDC-2BBE13FA9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1D18-A2F8-40B3-A869-FA4C1C526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C579-C1B1-41DF-98B3-AFCC51D209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99B9-F295-4E88-BD8E-16B5E0AEE8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4EF8-D176-4768-9ED2-2F594A98A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24BA-7102-4517-B19F-E0997B456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2EA0-B852-40D8-B491-F27CB0C22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A1D4-334C-4C1A-AFF5-CFEAFD759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48C7-B592-4050-A7D5-C93456641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DD7B2-8665-41FA-AE18-0016BA62F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7DEA-9165-4694-877C-3CBBBE476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5A4979-ADB9-41FF-A1A1-0528B0D542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480360" cy="441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41280" y="163440"/>
            <a:ext cx="4842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Palatino Linotype"/>
              </a:rPr>
              <a:t>Түбәнге Таһир урта мәктәбе</a:t>
            </a:r>
            <a:r>
              <a:rPr b="0" lang="ru-RU" sz="2400" spc="-1" strike="noStrike">
                <a:solidFill>
                  <a:srgbClr val="00cc99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840" y="4869000"/>
            <a:ext cx="88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e-BY" sz="2800" spc="-1" strike="noStrike">
                <a:solidFill>
                  <a:srgbClr val="a50021"/>
                </a:solidFill>
                <a:latin typeface="Palatino Linotype"/>
              </a:rPr>
              <a:t>Башҡорт теле һәм әҙәбиәте уҡытыусыһы</a:t>
            </a:r>
            <a:r>
              <a:rPr b="1" lang="be-BY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be-BY" sz="2800" spc="-1" strike="noStrike">
                <a:solidFill>
                  <a:srgbClr val="3333cc"/>
                </a:solidFill>
                <a:latin typeface="Palatino Linotype"/>
              </a:rPr>
              <a:t>Байраҡаева Гөлкәй Радик</a:t>
            </a:r>
            <a:r>
              <a:rPr b="0" lang="be-BY" sz="2800" spc="-1" strike="noStrike">
                <a:solidFill>
                  <a:srgbClr val="3333cc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03640" y="2133720"/>
            <a:ext cx="2665440" cy="21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19280" y="485640"/>
            <a:ext cx="6337440" cy="475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348000" y="1628640"/>
            <a:ext cx="338472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566640"/>
            <a:ext cx="6769080" cy="507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90680" y="264960"/>
            <a:ext cx="4562640" cy="711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e-BY" sz="36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be-BY" sz="3600" spc="-1" strike="noStrike">
                <a:solidFill>
                  <a:srgbClr val="ffffcc"/>
                </a:solidFill>
                <a:latin typeface="Arial"/>
              </a:rPr>
              <a:t>Ҡурайҡайға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384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09600" y="5589720"/>
            <a:ext cx="3124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a-RU" sz="2600" spc="-1" strike="noStrike">
                <a:solidFill>
                  <a:srgbClr val="0000ff"/>
                </a:solidFill>
                <a:latin typeface="Arial"/>
              </a:rPr>
              <a:t>Шәйехзада</a:t>
            </a:r>
            <a:r>
              <a:rPr b="1" lang="be-BY" sz="2600" spc="-1" strike="noStrike">
                <a:solidFill>
                  <a:srgbClr val="0000ff"/>
                </a:solidFill>
                <a:latin typeface="Arial"/>
              </a:rPr>
              <a:t> Баби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be-BY" sz="2600" spc="-1" strike="noStrike">
                <a:solidFill>
                  <a:srgbClr val="0000ff"/>
                </a:solidFill>
                <a:latin typeface="Arial"/>
              </a:rPr>
              <a:t>(1895-191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6582" t="5037" r="8700" b="5160"/>
          <a:stretch/>
        </p:blipFill>
        <p:spPr>
          <a:xfrm>
            <a:off x="3591000" y="1387440"/>
            <a:ext cx="2503440" cy="34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553080" cy="4915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132000" y="1341360"/>
            <a:ext cx="25844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400860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5616360" cy="4211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5736" t="22507" r="68317" b="39801"/>
          <a:stretch/>
        </p:blipFill>
        <p:spPr>
          <a:xfrm>
            <a:off x="2340000" y="1628640"/>
            <a:ext cx="1482840" cy="15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33242" t="49002" r="24873" b="12036"/>
          <a:stretch/>
        </p:blipFill>
        <p:spPr>
          <a:xfrm>
            <a:off x="4427640" y="1628640"/>
            <a:ext cx="208908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324000"/>
            <a:ext cx="6337440" cy="475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132000" y="4292640"/>
            <a:ext cx="36734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a-RU" sz="2200" spc="-1" strike="noStrike">
                <a:solidFill>
                  <a:srgbClr val="000000"/>
                </a:solidFill>
                <a:latin typeface="Arial"/>
              </a:rPr>
              <a:t>ӘХМӘТ- ЗӘКИ ВӘЛИД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92360" y="765000"/>
            <a:ext cx="25416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863640"/>
            <a:ext cx="6192720" cy="46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916360" y="2060640"/>
            <a:ext cx="324000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6408720" cy="4807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700360" y="692280"/>
            <a:ext cx="1784160" cy="252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651640" y="692280"/>
            <a:ext cx="129204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5508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43280" y="2786040"/>
            <a:ext cx="360036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be-BY" sz="4000" spc="-1" strike="noStrike">
                <a:solidFill>
                  <a:srgbClr val="000000"/>
                </a:solidFill>
                <a:latin typeface="Arial"/>
              </a:rPr>
              <a:t>Ҡурайҡайғ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538200"/>
            <a:ext cx="1728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жанр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538200"/>
            <a:ext cx="1728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алымы/төрө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538200"/>
            <a:ext cx="1728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темаһ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139920"/>
            <a:ext cx="1728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яҙылыу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3139920"/>
            <a:ext cx="1728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образдар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5734080"/>
            <a:ext cx="1728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йәнләндере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6920" y="5734080"/>
            <a:ext cx="1728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эпит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5734080"/>
            <a:ext cx="1728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сағыштыры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32000" y="4221000"/>
            <a:ext cx="288000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Һүрәтләү саралар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9640" y="3429000"/>
            <a:ext cx="863640" cy="144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1125360"/>
            <a:ext cx="1439640" cy="165600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012000" y="1123920"/>
            <a:ext cx="1439640" cy="165888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572000" y="1123920"/>
            <a:ext cx="1440" cy="165888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3933720"/>
            <a:ext cx="1440" cy="28728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43640" y="3429000"/>
            <a:ext cx="720720" cy="144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763640" y="4795920"/>
            <a:ext cx="1656000" cy="93960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4797360"/>
            <a:ext cx="1440" cy="93672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51640" y="4797360"/>
            <a:ext cx="1800000" cy="93672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18:32:53Z</dcterms:created>
  <dc:creator>Admin</dc:creator>
  <dc:description/>
  <dc:language>en-US</dc:language>
  <cp:lastModifiedBy>User</cp:lastModifiedBy>
  <dcterms:modified xsi:type="dcterms:W3CDTF">2015-02-02T20:04:00Z</dcterms:modified>
  <cp:revision>59</cp:revision>
  <dc:subject/>
  <dc:title>Слайд 1</dc:title>
</cp:coreProperties>
</file>