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83F-59BE-4B09-96A7-5C61CD90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B336-A426-4F02-8BE4-40F0F724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860-09ED-4F9C-9552-522BDD1D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74C7-C676-4022-8AC2-69A5A495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F94-0473-4BF2-A09A-018FA2AD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1A08-3835-40F6-A8BD-98B2E12D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3CF-8C2E-4E03-9DDE-C16AD119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23D0-CBBD-4B18-AB1F-FAF47AC7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AAC-FECF-4861-8361-ED4E4080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889-C180-4628-80CE-828E4CE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2F70-511F-4173-AD16-C85A7916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9E1-7617-4120-9D1A-5E38C931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6ABA-BCF0-4A9B-8E91-943FAB8F4D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Calibri"/>
              </a:rPr>
              <a:t>Боярский и дворянский быт.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3756240" y="5033880"/>
            <a:ext cx="36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Arial"/>
              </a:rPr>
              <a:t>Презентация ученицы 7 класса МБОУ СОШ №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ff66"/>
                </a:solidFill>
                <a:latin typeface="Arial"/>
              </a:rPr>
              <a:t>хутора Крупской Артемьевой Анаста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Отдых 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Бояре и дворяне проводили время на пирах и охоте, наблюдали за кулачными боями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2" descr="C:\Documents and Settings\OEM\Рабочий стол\i (6).jpg"/>
          <p:cNvPicPr/>
          <p:nvPr/>
        </p:nvPicPr>
        <p:blipFill>
          <a:blip r:embed="rId2"/>
          <a:stretch/>
        </p:blipFill>
        <p:spPr>
          <a:xfrm>
            <a:off x="428760" y="357120"/>
            <a:ext cx="2990880" cy="2719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OEM\Рабочий стол\i (7).jpg"/>
          <p:cNvPicPr/>
          <p:nvPr/>
        </p:nvPicPr>
        <p:blipFill>
          <a:blip r:embed="rId3"/>
          <a:stretch/>
        </p:blipFill>
        <p:spPr>
          <a:xfrm>
            <a:off x="395280" y="3162240"/>
            <a:ext cx="40766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Источники: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714240" y="1857240"/>
            <a:ext cx="7058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images/search?text=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ртинки%20отдых%20%20бояр%20на%20охоте%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%2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рах&amp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info=sw-1024-sh-768-ww-1007-wh-634-pd-1-wp-4x3_1024x768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чебник История России . Конец 16-18 век. А.А.Данилов, Л.Г.Косулин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Calibri"/>
              </a:rPr>
              <a:t>Дворы бояр и дворян - подобие царского двора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C:\Documents and Settings\OEM\Рабочий стол\i.jpg"/>
          <p:cNvPicPr/>
          <p:nvPr/>
        </p:nvPicPr>
        <p:blipFill>
          <a:blip r:embed="rId2"/>
          <a:stretch/>
        </p:blipFill>
        <p:spPr>
          <a:xfrm>
            <a:off x="0" y="1643040"/>
            <a:ext cx="4356000" cy="450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C:\Documents and Settings\OEM\Рабочий стол\i (1).jpg"/>
          <p:cNvPicPr/>
          <p:nvPr/>
        </p:nvPicPr>
        <p:blipFill>
          <a:blip r:embed="rId3"/>
          <a:stretch/>
        </p:blipFill>
        <p:spPr>
          <a:xfrm>
            <a:off x="4427640" y="2214720"/>
            <a:ext cx="471636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В богатых домах в окна были вставлены слюдяные пластины, а в домах победнее – рыбьи пузыр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C:\Documents and Settings\OEM\Рабочий стол\i (2).jpg"/>
          <p:cNvPicPr/>
          <p:nvPr/>
        </p:nvPicPr>
        <p:blipFill>
          <a:blip r:embed="rId2"/>
          <a:stretch/>
        </p:blipFill>
        <p:spPr>
          <a:xfrm>
            <a:off x="285840" y="2214720"/>
            <a:ext cx="3781440" cy="3571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А.М.Васнецов. Улица в городе. Эскиз декораций к опере П.И.Чайковского «Опричник ». Ил. из книги В.Соловьева «История России для детей и взрослых» (М., 2001)"/>
          <p:cNvPicPr/>
          <p:nvPr/>
        </p:nvPicPr>
        <p:blipFill>
          <a:blip r:embed="rId3"/>
          <a:stretch/>
        </p:blipFill>
        <p:spPr>
          <a:xfrm>
            <a:off x="4211640" y="2205000"/>
            <a:ext cx="4932360" cy="3497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Внутреннее убранств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42680"/>
            <a:ext cx="40384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Разнообразным стало внутреннее убранство. В центре находилась печь. В домах появились зеркала, часы и библиотек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2" descr="C:\Documents and Settings\OEM\Рабочий стол\i (1).jpg"/>
          <p:cNvPicPr/>
          <p:nvPr/>
        </p:nvPicPr>
        <p:blipFill>
          <a:blip r:embed="rId2"/>
          <a:stretch/>
        </p:blipFill>
        <p:spPr>
          <a:xfrm>
            <a:off x="285840" y="1357200"/>
            <a:ext cx="2357280" cy="2428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OEM\Рабочий стол\i (2).jpg"/>
          <p:cNvPicPr/>
          <p:nvPr/>
        </p:nvPicPr>
        <p:blipFill>
          <a:blip r:embed="rId3"/>
          <a:stretch/>
        </p:blipFill>
        <p:spPr>
          <a:xfrm>
            <a:off x="2357280" y="3429000"/>
            <a:ext cx="264348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редметы мебел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В комнате находились столы, лавки, украшенные росписями и резьбой. На полу лежали ковры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Documents and Settings\OEM\Рабочий стол\i (3).jpg"/>
          <p:cNvPicPr/>
          <p:nvPr/>
        </p:nvPicPr>
        <p:blipFill>
          <a:blip r:embed="rId2"/>
          <a:stretch/>
        </p:blipFill>
        <p:spPr>
          <a:xfrm>
            <a:off x="428760" y="1285920"/>
            <a:ext cx="271440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OEM\Рабочий стол\i (4).jpg"/>
          <p:cNvPicPr/>
          <p:nvPr/>
        </p:nvPicPr>
        <p:blipFill>
          <a:blip r:embed="rId3"/>
          <a:stretch/>
        </p:blipFill>
        <p:spPr>
          <a:xfrm>
            <a:off x="2643120" y="2928960"/>
            <a:ext cx="2247840" cy="185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OEM\Рабочий стол\i (5).jpg"/>
          <p:cNvPicPr/>
          <p:nvPr/>
        </p:nvPicPr>
        <p:blipFill>
          <a:blip r:embed="rId4"/>
          <a:stretch/>
        </p:blipFill>
        <p:spPr>
          <a:xfrm>
            <a:off x="500040" y="4429080"/>
            <a:ext cx="228600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Посуда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суда была преимущественно золотой и серебряной, но в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веке появляется и стеклянная посуда, привозимая из-за границы. В моду входит и венецианское стекло, обтянутые парчой кресл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Documents and Settings\OEM\Рабочий стол\i.jpg"/>
          <p:cNvPicPr/>
          <p:nvPr/>
        </p:nvPicPr>
        <p:blipFill>
          <a:blip r:embed="rId2"/>
          <a:stretch/>
        </p:blipFill>
        <p:spPr>
          <a:xfrm>
            <a:off x="428760" y="642960"/>
            <a:ext cx="2928960" cy="2357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OEM\Рабочий стол\i (1).jpg"/>
          <p:cNvPicPr/>
          <p:nvPr/>
        </p:nvPicPr>
        <p:blipFill>
          <a:blip r:embed="rId3"/>
          <a:stretch/>
        </p:blipFill>
        <p:spPr>
          <a:xfrm>
            <a:off x="2571840" y="2214720"/>
            <a:ext cx="2081160" cy="235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0_4f034_c04ada10_XL"/>
          <p:cNvPicPr/>
          <p:nvPr/>
        </p:nvPicPr>
        <p:blipFill>
          <a:blip r:embed="rId4"/>
          <a:stretch/>
        </p:blipFill>
        <p:spPr>
          <a:xfrm>
            <a:off x="357120" y="4357800"/>
            <a:ext cx="3286080" cy="25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Одежда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Одежда оставалась традиционной, но заметно расширился выбор тканей: наряду с парчой и тафтой добавились ткани, привозимые из-за границы( шерстяные и суконные ткани)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5" name="Picture 2" descr="C:\Documents and Settings\OEM\Рабочий стол\i (2).jpg"/>
          <p:cNvPicPr/>
          <p:nvPr/>
        </p:nvPicPr>
        <p:blipFill>
          <a:blip r:embed="rId2"/>
          <a:stretch/>
        </p:blipFill>
        <p:spPr>
          <a:xfrm>
            <a:off x="785880" y="1714680"/>
            <a:ext cx="28573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alibri"/>
              </a:rPr>
              <a:t>Пища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етерпевает изменения и пища. В неё включаются новые продукты: восточные пряности и приправы, лимон, изюм, миндаль, сахар, колбас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8" descr="080806113254d"/>
          <p:cNvPicPr/>
          <p:nvPr/>
        </p:nvPicPr>
        <p:blipFill>
          <a:blip r:embed="rId2"/>
          <a:stretch/>
        </p:blipFill>
        <p:spPr>
          <a:xfrm>
            <a:off x="0" y="1500120"/>
            <a:ext cx="500364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Средством передвижения стали кареты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Documents and Settings\OEM\Рабочий стол\i (4).jpg"/>
          <p:cNvPicPr/>
          <p:nvPr/>
        </p:nvPicPr>
        <p:blipFill>
          <a:blip r:embed="rId2"/>
          <a:stretch/>
        </p:blipFill>
        <p:spPr>
          <a:xfrm>
            <a:off x="714240" y="2143080"/>
            <a:ext cx="3500640" cy="328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OEM\Рабочий стол\i (5).jpg"/>
          <p:cNvPicPr/>
          <p:nvPr/>
        </p:nvPicPr>
        <p:blipFill>
          <a:blip r:embed="rId3"/>
          <a:stretch/>
        </p:blipFill>
        <p:spPr>
          <a:xfrm>
            <a:off x="5214960" y="1571760"/>
            <a:ext cx="3286080" cy="27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1T16:33:15Z</dcterms:created>
  <dc:creator>Владислав Каркач</dc:creator>
  <dc:description/>
  <dc:language>en-US</dc:language>
  <cp:lastModifiedBy>папа Лёша</cp:lastModifiedBy>
  <dcterms:modified xsi:type="dcterms:W3CDTF">2015-02-02T05:46:37Z</dcterms:modified>
  <cp:revision>10</cp:revision>
  <dc:subject/>
  <dc:title>Боярский и дворянский быт.</dc:title>
</cp:coreProperties>
</file>