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4.jpeg" ContentType="image/jpeg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6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77E0-C8CB-42D1-BAF4-B1304720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2587-D6CB-45F5-AF01-E01A2E17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C20E-50E7-4DB5-9754-1F105966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E00C-A8EF-4984-8DE9-06A11CBF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FB4E-1C6B-43F2-A9B5-1931DD1A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94F8-D7CC-4EB0-8E9A-E0B8F633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2F1B-D34A-48F1-8F73-F143CFA2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27FC-618F-4B74-B59D-0F9480A3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5A7E-5FA4-4D7C-BE25-FD90D0CF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7C58-C1AC-4157-A2A5-15832BF4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E25D-4446-4776-ABB4-F3AB6108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4ED2-502D-4B2B-BD83-0ABCCFA7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8C61-DABF-4A9D-9A33-B778768E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F7FB-1593-409B-BB22-C173679E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6CBF-185E-43DA-B31A-00915D13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35D9-947F-4D0F-960B-97CE09FC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C0E7-3744-4E02-8BED-B0B1EC5B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0D95-4430-4847-947C-2B30961D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A61D-3F1E-4ECB-A034-20B35995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507-8C2D-4BC1-B8F0-4CBC7004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398-944C-4969-9357-83E766D5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702-8283-4344-8D91-F8C25FF3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5559-25C0-4725-9D68-B4C53907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E98-4B36-48EA-9D94-6C37A1C3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7C54-B277-4A0A-B0B3-FD36102763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9F24-6E02-4C53-8B69-E3261A5E03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5.jpeg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6.png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D:\Мои рисунки\Анимашки\2883242.jpg"/>
          <p:cNvPicPr/>
          <p:nvPr/>
        </p:nvPicPr>
        <p:blipFill>
          <a:blip r:embed="rId1"/>
          <a:stretch/>
        </p:blipFill>
        <p:spPr>
          <a:xfrm>
            <a:off x="263520" y="285840"/>
            <a:ext cx="8594640" cy="6357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:\Мои рисунки\Анимашки\Рисунок9.gif"/>
          <p:cNvPicPr/>
          <p:nvPr/>
        </p:nvPicPr>
        <p:blipFill>
          <a:blip r:embed="rId2"/>
          <a:stretch/>
        </p:blipFill>
        <p:spPr>
          <a:xfrm>
            <a:off x="1000080" y="2292480"/>
            <a:ext cx="1071720" cy="993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D:\Мои рисунки\Анимашки\Рисунок9.gif"/>
          <p:cNvPicPr/>
          <p:nvPr/>
        </p:nvPicPr>
        <p:blipFill>
          <a:blip r:embed="rId3"/>
          <a:stretch/>
        </p:blipFill>
        <p:spPr>
          <a:xfrm>
            <a:off x="4857840" y="4357800"/>
            <a:ext cx="2006640" cy="181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D:\Мои рисунки\Анимашки\Рисунок9.gif"/>
          <p:cNvPicPr/>
          <p:nvPr/>
        </p:nvPicPr>
        <p:blipFill>
          <a:blip r:embed="rId4"/>
          <a:stretch/>
        </p:blipFill>
        <p:spPr>
          <a:xfrm>
            <a:off x="7786800" y="723960"/>
            <a:ext cx="1000080" cy="1133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D:\Мои рисунки\Анимашки\Рисунок9.gif"/>
          <p:cNvPicPr/>
          <p:nvPr/>
        </p:nvPicPr>
        <p:blipFill>
          <a:blip r:embed="rId5"/>
          <a:stretch/>
        </p:blipFill>
        <p:spPr>
          <a:xfrm>
            <a:off x="1571760" y="5530680"/>
            <a:ext cx="1214280" cy="1041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D:\Мои рисунки\Анимашки\Рисунок9.gif"/>
          <p:cNvPicPr/>
          <p:nvPr/>
        </p:nvPicPr>
        <p:blipFill>
          <a:blip r:embed="rId6"/>
          <a:stretch/>
        </p:blipFill>
        <p:spPr>
          <a:xfrm>
            <a:off x="3664080" y="428760"/>
            <a:ext cx="1050840" cy="92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D:\Мои рисунки\Анимашки\Рисунок9.gif"/>
          <p:cNvPicPr/>
          <p:nvPr/>
        </p:nvPicPr>
        <p:blipFill>
          <a:blip r:embed="rId7"/>
          <a:stretch/>
        </p:blipFill>
        <p:spPr>
          <a:xfrm>
            <a:off x="7939080" y="5572080"/>
            <a:ext cx="1000080" cy="785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D:\Мои рисунки\Анимашки\Рисунок9.gif"/>
          <p:cNvPicPr/>
          <p:nvPr/>
        </p:nvPicPr>
        <p:blipFill>
          <a:blip r:embed="rId8"/>
          <a:stretch/>
        </p:blipFill>
        <p:spPr>
          <a:xfrm>
            <a:off x="2995560" y="4214880"/>
            <a:ext cx="284040" cy="263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кие животные зим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63520" y="5334120"/>
            <a:ext cx="85233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читель: Бякова Татьяна Ива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1143000" y="6094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рская ООШ №2 им. Толстихиной Ю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Ирина\Рабочий стол\Новая папка\0_ab0_33dac0cb_L.jpe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Здравствуй лес,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дремучий лес,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Полный сказок и чудес!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Кто в глуши твоей таится?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Что за зверь, какая птиц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500440" y="285480"/>
            <a:ext cx="34290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D:\Мои рисунки\Анимашки\Рисунок9.gif"/>
          <p:cNvPicPr/>
          <p:nvPr/>
        </p:nvPicPr>
        <p:blipFill>
          <a:blip r:embed="rId1"/>
          <a:stretch/>
        </p:blipFill>
        <p:spPr>
          <a:xfrm>
            <a:off x="428760" y="585720"/>
            <a:ext cx="714240" cy="771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D:\Мои рисунки\Анимашки\Рисунок9.gif"/>
          <p:cNvPicPr/>
          <p:nvPr/>
        </p:nvPicPr>
        <p:blipFill>
          <a:blip r:embed="rId2"/>
          <a:stretch/>
        </p:blipFill>
        <p:spPr>
          <a:xfrm>
            <a:off x="2428920" y="2270160"/>
            <a:ext cx="1071360" cy="1158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D:\Мои рисунки\Анимашки\Рисунок9.gif"/>
          <p:cNvPicPr/>
          <p:nvPr/>
        </p:nvPicPr>
        <p:blipFill>
          <a:blip r:embed="rId3"/>
          <a:stretch/>
        </p:blipFill>
        <p:spPr>
          <a:xfrm>
            <a:off x="3286080" y="738360"/>
            <a:ext cx="642960" cy="771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D:\Мои рисунки\Анимашки\Рисунок9.gif"/>
          <p:cNvPicPr/>
          <p:nvPr/>
        </p:nvPicPr>
        <p:blipFill>
          <a:blip r:embed="rId4"/>
          <a:stretch/>
        </p:blipFill>
        <p:spPr>
          <a:xfrm>
            <a:off x="581040" y="3929040"/>
            <a:ext cx="419040" cy="503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D:\Мои рисунки\Анимашки\Рисунок9.gif"/>
          <p:cNvPicPr/>
          <p:nvPr/>
        </p:nvPicPr>
        <p:blipFill>
          <a:blip r:embed="rId5"/>
          <a:stretch/>
        </p:blipFill>
        <p:spPr>
          <a:xfrm>
            <a:off x="3643200" y="4991040"/>
            <a:ext cx="1357560" cy="108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D:\Мои рисунки\Анимашки\Рисунок9.gif"/>
          <p:cNvPicPr/>
          <p:nvPr/>
        </p:nvPicPr>
        <p:blipFill>
          <a:blip r:embed="rId6"/>
          <a:stretch/>
        </p:blipFill>
        <p:spPr>
          <a:xfrm>
            <a:off x="581040" y="4572000"/>
            <a:ext cx="1704960" cy="1857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D:\Мои рисунки\Анимашки\Рисунок9.gif"/>
          <p:cNvPicPr/>
          <p:nvPr/>
        </p:nvPicPr>
        <p:blipFill>
          <a:blip r:embed="rId7"/>
          <a:stretch/>
        </p:blipFill>
        <p:spPr>
          <a:xfrm>
            <a:off x="8001000" y="214200"/>
            <a:ext cx="857160" cy="928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Мои рисунки\Анимашки\Рисунок9.gif"/>
          <p:cNvPicPr/>
          <p:nvPr/>
        </p:nvPicPr>
        <p:blipFill>
          <a:blip r:embed="rId8"/>
          <a:stretch/>
        </p:blipFill>
        <p:spPr>
          <a:xfrm>
            <a:off x="8331120" y="5857920"/>
            <a:ext cx="455760" cy="506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Documents and Settings\Ирина\Рабочий стол\Новая папка\2-web.jpg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D:\Мои рисунки\Анимашки\Рисунок9.gif"/>
          <p:cNvPicPr/>
          <p:nvPr/>
        </p:nvPicPr>
        <p:blipFill>
          <a:blip r:embed="rId10"/>
          <a:stretch/>
        </p:blipFill>
        <p:spPr>
          <a:xfrm>
            <a:off x="500040" y="5500800"/>
            <a:ext cx="857160" cy="1000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D:\Мои рисунки\Анимашки\Рисунок9.gif"/>
          <p:cNvPicPr/>
          <p:nvPr/>
        </p:nvPicPr>
        <p:blipFill>
          <a:blip r:embed="rId11"/>
          <a:stretch/>
        </p:blipFill>
        <p:spPr>
          <a:xfrm>
            <a:off x="785880" y="714240"/>
            <a:ext cx="1143000" cy="1035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D:\Мои рисунки\Анимашки\Рисунок9.gif"/>
          <p:cNvPicPr/>
          <p:nvPr/>
        </p:nvPicPr>
        <p:blipFill>
          <a:blip r:embed="rId12"/>
          <a:stretch/>
        </p:blipFill>
        <p:spPr>
          <a:xfrm>
            <a:off x="4714920" y="5929200"/>
            <a:ext cx="428760" cy="428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D:\Мои рисунки\Анимашки\Рисунок9.gif"/>
          <p:cNvPicPr/>
          <p:nvPr/>
        </p:nvPicPr>
        <p:blipFill>
          <a:blip r:embed="rId13"/>
          <a:stretch/>
        </p:blipFill>
        <p:spPr>
          <a:xfrm>
            <a:off x="5560920" y="3571920"/>
            <a:ext cx="749520" cy="714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:\Мои рисунки\Анимашки\Рисунок9.gif"/>
          <p:cNvPicPr/>
          <p:nvPr/>
        </p:nvPicPr>
        <p:blipFill>
          <a:blip r:embed="rId14"/>
          <a:stretch/>
        </p:blipFill>
        <p:spPr>
          <a:xfrm>
            <a:off x="2616120" y="4500720"/>
            <a:ext cx="598680" cy="642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D:\Мои рисунки\Анимашки\Рисунок9.gif"/>
          <p:cNvPicPr/>
          <p:nvPr/>
        </p:nvPicPr>
        <p:blipFill>
          <a:blip r:embed="rId15"/>
          <a:stretch/>
        </p:blipFill>
        <p:spPr>
          <a:xfrm>
            <a:off x="4842000" y="455760"/>
            <a:ext cx="515880" cy="5443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21"/>
          <p:cNvSpPr/>
          <p:nvPr/>
        </p:nvSpPr>
        <p:spPr>
          <a:xfrm>
            <a:off x="609480" y="762120"/>
            <a:ext cx="879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Constantia"/>
              </a:rPr>
              <a:t>Всё открой, не ута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Constantia"/>
              </a:rPr>
              <a:t>Ты же видишь, мы сво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9"/>
          <p:cNvSpPr/>
          <p:nvPr/>
        </p:nvSpPr>
        <p:spPr>
          <a:xfrm>
            <a:off x="2286000" y="3105000"/>
            <a:ext cx="6705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наших лесах водится 58 видов животн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1" descr="18329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1220176329_volki005"/>
          <p:cNvPicPr/>
          <p:nvPr/>
        </p:nvPicPr>
        <p:blipFill>
          <a:blip r:embed="rId2"/>
          <a:stretch/>
        </p:blipFill>
        <p:spPr>
          <a:xfrm>
            <a:off x="0" y="12952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MH900407092"/>
          <p:cNvPicPr/>
          <p:nvPr/>
        </p:nvPicPr>
        <p:blipFill>
          <a:blip r:embed="rId3"/>
          <a:stretch/>
        </p:blipFill>
        <p:spPr>
          <a:xfrm>
            <a:off x="304920" y="3733920"/>
            <a:ext cx="2385720" cy="2385720"/>
          </a:xfrm>
          <a:prstGeom prst="rect">
            <a:avLst/>
          </a:prstGeom>
          <a:ln w="0">
            <a:noFill/>
          </a:ln>
        </p:spPr>
      </p:pic>
      <p:sp>
        <p:nvSpPr>
          <p:cNvPr id="117" name="WordArt 22"/>
          <p:cNvSpPr txBox="1"/>
          <p:nvPr/>
        </p:nvSpPr>
        <p:spPr>
          <a:xfrm>
            <a:off x="1447920" y="15228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1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кие   животные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28" descr="090c62eee5e05a6fd277a193194890b6"/>
          <p:cNvPicPr/>
          <p:nvPr/>
        </p:nvPicPr>
        <p:blipFill>
          <a:blip r:embed="rId4"/>
          <a:stretch/>
        </p:blipFill>
        <p:spPr>
          <a:xfrm>
            <a:off x="6324480" y="1600200"/>
            <a:ext cx="2819520" cy="2021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5"/>
          <a:stretch/>
        </p:blipFill>
        <p:spPr>
          <a:xfrm>
            <a:off x="5715000" y="4114800"/>
            <a:ext cx="3429000" cy="256536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5" descr="prog.jpeg"/>
          <p:cNvPicPr/>
          <p:nvPr/>
        </p:nvPicPr>
        <p:blipFill>
          <a:blip r:embed="rId6"/>
          <a:stretch/>
        </p:blipFill>
        <p:spPr>
          <a:xfrm>
            <a:off x="2286000" y="1447920"/>
            <a:ext cx="3809880" cy="2133360"/>
          </a:xfrm>
          <a:prstGeom prst="rect">
            <a:avLst/>
          </a:prstGeom>
          <a:ln w="0">
            <a:noFill/>
          </a:ln>
        </p:spPr>
      </p:pic>
      <p:pic>
        <p:nvPicPr>
          <p:cNvPr id="121" name="Содержимое 4" descr="1.jpg"/>
          <p:cNvPicPr/>
          <p:nvPr/>
        </p:nvPicPr>
        <p:blipFill>
          <a:blip r:embed="rId7"/>
          <a:stretch/>
        </p:blipFill>
        <p:spPr>
          <a:xfrm>
            <a:off x="2438280" y="3668760"/>
            <a:ext cx="3581640" cy="31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6"/>
          <p:cNvGraphicFramePr/>
          <p:nvPr/>
        </p:nvGraphicFramePr>
        <p:xfrm>
          <a:off x="228600" y="228600"/>
          <a:ext cx="4114800" cy="34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41148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Прямоугольник 8"/>
          <p:cNvSpPr/>
          <p:nvPr/>
        </p:nvSpPr>
        <p:spPr>
          <a:xfrm>
            <a:off x="0" y="2819520"/>
            <a:ext cx="88390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яц- беляк – лесной житель. Днем спит, а ночью выходит на кормежк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9" descr="79919680_0_19366_9d7cbbc5_XL.jpg"/>
          <p:cNvPicPr/>
          <p:nvPr/>
        </p:nvPicPr>
        <p:blipFill>
          <a:blip r:embed="rId3"/>
          <a:stretch/>
        </p:blipFill>
        <p:spPr>
          <a:xfrm>
            <a:off x="4572000" y="228600"/>
            <a:ext cx="43308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8" descr="0e0644bc7303.jpg"/>
          <p:cNvPicPr/>
          <p:nvPr/>
        </p:nvPicPr>
        <p:blipFill>
          <a:blip r:embed="rId1"/>
          <a:stretch/>
        </p:blipFill>
        <p:spPr>
          <a:xfrm>
            <a:off x="228600" y="0"/>
            <a:ext cx="3962520" cy="350532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9"/>
          <p:cNvSpPr/>
          <p:nvPr/>
        </p:nvSpPr>
        <p:spPr>
          <a:xfrm>
            <a:off x="304920" y="2413080"/>
            <a:ext cx="8686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яц- беляк легко передвигается по глубокому снегу. Ноги его к зиме обрастают шерстью, даже между пальцами вырастает мохнатая шер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0" descr="lapin_neige.jpg"/>
          <p:cNvPicPr/>
          <p:nvPr/>
        </p:nvPicPr>
        <p:blipFill>
          <a:blip r:embed="rId2"/>
          <a:stretch/>
        </p:blipFill>
        <p:spPr>
          <a:xfrm>
            <a:off x="4940280" y="0"/>
            <a:ext cx="420372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3" descr="1540.jpg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34290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4"/>
          <p:cNvSpPr/>
          <p:nvPr/>
        </p:nvSpPr>
        <p:spPr>
          <a:xfrm>
            <a:off x="228600" y="296712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йцу тепло, да и удержаться на снегу легче: нога становится шире, как- будто беляк надел лыж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7" descr="0e0644bc7303.jpg"/>
          <p:cNvPicPr/>
          <p:nvPr/>
        </p:nvPicPr>
        <p:blipFill>
          <a:blip r:embed="rId2"/>
          <a:stretch/>
        </p:blipFill>
        <p:spPr>
          <a:xfrm>
            <a:off x="0" y="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CB24-0B36-4FB0-B7E6-D706D49E55E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9DF0-7B3F-4804-AC5D-8D3A934CA4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:\Users\Слава\Desktop\животные\belyac_eating.jpg"/>
          <p:cNvPicPr/>
          <p:nvPr/>
        </p:nvPicPr>
        <p:blipFill>
          <a:blip r:embed="rId1"/>
          <a:stretch/>
        </p:blipFill>
        <p:spPr>
          <a:xfrm>
            <a:off x="3651120" y="2560680"/>
            <a:ext cx="5565960" cy="4309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Users\Слава\Desktop\животные\zayaz.jpg"/>
          <p:cNvPicPr/>
          <p:nvPr/>
        </p:nvPicPr>
        <p:blipFill>
          <a:blip r:embed="rId2"/>
          <a:stretch/>
        </p:blipFill>
        <p:spPr>
          <a:xfrm>
            <a:off x="-92160" y="2487600"/>
            <a:ext cx="3987720" cy="43210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7"/>
          <p:cNvSpPr/>
          <p:nvPr/>
        </p:nvSpPr>
        <p:spPr>
          <a:xfrm>
            <a:off x="0" y="380880"/>
            <a:ext cx="9144000" cy="914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йцы едят разную траву, тонкие веточки, кору, семена, яг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5-02-02T14:47:39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