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A1F2-4FDC-4835-82E7-79992B982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A817-0E37-427D-A7E3-CA70974C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1162-4E18-483D-933E-6A42BC4BE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E0C5-50CA-4D41-A26C-74B256A5A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0C9A5-2CCC-43A4-9A17-0B5A2B0AB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1231-2446-4169-A8EC-053D1C7F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13B34-C20B-4671-9C17-8708545C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766E-E005-48D2-9043-B98FFC1E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952DC-8145-48C7-A7F7-D30C6F48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2A70-F6EC-42CD-B89C-A014B52B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5A321-75F7-44AE-B376-6D28C481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D1EB-3A4E-420D-9E8F-751F4187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DF14-F210-4C1B-BFA2-0FD85C36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FB54A-F6EC-4A19-809C-4073F312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15FD-7913-4B06-8547-40E39F5E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A2732-8294-47B4-9527-4E8600C8B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EDD0-928F-4C21-9DE5-3F94B1EF8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10C4-134E-450C-9738-1216D285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6DA6-F10A-4D4C-95FD-4D96BF40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C755-1981-42DA-8AAA-085A5A8C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865B-ED3A-457E-9EB8-FD7CD19E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E40F-EC3D-4CFB-A47B-87581890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C5A6-62B0-4CA8-A615-2DE1A042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F85B-41FC-40D9-A5B9-AC803C7C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1079-DD09-4CD5-A900-BEFE8866166F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C6A5-885C-40B6-AF2A-A349BAD2E71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50560" y="404640"/>
            <a:ext cx="43923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90000"/>
              </a:lnSpc>
              <a:spcBef>
                <a:spcPts val="4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Times New Roman"/>
              </a:rPr>
              <a:t>Мотострелковые войска</a:t>
            </a:r>
            <a:r>
              <a:rPr b="1" lang="ru-RU" sz="1900" spc="-1" strike="noStrike">
                <a:solidFill>
                  <a:srgbClr val="ffff00"/>
                </a:solidFill>
                <a:latin typeface="Times New Roman"/>
              </a:rPr>
              <a:t>, МСВ — самый многочисленный род сухопутных войск, представляет собой моторизованную пехоту,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4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4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Times New Roman"/>
              </a:rPr>
              <a:t>Танковые войска</a:t>
            </a:r>
            <a:r>
              <a:rPr b="1" lang="ru-RU" sz="1900" spc="-1" strike="noStrike">
                <a:solidFill>
                  <a:srgbClr val="ffff00"/>
                </a:solidFill>
                <a:latin typeface="Times New Roman"/>
              </a:rPr>
              <a:t>, ТВ — основная ударная сила сухопутных войск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4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4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Times New Roman"/>
              </a:rPr>
              <a:t>Ракетные войска и артиллерия</a:t>
            </a:r>
            <a:r>
              <a:rPr b="1" lang="ru-RU" sz="1900" spc="-1" strike="noStrike">
                <a:solidFill>
                  <a:srgbClr val="ffff00"/>
                </a:solidFill>
                <a:latin typeface="Times New Roman"/>
              </a:rPr>
              <a:t>, РВиА предназначены для огневого и ядерного поражения противника.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4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4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Times New Roman"/>
              </a:rPr>
              <a:t>Войска ПВО Сухопутных войск</a:t>
            </a:r>
            <a:r>
              <a:rPr b="1" lang="ru-RU" sz="1900" spc="-1" strike="noStrike">
                <a:solidFill>
                  <a:srgbClr val="ffff00"/>
                </a:solidFill>
                <a:latin typeface="Times New Roman"/>
              </a:rPr>
              <a:t>, ПВО СВ — род сухопутных войск, предназначенный для защиты сухопутных войск от средств воздушного нападения противника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Picture 3" descr="&amp;Gcy;&amp;iecy;&amp;rcy;&amp;acy;&amp;lcy;&amp;softcy;&amp;dcy;&amp;icy;&amp;kcy;&amp;acy; &amp;acy;&amp;rcy;&amp;mcy;&amp;icy;&amp;icy; &amp;Rcy;&amp;ocy;&amp;scy;&amp;scy;&amp;icy;&amp;icy; &amp;Kcy;&amp;acy;&amp;rcy;&amp;tcy;&amp;icy;&amp;ncy;&amp;kcy;&amp;icy;"/>
          <p:cNvPicPr/>
          <p:nvPr/>
        </p:nvPicPr>
        <p:blipFill>
          <a:blip r:embed="rId1"/>
          <a:stretch/>
        </p:blipFill>
        <p:spPr>
          <a:xfrm>
            <a:off x="6875640" y="333360"/>
            <a:ext cx="1944360" cy="1943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&amp;Pcy;&amp;ocy;&amp;scy;&amp;lcy;&amp;iecy; &amp;pcy;&amp;ocy;&amp;bcy;&amp;iecy;&amp;dcy;&amp;ycy; &amp;bcy;&amp;ocy;&amp;lcy;&amp;softcy;&amp;shcy;&amp;iecy;&amp;vcy;&amp;icy;&amp;scy;&amp;tcy;&amp;scy;&amp;kcy;&amp;ocy;&amp;gcy;&amp;ocy; &amp;vcy;&amp;ocy;&amp;scy;&amp;scy;&amp;tcy;&amp;acy;&amp;ncy;&amp;icy;&amp;yacy; &amp;vcy; &amp;Pcy;&amp;iecy;&amp;tcy;&amp;rcy;&amp;ocy;&amp;gcy;&amp;rcy;&amp;acy;&amp;dcy;&amp;iecy; 7-8 &amp;ncy;&amp;ocy;&amp;yacy;&amp;bcy;&amp;rcy;&amp;yacy; 1917 &amp;gcy;&amp;ocy;&amp;dcy;&amp;acy; &amp;Scy;&amp;ocy;&amp;vcy;&amp;iecy;&amp;tcy;&amp;scy;&amp;kcy;&amp;acy;&amp;yacy; &amp;vcy;&amp;lcy;&amp;acy;&amp;scy;&amp;tcy;&amp;softcy; &amp;ncy;&amp;acy;&amp;chcy;&amp;acy;&amp;lcy;&amp;acy; &amp;vcy;&amp;iecy;&amp;scy;&amp;tcy;&amp;icy; &amp;bcy;&amp;ocy;&amp;rcy;&amp;softcy;&amp;bcy;&amp;ucy; &amp;scy; &amp;vcy;&amp;ncy;&amp;iecy;&amp;shcy;&amp;ncy;&amp;icy;&amp;mcy;&amp;icy; &amp;vcy;&amp;rcy;&amp;acy;&amp;gcy;&amp;acy;&amp;mcy;&amp;icy;"/>
          <p:cNvPicPr/>
          <p:nvPr/>
        </p:nvPicPr>
        <p:blipFill>
          <a:blip r:embed="rId2"/>
          <a:stretch/>
        </p:blipFill>
        <p:spPr>
          <a:xfrm>
            <a:off x="4788000" y="1773360"/>
            <a:ext cx="1944720" cy="1942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&amp;Fcy;&amp;ocy;&amp;rcy;&amp;ucy;&amp;mcy; &amp;lcy;&amp;icy;&amp;gcy;&amp;icy; &amp;pcy;&amp;ocy; &amp;icy;&amp;gcy;&amp;rcy;&amp;iecy; &amp;Kcy;&amp;acy;&amp;zcy;&amp;acy;&amp;kcy;&amp;icy; :: &amp;Pcy;&amp;rcy;&amp;ocy;&amp;scy;&amp;mcy;&amp;ocy;&amp;tcy;&amp;rcy; &amp;tcy;&amp;iecy;&amp;mcy;&amp;ycy; - &amp;KHcy;&amp;ocy;&amp;chcy;&amp;ucy; &amp;pcy;&amp;ocy;&amp;zcy;&amp;dcy;&amp;rcy;&amp;acy;&amp;vcy;&amp;icy;&amp;tcy;&amp;softcy; &amp;scy;&amp;iecy;&amp;bcy;&amp;yacy;))) :: LCN :: Cossacks game League"/>
          <p:cNvPicPr/>
          <p:nvPr/>
        </p:nvPicPr>
        <p:blipFill>
          <a:blip r:embed="rId3"/>
          <a:stretch/>
        </p:blipFill>
        <p:spPr>
          <a:xfrm>
            <a:off x="6875640" y="3068640"/>
            <a:ext cx="2017440" cy="2016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&amp;Lcy;&amp;iecy;&amp;gcy;&amp;iecy;&amp;ncy;&amp;dcy;&amp;acy;&amp;rcy;&amp;ncy;&amp;ocy;&amp;mcy;&amp;ucy; &amp;tcy;&amp;acy;&amp;ncy;&amp;kcy;&amp;ucy; &amp;Tcy;-34-85 70 &amp;lcy;&amp;iecy;&amp;tcy; ArmyNews.ru"/>
          <p:cNvPicPr/>
          <p:nvPr/>
        </p:nvPicPr>
        <p:blipFill>
          <a:blip r:embed="rId4"/>
          <a:stretch/>
        </p:blipFill>
        <p:spPr>
          <a:xfrm>
            <a:off x="4643280" y="4581360"/>
            <a:ext cx="212112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536400" y="66600"/>
            <a:ext cx="8193240" cy="1176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68000" y="1484280"/>
            <a:ext cx="4103640" cy="47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Сухопутные войска (СВ) — вид Вооруженных Сил Российской Федерации, предназначенный для прикрытия Государственной границы, отражения ударов агрессора, удержания занимаемой территории, разгрома группировок войск и овладения территорией противника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Picture 2" descr="&amp;Dcy;&amp;iecy;&amp;ncy;&amp;softcy; &amp;scy;&amp;ucy;&amp;khcy;&amp;ocy;&amp;pcy;&amp;ucy;&amp;tcy;&amp;ncy;&amp;ycy;&amp;khcy; &amp;vcy;&amp;ocy;&amp;jcy;&amp;scy;&amp;kcy; &amp;Rcy;&amp;Fcy; / &amp;Ocy;&amp;tcy;&amp;dcy;&amp;ycy;&amp;khcy; &amp;icy; &amp;rcy;&amp;acy;&amp;zcy;&amp;vcy;&amp;lcy;&amp;iecy;&amp;chcy;&amp;iecy;&amp;ncy;&amp;icy;&amp;yacy; / &amp;Scy;&amp;vcy;&amp;ocy;&amp;bcy;&amp;ocy;&amp;dcy;&amp;ncy;&amp;ycy;&amp;jcy; &amp;Mcy;&amp;icy;&amp;acy;&amp;scy;&amp;scy;"/>
          <p:cNvPicPr/>
          <p:nvPr/>
        </p:nvPicPr>
        <p:blipFill>
          <a:blip r:embed="rId2"/>
          <a:stretch/>
        </p:blipFill>
        <p:spPr>
          <a:xfrm>
            <a:off x="4716360" y="1557360"/>
            <a:ext cx="3810240" cy="4076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63680" y="36360"/>
            <a:ext cx="8192880" cy="14446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395280" y="1412640"/>
            <a:ext cx="4681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ВВС - вид Вооружённых Сил, предназначенный для ведения разведки группировок противника, обеспечения завоевания господства (сдерживания) в воздухе, защиты от ударов с воздуха важных военно-экономических районов и объектов страны и группировок войск, предупреждения о воздушном нападении, поражения объектов, составляющих основу военного и военно-экономического потенциала противника, поддержки с воздуха сухопутных войск и сил флота, десантирования воздушных десантов, перевозки войск и материальных средств по воздуху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2" descr="http://obg221spb.narod.ru/gerald/_img/image_vitalactiv_g24u.JPG"/>
          <p:cNvPicPr/>
          <p:nvPr/>
        </p:nvPicPr>
        <p:blipFill>
          <a:blip r:embed="rId2"/>
          <a:stretch/>
        </p:blipFill>
        <p:spPr>
          <a:xfrm>
            <a:off x="5267160" y="1844640"/>
            <a:ext cx="3535560" cy="3816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250560" y="259920"/>
            <a:ext cx="460836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Дальняя авиация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— основное ударное средство Военно-воздушных сил, предназначенное для поражения группировок войск, авиации, военно-морских сил противника с воздух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Фронтовая авиация 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— основная ударная сила ВВС, решает задачи в общевойсковых, совместных и самостоятельных операциях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Армейская авиация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предназначена для авиационной поддержки Сухопутных войск путем поражения наземных бронированных подвижных объектов противник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Военно – транспортная авиация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 — один из видов военной авиации, входящей в состав Вооруженных сил Российской Федерации. Она обеспечивает перевозку по воздуху войск, боевой техники и грузо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Специальная авиация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предназначена для решения широкого спектра задач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Зенитные ракетные войска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, ЗРВ предназначены для защиты от средств воздушного нападения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Радиотехнические войска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, РТВ предназначены для ведения радиолокационной разведк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2" descr="http://sm12bmstu.ru/wp-content/uploads/2010/12/da.jpg"/>
          <p:cNvPicPr/>
          <p:nvPr/>
        </p:nvPicPr>
        <p:blipFill>
          <a:blip r:embed="rId1"/>
          <a:stretch/>
        </p:blipFill>
        <p:spPr>
          <a:xfrm>
            <a:off x="6875640" y="189000"/>
            <a:ext cx="2104920" cy="1944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&amp;Pcy;&amp;ocy;&amp;zcy;&amp;dcy;&amp;rcy;&amp;acy;&amp;vcy;&amp;lcy;&amp;iecy;&amp;ncy;&amp;icy;&amp;yacy; &amp;vcy; &amp;scy;&amp;tcy;&amp;icy;&amp;khcy;&amp;acy;&amp;khcy;, &amp;ocy;&amp;tcy;&amp;kcy;&amp;rcy;&amp;ycy;&amp;tcy;&amp;kcy;&amp;icy;, &amp;pcy;&amp;rcy;&amp;icy;&amp;kcy;&amp;ocy;&amp;lcy;&amp;softcy;&amp;ncy;&amp;ycy;&amp;iecy; &amp;pcy;&amp;ocy;&amp;zcy;&amp;dcy;&amp;rcy;&amp;acy;&amp;vcy;&amp;lcy;&amp;iecy;&amp;ncy;&amp;icy;&amp;yacy;, &amp;acy; &amp;tcy;&amp;acy;&amp;kcy;&amp;zhcy;&amp;iecy; &amp;scy;&amp;tscy;&amp;iecy;&amp;ncy;&amp;acy;&amp;rcy;&amp;icy;&amp;icy; &amp;pcy;&amp;rcy;&amp;acy;&amp;zcy;&amp;dcy;&amp;ncy;&amp;icy;&amp;kcy;&amp;ocy;&amp;vcy; &amp;icy; &amp;pcy;&amp;ocy;&amp;zhcy;&amp;iecy;&amp;lcy;&amp;acy;&amp;ncy;&amp;icy;&amp;yacy; &amp;ncy;&amp;acy; pozdravish.ru &amp;Pcy;&amp;ocy;&amp;zcy;&amp;dcy;&amp;rcy;&amp;acy;&amp;vcy;&amp;lcy;&amp;iecy;&amp;ncy;&amp;icy;&amp;yacy;"/>
          <p:cNvPicPr/>
          <p:nvPr/>
        </p:nvPicPr>
        <p:blipFill>
          <a:blip r:embed="rId2"/>
          <a:stretch/>
        </p:blipFill>
        <p:spPr>
          <a:xfrm>
            <a:off x="5003640" y="476280"/>
            <a:ext cx="1643400" cy="2089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&amp;Ncy;&amp;acy;&amp;chcy;&amp;acy;&amp;lcy;&amp;softcy;&amp;ncy;&amp;icy;&amp;kcy;&amp;ocy;&amp;mcy; &amp;Vcy;&amp;ocy;&amp;iecy;&amp;ncy;&amp;ncy;&amp;ocy;-&amp;tcy;&amp;rcy;&amp;acy;&amp;ncy;&amp;scy;&amp;pcy;&amp;ocy;&amp;rcy;&amp;tcy;&amp;ncy;&amp;ocy;&amp;jcy; &amp;acy;&amp;vcy;&amp;icy;&amp;acy;&amp;tscy;&amp;icy;&amp;icy; &amp;Rcy;&amp;Fcy; &amp;scy;&amp;tcy;&amp;acy;&amp;lcy; &amp;Vcy;&amp;lcy;&amp;acy;&amp;dcy;&amp;icy;&amp;mcy;&amp;icy;&amp;rcy; &amp;Bcy;&amp;iecy;&amp;ncy;&amp;iecy;&amp;dcy;&amp;icy;&amp;kcy;&amp;tcy;&amp;ocy;&amp;vcy; - &amp;Vcy;&amp;iecy;&amp;chcy;&amp;iecy;&amp;rcy;&amp;ncy;&amp;yacy;&amp;yacy; &amp;Mcy;&amp;ocy;&amp;scy;&amp;kcy;&amp;vcy;&amp;acy;"/>
          <p:cNvPicPr/>
          <p:nvPr/>
        </p:nvPicPr>
        <p:blipFill>
          <a:blip r:embed="rId3"/>
          <a:stretch/>
        </p:blipFill>
        <p:spPr>
          <a:xfrm>
            <a:off x="7308720" y="2349360"/>
            <a:ext cx="1536840" cy="251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&amp;gcy;&amp;iecy;&amp;rcy;&amp;bcy; &amp;pcy;&amp;vcy;&amp;ocy; &amp;Fcy;&amp;lcy;&amp;acy;&amp;gcy;&amp;icy; &amp;icy; &amp;gcy;&amp;iecy;&amp;rcy;&amp;bcy;&amp;ycy;"/>
          <p:cNvPicPr/>
          <p:nvPr/>
        </p:nvPicPr>
        <p:blipFill>
          <a:blip r:embed="rId4"/>
          <a:stretch/>
        </p:blipFill>
        <p:spPr>
          <a:xfrm>
            <a:off x="5076720" y="2997360"/>
            <a:ext cx="1727280" cy="1912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&amp;Vcy; &amp;TScy;&amp;iecy;&amp;ncy;&amp;tcy;&amp;rcy;&amp;iecy; &amp;pcy;&amp;ocy;&amp;dcy;&amp;gcy;&amp;ocy;&amp;tcy;&amp;ocy;&amp;vcy;&amp;kcy;&amp;icy; &amp;scy;&amp;pcy;&amp;iecy;&amp;tscy;&amp;icy;&amp;acy;&amp;lcy;&amp;icy;&amp;scy;&amp;tcy;&amp;ocy;&amp;vcy; &amp;Rcy;&amp;Tcy;&amp;Vcy; &amp;Vcy;&amp;ocy;&amp;jcy;&amp;scy;&amp;kcy; &amp;Vcy;&amp;Kcy;&amp;Ocy; &amp;rcy;&amp;acy;&amp;zcy;&amp;vcy;&amp;iecy;&amp;rcy;&amp;ncy;&amp;ucy;&amp;tcy; &amp;ucy;&amp;ncy;&amp;icy;&amp;kcy;&amp;acy;&amp;lcy;&amp;softcy;&amp;ncy;&amp;ycy;&amp;jcy; &amp;tcy;&amp;rcy;&amp;iecy;&amp;ncy;&amp;acy;&amp;zhcy;&amp;iecy;&amp;rcy;&amp;ncy;&amp;ycy;&amp;jcy; &amp;kcy;&amp;ocy;&amp;mcy;&amp;pcy;&amp;lcy;&amp;iecy;&amp;kcy;&amp;scy; &amp;Tcy;&amp;iecy;&amp;scy;&amp;tcy;"/>
          <p:cNvPicPr/>
          <p:nvPr/>
        </p:nvPicPr>
        <p:blipFill>
          <a:blip r:embed="rId5"/>
          <a:stretch/>
        </p:blipFill>
        <p:spPr>
          <a:xfrm>
            <a:off x="6156360" y="5013360"/>
            <a:ext cx="168588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390600" y="390600"/>
            <a:ext cx="8199360" cy="8841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395280" y="1268280"/>
            <a:ext cx="3889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ru-RU" sz="1900" spc="-1" strike="noStrike">
                <a:solidFill>
                  <a:srgbClr val="ffff00"/>
                </a:solidFill>
                <a:latin typeface="Times New Roman"/>
              </a:rPr>
              <a:t>Военно – морской флот — вид вооружённых сил, предназначенный для проведения поисково-спасательных операций, защиты экономических интересов России, ведения боевых действий на морских и океанских театрах военных действий. Военно-морской флот способен наносить обычные и ядерные удары по морским и береговым силам противника, нарушать его морские коммуникации, высаживать морские десанты и т. д.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2" descr="DE wholly: &amp;ecy;&amp;mcy;&amp;bcy;&amp;lcy;&amp;iecy;&amp;mcy;&amp;ycy; &amp;vcy;&amp;ocy;&amp;ocy;&amp;rcy;&amp;ucy;&amp;zhcy;&amp;iecy;&amp;ncy;&amp;ncy;&amp;ycy;&amp;khcy; &amp;scy;&amp;icy;&amp;lcy; &amp;vcy; &amp;vcy;&amp;iecy;&amp;kcy;&amp;tcy;&amp;ocy;&amp;rcy;&amp;ncy;&amp;ocy;&amp;mcy; &amp;vcy;&amp;icy;&amp;dcy;&amp;iecy;"/>
          <p:cNvPicPr/>
          <p:nvPr/>
        </p:nvPicPr>
        <p:blipFill>
          <a:blip r:embed="rId2"/>
          <a:stretch/>
        </p:blipFill>
        <p:spPr>
          <a:xfrm>
            <a:off x="4427640" y="1628640"/>
            <a:ext cx="4608360" cy="41767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3" descr=""/>
          <p:cNvPicPr/>
          <p:nvPr/>
        </p:nvPicPr>
        <p:blipFill>
          <a:blip r:embed="rId1"/>
          <a:stretch/>
        </p:blipFill>
        <p:spPr>
          <a:xfrm>
            <a:off x="255600" y="128520"/>
            <a:ext cx="3639960" cy="13892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Мальчики, парни, мужчины!</a:t>
            </a: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Цвет восходящей зари!</a:t>
            </a: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Гордость старинной былины – </a:t>
            </a: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Русские богатыри!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Станьте опорой России,</a:t>
            </a: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Светлой надеждой страны,</a:t>
            </a: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Умной и доброю силой,</a:t>
            </a: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Родины нашей сыны!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Чтобы всегда восхищаться </a:t>
            </a: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Вами Россия могла,</a:t>
            </a: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Не нападать – защищаться,</a:t>
            </a: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Землю свою сберегла.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Вашею сильной рукою</a:t>
            </a: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Мир нужно нам сохранить,</a:t>
            </a: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Чтобы счастливой судьбою</a:t>
            </a: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Внукам и правнукам жи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2" descr="7 &amp;mcy;&amp;acy;&amp;yacy; &amp;Dcy;&amp;iecy;&amp;ncy;&amp;softcy; &amp;scy;&amp;ocy;&amp;zcy;&amp;dcy;&amp;acy;&amp;ncy;&amp;icy;&amp;yacy; &amp;vcy;&amp;ocy;&amp;ocy;&amp;rcy;&amp;ucy;&amp;zhcy;&amp;iecy;&amp;ncy;&amp;ncy;&amp;ycy;&amp;khcy; &amp;scy;&amp;icy;&amp;lcy; &amp;Rcy;&amp;Fcy;"/>
          <p:cNvPicPr/>
          <p:nvPr/>
        </p:nvPicPr>
        <p:blipFill>
          <a:blip r:embed="rId2"/>
          <a:stretch/>
        </p:blipFill>
        <p:spPr>
          <a:xfrm>
            <a:off x="324000" y="1557360"/>
            <a:ext cx="3808440" cy="244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&amp;Ncy;&amp;ocy;&amp;vcy;&amp;ocy;&amp;scy;&amp;tcy;&amp;icy; &amp;Pcy;&amp;yacy;&amp;tcy;&amp;ncy;&amp;icy;&amp;tscy;&amp;ycy;, 21 &amp;Icy;&amp;yucy;&amp;ncy;&amp;yacy; 2013 &amp;gcy;&amp;ocy;&amp;dcy;&amp;acy;.&amp;Ncy;&amp;ocy;&amp;vcy;&amp;ocy;&amp;scy;&amp;tcy;&amp;icy; &amp;icy; &amp;chcy;&amp;rcy;&amp;iecy;&amp;zcy;&amp;vcy;&amp;ycy;&amp;chcy;&amp;acy;&amp;jcy;&amp;ncy;&amp;ycy;&amp;iecy; &amp;pcy;&amp;rcy;&amp;ocy;&amp;icy;&amp;scy;&amp;shcy;&amp;iecy;&amp;scy;&amp;tcy;&amp;vcy;&amp;icy;&amp;yacy;.VIPadvert"/>
          <p:cNvPicPr/>
          <p:nvPr/>
        </p:nvPicPr>
        <p:blipFill>
          <a:blip r:embed="rId3"/>
          <a:stretch/>
        </p:blipFill>
        <p:spPr>
          <a:xfrm>
            <a:off x="324000" y="4149720"/>
            <a:ext cx="37288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2T12:17:25Z</dcterms:created>
  <dc:creator>Алла</dc:creator>
  <dc:description/>
  <dc:language>en-US</dc:language>
  <cp:lastModifiedBy>Admin</cp:lastModifiedBy>
  <dcterms:modified xsi:type="dcterms:W3CDTF">2015-02-02T15:38:08Z</dcterms:modified>
  <cp:revision>39</cp:revision>
  <dc:subject/>
  <dc:title>Есть такая профессия – Родину защищать</dc:title>
</cp:coreProperties>
</file>