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49F-2BFF-4577-A27D-FECF244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A5E-786B-45CF-AFFE-A5B000F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ADF-DE7F-4FC9-804D-2B23A6E0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198-3D01-429D-97B1-26959DB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8C9C-444A-4AA9-ACDB-9092D462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4753-EF2B-497A-BAC2-12A1D14A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7122-202C-4E6F-BE5E-67FFBA5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49C-FBA2-4643-AED7-408DF0B1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19E1-F1B4-473A-8E2F-75B9DF9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A30F-35CB-4781-88F1-F9DA5D80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C63E-98DA-4589-BB1E-022740E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EB8-482A-4941-955B-B492448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0E8-C4FB-40E8-86D5-E4D1275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B83D-3E97-4B3E-BD80-CE5D02F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DB3-A507-425F-9B0C-4C96D54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482E-70B3-4ACA-9113-04A3F773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5441-B12A-447B-91C2-EABBA8BF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717-34B6-4D56-8544-F543901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AD3-D44C-4354-AC88-3AFFDE0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F10-C4AE-4751-8E38-AE903844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2C1-D8BE-4A44-BA69-DEB3EC3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E52-CE23-4460-BB25-C657E21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814-8388-477A-9858-5D3DAF4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BBE-496E-4FA0-807B-AB1A4F8C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E3E-DE85-4F59-A659-E9AD421A97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34F-276E-4DE9-9257-6F1C809ADFA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560" y="404640"/>
            <a:ext cx="439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Мотострелковые войска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МСВ — самый многочисленный род сухопутных войск, представляет собой моторизованную пехоту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Танковые войска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ТВ — основная ударная сила сухопутных войс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Ракетные войска и артиллерия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РВиА предназначены для огневого и ядерного поражения противника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Войска ПВО Сухопутных войск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ПВО СВ — род сухопутных войск, предназначенный для защиты сухопутных войск от средств воздушного нападения противн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&amp;Gcy;&amp;iecy;&amp;rcy;&amp;acy;&amp;lcy;&amp;softcy;&amp;dcy;&amp;icy;&amp;kcy;&amp;acy; &amp;acy;&amp;rcy;&amp;mcy;&amp;icy;&amp;icy; &amp;Rcy;&amp;ocy;&amp;scy;&amp;scy;&amp;icy;&amp;icy; &amp;Kcy;&amp;acy;&amp;rcy;&amp;tcy;&amp;icy;&amp;ncy;&amp;kcy;&amp;icy;"/>
          <p:cNvPicPr/>
          <p:nvPr/>
        </p:nvPicPr>
        <p:blipFill>
          <a:blip r:embed="rId1"/>
          <a:stretch/>
        </p:blipFill>
        <p:spPr>
          <a:xfrm>
            <a:off x="6875640" y="333360"/>
            <a:ext cx="1944360" cy="194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&amp;Pcy;&amp;ocy;&amp;scy;&amp;lcy;&amp;iecy; &amp;pcy;&amp;ocy;&amp;bcy;&amp;iecy;&amp;dcy;&amp;ycy; &amp;bcy;&amp;ocy;&amp;lcy;&amp;softcy;&amp;shcy;&amp;iecy;&amp;vcy;&amp;icy;&amp;scy;&amp;tcy;&amp;scy;&amp;kcy;&amp;ocy;&amp;gcy;&amp;ocy; &amp;vcy;&amp;ocy;&amp;scy;&amp;scy;&amp;tcy;&amp;acy;&amp;ncy;&amp;icy;&amp;yacy; &amp;vcy; &amp;Pcy;&amp;iecy;&amp;tcy;&amp;rcy;&amp;ocy;&amp;gcy;&amp;rcy;&amp;acy;&amp;dcy;&amp;iecy; 7-8 &amp;ncy;&amp;ocy;&amp;yacy;&amp;bcy;&amp;rcy;&amp;yacy; 1917 &amp;gcy;&amp;ocy;&amp;dcy;&amp;acy; &amp;Scy;&amp;ocy;&amp;vcy;&amp;iecy;&amp;tcy;&amp;scy;&amp;kcy;&amp;acy;&amp;yacy; &amp;vcy;&amp;lcy;&amp;acy;&amp;scy;&amp;tcy;&amp;softcy; &amp;ncy;&amp;acy;&amp;chcy;&amp;acy;&amp;lcy;&amp;acy; &amp;vcy;&amp;iecy;&amp;scy;&amp;tcy;&amp;icy; &amp;bcy;&amp;ocy;&amp;rcy;&amp;softcy;&amp;bcy;&amp;ucy; &amp;scy; &amp;vcy;&amp;ncy;&amp;iecy;&amp;shcy;&amp;ncy;&amp;icy;&amp;mcy;&amp;icy; &amp;vcy;&amp;rcy;&amp;acy;&amp;gcy;&amp;acy;&amp;mcy;&amp;icy;"/>
          <p:cNvPicPr/>
          <p:nvPr/>
        </p:nvPicPr>
        <p:blipFill>
          <a:blip r:embed="rId2"/>
          <a:stretch/>
        </p:blipFill>
        <p:spPr>
          <a:xfrm>
            <a:off x="4788000" y="1773360"/>
            <a:ext cx="19447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&amp;Fcy;&amp;ocy;&amp;rcy;&amp;ucy;&amp;mcy; &amp;lcy;&amp;icy;&amp;gcy;&amp;icy; &amp;pcy;&amp;ocy; &amp;icy;&amp;gcy;&amp;rcy;&amp;iecy; &amp;Kcy;&amp;acy;&amp;zcy;&amp;acy;&amp;kcy;&amp;icy; :: &amp;Pcy;&amp;rcy;&amp;ocy;&amp;scy;&amp;mcy;&amp;ocy;&amp;tcy;&amp;rcy; &amp;tcy;&amp;iecy;&amp;mcy;&amp;ycy; - &amp;KHcy;&amp;ocy;&amp;chcy;&amp;ucy; &amp;pcy;&amp;ocy;&amp;zcy;&amp;dcy;&amp;rcy;&amp;acy;&amp;vcy;&amp;icy;&amp;tcy;&amp;softcy; &amp;scy;&amp;iecy;&amp;bcy;&amp;yacy;))) :: LCN :: Cossacks game League"/>
          <p:cNvPicPr/>
          <p:nvPr/>
        </p:nvPicPr>
        <p:blipFill>
          <a:blip r:embed="rId3"/>
          <a:stretch/>
        </p:blipFill>
        <p:spPr>
          <a:xfrm>
            <a:off x="6875640" y="3068640"/>
            <a:ext cx="201744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&amp;Lcy;&amp;iecy;&amp;gcy;&amp;iecy;&amp;ncy;&amp;dcy;&amp;acy;&amp;rcy;&amp;ncy;&amp;ocy;&amp;mcy;&amp;ucy; &amp;tcy;&amp;acy;&amp;ncy;&amp;kcy;&amp;ucy; &amp;Tcy;-34-85 70 &amp;lcy;&amp;iecy;&amp;tcy; ArmyNews.ru"/>
          <p:cNvPicPr/>
          <p:nvPr/>
        </p:nvPicPr>
        <p:blipFill>
          <a:blip r:embed="rId4"/>
          <a:stretch/>
        </p:blipFill>
        <p:spPr>
          <a:xfrm>
            <a:off x="4643280" y="4581360"/>
            <a:ext cx="21211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536400" y="66600"/>
            <a:ext cx="819324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000" y="1484280"/>
            <a:ext cx="41036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ухопутные войска (СВ) — вид Вооруженных Сил Российской Федерации, предназначенный для прикрытия Государственной границы, отражения ударов агрессора, удержания занимаемой территории, разгрома группировок войск и овладения территорией противни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&amp;Dcy;&amp;iecy;&amp;ncy;&amp;softcy; &amp;scy;&amp;ucy;&amp;khcy;&amp;ocy;&amp;pcy;&amp;ucy;&amp;tcy;&amp;ncy;&amp;ycy;&amp;khcy; &amp;vcy;&amp;ocy;&amp;jcy;&amp;scy;&amp;kcy; &amp;Rcy;&amp;Fcy; / &amp;Ocy;&amp;tcy;&amp;dcy;&amp;ycy;&amp;khcy; &amp;icy; &amp;rcy;&amp;acy;&amp;zcy;&amp;vcy;&amp;lcy;&amp;iecy;&amp;chcy;&amp;iecy;&amp;ncy;&amp;icy;&amp;yacy; / &amp;Scy;&amp;vcy;&amp;ocy;&amp;bcy;&amp;ocy;&amp;dcy;&amp;ncy;&amp;ycy;&amp;jcy; &amp;Mcy;&amp;icy;&amp;acy;&amp;scy;&amp;scy;"/>
          <p:cNvPicPr/>
          <p:nvPr/>
        </p:nvPicPr>
        <p:blipFill>
          <a:blip r:embed="rId2"/>
          <a:stretch/>
        </p:blipFill>
        <p:spPr>
          <a:xfrm>
            <a:off x="4716360" y="1557360"/>
            <a:ext cx="38102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63680" y="36360"/>
            <a:ext cx="8192880" cy="144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95280" y="1412640"/>
            <a:ext cx="468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ВС - вид Вооружённых Сил, предназначенный для ведения разведки группировок противника, обеспечения завоевания господства (сдерживания) в воздухе, защиты от ударов с воздуха важных военно-экономических районов и объектов страны и группировок войск, предупреждения о воздушном нападении, поражения объектов, составляющих основу военного и военно-экономического потенциала противника, поддержки с воздуха сухопутных войск и сил флота, десантирования воздушных десантов, перевозки войск и материальных средств по воздух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http://obg221spb.narod.ru/gerald/_img/image_vitalactiv_g24u.JPG"/>
          <p:cNvPicPr/>
          <p:nvPr/>
        </p:nvPicPr>
        <p:blipFill>
          <a:blip r:embed="rId2"/>
          <a:stretch/>
        </p:blipFill>
        <p:spPr>
          <a:xfrm>
            <a:off x="5267160" y="1844640"/>
            <a:ext cx="35355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560" y="259920"/>
            <a:ext cx="460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Дальняя авиаци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— основное ударное средство Военно-воздушных сил, предназначенное для поражения группировок войск, авиации, военно-морских сил противника с воздух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Фронтовая авиация 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— основная ударная сила ВВС, решает задачи в общевойсковых, совместных и самостоятельных операция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рмейская авиация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дназначена для авиационной поддержки Сухопутных войск путем поражения наземных бронированных подвижных объектов противн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оенно – транспортная авиаци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 — один из видов военной авиации, входящей в состав Вооруженных сил Российской Федерации. Она обеспечивает перевозку по воздуху войск, боевой техники и гр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пециальная авиация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дназначена для решения широкого спектра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Зенитные ракетные войск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, ЗРВ предназначены для защиты от средств воздушного нападения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адиотехнические войск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, РТВ предназначены для ведения радиолокационной развед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http://sm12bmstu.ru/wp-content/uploads/2010/12/da.jpg"/>
          <p:cNvPicPr/>
          <p:nvPr/>
        </p:nvPicPr>
        <p:blipFill>
          <a:blip r:embed="rId1"/>
          <a:stretch/>
        </p:blipFill>
        <p:spPr>
          <a:xfrm>
            <a:off x="6875640" y="189000"/>
            <a:ext cx="210492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&amp;Pcy;&amp;ocy;&amp;zcy;&amp;dcy;&amp;rcy;&amp;acy;&amp;vcy;&amp;lcy;&amp;iecy;&amp;ncy;&amp;icy;&amp;yacy; &amp;vcy; &amp;scy;&amp;tcy;&amp;icy;&amp;khcy;&amp;acy;&amp;khcy;, &amp;ocy;&amp;tcy;&amp;kcy;&amp;rcy;&amp;ycy;&amp;tcy;&amp;kcy;&amp;icy;, &amp;pcy;&amp;rcy;&amp;icy;&amp;kcy;&amp;ocy;&amp;lcy;&amp;softcy;&amp;ncy;&amp;ycy;&amp;iecy; &amp;pcy;&amp;ocy;&amp;zcy;&amp;dcy;&amp;rcy;&amp;acy;&amp;vcy;&amp;lcy;&amp;iecy;&amp;ncy;&amp;icy;&amp;yacy;, &amp;acy; &amp;tcy;&amp;acy;&amp;kcy;&amp;zhcy;&amp;iecy; &amp;scy;&amp;tscy;&amp;iecy;&amp;ncy;&amp;acy;&amp;rcy;&amp;icy;&amp;icy; &amp;pcy;&amp;rcy;&amp;acy;&amp;zcy;&amp;dcy;&amp;ncy;&amp;icy;&amp;kcy;&amp;ocy;&amp;vcy; &amp;icy; &amp;pcy;&amp;ocy;&amp;zhcy;&amp;iecy;&amp;lcy;&amp;acy;&amp;ncy;&amp;icy;&amp;yacy; &amp;ncy;&amp;acy; pozdravish.ru &amp;Pcy;&amp;ocy;&amp;zcy;&amp;dcy;&amp;rcy;&amp;acy;&amp;vcy;&amp;lcy;&amp;iecy;&amp;ncy;&amp;icy;&amp;yacy;"/>
          <p:cNvPicPr/>
          <p:nvPr/>
        </p:nvPicPr>
        <p:blipFill>
          <a:blip r:embed="rId2"/>
          <a:stretch/>
        </p:blipFill>
        <p:spPr>
          <a:xfrm>
            <a:off x="5003640" y="476280"/>
            <a:ext cx="164340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&amp;Ncy;&amp;acy;&amp;chcy;&amp;acy;&amp;lcy;&amp;softcy;&amp;ncy;&amp;icy;&amp;kcy;&amp;ocy;&amp;mcy; &amp;Vcy;&amp;ocy;&amp;iecy;&amp;ncy;&amp;ncy;&amp;ocy;-&amp;tcy;&amp;rcy;&amp;acy;&amp;ncy;&amp;scy;&amp;pcy;&amp;ocy;&amp;rcy;&amp;tcy;&amp;ncy;&amp;ocy;&amp;jcy; &amp;acy;&amp;vcy;&amp;icy;&amp;acy;&amp;tscy;&amp;icy;&amp;icy; &amp;Rcy;&amp;Fcy; &amp;scy;&amp;tcy;&amp;acy;&amp;lcy; &amp;Vcy;&amp;lcy;&amp;acy;&amp;dcy;&amp;icy;&amp;mcy;&amp;icy;&amp;rcy; &amp;Bcy;&amp;iecy;&amp;ncy;&amp;iecy;&amp;dcy;&amp;icy;&amp;kcy;&amp;tcy;&amp;ocy;&amp;vcy; - &amp;Vcy;&amp;iecy;&amp;chcy;&amp;iecy;&amp;rcy;&amp;ncy;&amp;yacy;&amp;yacy;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7308720" y="2349360"/>
            <a:ext cx="1536840" cy="251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&amp;gcy;&amp;iecy;&amp;rcy;&amp;bcy; &amp;pcy;&amp;vcy;&amp;ocy; &amp;Fcy;&amp;lcy;&amp;acy;&amp;gcy;&amp;icy; &amp;icy; &amp;gcy;&amp;iecy;&amp;rcy;&amp;bcy;&amp;ycy;"/>
          <p:cNvPicPr/>
          <p:nvPr/>
        </p:nvPicPr>
        <p:blipFill>
          <a:blip r:embed="rId4"/>
          <a:stretch/>
        </p:blipFill>
        <p:spPr>
          <a:xfrm>
            <a:off x="5076720" y="2997360"/>
            <a:ext cx="1727280" cy="191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&amp;Vcy; &amp;TScy;&amp;iecy;&amp;ncy;&amp;tcy;&amp;rcy;&amp;iecy; &amp;pcy;&amp;ocy;&amp;dcy;&amp;gcy;&amp;ocy;&amp;tcy;&amp;ocy;&amp;vcy;&amp;kcy;&amp;icy; &amp;scy;&amp;pcy;&amp;iecy;&amp;tscy;&amp;icy;&amp;acy;&amp;lcy;&amp;icy;&amp;scy;&amp;tcy;&amp;ocy;&amp;vcy; &amp;Rcy;&amp;Tcy;&amp;Vcy; &amp;Vcy;&amp;ocy;&amp;jcy;&amp;scy;&amp;kcy; &amp;Vcy;&amp;Kcy;&amp;Ocy; &amp;rcy;&amp;acy;&amp;zcy;&amp;vcy;&amp;iecy;&amp;rcy;&amp;ncy;&amp;ucy;&amp;tcy; &amp;ucy;&amp;ncy;&amp;icy;&amp;kcy;&amp;acy;&amp;lcy;&amp;softcy;&amp;ncy;&amp;ycy;&amp;jcy; &amp;tcy;&amp;rcy;&amp;iecy;&amp;ncy;&amp;acy;&amp;zhcy;&amp;iecy;&amp;rcy;&amp;ncy;&amp;ycy;&amp;jcy; &amp;kcy;&amp;ocy;&amp;mcy;&amp;pcy;&amp;lcy;&amp;iecy;&amp;kcy;&amp;scy; &amp;Tcy;&amp;iecy;&amp;scy;&amp;tcy;"/>
          <p:cNvPicPr/>
          <p:nvPr/>
        </p:nvPicPr>
        <p:blipFill>
          <a:blip r:embed="rId5"/>
          <a:stretch/>
        </p:blipFill>
        <p:spPr>
          <a:xfrm>
            <a:off x="6156360" y="501336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90600" y="390600"/>
            <a:ext cx="8199360" cy="88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5280" y="1268280"/>
            <a:ext cx="388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Военно – морской флот — вид вооружённых сил, предназначенный для проведения поисково-спасательных операций, защиты экономических интересов России, ведения боевых действий на морских и океанских театрах военных действий. Военно-морской флот способен наносить обычные и ядерные удары по морским и береговым силам противника, нарушать его морские коммуникации, высаживать морские десанты и т. д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DE wholly: &amp;ecy;&amp;mcy;&amp;bcy;&amp;lcy;&amp;iecy;&amp;mcy;&amp;ycy; &amp;vcy;&amp;ocy;&amp;ocy;&amp;rcy;&amp;ucy;&amp;zhcy;&amp;iecy;&amp;ncy;&amp;ncy;&amp;ycy;&amp;khcy; &amp;scy;&amp;icy;&amp;lcy; &amp;vcy; &amp;vcy;&amp;iecy;&amp;kcy;&amp;tcy;&amp;ocy;&amp;rcy;&amp;ncy;&amp;ocy;&amp;mcy; &amp;vcy;&amp;icy;&amp;dcy;&amp;iecy;"/>
          <p:cNvPicPr/>
          <p:nvPr/>
        </p:nvPicPr>
        <p:blipFill>
          <a:blip r:embed="rId2"/>
          <a:stretch/>
        </p:blipFill>
        <p:spPr>
          <a:xfrm>
            <a:off x="4427640" y="162864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3" descr=""/>
          <p:cNvPicPr/>
          <p:nvPr/>
        </p:nvPicPr>
        <p:blipFill>
          <a:blip r:embed="rId1"/>
          <a:stretch/>
        </p:blipFill>
        <p:spPr>
          <a:xfrm>
            <a:off x="255600" y="128520"/>
            <a:ext cx="3639960" cy="138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альчики, парни, мужчины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 восходящей зари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Гордость старинной былины –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усские богатыри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таньте опорой России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ветлой надеждой страны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мной и доброю силой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одины нашей сыны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бы всегда восхищаться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ами Россия могла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Не нападать – защищаться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емлю свою сберегл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ашею сильной рукою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ир нужно нам сохранить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бы счастливой судьбою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нукам и правнукам ж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7 &amp;mcy;&amp;acy;&amp;yacy; &amp;Dcy;&amp;iecy;&amp;ncy;&amp;softcy; &amp;scy;&amp;ocy;&amp;zcy;&amp;dcy;&amp;acy;&amp;ncy;&amp;icy;&amp;yacy; &amp;vcy;&amp;ocy;&amp;ocy;&amp;rcy;&amp;ucy;&amp;zhcy;&amp;iecy;&amp;ncy;&amp;ncy;&amp;ycy;&amp;khcy; &amp;scy;&amp;icy;&amp;lcy; &amp;Rcy;&amp;Fcy;"/>
          <p:cNvPicPr/>
          <p:nvPr/>
        </p:nvPicPr>
        <p:blipFill>
          <a:blip r:embed="rId2"/>
          <a:stretch/>
        </p:blipFill>
        <p:spPr>
          <a:xfrm>
            <a:off x="324000" y="1557360"/>
            <a:ext cx="380844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&amp;Ncy;&amp;ocy;&amp;vcy;&amp;ocy;&amp;scy;&amp;tcy;&amp;icy; &amp;Pcy;&amp;yacy;&amp;tcy;&amp;ncy;&amp;icy;&amp;tscy;&amp;ycy;, 21 &amp;Icy;&amp;yucy;&amp;ncy;&amp;yacy; 2013 &amp;gcy;&amp;ocy;&amp;dcy;&amp;acy;.&amp;Ncy;&amp;ocy;&amp;vcy;&amp;ocy;&amp;scy;&amp;tcy;&amp;icy; &amp;icy; &amp;chcy;&amp;rcy;&amp;iecy;&amp;zcy;&amp;vcy;&amp;ycy;&amp;chcy;&amp;acy;&amp;jcy;&amp;ncy;&amp;ycy;&amp;iecy; &amp;pcy;&amp;rcy;&amp;ocy;&amp;icy;&amp;scy;&amp;shcy;&amp;iecy;&amp;scy;&amp;tcy;&amp;vcy;&amp;icy;&amp;yacy;.VIPadvert"/>
          <p:cNvPicPr/>
          <p:nvPr/>
        </p:nvPicPr>
        <p:blipFill>
          <a:blip r:embed="rId3"/>
          <a:stretch/>
        </p:blipFill>
        <p:spPr>
          <a:xfrm>
            <a:off x="324000" y="4149720"/>
            <a:ext cx="3728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2:17:25Z</dcterms:created>
  <dc:creator>Алла</dc:creator>
  <dc:description/>
  <dc:language>en-US</dc:language>
  <cp:lastModifiedBy>Admin</cp:lastModifiedBy>
  <dcterms:modified xsi:type="dcterms:W3CDTF">2015-02-02T15:38:08Z</dcterms:modified>
  <cp:revision>39</cp:revision>
  <dc:subject/>
  <dc:title>Есть такая профессия – Родину защищать</dc:title>
</cp:coreProperties>
</file>