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250-6528-4E98-A664-0C43CB5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BF8-7073-485C-8C83-2866DBD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4DD-3097-4915-8477-C10C1BD2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855-E9F0-4AE5-897E-CBC19006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B807-0270-48F0-AAA6-BC5FB300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4D4-BED1-4FFF-8A73-80AA581F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38E-7091-4415-9EC8-54143D3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19F8-A3C7-4083-BA22-2BD38A4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78A3-F663-4A3B-A623-D000B63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A17F-C8B3-4A3C-B425-C1DB570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E4F4-F98D-4937-9FC2-3435D9E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AD3-A160-4D3A-88CE-A6718080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E43-587F-44F7-93FA-106E988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4EB2-7D51-4AF1-9785-B909F1F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1A2E-F9D4-492C-AD0F-4AF9F20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C82-6D20-4449-AF7A-2C63F4B1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7654-8ACD-41D4-833F-7FC4FFF5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6EA-18E4-464A-B0C0-22029480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438-3DFC-4EFC-A14E-93123F9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5A8-A23C-49EF-96B6-E65E3265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C5D-202B-44E1-9B69-483F1417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D9E-9A2D-4500-8247-D36AE9D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34A-BB97-45B2-92D2-9115A06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147-389C-408F-B5B7-065F5C18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822-571A-454A-B2D2-11916080C2B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BD05-9631-48C5-95EA-D7A34B7B1A8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5" descr=""/>
          <p:cNvPicPr/>
          <p:nvPr/>
        </p:nvPicPr>
        <p:blipFill>
          <a:blip r:embed="rId1"/>
          <a:stretch/>
        </p:blipFill>
        <p:spPr>
          <a:xfrm>
            <a:off x="341280" y="469800"/>
            <a:ext cx="8491680" cy="1749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i (15).jpg"/>
          <p:cNvPicPr/>
          <p:nvPr/>
        </p:nvPicPr>
        <p:blipFill>
          <a:blip r:embed="rId2"/>
          <a:stretch/>
        </p:blipFill>
        <p:spPr>
          <a:xfrm>
            <a:off x="731880" y="3060720"/>
            <a:ext cx="3505320" cy="4645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i (14).jpg"/>
          <p:cNvPicPr/>
          <p:nvPr/>
        </p:nvPicPr>
        <p:blipFill>
          <a:blip r:embed="rId3"/>
          <a:stretch/>
        </p:blipFill>
        <p:spPr>
          <a:xfrm>
            <a:off x="4761000" y="3133800"/>
            <a:ext cx="3219480" cy="47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692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России во все времена военная служба была делом чести, школой мужества и самоотверженности, а к профессии военного всегда относились с особым почетом и уважением. “Военная выправка”, “офицерская честь”, “солдатская доблесть” – это далеко не полный список того, что привлекает молодых людей при выборе данной професс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&amp;Gcy;&amp;rcy;&amp;icy;&amp;gcy;&amp;ocy;&amp;rcy;&amp;softcy;&amp;iecy;&amp;vcy; &amp;Vcy;&amp;acy;&amp;lcy;&amp;iecy;&amp;rcy;&amp;icy;&amp;jcy; &amp;Vcy;&amp;lcy;&amp;acy;&amp;dcy;&amp;icy;&amp;mcy;&amp;icy;&amp;rcy;&amp;ocy;&amp;vcy;&amp;icy;&amp;chcy;, &amp;Lcy;&amp;Ncy;&amp;Vcy;&amp;Mcy;&amp;Ucy;, 1981 &amp;gcy;.&amp;vcy;. &amp;Ncy;&amp;Vcy;&amp;Mcy;&amp;Ucy;"/>
          <p:cNvPicPr/>
          <p:nvPr/>
        </p:nvPicPr>
        <p:blipFill>
          <a:blip r:embed="rId1"/>
          <a:stretch/>
        </p:blipFill>
        <p:spPr>
          <a:xfrm>
            <a:off x="4284720" y="4437000"/>
            <a:ext cx="316872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:\Users\Алла\AppData\Local\Microsoft\Windows\Temporary Internet Files\Content.IE5\HRTBZHBL\MP900422423[1].jpg"/>
          <p:cNvPicPr/>
          <p:nvPr/>
        </p:nvPicPr>
        <p:blipFill>
          <a:blip r:embed="rId1"/>
          <a:stretch/>
        </p:blipFill>
        <p:spPr>
          <a:xfrm>
            <a:off x="3902040" y="3638520"/>
            <a:ext cx="2193840" cy="306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10920" y="476280"/>
            <a:ext cx="81118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оруженные силы делятся на три главных групп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Сухопутные или наземные вой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оенно – воздушные сил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оенно – морские си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C:\Users\Алла\AppData\Local\Microsoft\Windows\Temporary Internet Files\Content.IE5\BXWKBAZL\MP900422430[1].jpg"/>
          <p:cNvPicPr/>
          <p:nvPr/>
        </p:nvPicPr>
        <p:blipFill>
          <a:blip r:embed="rId2"/>
          <a:stretch/>
        </p:blipFill>
        <p:spPr>
          <a:xfrm>
            <a:off x="1017720" y="4505400"/>
            <a:ext cx="2371680" cy="30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Алла\AppData\Local\Microsoft\Windows\Temporary Internet Files\Content.IE5\6QHNJZWP\MP900422417[1].jpg"/>
          <p:cNvPicPr/>
          <p:nvPr/>
        </p:nvPicPr>
        <p:blipFill>
          <a:blip r:embed="rId3"/>
          <a:stretch/>
        </p:blipFill>
        <p:spPr>
          <a:xfrm>
            <a:off x="6638760" y="2773440"/>
            <a:ext cx="2090880" cy="273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2:17:25Z</dcterms:created>
  <dc:creator>Алла</dc:creator>
  <dc:description/>
  <dc:language>en-US</dc:language>
  <cp:lastModifiedBy>Admin</cp:lastModifiedBy>
  <dcterms:modified xsi:type="dcterms:W3CDTF">2015-02-02T15:39:29Z</dcterms:modified>
  <cp:revision>41</cp:revision>
  <dc:subject/>
  <dc:title>Есть такая профессия – Родину защищать</dc:title>
</cp:coreProperties>
</file>