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7BB3-E339-40A0-B70A-12CC3EBEA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86AF-D5EA-4FBB-AFA3-849E90DF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CD50-3838-4B3C-9493-D93CF363C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6263-3493-46AC-A0E2-B26DE8AFA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B2AA-190C-435B-986E-08A03C309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C793-8BF0-42AF-B34C-CCAA6989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95AD-409D-4B73-B842-CEE25EFA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D9FC-D1DA-4AA0-A52D-DF4434FF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470B-0F04-441F-BD9C-040BE6BF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645B-52C3-4227-996F-8641F90A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B496-DE81-4D4C-ABBF-E5986639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3059-BAEB-4ED2-BFCD-9D98BB13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7799-1D4E-432C-AE29-6D7B4292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437D-2268-4EC1-B23F-98295512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2254-1B67-4DA2-B9F4-0EE5EBE1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9F2E-9968-423D-85FA-0BC974FA3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871B-5549-4E5B-876E-09D2E6012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2B2E-EB86-4325-A864-F5ECFDB6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0504-5290-46AC-B0A8-BF1E5083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6E86-48AA-40B9-AA29-49BD1801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2B43-709F-4A00-A954-E804146E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3B79-7D96-4502-A643-20D8BE73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ED75-F4C5-4D6A-A1A5-A26CC9C9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FC3D-2C67-4262-905B-18F4B508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BA2F-D335-4444-8BF6-E1DD3C70A440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CE92-715A-478F-9FBD-A83FA8B18890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5" descr=""/>
          <p:cNvPicPr/>
          <p:nvPr/>
        </p:nvPicPr>
        <p:blipFill>
          <a:blip r:embed="rId1"/>
          <a:stretch/>
        </p:blipFill>
        <p:spPr>
          <a:xfrm>
            <a:off x="341280" y="469800"/>
            <a:ext cx="8491680" cy="17496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9" descr="i (15).jpg"/>
          <p:cNvPicPr/>
          <p:nvPr/>
        </p:nvPicPr>
        <p:blipFill>
          <a:blip r:embed="rId2"/>
          <a:stretch/>
        </p:blipFill>
        <p:spPr>
          <a:xfrm>
            <a:off x="731880" y="3060720"/>
            <a:ext cx="3505320" cy="46450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0" descr="i (14).jpg"/>
          <p:cNvPicPr/>
          <p:nvPr/>
        </p:nvPicPr>
        <p:blipFill>
          <a:blip r:embed="rId3"/>
          <a:stretch/>
        </p:blipFill>
        <p:spPr>
          <a:xfrm>
            <a:off x="4761000" y="3133800"/>
            <a:ext cx="3219480" cy="4790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95280" y="692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 России во все времена военная служба была делом чести, школой мужества и самоотверженности, а к профессии военного всегда относились с особым почетом и уважением. “Военная выправка”, “офицерская честь”, “солдатская доблесть” – это далеко не полный список того, что привлекает молодых людей при выборе данной професси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4" descr="&amp;Gcy;&amp;rcy;&amp;icy;&amp;gcy;&amp;ocy;&amp;rcy;&amp;softcy;&amp;iecy;&amp;vcy; &amp;Vcy;&amp;acy;&amp;lcy;&amp;iecy;&amp;rcy;&amp;icy;&amp;jcy; &amp;Vcy;&amp;lcy;&amp;acy;&amp;dcy;&amp;icy;&amp;mcy;&amp;icy;&amp;rcy;&amp;ocy;&amp;vcy;&amp;icy;&amp;chcy;, &amp;Lcy;&amp;Ncy;&amp;Vcy;&amp;Mcy;&amp;Ucy;, 1981 &amp;gcy;.&amp;vcy;. &amp;Ncy;&amp;Vcy;&amp;Mcy;&amp;Ucy;"/>
          <p:cNvPicPr/>
          <p:nvPr/>
        </p:nvPicPr>
        <p:blipFill>
          <a:blip r:embed="rId1"/>
          <a:stretch/>
        </p:blipFill>
        <p:spPr>
          <a:xfrm>
            <a:off x="4284720" y="4437000"/>
            <a:ext cx="3168720" cy="20671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C:\Users\Алла\AppData\Local\Microsoft\Windows\Temporary Internet Files\Content.IE5\HRTBZHBL\MP900422423[1].jpg"/>
          <p:cNvPicPr/>
          <p:nvPr/>
        </p:nvPicPr>
        <p:blipFill>
          <a:blip r:embed="rId1"/>
          <a:stretch/>
        </p:blipFill>
        <p:spPr>
          <a:xfrm>
            <a:off x="3902040" y="3638520"/>
            <a:ext cx="2193840" cy="3060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610920" y="476280"/>
            <a:ext cx="811188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Вооруженные силы делятся на три главных групп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Сухопутные или наземные войс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Военно – воздушные сил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Военно – морские сил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Picture 2" descr="C:\Users\Алла\AppData\Local\Microsoft\Windows\Temporary Internet Files\Content.IE5\BXWKBAZL\MP900422430[1].jpg"/>
          <p:cNvPicPr/>
          <p:nvPr/>
        </p:nvPicPr>
        <p:blipFill>
          <a:blip r:embed="rId2"/>
          <a:stretch/>
        </p:blipFill>
        <p:spPr>
          <a:xfrm>
            <a:off x="1017720" y="4505400"/>
            <a:ext cx="2371680" cy="3058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:\Users\Алла\AppData\Local\Microsoft\Windows\Temporary Internet Files\Content.IE5\6QHNJZWP\MP900422417[1].jpg"/>
          <p:cNvPicPr/>
          <p:nvPr/>
        </p:nvPicPr>
        <p:blipFill>
          <a:blip r:embed="rId3"/>
          <a:stretch/>
        </p:blipFill>
        <p:spPr>
          <a:xfrm>
            <a:off x="6638760" y="2773440"/>
            <a:ext cx="2090880" cy="27320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2T12:17:25Z</dcterms:created>
  <dc:creator>Алла</dc:creator>
  <dc:description/>
  <dc:language>en-US</dc:language>
  <cp:lastModifiedBy>Admin</cp:lastModifiedBy>
  <dcterms:modified xsi:type="dcterms:W3CDTF">2015-02-02T15:39:29Z</dcterms:modified>
  <cp:revision>41</cp:revision>
  <dc:subject/>
  <dc:title>Есть такая профессия – Родину защищать</dc:title>
</cp:coreProperties>
</file>