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564-BBE7-4725-A097-B242C52C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1FA-3D18-4291-915D-0369AA42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397-7358-477E-B95B-0BE7EDDC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712-DA23-46A8-A9B0-5809E286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210-7BB9-453A-8402-FD7BB70A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B67-8410-44D5-85B1-292182D8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761-CD32-4493-89A7-393A201E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A98-131A-43A7-A34C-928F5622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5E9-DF07-4186-9D3C-AB84730A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29B-A2DE-462A-AFE3-A7CD52B7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A95-6CFC-4285-92E1-3CD307B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890-30EA-41B7-918A-27C2E282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3E8D-75D8-4390-9D56-6B3AEE83F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0" y="2133720"/>
            <a:ext cx="90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Times New Roman"/>
              </a:rPr>
              <a:t>ФРУКТ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cc00"/>
                </a:solidFill>
                <a:latin typeface="Times New Roman"/>
              </a:rPr>
              <a:t>И ФРУКТОВЫЕ ДЕРЕВЬ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LE BLOSSOMS</a:t>
            </a: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50412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32800" y="2492280"/>
            <a:ext cx="597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ЯБЛОНЯ В САД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LE TRE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IN THE ORCH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05120" y="54864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3733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73240" y="2666880"/>
            <a:ext cx="299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ИШ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21320" y="236232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LACK CHERRIES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CASHMERE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48320" cy="3557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05480" y="49528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53040" y="2133720"/>
            <a:ext cx="744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ИШНИ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РАСТУЩ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НА ВЕТКЕ ДЕРЕ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HERRIES GROWING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ON THE TREE BRAN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FRUITS </a:t>
            </a:r>
            <a:br>
              <a:rPr sz="5400"/>
            </a:b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AND FRUIT TRE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5468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11520" y="5438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200" y="2438280"/>
            <a:ext cx="727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ЦВЕТУЩАЯ ВИШН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HERRY TRE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IN BLOOM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248520" cy="425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54520" y="52610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0520" y="2362320"/>
            <a:ext cx="732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УБОРКА ВИШЕ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 ВИШНЁВОМ САД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59160" y="24382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HARVESTING CHERRIES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N TH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HERRY ORCH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3880" y="116856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0560" y="2590920"/>
            <a:ext cx="80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РАЗРЕЗАННАЯ ГРУШ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ARLETT PEAR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CUT IN HA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953240" cy="3481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9480" y="50292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4600" y="2286000"/>
            <a:ext cx="819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НАРЕЗАННОЕ ЯБЛОК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9520" y="2057400"/>
            <a:ext cx="7282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ГРУШИ, РАСТУЩ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НА ВЕТКЕ ДЕРЕ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EARS GROWING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ON THE TREE BRANCH</a:t>
            </a: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0412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68240" y="2492280"/>
            <a:ext cx="557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ЦВЕТЫ ГРУШ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52760" y="24382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EAR BLOSSOM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90960" cy="39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4960" y="2514600"/>
            <a:ext cx="60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ГРУШЕВЫЙ СА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16320" y="24922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EAR ORCHARD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019560" cy="4514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0400" y="5537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39720" y="2514600"/>
            <a:ext cx="42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АБРИКОС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UT AP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251460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RICOT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33720" y="1558800"/>
            <a:ext cx="5257800" cy="34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464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360" y="2362320"/>
            <a:ext cx="667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АБРИКОСЫ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НА ВЕТВИ ДЕРЕ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RICOTS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 A TREE BRAN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8224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5640" y="2362320"/>
            <a:ext cx="855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АБРИКОСОВОЕ ДЕРЕ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RICOT T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4200" y="609480"/>
            <a:ext cx="414648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25520" y="2438280"/>
            <a:ext cx="26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БАНА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ANA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400800" cy="44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1222200"/>
            <a:ext cx="6095880" cy="39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1240" y="2286000"/>
            <a:ext cx="83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ЦВЕТЫ И БАНАНЫ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РАСТУЩИЕ НА ДЕРЕВ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ANANA FLOWERS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AND BANANAS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GROWING ON THE T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24040" y="533520"/>
            <a:ext cx="38451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5840" y="2438280"/>
            <a:ext cx="70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ГРОЗД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СПЕЛЫХ БАНА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UNCH OF TH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RIPE BANAN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8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0520" y="2590920"/>
            <a:ext cx="865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ЛАНТАЦИЯ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БАНАНОВЫХ ДЕРЕВЬ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ANANA PLANTATIO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806400"/>
            <a:ext cx="70106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0840" y="2163600"/>
            <a:ext cx="816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ЯБЛОК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РАСТУЩИЕ НА ВЕТ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PPLES GROWING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 THE TREE BRAN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38344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2160" y="259092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ЦВЕТУЩАЯ ЯБЛОН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4:59:42Z</dcterms:created>
  <dc:creator>Hadlock</dc:creator>
  <dc:description/>
  <dc:language>en-US</dc:language>
  <cp:lastModifiedBy>User</cp:lastModifiedBy>
  <dcterms:modified xsi:type="dcterms:W3CDTF">2006-07-30T15:08:0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03328877</vt:r8>
  </property>
  <property fmtid="{D5CDD505-2E9C-101B-9397-08002B2CF9AE}" pid="3" name="_AuthorEmail">
    <vt:lpwstr>anastasia_nasyrova@fanniemae.com</vt:lpwstr>
  </property>
  <property fmtid="{D5CDD505-2E9C-101B-9397-08002B2CF9AE}" pid="4" name="_AuthorEmailDisplayName">
    <vt:lpwstr>Nasyrova, Anastasia</vt:lpwstr>
  </property>
  <property fmtid="{D5CDD505-2E9C-101B-9397-08002B2CF9AE}" pid="5" name="_EmailSubject">
    <vt:lpwstr>Eshe presentazii</vt:lpwstr>
  </property>
  <property fmtid="{D5CDD505-2E9C-101B-9397-08002B2CF9AE}" pid="6" name="_ReviewingToolsShownOnce">
    <vt:lpwstr/>
  </property>
</Properties>
</file>