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08-E61F-4AC9-B798-07BD1BCC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54D-6B39-4822-80F8-18C3D57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8EB-382A-4874-B6AF-653C554F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20C-6710-4F6F-8638-D2654E8A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41B-D4BC-4645-B484-C58A94E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C94-B6F1-4836-BE77-21A41F1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0BD-8E31-4493-A06F-1E91851B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487-97A2-42C4-B5A3-03E3E6A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54E-A21E-4D4D-81B1-6CFD092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858-DF06-42BC-84A9-02DDD7A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1B8-1E11-4A7C-A88C-6A68FEE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98C-6BC5-4268-BAEE-2497A2A9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AA75-E0C6-4937-AA88-B5F9FFAE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0" y="2133720"/>
            <a:ext cx="90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ФРУК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И ФРУКТОВЫЕ ДЕРЕВЬ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LE BLOSSOM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5041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32800" y="2492280"/>
            <a:ext cx="597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ЯБЛОНЯ В САД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LE TRE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IN THE ORCH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54864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733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73240" y="2666880"/>
            <a:ext cx="299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ИШ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21320" y="236232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LACK CHERRIE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CASHMERE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48320" cy="3557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05480" y="49528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3040" y="2133720"/>
            <a:ext cx="744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ИШНИ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СТУЩ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 ВЕТКЕ ДЕР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ERRIES GROWING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ON THE TREE BRA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FRUITS </a:t>
            </a:r>
            <a:br>
              <a:rPr sz="5400"/>
            </a:b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AND FRUIT TR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546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11520" y="543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0" y="2438280"/>
            <a:ext cx="727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УЩАЯ ВИШ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ERRY TRE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IN BLOO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248520" cy="425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54520" y="52610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0520" y="2362320"/>
            <a:ext cx="732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УБОРКА ВИШ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ВИШНЁВОМ САД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59160" y="24382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RVESTING CHERRIE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N TH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ERRY ORCH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16856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0560" y="2590920"/>
            <a:ext cx="80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ЗРЕЗАННАЯ ГРУШ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RLETT PEAR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CUT IN HA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953240" cy="348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50292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4600" y="2286000"/>
            <a:ext cx="81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РЕЗАННОЕ ЯБЛОК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9520" y="2057400"/>
            <a:ext cx="7282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РУШИ, РАСТУЩ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 ВЕТКЕ ДЕР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ARS GROWING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ON THE TREE BRANCH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041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68240" y="2492280"/>
            <a:ext cx="557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Ы ГР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52760" y="24382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AR BLOSSOM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90960" cy="39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4960" y="2514600"/>
            <a:ext cx="60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РУШЕВЫЙ С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16320" y="24922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AR ORCHARD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0400" y="5537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9720" y="2514600"/>
            <a:ext cx="42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БРИКО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UT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25146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RICOT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1558800"/>
            <a:ext cx="5257800" cy="34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46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360" y="2362320"/>
            <a:ext cx="667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БРИКОС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 ВЕТВИ ДЕР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RICOTS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 A TREE BRA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822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5640" y="2362320"/>
            <a:ext cx="85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БРИКОСОВОЕ ДЕРЕ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RICOT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4200" y="609480"/>
            <a:ext cx="41464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5520" y="2438280"/>
            <a:ext cx="26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БАН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N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40080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1222200"/>
            <a:ext cx="6095880" cy="39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1240" y="2286000"/>
            <a:ext cx="83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Ы И БАНАНЫ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СТУЩИЕ НА ДЕРЕВ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NANA FLOWER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AND BANANAS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GROWING ON THE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24040" y="533520"/>
            <a:ext cx="3845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5840" y="2438280"/>
            <a:ext cx="70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РОЗД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ПЕЛЫХ БАН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UNCH OF TH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RIPE BANAN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8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0520" y="2590920"/>
            <a:ext cx="865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ЛАНТАЦИ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БАНАНОВЫХ ДЕРЕВ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NANA PLANTATIO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806400"/>
            <a:ext cx="70106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0840" y="2163600"/>
            <a:ext cx="816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ЯБЛО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СТУЩИЕ НА ВЕТ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LES GROWING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 THE TREE BRA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8344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2160" y="259092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УЩАЯ ЯБЛО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4:59:42Z</dcterms:created>
  <dc:creator>Hadlock</dc:creator>
  <dc:description/>
  <dc:language>en-US</dc:language>
  <cp:lastModifiedBy>User</cp:lastModifiedBy>
  <dcterms:modified xsi:type="dcterms:W3CDTF">2006-07-30T15:08:0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3328877</vt:r8>
  </property>
  <property fmtid="{D5CDD505-2E9C-101B-9397-08002B2CF9AE}" pid="3" name="_AuthorEmail">
    <vt:lpwstr>anastasia_nasyrova@fanniemae.com</vt:lpwstr>
  </property>
  <property fmtid="{D5CDD505-2E9C-101B-9397-08002B2CF9AE}" pid="4" name="_AuthorEmailDisplayName">
    <vt:lpwstr>Nasyrova, Anastasia</vt:lpwstr>
  </property>
  <property fmtid="{D5CDD505-2E9C-101B-9397-08002B2CF9AE}" pid="5" name="_EmailSubject">
    <vt:lpwstr>Eshe presentazii</vt:lpwstr>
  </property>
  <property fmtid="{D5CDD505-2E9C-101B-9397-08002B2CF9AE}" pid="6" name="_ReviewingToolsShownOnce">
    <vt:lpwstr/>
  </property>
</Properties>
</file>