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4132-8589-4339-A9AD-FE9EEA3D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3D5-CC95-4A09-A0FB-A14B0930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9749-42BB-4A40-B260-0FFB583C0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7E1-0016-404B-B705-F435B799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826-0C8A-4936-8F32-29EAD63AE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3FB4-10F1-4962-9E79-5BD5E019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0DA-2456-43EC-8DD0-D98DBCEB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7DAF-EECA-40D9-B919-F358DD8F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C2F-415F-4281-93BB-90B123E6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868-78DA-41BD-A679-5FED9A7E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F1B2-0B7C-455B-AC5A-2DED4330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409-46F7-4083-A0C3-AF638E6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DC42-6750-42E8-96C1-0FEC1BA94F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2" name="Picture 5" descr="594148_4181nothumb500"/>
          <p:cNvPicPr/>
          <p:nvPr/>
        </p:nvPicPr>
        <p:blipFill>
          <a:blip r:embed="rId1"/>
          <a:stretch/>
        </p:blipFill>
        <p:spPr>
          <a:xfrm>
            <a:off x="3571920" y="571680"/>
            <a:ext cx="2346120" cy="2573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x_a1a83d11"/>
          <p:cNvPicPr/>
          <p:nvPr/>
        </p:nvPicPr>
        <p:blipFill>
          <a:blip r:embed="rId2"/>
          <a:stretch/>
        </p:blipFill>
        <p:spPr>
          <a:xfrm rot="21286200">
            <a:off x="423360" y="399960"/>
            <a:ext cx="2664000" cy="316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443994131"/>
          <p:cNvPicPr/>
          <p:nvPr/>
        </p:nvPicPr>
        <p:blipFill>
          <a:blip r:embed="rId3"/>
          <a:stretch/>
        </p:blipFill>
        <p:spPr>
          <a:xfrm rot="426000">
            <a:off x="6462360" y="484200"/>
            <a:ext cx="2238480" cy="2986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tn_main"/>
          <p:cNvPicPr/>
          <p:nvPr/>
        </p:nvPicPr>
        <p:blipFill>
          <a:blip r:embed="rId4"/>
          <a:stretch/>
        </p:blipFill>
        <p:spPr>
          <a:xfrm rot="21019800">
            <a:off x="1712520" y="3543120"/>
            <a:ext cx="2435400" cy="2734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im0-tub-ru.yandex.net/i?id=4a37410ee86a89efbac13a8752619d79-42-144&amp;n=24"/>
          <p:cNvPicPr/>
          <p:nvPr/>
        </p:nvPicPr>
        <p:blipFill>
          <a:blip r:embed="rId5"/>
          <a:stretch/>
        </p:blipFill>
        <p:spPr>
          <a:xfrm rot="916200">
            <a:off x="5310360" y="3917880"/>
            <a:ext cx="2385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9 декабря, в России отмеч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День Героев Оте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iCA4XTRMP"/>
          <p:cNvPicPr/>
          <p:nvPr/>
        </p:nvPicPr>
        <p:blipFill>
          <a:blip r:embed="rId1"/>
          <a:stretch/>
        </p:blipFill>
        <p:spPr>
          <a:xfrm rot="700800">
            <a:off x="5817960" y="3724200"/>
            <a:ext cx="313848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р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выдающийся своей храбростью , доблестью, самоотверженностью человек, совершающий подви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d1998dfcbd31"/>
          <p:cNvPicPr/>
          <p:nvPr/>
        </p:nvPicPr>
        <p:blipFill>
          <a:blip r:embed="rId2"/>
          <a:stretch/>
        </p:blipFill>
        <p:spPr>
          <a:xfrm rot="336000">
            <a:off x="4714560" y="1607760"/>
            <a:ext cx="3905280" cy="4578480"/>
          </a:xfrm>
          <a:prstGeom prst="rect">
            <a:avLst/>
          </a:prstGeom>
          <a:ln w="0">
            <a:noFill/>
          </a:ln>
        </p:spPr>
      </p:pic>
      <p:pic>
        <p:nvPicPr>
          <p:cNvPr id="54" name="vladimir_vsockii-davno_smolkli_zalpi_orudii.mp3" descr=""/>
          <p:cNvPicPr/>
          <p:nvPr/>
        </p:nvPicPr>
        <p:blipFill>
          <a:blip r:embed="rId3"/>
          <a:stretch/>
        </p:blipFill>
        <p:spPr>
          <a:xfrm>
            <a:off x="831708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53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Каков внешне должен быть геро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Сколько лет должно быть человеку, которого можно назвать  герое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ои – это люди особой професс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ет, как-то особенно надо воспитывать геро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рои живут в каком–то особом мес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Есть ли герои у нашего времени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–храбр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-добл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-отва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-муже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-смел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р-решитель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071600" y="1600200"/>
            <a:ext cx="461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ц-целеустремлён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-человеколюб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-порядоч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-доб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рои нашего времени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Никита Антонов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1" name="Picture 4" descr="C:\Documents and Settings\Администратор\Рабочий стол\Никита-Антонов.jpg"/>
          <p:cNvPicPr/>
          <p:nvPr/>
        </p:nvPicPr>
        <p:blipFill>
          <a:blip r:embed="rId1"/>
          <a:stretch/>
        </p:blipFill>
        <p:spPr>
          <a:xfrm>
            <a:off x="1835280" y="1916280"/>
            <a:ext cx="61927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99"/>
                </a:solidFill>
                <a:latin typeface="Arial"/>
              </a:rPr>
              <a:t>Герои нашего времени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85927976_Snap_20120412_18h12m23s_008_"/>
          <p:cNvPicPr/>
          <p:nvPr/>
        </p:nvPicPr>
        <p:blipFill>
          <a:blip r:embed="rId1"/>
          <a:stretch/>
        </p:blipFill>
        <p:spPr>
          <a:xfrm>
            <a:off x="4167360" y="2583000"/>
            <a:ext cx="4976640" cy="4275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1PXHZK~1"/>
          <p:cNvPicPr/>
          <p:nvPr/>
        </p:nvPicPr>
        <p:blipFill>
          <a:blip r:embed="rId2"/>
          <a:stretch/>
        </p:blipFill>
        <p:spPr>
          <a:xfrm>
            <a:off x="0" y="1285920"/>
            <a:ext cx="40323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Герои нашего времен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640_234_99_20"/>
          <p:cNvPicPr/>
          <p:nvPr/>
        </p:nvPicPr>
        <p:blipFill>
          <a:blip r:embed="rId1"/>
          <a:stretch/>
        </p:blipFill>
        <p:spPr>
          <a:xfrm>
            <a:off x="5072040" y="1428840"/>
            <a:ext cx="4071960" cy="371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Davydov"/>
          <p:cNvPicPr/>
          <p:nvPr/>
        </p:nvPicPr>
        <p:blipFill>
          <a:blip r:embed="rId2"/>
          <a:stretch/>
        </p:blipFill>
        <p:spPr>
          <a:xfrm>
            <a:off x="357120" y="1357200"/>
            <a:ext cx="2786040" cy="357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0_62600_e8c770ce_XL"/>
          <p:cNvPicPr/>
          <p:nvPr/>
        </p:nvPicPr>
        <p:blipFill>
          <a:blip r:embed="rId3"/>
          <a:stretch/>
        </p:blipFill>
        <p:spPr>
          <a:xfrm>
            <a:off x="0" y="4775040"/>
            <a:ext cx="3456000" cy="2082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med_spas_utop"/>
          <p:cNvPicPr/>
          <p:nvPr/>
        </p:nvPicPr>
        <p:blipFill>
          <a:blip r:embed="rId4"/>
          <a:stretch/>
        </p:blipFill>
        <p:spPr>
          <a:xfrm>
            <a:off x="5929200" y="4667400"/>
            <a:ext cx="12193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Monotype Corsiva"/>
              </a:rPr>
              <a:t>Невозможно всегда быть героем, но всегда можно оставаться человек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imes New Roman"/>
              </a:rPr>
              <a:t>И. Гёт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9:22:09Z</dcterms:created>
  <dc:creator>Customer</dc:creator>
  <dc:description/>
  <dc:language>en-US</dc:language>
  <cp:lastModifiedBy>IBM</cp:lastModifiedBy>
  <dcterms:modified xsi:type="dcterms:W3CDTF">2015-01-28T07:14:56Z</dcterms:modified>
  <cp:revision>28</cp:revision>
  <dc:subject/>
  <dc:title>Слайд 1</dc:title>
</cp:coreProperties>
</file>