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C334-C26C-44BE-91E4-F302E475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B2C1-A117-44AF-9A7B-AB2E7ECD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4C17-93AE-4C9B-A7F8-F57D3126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04BA-E03C-4DE8-B323-D9B723078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8D89-C965-40CA-841C-1FBB4F6B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7B6E-D17E-4DCC-927F-0B55FBA5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FDDA-813C-447C-8AC8-7E5CD90A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60EE-9502-4716-9C3B-320B09CF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D8BF-FDA5-43F0-B391-A331BBC1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6E51-FFDC-441E-AFF5-5290CB48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29F4-1B19-4A44-B457-F10DC4B9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F549-9B28-4049-B74E-284BF5EE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EACC-BC6C-4ED0-984D-9D08C43B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56DD-41F3-452D-8A16-5AE29462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7414-6527-4F11-9EEC-0EA36301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B852-266F-43F9-A00B-F305D450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59A1-91F7-4BD2-95B1-1CD9824E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CBB714-B046-4247-86BD-6A90E191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D01244-110C-4C20-99C6-A18BC65D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4A96C-3F94-4050-B6A3-92A8892E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9DF5B9-520E-438F-A4D8-C85AE029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6E9B9-FF00-41BE-B285-B7F794B4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AE5B-2C22-4802-BC5F-3744714A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707E8B-5027-436E-880A-4C1D219A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D69151-4074-451C-8C09-62BB8FF4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3E2BA-8A5B-4602-9885-50B9869F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2451DE-B596-484A-B6A7-0029ACC3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B6B092-6644-4607-913E-A2C066DD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3612F-4E63-4493-8F5B-8D9F1276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EDBA77-7639-4506-AF86-151146B0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28DA1-EFD6-40DE-95CF-6C6C0B95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D5312-7760-4B44-8E05-59913623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9F39A-DF61-4C57-A000-FEE96409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913-A085-419E-A5FD-9CC3C438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A8FED-E895-4796-AAD5-E007A675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1878A-0291-4472-8439-05A741F5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EAEB7-BA82-4350-AEA7-4F7DC649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A4569-ECB5-444C-8114-AF695204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6833A-5054-4851-B401-C26C65E0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92D50-8E24-4585-ABF3-17750352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15AF5-D30E-4C78-B2F2-A5BE6493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724AD-80CA-4DCE-86F9-76523667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A2BB2-82E0-4092-B453-D6DA695F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BD540F-7541-4E99-8889-1E9F10B8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E506-4673-4D84-BE34-8524FA7A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B91CBC-A80B-444E-AD80-AAD633C3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9CE7FB-7E51-42E7-B3AD-78E33A08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67468F-3B6D-4217-A4DD-898EB112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E1146A-AB0E-432D-B7F8-62DF60F6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BDD928-E62D-4D4B-8AE2-E309570B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9483A4-BA82-4AD2-8E44-D6AE5ADC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103C75-5F25-426D-BE4E-71FAFDA8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9ED228-075F-44D3-B705-9351B04B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AE7F68-6C05-4162-8127-50C2BABF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B95724-67F1-4F77-A593-B309808B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2019-5A61-4E65-A835-4B53DFDF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88470C-3446-49EB-A316-3619DAB5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6F334C-B103-4748-9FDA-64873040F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6A0557-D646-42EB-B558-C99A95D6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FD7062-1DFA-4F00-8B77-64D1ABB2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343F18-BEF0-4217-9CF0-5D910839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ADECC0-1CBE-4844-B489-CB3A568E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91A094-680E-44E3-AD42-523DFF0D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D31071-0D6A-4147-BC3F-D39345EA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0AC93C-DA51-434B-ADC0-10773BF4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D664CE-0682-47FB-836D-21F66C45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0110-8B8F-4D72-A83F-1A550746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FFBD3F-9827-4111-80EF-142F4049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E80AC0-9174-4E9A-96E3-61D81CD6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329F35-6774-46DD-AEE4-3E71A472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F4032F-41EA-469F-B10F-36F5E129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94B6F4-3C8D-4371-B5FE-F519519B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EC8DA3-1172-48BE-AD03-75E81ED0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057985-87B0-4E29-85BA-42AAF9D3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E5E009-EC94-4120-868E-F4E29388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069EA2-500F-4A8A-83E0-60573F05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71E1F3-3189-471B-ACA0-54DF04DA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3BCC-F903-414D-9F55-75881E57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0815DC-E6EE-468E-8724-AE1CD9A7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3FAF9C-6928-409C-8CD7-DE4B0B70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28197E-97C3-48D8-9975-EF06D4CC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81F45B-4B5E-4B63-9ADE-4691EC7A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F08F43-0AD6-496E-8D96-FBB8EBF2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2887-429D-4EBA-AC77-C3F79440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FCD1-DC1F-408A-AF5A-A5BA51DD351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C60B-4E27-48A4-AC14-7EDE140628A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3088-EF4B-42ED-AED3-24013C6B266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BA6B-05DD-4114-B250-987EB847A4D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8DBF-9DB0-4759-B87D-03025EAA631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8393-9C79-4AE4-A42B-50BAC8C9778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50F4-1CB4-451D-A525-4915A08169E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0" y="5387760"/>
            <a:ext cx="5500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АВТОР : ГОНТАРЬ ВСЕВОЛОД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357280" y="213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Проект «Школа кулинаров»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Кондитерское изделие «Зефир»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4" descr="P310115_2041"/>
          <p:cNvPicPr/>
          <p:nvPr/>
        </p:nvPicPr>
        <p:blipFill>
          <a:blip r:embed="rId1"/>
          <a:stretch/>
        </p:blipFill>
        <p:spPr>
          <a:xfrm>
            <a:off x="2714760" y="2214720"/>
            <a:ext cx="5929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85560" y="-21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1 ЭТАП: ИНГРИДИЕНТ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28440" y="1143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желатин 60 г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ахар 1 кг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лимонная кислота 1ч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да 0,5 ч.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Picture 4" descr="P310115_2116"/>
          <p:cNvPicPr/>
          <p:nvPr/>
        </p:nvPicPr>
        <p:blipFill>
          <a:blip r:embed="rId1"/>
          <a:stretch/>
        </p:blipFill>
        <p:spPr>
          <a:xfrm>
            <a:off x="1214280" y="3357720"/>
            <a:ext cx="62866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28440" y="714240"/>
            <a:ext cx="75387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75f6d"/>
                </a:solidFill>
                <a:latin typeface="Century Schoolbook"/>
              </a:rPr>
              <a:t>КЛАДЁМ В КАСТРЮЛЮ САХАР И ЗАЛИВАЕМ СТАКАНОМ ВОДЫ НА СРЕДНЕМ ОГНЕ ДО КИПЕНИЯ И ПОМЕШИВАЕМ.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71520" y="-360"/>
            <a:ext cx="142884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2 этап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4" descr="P310115_1934"/>
          <p:cNvPicPr/>
          <p:nvPr/>
        </p:nvPicPr>
        <p:blipFill>
          <a:blip r:embed="rId1"/>
          <a:stretch/>
        </p:blipFill>
        <p:spPr>
          <a:xfrm>
            <a:off x="1071720" y="2214720"/>
            <a:ext cx="75358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28440" y="785880"/>
            <a:ext cx="7467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Century Schoolbook"/>
              </a:rPr>
              <a:t>В ЭТО ВРЕМЯ КЛАДЁМ В СТАКАН ЖЕЛАТИН И ЗАЛИВАЕМ 100Г ВОДЫ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071880" y="-360"/>
            <a:ext cx="14716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3 этап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4" descr="P310115_1937[01]"/>
          <p:cNvPicPr/>
          <p:nvPr/>
        </p:nvPicPr>
        <p:blipFill>
          <a:blip r:embed="rId1"/>
          <a:stretch/>
        </p:blipFill>
        <p:spPr>
          <a:xfrm>
            <a:off x="1285920" y="2071800"/>
            <a:ext cx="660096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74674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ПОСЛЕ ТОГО КОГДА ВОДА ЗАКИПИТ ПОЛОЖИТЕ В КАСТРЮЛЮ ЖЕЛАТИН И ПОТОМ СНИМАЕМ С ОГНЯ И ПОМЕШИВАЕМ ПОКА ЖЕЛАТИН НЕ РАСТВОРИТСЯ, СЛЕДИТЕ ЧТОБЫ ВОДА НЕ ОСТЫЛА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285720" y="0"/>
            <a:ext cx="168588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4 этап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Picture 4" descr="P310115_1949"/>
          <p:cNvPicPr/>
          <p:nvPr/>
        </p:nvPicPr>
        <p:blipFill>
          <a:blip r:embed="rId1"/>
          <a:stretch/>
        </p:blipFill>
        <p:spPr>
          <a:xfrm>
            <a:off x="2214720" y="3286080"/>
            <a:ext cx="485748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14240" y="642960"/>
            <a:ext cx="746784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75f6d"/>
                </a:solidFill>
                <a:latin typeface="Century Schoolbook"/>
              </a:rPr>
              <a:t>ПОСЛЕ КАК ЖЕЛАТИН РАСТВОРИТСЯ ВЗБИВАЙТЕ МИКСЕРОМ 5 МИН ПОСЛЕ ДАДИТЕ ОТДОХНУТЬ И ПОТОМ ОПЯТЬ ВЗБИВАЙТЕ 5 МИН.</a:t>
            </a: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357720" y="0"/>
            <a:ext cx="161424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5 этап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9" descr="P310115_1951"/>
          <p:cNvPicPr/>
          <p:nvPr/>
        </p:nvPicPr>
        <p:blipFill>
          <a:blip r:embed="rId1"/>
          <a:stretch/>
        </p:blipFill>
        <p:spPr>
          <a:xfrm>
            <a:off x="714240" y="3000240"/>
            <a:ext cx="3506760" cy="3391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P310115_2014"/>
          <p:cNvPicPr/>
          <p:nvPr/>
        </p:nvPicPr>
        <p:blipFill>
          <a:blip r:embed="rId2"/>
          <a:stretch/>
        </p:blipFill>
        <p:spPr>
          <a:xfrm>
            <a:off x="4572000" y="3000240"/>
            <a:ext cx="350028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85520" y="785880"/>
            <a:ext cx="74674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ПОСЛЕ ПОЛОЖИТЕ НА 20 МИН ЛЕПЕШКАМИ  НА ДЕРЕВЯННУЮ ДОСКУ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214440" y="-360"/>
            <a:ext cx="17571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6 этап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Рисунок 4" descr="P310115_2042.jpg"/>
          <p:cNvPicPr/>
          <p:nvPr/>
        </p:nvPicPr>
        <p:blipFill>
          <a:blip r:embed="rId1"/>
          <a:stretch/>
        </p:blipFill>
        <p:spPr>
          <a:xfrm>
            <a:off x="1928880" y="235728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714680" y="499680"/>
            <a:ext cx="535752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entury Schoolbook"/>
              </a:rPr>
              <a:t>ПРИЯТНОГО АППЕТИТА!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Picture 4" descr="P310115_2041"/>
          <p:cNvPicPr/>
          <p:nvPr/>
        </p:nvPicPr>
        <p:blipFill>
          <a:blip r:embed="rId1"/>
          <a:stretch/>
        </p:blipFill>
        <p:spPr>
          <a:xfrm>
            <a:off x="2143080" y="3286080"/>
            <a:ext cx="464364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1T18:05:04Z</dcterms:created>
  <dc:creator>Serg</dc:creator>
  <dc:description/>
  <dc:language>en-US</dc:language>
  <cp:lastModifiedBy>ученик 8</cp:lastModifiedBy>
  <dcterms:modified xsi:type="dcterms:W3CDTF">2015-02-02T11:23:51Z</dcterms:modified>
  <cp:revision>6</cp:revision>
  <dc:subject/>
  <dc:title>Готовка зефира</dc:title>
</cp:coreProperties>
</file>