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D2AC-7B32-45E7-BBA2-7EC67EEB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B459-935B-49BF-8506-9065B846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D7D-879D-4190-A1C9-9BD278B9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D849-07BC-455D-840B-F7BE8888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3F0F-74CB-4F12-9475-E0432F88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241E-A634-4FB0-A15D-58B3BB02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C33F-1F39-432E-AD13-995BE545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D36A-1917-4CE5-A2B2-0291AFBC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60D8-2333-4729-9920-C866A9A9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1357-DF39-4744-8C58-CB901ED7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0CAE-6C13-482C-8E0C-CF29A1E7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16F9-189F-4354-A815-9B05E3D1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39D9-45C4-49FB-97FB-75CF4E47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C169-8834-4A9A-AFB4-A41B5515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95D2-9053-4522-B3C0-038DCCAA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EBB1-425E-4C3B-9D58-16222A44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134A-6D02-4847-B9E9-9F7C79D6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E1B63-6C4D-44DE-8407-5E413F7E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27E2D-B3B1-4889-A512-EE5FE448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A9206-5096-423C-B454-A1286EB4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11D7A-99B3-4A5D-8F69-B26882A8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DF507-F7CD-4649-AF64-0033E1BA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13E-CD9E-4394-BF23-C31296F5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5883F-6213-44AC-8A10-FE061118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A7DEB-4F43-4EB5-A431-4A2F7147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9D5EE-4E64-48F1-A7FD-AE13EE9D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3AD27-1624-4C53-B894-A94EC47D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268AF-DEEF-45F2-8EB6-741A92E5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9BA63-AC45-4904-A60A-9DB23F75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9D798-AF2A-4804-ADBC-BCB92D6F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5F9A4-6B3D-43B7-A5D2-2BAD6B69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2E954-2C12-41BC-B3DE-997DC6AC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0F23C-8443-4E15-8FA0-4D5D40DE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D419-7DB3-4C04-B2D4-D3A09413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5778D-211F-47DA-99B6-1EF310EE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F9471-3523-49AE-922D-42DF0DBA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A949B-16E7-4BBB-92A1-9CE5857F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04C4C-4674-461C-B2A0-23BD62DB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DCBCA-1EE8-4A83-8462-0DDF1D04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DA7C0-B28C-40AA-9365-39F1A651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F6FEF-D839-4156-8E37-D3911FD0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8FDF8-EF5A-44F9-B75E-C5A299CF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4DE6E-3E30-49CA-BA18-79E00FDC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CDB686-B652-4D98-A415-0ABAAEB4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6B55-4509-47C1-82BD-FEB3690D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5F7F8C-2068-4E8F-B1CD-3832A82A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712315-46C2-4C1A-A8B9-FF8448DC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5BA05D-70F8-4632-911B-77E2FBAB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B23C1-C6D2-4676-A87F-9FE777ED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D41606-9F35-4542-92B5-FDD0CCA8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0D6D14-C228-4860-88F0-73043913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E5A51E-97BB-4627-85C8-A58CFA34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468DD-7BDB-46E8-9EBE-E80A24C9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648149-467F-4202-8549-50D1065A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6D1BFD-D4FE-4756-9F97-CB969A0D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AF1-BE3E-45E7-9017-2DFE1D7B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B1BE0C-D523-4070-A3E8-B2458D38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DA998-4D2F-4B20-9B2B-44DE7985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9EA93C-5AE6-4A0F-808D-ABBF811E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D439EF-14D5-4D4F-B5F4-F7EF132E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ADA5EC-8F4C-4E1F-BFE2-319E7454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93EA44-48EE-47EF-BEBB-C890C338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FF7FCA-8A37-493D-AD75-D3429622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629A08-7390-4344-B9EF-3EED7D10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A27E1E-B36F-40E7-A752-13778B90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8ECACC-4D26-48CD-9C4D-D119ABED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2981-16B4-4B8C-B181-E37179A6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25BCE5-DB28-405D-A6F8-ABAACF5D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6D6B57-BEF6-4744-8AD7-52CD0162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87E9DE-0725-482C-AE01-C59E9D96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D72EF0-6065-4AC9-BC7F-14BB3B32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41655-C47E-40B9-A3BD-A6D8FA2A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EE0441-3080-4921-BCE7-914211D2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7E6C4C-014E-4FDD-8573-12F07B63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7A5FB1-08D8-4C87-A874-E6947B9D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72B5FA-23CB-4F4D-9076-77461EC2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5C96AD-FBFE-4604-94BE-01F9A409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473E-6F2F-45BC-AA14-13B94C3F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916C12-8619-425A-B180-6B3926D0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B21247-4E99-4279-BD66-319805A0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B5D716-E65F-4819-B860-7B6BB0D2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D02B0D-2DD4-43BB-B2C0-8B5F0F2E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252597-081D-44C4-AF07-D82697A7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9719-C0B3-40DF-82C4-AED42E3D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8F3A-64F7-4E34-8BC4-D2F2E4F208B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F30C-C0CE-4492-BE89-22C812B3D32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479D-6C06-4679-97E9-590FA1AE2D2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728B-AB14-4B7A-9561-011609DB539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5BD8-BB05-474B-9B8D-B5C65F5A5C9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0717-08B4-4D4D-AF90-EC566CF26DD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786B-F7E1-4AEF-9D0E-584E246791C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0" y="5387760"/>
            <a:ext cx="5500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АВТОР : ГОНТАРЬ ВСЕВОЛОД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357280" y="213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Проект «Школа кулинаров»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Кондитерское изделие «Зефир»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4" descr="P310115_2041"/>
          <p:cNvPicPr/>
          <p:nvPr/>
        </p:nvPicPr>
        <p:blipFill>
          <a:blip r:embed="rId1"/>
          <a:stretch/>
        </p:blipFill>
        <p:spPr>
          <a:xfrm>
            <a:off x="2714760" y="2214720"/>
            <a:ext cx="5929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85560" y="-21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1 ЭТАП: ИНГРИДИЕНТ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28440" y="1143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желатин 60 г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ахар 1 кг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лимонная кислота 1ч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да 0,5 ч.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4" descr="P310115_2116"/>
          <p:cNvPicPr/>
          <p:nvPr/>
        </p:nvPicPr>
        <p:blipFill>
          <a:blip r:embed="rId1"/>
          <a:stretch/>
        </p:blipFill>
        <p:spPr>
          <a:xfrm>
            <a:off x="1214280" y="3357720"/>
            <a:ext cx="62866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28440" y="714240"/>
            <a:ext cx="75387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КЛАДЁМ В КАСТРЮЛЮ САХАР И ЗАЛИВАЕМ СТАКАНОМ ВОДЫ НА СРЕДНЕМ ОГНЕ ДО КИПЕНИЯ И ПОМЕШИВАЕМ.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71520" y="-360"/>
            <a:ext cx="142884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2 этап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4" descr="P310115_1934"/>
          <p:cNvPicPr/>
          <p:nvPr/>
        </p:nvPicPr>
        <p:blipFill>
          <a:blip r:embed="rId1"/>
          <a:stretch/>
        </p:blipFill>
        <p:spPr>
          <a:xfrm>
            <a:off x="1071720" y="2214720"/>
            <a:ext cx="7535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28440" y="785880"/>
            <a:ext cx="7467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В ЭТО ВРЕМЯ КЛАДЁМ В СТАКАН ЖЕЛАТИН И ЗАЛИВАЕМ 100Г ВОДЫ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071880" y="-360"/>
            <a:ext cx="14716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3 этап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4" descr="P310115_1937[01]"/>
          <p:cNvPicPr/>
          <p:nvPr/>
        </p:nvPicPr>
        <p:blipFill>
          <a:blip r:embed="rId1"/>
          <a:stretch/>
        </p:blipFill>
        <p:spPr>
          <a:xfrm>
            <a:off x="1285920" y="2071800"/>
            <a:ext cx="660096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74674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ПОСЛЕ ТОГО КОГДА ВОДА ЗАКИПИТ ПОЛОЖИТЕ В КАСТРЮЛЮ ЖЕЛАТИН И ПОТОМ СНИМАЕМ С ОГНЯ И ПОМЕШИВАЕМ ПОКА ЖЕЛАТИН НЕ РАСТВОРИТСЯ, СЛЕДИТЕ ЧТОБЫ ВОДА НЕ ОСТЫЛА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285720" y="0"/>
            <a:ext cx="168588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4 этап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4" descr="P310115_1949"/>
          <p:cNvPicPr/>
          <p:nvPr/>
        </p:nvPicPr>
        <p:blipFill>
          <a:blip r:embed="rId1"/>
          <a:stretch/>
        </p:blipFill>
        <p:spPr>
          <a:xfrm>
            <a:off x="2214720" y="3286080"/>
            <a:ext cx="485748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746784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ПОСЛЕ КАК ЖЕЛАТИН РАСТВОРИТСЯ ВЗБИВАЙТЕ МИКСЕРОМ 5 МИН ПОСЛЕ ДАДИТЕ ОТДОХНУТЬ И ПОТОМ ОПЯТЬ ВЗБИВАЙТЕ 5 МИН.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357720" y="0"/>
            <a:ext cx="161424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5 этап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9" descr="P310115_1951"/>
          <p:cNvPicPr/>
          <p:nvPr/>
        </p:nvPicPr>
        <p:blipFill>
          <a:blip r:embed="rId1"/>
          <a:stretch/>
        </p:blipFill>
        <p:spPr>
          <a:xfrm>
            <a:off x="714240" y="3000240"/>
            <a:ext cx="3506760" cy="3391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P310115_2014"/>
          <p:cNvPicPr/>
          <p:nvPr/>
        </p:nvPicPr>
        <p:blipFill>
          <a:blip r:embed="rId2"/>
          <a:stretch/>
        </p:blipFill>
        <p:spPr>
          <a:xfrm>
            <a:off x="4572000" y="3000240"/>
            <a:ext cx="350028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85520" y="785880"/>
            <a:ext cx="74674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ПОСЛЕ ПОЛОЖИТЕ НА 20 МИН ЛЕПЕШКАМИ  НА ДЕРЕВЯННУЮ ДОСКУ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214440" y="-360"/>
            <a:ext cx="17571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6 этап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Рисунок 4" descr="P310115_2042.jpg"/>
          <p:cNvPicPr/>
          <p:nvPr/>
        </p:nvPicPr>
        <p:blipFill>
          <a:blip r:embed="rId1"/>
          <a:stretch/>
        </p:blipFill>
        <p:spPr>
          <a:xfrm>
            <a:off x="1928880" y="235728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14680" y="499680"/>
            <a:ext cx="535752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entury Schoolbook"/>
              </a:rPr>
              <a:t>ПРИЯТНОГО АППЕТИТА!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Picture 4" descr="P310115_2041"/>
          <p:cNvPicPr/>
          <p:nvPr/>
        </p:nvPicPr>
        <p:blipFill>
          <a:blip r:embed="rId1"/>
          <a:stretch/>
        </p:blipFill>
        <p:spPr>
          <a:xfrm>
            <a:off x="2143080" y="3286080"/>
            <a:ext cx="464364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18:05:04Z</dcterms:created>
  <dc:creator>Serg</dc:creator>
  <dc:description/>
  <dc:language>en-US</dc:language>
  <cp:lastModifiedBy>ученик 8</cp:lastModifiedBy>
  <dcterms:modified xsi:type="dcterms:W3CDTF">2015-02-02T11:23:51Z</dcterms:modified>
  <cp:revision>6</cp:revision>
  <dc:subject/>
  <dc:title>Готовка зефира</dc:title>
</cp:coreProperties>
</file>