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B57-A2BC-40A1-91D9-6DE6D148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04B-A641-4539-97D6-8534F056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9CF-AAF3-4B0D-9937-AF88AA09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A0B-E9F9-44EC-9524-98FC59F1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3DD1-464F-41B8-92E9-78052935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FC29-EBC0-4815-97A8-325B5C42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9C52-D542-4F4D-A8A8-458EFD4F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5CC8-B0CE-403C-B071-36F2B1DD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18F0-262D-45D4-A227-94C2043C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92C9-5D7B-41D8-AFC7-190C5A5F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462F-F576-4C81-8617-C2958C9A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4E2-E7F9-486D-B07E-84E3083A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92B9-D58D-47F7-8A11-D95DC24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8A00-D476-4696-A6B7-179C8296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20EE-6E9A-4A0E-AC46-C49C7722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2A28-8E1E-4D3B-BA03-4EBECF35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9246-3076-4437-B37D-45AF257C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231C0-4721-4D0A-A172-98941B05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FA7D-C1F0-4407-8269-EFC623DC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7EE6-F66B-4E1B-9549-258683EF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3B17E-C224-4D8A-B581-5827D6CB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D4F51-BFC5-4701-B424-E8B8B08F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044-673D-4C80-A08C-55FB4CB7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E1E6-9C73-4537-88E7-3B1B223A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E234B-95DB-4EB7-BA89-ED4E8049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A3DD-B6DF-4F36-8084-2AC0A525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B347-0C80-43A8-BCAE-F80CD24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2EA6-A188-4E53-8947-606585FF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0267-6823-40F5-9FFD-84FF5391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C50E-1164-476E-A7C4-235927D4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6E462-E843-46F8-B1A0-5C033D56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C1D64-BDA6-4AB4-AC47-30E8E25B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D4FD1-5E39-468A-B9DB-5D9FBC39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E18-AAD6-4E52-83E4-EC8F0287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16B3D-2445-42AF-946F-3ED8CDD6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A177-4B30-41C9-9231-61E97B46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192B-EF0B-4AD0-92BB-8ADD0F8C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A2A96-86B9-4DDD-B69B-5989961A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A207-C97E-46C0-AC03-387AA7C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0DB3F-EDE9-4988-90DB-B662659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88B8C-5EFB-4CBB-959E-763A46D3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0B983-1E94-427E-80F9-A1E6B007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4C18C-F5EA-4761-8746-4336E343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46930-AF64-4E8C-BFF3-177FA70E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300-CA8E-44BD-ADB8-81E4CEC3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6968-3803-4F13-9FCE-4AEF70D9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7F702-9E74-4640-A433-C2A34BB9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89AF0-D214-4A18-9398-D3E3DE4B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4382E-1EE8-4307-8CB0-B71AF6B6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AC3CB-2B12-42E5-AD06-27BCDE8F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61E39-72AE-4F09-8357-F6B75F2F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3574-3791-47E3-AA80-8AC57034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CF6B0-AAA4-45FA-A13E-7E6AD01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5A9BE-BBC3-4552-BFA3-5005E56E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DFA4D-B854-45A0-B5F1-F35C4AA7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CBA-ACC1-401A-B708-483AC64F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33DE-A4DC-44BD-9B6F-BBA880D8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8EA-0E16-4743-A702-7EB6520E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703-49EA-4C57-925E-47799DCB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9F8-9912-4AAB-8B9A-A4B9285E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5274-8FCA-4337-8739-7090AA14742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1B6D-3159-411C-9060-0FB6F29F3DC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344C-D64E-491B-A844-9E292868997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0E07-DB98-43F7-9A29-BE738B84058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1C22-8A1B-4186-AA25-57AEEB94792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16430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стория возникновения, развития экологического законодательства и формирования экологического прав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785880" y="642960"/>
            <a:ext cx="74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БОУ СПО МО «Волоколамский колледж права экономики и безопас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4081680" y="60213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6265440" y="5300640"/>
            <a:ext cx="237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ка группы ПОСО-2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леусова Оль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оветский пери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Picture 2" descr="C:\Users\admin\Desktop\Презентация\Земельный кодекс РСФСР .jpg"/>
          <p:cNvPicPr/>
          <p:nvPr/>
        </p:nvPicPr>
        <p:blipFill>
          <a:blip r:embed="rId1"/>
          <a:stretch/>
        </p:blipFill>
        <p:spPr>
          <a:xfrm>
            <a:off x="642960" y="357120"/>
            <a:ext cx="3260880" cy="4525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857160" y="492912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емельный кодекс РСФСР (192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C:\Users\admin\Desktop\Презентация\Лесной кодекс РСФСР.jpg"/>
          <p:cNvPicPr/>
          <p:nvPr/>
        </p:nvPicPr>
        <p:blipFill>
          <a:blip r:embed="rId2"/>
          <a:stretch/>
        </p:blipFill>
        <p:spPr>
          <a:xfrm>
            <a:off x="4834080" y="407880"/>
            <a:ext cx="3286080" cy="4256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4929120" y="478620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есной кодекс РСФСР (192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00720" y="333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Декрет о земл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Picture 2" descr="C:\Users\admin\Desktop\Презентация\декрет о земле.jpg"/>
          <p:cNvPicPr/>
          <p:nvPr/>
        </p:nvPicPr>
        <p:blipFill>
          <a:blip r:embed="rId1"/>
          <a:stretch/>
        </p:blipFill>
        <p:spPr>
          <a:xfrm>
            <a:off x="539640" y="517680"/>
            <a:ext cx="3745080" cy="5179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Users\admin\Desktop\Презентация\Декрет о земле 1.jpg"/>
          <p:cNvPicPr/>
          <p:nvPr/>
        </p:nvPicPr>
        <p:blipFill>
          <a:blip r:embed="rId2"/>
          <a:stretch/>
        </p:blipFill>
        <p:spPr>
          <a:xfrm>
            <a:off x="4932360" y="1413000"/>
            <a:ext cx="3292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928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родоресурсное законодательство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Picture 2" descr="C:\Users\admin\Desktop\Презентация\природопользование.jpg"/>
          <p:cNvPicPr/>
          <p:nvPr/>
        </p:nvPicPr>
        <p:blipFill>
          <a:blip r:embed="rId1"/>
          <a:stretch/>
        </p:blipFill>
        <p:spPr>
          <a:xfrm>
            <a:off x="1428840" y="357120"/>
            <a:ext cx="621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2" descr="http://xvatit.com/upload/medialibrary/7f4/7f420356ea27f63fcbeb411f801f969a.jpg"/>
          <p:cNvPicPr/>
          <p:nvPr/>
        </p:nvPicPr>
        <p:blipFill>
          <a:blip r:embed="rId1"/>
          <a:stretch/>
        </p:blipFill>
        <p:spPr>
          <a:xfrm>
            <a:off x="1643040" y="0"/>
            <a:ext cx="578664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етий этап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едеральные зако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2" descr="C:\Users\admin\Desktop\699717.jpg"/>
          <p:cNvPicPr/>
          <p:nvPr/>
        </p:nvPicPr>
        <p:blipFill>
          <a:blip r:embed="rId1"/>
          <a:stretch/>
        </p:blipFill>
        <p:spPr>
          <a:xfrm>
            <a:off x="928800" y="571680"/>
            <a:ext cx="2952720" cy="4354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Users\admin\Desktop\359499.jpg"/>
          <p:cNvPicPr/>
          <p:nvPr/>
        </p:nvPicPr>
        <p:blipFill>
          <a:blip r:embed="rId2"/>
          <a:stretch/>
        </p:blipFill>
        <p:spPr>
          <a:xfrm>
            <a:off x="5357880" y="571680"/>
            <a:ext cx="2808360" cy="40734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1000080" y="5000760"/>
            <a:ext cx="28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ФЗ «Об охране окружающей среды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429160" y="4714920"/>
            <a:ext cx="268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ФЗ «Об охране атмосферного воздуха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Рисунок 3" descr="0024-024-Ekologicheskoe-zakonodatelstvo-RF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71680" y="157176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ейшим принципом формирования экологического законодательства на современном этапе является его гармонизация с передовым мировым законодательств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вод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пасибо за вним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2071800"/>
            <a:ext cx="818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ервый этап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471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ая правд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2" descr="C:\Users\admin\Desktop\Презентация\Русская правда.jpg"/>
          <p:cNvPicPr/>
          <p:nvPr/>
        </p:nvPicPr>
        <p:blipFill>
          <a:blip r:embed="rId1"/>
          <a:stretch/>
        </p:blipFill>
        <p:spPr>
          <a:xfrm>
            <a:off x="539640" y="1557360"/>
            <a:ext cx="4713480" cy="2519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Users\admin\Desktop\Презентация\Русская правда 1.jpg"/>
          <p:cNvPicPr/>
          <p:nvPr/>
        </p:nvPicPr>
        <p:blipFill>
          <a:blip r:embed="rId2"/>
          <a:stretch/>
        </p:blipFill>
        <p:spPr>
          <a:xfrm>
            <a:off x="5435640" y="620640"/>
            <a:ext cx="3267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странная правд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Picture 2" descr="C:\Users\admin\Desktop\Презентация\пространная правда.JPG"/>
          <p:cNvPicPr/>
          <p:nvPr/>
        </p:nvPicPr>
        <p:blipFill>
          <a:blip r:embed="rId1"/>
          <a:stretch/>
        </p:blipFill>
        <p:spPr>
          <a:xfrm>
            <a:off x="1143000" y="428760"/>
            <a:ext cx="69850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219280" y="12679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се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Picture 2" descr="C:\Users\admin\Desktop\Презентация\засека.jpg"/>
          <p:cNvPicPr/>
          <p:nvPr/>
        </p:nvPicPr>
        <p:blipFill>
          <a:blip r:embed="rId1"/>
          <a:stretch/>
        </p:blipFill>
        <p:spPr>
          <a:xfrm>
            <a:off x="250920" y="549360"/>
            <a:ext cx="4608360" cy="2601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Users\admin\Desktop\Презентация\засека1.jpg"/>
          <p:cNvPicPr/>
          <p:nvPr/>
        </p:nvPicPr>
        <p:blipFill>
          <a:blip r:embed="rId2"/>
          <a:stretch/>
        </p:blipFill>
        <p:spPr>
          <a:xfrm>
            <a:off x="4716360" y="3500280"/>
            <a:ext cx="38401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92480" y="14839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оболиная ох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Picture 2" descr="C:\Users\admin\Desktop\Презентация\соболиная охота.gif"/>
          <p:cNvPicPr/>
          <p:nvPr/>
        </p:nvPicPr>
        <p:blipFill>
          <a:blip r:embed="rId1"/>
          <a:stretch/>
        </p:blipFill>
        <p:spPr>
          <a:xfrm>
            <a:off x="468360" y="907920"/>
            <a:ext cx="3502080" cy="3241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admin\Desktop\Презентация\соболиная охота.jpg"/>
          <p:cNvPicPr/>
          <p:nvPr/>
        </p:nvPicPr>
        <p:blipFill>
          <a:blip r:embed="rId2"/>
          <a:stretch/>
        </p:blipFill>
        <p:spPr>
          <a:xfrm>
            <a:off x="4427640" y="3213000"/>
            <a:ext cx="4105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0040" y="4929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каз Петра 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2" descr="C:\Users\admin\Desktop\Презентация\пётр 1.jpg"/>
          <p:cNvPicPr/>
          <p:nvPr/>
        </p:nvPicPr>
        <p:blipFill>
          <a:blip r:embed="rId1"/>
          <a:stretch/>
        </p:blipFill>
        <p:spPr>
          <a:xfrm>
            <a:off x="571680" y="571680"/>
            <a:ext cx="3460680" cy="452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\Desktop\Презентация\указ петра 1.jpg"/>
          <p:cNvPicPr/>
          <p:nvPr/>
        </p:nvPicPr>
        <p:blipFill>
          <a:blip r:embed="rId2"/>
          <a:stretch/>
        </p:blipFill>
        <p:spPr>
          <a:xfrm>
            <a:off x="4214880" y="1285920"/>
            <a:ext cx="4368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680" y="4571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толыпинская реформ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2" descr="C:\Users\admin\Desktop\5a824ccd90.jpg"/>
          <p:cNvPicPr/>
          <p:nvPr/>
        </p:nvPicPr>
        <p:blipFill>
          <a:blip r:embed="rId1"/>
          <a:stretch/>
        </p:blipFill>
        <p:spPr>
          <a:xfrm>
            <a:off x="642960" y="1500120"/>
            <a:ext cx="2857320" cy="2657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admin\Desktop\TASS_426093_copy.jpg"/>
          <p:cNvPicPr/>
          <p:nvPr/>
        </p:nvPicPr>
        <p:blipFill>
          <a:blip r:embed="rId2"/>
          <a:stretch/>
        </p:blipFill>
        <p:spPr>
          <a:xfrm>
            <a:off x="3714840" y="1285920"/>
            <a:ext cx="48877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торой этап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4:08:08Z</dcterms:created>
  <dc:creator>ggg</dc:creator>
  <dc:description/>
  <dc:language>en-US</dc:language>
  <cp:lastModifiedBy>Алексей Пастухов</cp:lastModifiedBy>
  <dcterms:modified xsi:type="dcterms:W3CDTF">2015-02-02T13:39:43Z</dcterms:modified>
  <cp:revision>15</cp:revision>
  <dc:subject/>
  <dc:title>История возникновения, развития экологического законодательства и формирования экологического права</dc:title>
</cp:coreProperties>
</file>