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6.jpeg" ContentType="image/jpeg"/>
  <Override PartName="/ppt/media/image5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4.jpeg" ContentType="image/jpeg"/>
  <Override PartName="/ppt/media/image4.jpeg" ContentType="image/jpeg"/>
  <Override PartName="/ppt/media/image2.png" ContentType="image/png"/>
  <Override PartName="/ppt/media/image1.png" ContentType="image/png"/>
  <Override PartName="/ppt/media/image17.jpeg" ContentType="image/jpeg"/>
  <Override PartName="/ppt/media/image3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14C62-B524-474B-9B2A-115CE2196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0B811-2C80-4E6A-8B23-34027AF8E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727B3-3AFF-49AD-9CFE-EA75F72BF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D0B8D-0AC2-4C0E-898C-7D780D85D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05809-366C-4AF8-863E-3F5FE4DFB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5581C-786D-4526-AF2E-82D583BEC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363E6-812B-4A29-B40E-6F0FCCA2A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8F2D4-8492-4306-B3BF-00013E3E7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CFCD7-3352-4B21-9032-F4C7A4CDD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AC7BF-25B4-48F8-9645-39260A422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D51D6-2BD5-49D5-871D-26C0C7787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19FA2-01F0-49D1-A9C6-327E9E671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D5A66-4995-408E-A430-1413B475E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71A28-F093-422A-94A4-6D5956A44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613CB-E13B-42FB-8D59-5BE5859B2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7939C-7B7A-4A11-8322-B29F8CD5A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5F184-DDC1-4745-8DBB-DFFC77C30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28CB24-D527-4AD3-B37E-4C342D72C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ECBEE1-26A2-41B7-9070-E96C44E0F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266617-83D9-4EC1-AF30-612F7467D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1AC6F8-0693-43D0-83F2-8B620FC60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233F97-37E1-4383-BD5C-59757D6F3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C1F78-697F-4F6F-BF39-7758A14CA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2179B3-E17F-4E06-AAE4-12644E555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D46730-B16D-4622-B3F2-45166FDAF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4DDB93-F62F-4E6C-B88D-B659F034C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C5E419-ED74-45FD-87E7-848879E70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42B628-F53F-44D4-929E-126DD3162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3C7169-E5B2-4EB2-B1E9-E1450FF0C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A54A34-3B99-49CF-829B-936DF9EEC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0C2E33-0F36-459D-BF2B-97B746460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7A3F84-722F-4E55-B573-33B6DB4DA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7B634A-7010-4420-AC76-7DE588CC8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622C7-6362-4EDF-8061-E9AF714AB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8D19D7-118E-409E-8A4A-32A298757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F57E9F-B032-4976-82F5-638A61586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71E389-F8C5-4553-99C6-D00CBC067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D2AB53-D642-4ED3-A34A-689634492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3E1C12-0BCF-429C-9933-B4A924197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D1AAD0-795A-4FDB-8BDF-8E1BA5F2E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ABD5C0-0254-4CDB-8BED-45B7844C0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A9FF0E-9C32-46E1-B8B1-33CDB0D4C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912126-CCD8-481D-92FD-7762BBE0E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A4747F-2036-46F1-9B67-786DA3467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1BC98-A56A-436F-BBD3-FF0F8CD2D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695438-AACC-4584-BA39-D36F8418C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2A5B00-FAA5-4603-9B6E-8BBC75D4C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D34E0C-D108-4BFE-89B9-C065002D9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0488C5-EF82-427F-8953-B2DF744B2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4E8402-FCDB-4A28-9AA8-DFF29AAD2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748236-4CE5-496E-88EA-FB1AAA695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EB763D-4697-4DC9-86E8-3B894B95C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3CB112-69DC-4FB1-AEA7-C60260205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0AD8CC-DF7E-4734-B33C-472380A56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F91DFA-4530-4C3A-90E2-C9A5AF903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2630F-E44A-4759-9095-7D2646FED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8877B2-2139-444D-8F17-DC9CAE568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0EA69-814B-4717-AEF3-B39AE6DC5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E8EF6-C7DD-4B0E-8072-989D34A79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708F8-7002-4204-8F18-97E928032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B6651-9F6D-4070-A26F-559A23C685EE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20840" y="433440"/>
            <a:ext cx="8302320" cy="3108240"/>
            <a:chOff x="420840" y="433440"/>
            <a:chExt cx="8302320" cy="310824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310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D249D-9FD9-4297-8AFA-B41A6AFCCCB1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20840" y="433440"/>
            <a:ext cx="8302320" cy="4340160"/>
            <a:chOff x="420840" y="433440"/>
            <a:chExt cx="8302320" cy="434016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434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51BBA-5154-40E7-82D4-EA53B547CC00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D284E-A12C-4B64-A539-58742E11E31C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/>
            <a:ahLst/>
            <a:rect l="l" t="t" r="r" b="b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cubicBezTo>
                  <a:pt x="2295506" y="0"/>
                  <a:pt x="2324100" y="28594"/>
                  <a:pt x="2324100" y="63866"/>
                </a:cubicBezTo>
                <a:lnTo>
                  <a:pt x="2324100" y="4343400"/>
                </a:lnTo>
                <a:lnTo>
                  <a:pt x="0" y="4343400"/>
                </a:lnTo>
                <a:lnTo>
                  <a:pt x="0" y="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9297E-CB7F-4D55-9DFF-494391497DAD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42960" y="164304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История возникновения, развития экологического законодательства и формирования экологического права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1" name="TextBox 3"/>
          <p:cNvSpPr/>
          <p:nvPr/>
        </p:nvSpPr>
        <p:spPr>
          <a:xfrm>
            <a:off x="785880" y="642960"/>
            <a:ext cx="748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ГБОУ СПО МО «Волоколамский колледж права экономики и безопасности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2"/>
          <p:cNvSpPr/>
          <p:nvPr/>
        </p:nvSpPr>
        <p:spPr>
          <a:xfrm>
            <a:off x="4081680" y="6021360"/>
            <a:ext cx="89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013 го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Box 3"/>
          <p:cNvSpPr/>
          <p:nvPr/>
        </p:nvSpPr>
        <p:spPr>
          <a:xfrm>
            <a:off x="6265440" y="5300640"/>
            <a:ext cx="2370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дготовила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тудентка группы ПОСО-2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олеусова Ольг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Советский период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44" name="Picture 2" descr="C:\Users\admin\Desktop\Презентация\Земельный кодекс РСФСР .jpg"/>
          <p:cNvPicPr/>
          <p:nvPr/>
        </p:nvPicPr>
        <p:blipFill>
          <a:blip r:embed="rId1"/>
          <a:stretch/>
        </p:blipFill>
        <p:spPr>
          <a:xfrm>
            <a:off x="642960" y="357120"/>
            <a:ext cx="3260880" cy="4525920"/>
          </a:xfrm>
          <a:prstGeom prst="rect">
            <a:avLst/>
          </a:prstGeom>
          <a:ln w="0">
            <a:noFill/>
          </a:ln>
        </p:spPr>
      </p:pic>
      <p:sp>
        <p:nvSpPr>
          <p:cNvPr id="245" name="TextBox 4"/>
          <p:cNvSpPr/>
          <p:nvPr/>
        </p:nvSpPr>
        <p:spPr>
          <a:xfrm>
            <a:off x="857160" y="4929120"/>
            <a:ext cx="2879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Земельный кодекс РСФСР (1922 г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3" descr="C:\Users\admin\Desktop\Презентация\Лесной кодекс РСФСР.jpg"/>
          <p:cNvPicPr/>
          <p:nvPr/>
        </p:nvPicPr>
        <p:blipFill>
          <a:blip r:embed="rId2"/>
          <a:stretch/>
        </p:blipFill>
        <p:spPr>
          <a:xfrm>
            <a:off x="4834080" y="407880"/>
            <a:ext cx="3286080" cy="4256280"/>
          </a:xfrm>
          <a:prstGeom prst="rect">
            <a:avLst/>
          </a:prstGeom>
          <a:ln w="0">
            <a:noFill/>
          </a:ln>
        </p:spPr>
      </p:pic>
      <p:sp>
        <p:nvSpPr>
          <p:cNvPr id="247" name="TextBox 6"/>
          <p:cNvSpPr/>
          <p:nvPr/>
        </p:nvSpPr>
        <p:spPr>
          <a:xfrm>
            <a:off x="4929120" y="4786200"/>
            <a:ext cx="324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Лесной кодекс РСФСР (1923 г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00720" y="33300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Декрет о земле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49" name="Picture 2" descr="C:\Users\admin\Desktop\Презентация\декрет о земле.jpg"/>
          <p:cNvPicPr/>
          <p:nvPr/>
        </p:nvPicPr>
        <p:blipFill>
          <a:blip r:embed="rId1"/>
          <a:stretch/>
        </p:blipFill>
        <p:spPr>
          <a:xfrm>
            <a:off x="539640" y="517680"/>
            <a:ext cx="3745080" cy="517968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3" descr="C:\Users\admin\Desktop\Презентация\Декрет о земле 1.jpg"/>
          <p:cNvPicPr/>
          <p:nvPr/>
        </p:nvPicPr>
        <p:blipFill>
          <a:blip r:embed="rId2"/>
          <a:stretch/>
        </p:blipFill>
        <p:spPr>
          <a:xfrm>
            <a:off x="4932360" y="1413000"/>
            <a:ext cx="329256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0040" y="49287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Природоресурсное законодательство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52" name="Picture 2" descr="C:\Users\admin\Desktop\Презентация\природопользование.jpg"/>
          <p:cNvPicPr/>
          <p:nvPr/>
        </p:nvPicPr>
        <p:blipFill>
          <a:blip r:embed="rId1"/>
          <a:stretch/>
        </p:blipFill>
        <p:spPr>
          <a:xfrm>
            <a:off x="1428840" y="357120"/>
            <a:ext cx="62197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5" name="Picture 2" descr="http://xvatit.com/upload/medialibrary/7f4/7f420356ea27f63fcbeb411f801f969a.jpg"/>
          <p:cNvPicPr/>
          <p:nvPr/>
        </p:nvPicPr>
        <p:blipFill>
          <a:blip r:embed="rId1"/>
          <a:stretch/>
        </p:blipFill>
        <p:spPr>
          <a:xfrm>
            <a:off x="1643040" y="0"/>
            <a:ext cx="5786640" cy="682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68360" y="206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Третий этап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00040" y="478620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Федеральные законы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58" name="Picture 2" descr="C:\Users\admin\Desktop\699717.jpg"/>
          <p:cNvPicPr/>
          <p:nvPr/>
        </p:nvPicPr>
        <p:blipFill>
          <a:blip r:embed="rId1"/>
          <a:stretch/>
        </p:blipFill>
        <p:spPr>
          <a:xfrm>
            <a:off x="928800" y="571680"/>
            <a:ext cx="2952720" cy="435420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3" descr="C:\Users\admin\Desktop\359499.jpg"/>
          <p:cNvPicPr/>
          <p:nvPr/>
        </p:nvPicPr>
        <p:blipFill>
          <a:blip r:embed="rId2"/>
          <a:stretch/>
        </p:blipFill>
        <p:spPr>
          <a:xfrm>
            <a:off x="5357880" y="571680"/>
            <a:ext cx="2808360" cy="4073400"/>
          </a:xfrm>
          <a:prstGeom prst="rect">
            <a:avLst/>
          </a:prstGeom>
          <a:ln w="0">
            <a:noFill/>
          </a:ln>
        </p:spPr>
      </p:pic>
      <p:sp>
        <p:nvSpPr>
          <p:cNvPr id="260" name="TextBox 3"/>
          <p:cNvSpPr/>
          <p:nvPr/>
        </p:nvSpPr>
        <p:spPr>
          <a:xfrm>
            <a:off x="1000080" y="5000760"/>
            <a:ext cx="2808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Verdana"/>
              </a:rPr>
              <a:t>ФЗ «Об охране окружающей среды»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"/>
          <p:cNvSpPr/>
          <p:nvPr/>
        </p:nvSpPr>
        <p:spPr>
          <a:xfrm>
            <a:off x="5429160" y="4714920"/>
            <a:ext cx="2689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Verdana"/>
              </a:rPr>
              <a:t>ФЗ «Об охране атмосферного воздуха»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4" name="Рисунок 3" descr="0024-024-Ekologicheskoe-zakonodatelstvo-RF.jpg"/>
          <p:cNvPicPr/>
          <p:nvPr/>
        </p:nvPicPr>
        <p:blipFill>
          <a:blip r:embed="rId1"/>
          <a:stretch/>
        </p:blipFill>
        <p:spPr>
          <a:xfrm>
            <a:off x="0" y="214200"/>
            <a:ext cx="9144000" cy="63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 txBox="1"/>
          <p:nvPr/>
        </p:nvSpPr>
        <p:spPr>
          <a:xfrm>
            <a:off x="571680" y="1571760"/>
            <a:ext cx="8183520" cy="41875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ажнейшим принципом формирования экологического законодательства на современном этапе является его гармонизация с передовым мировым законодательством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0040" y="642960"/>
            <a:ext cx="818352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Вывод: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3964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Спасибо за внимание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28760" y="2071800"/>
            <a:ext cx="8183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Первый этап</a:t>
            </a:r>
            <a:br>
              <a:rPr sz="3600"/>
            </a:b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00040" y="47145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Русская правда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26" name="Picture 2" descr="C:\Users\admin\Desktop\Презентация\Русская правда.jpg"/>
          <p:cNvPicPr/>
          <p:nvPr/>
        </p:nvPicPr>
        <p:blipFill>
          <a:blip r:embed="rId1"/>
          <a:stretch/>
        </p:blipFill>
        <p:spPr>
          <a:xfrm>
            <a:off x="539640" y="1557360"/>
            <a:ext cx="4713480" cy="251928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3" descr="C:\Users\admin\Desktop\Презентация\Русская правда 1.jpg"/>
          <p:cNvPicPr/>
          <p:nvPr/>
        </p:nvPicPr>
        <p:blipFill>
          <a:blip r:embed="rId2"/>
          <a:stretch/>
        </p:blipFill>
        <p:spPr>
          <a:xfrm>
            <a:off x="5435640" y="620640"/>
            <a:ext cx="326700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00040" y="485748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Пространная правда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29" name="Picture 2" descr="C:\Users\admin\Desktop\Презентация\пространная правда.JPG"/>
          <p:cNvPicPr/>
          <p:nvPr/>
        </p:nvPicPr>
        <p:blipFill>
          <a:blip r:embed="rId1"/>
          <a:stretch/>
        </p:blipFill>
        <p:spPr>
          <a:xfrm>
            <a:off x="1143000" y="428760"/>
            <a:ext cx="6985080" cy="43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219280" y="1267920"/>
            <a:ext cx="368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Засека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31" name="Picture 2" descr="C:\Users\admin\Desktop\Презентация\засека.jpg"/>
          <p:cNvPicPr/>
          <p:nvPr/>
        </p:nvPicPr>
        <p:blipFill>
          <a:blip r:embed="rId1"/>
          <a:stretch/>
        </p:blipFill>
        <p:spPr>
          <a:xfrm>
            <a:off x="250920" y="549360"/>
            <a:ext cx="4608360" cy="260172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3" descr="C:\Users\admin\Desktop\Презентация\засека1.jpg"/>
          <p:cNvPicPr/>
          <p:nvPr/>
        </p:nvPicPr>
        <p:blipFill>
          <a:blip r:embed="rId2"/>
          <a:stretch/>
        </p:blipFill>
        <p:spPr>
          <a:xfrm>
            <a:off x="4716360" y="3500280"/>
            <a:ext cx="3840120" cy="23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092480" y="1483920"/>
            <a:ext cx="50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Соболиная охота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34" name="Picture 2" descr="C:\Users\admin\Desktop\Презентация\соболиная охота.gif"/>
          <p:cNvPicPr/>
          <p:nvPr/>
        </p:nvPicPr>
        <p:blipFill>
          <a:blip r:embed="rId1"/>
          <a:stretch/>
        </p:blipFill>
        <p:spPr>
          <a:xfrm>
            <a:off x="468360" y="907920"/>
            <a:ext cx="3502080" cy="324180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4" descr="C:\Users\admin\Desktop\Презентация\соболиная охота.jpg"/>
          <p:cNvPicPr/>
          <p:nvPr/>
        </p:nvPicPr>
        <p:blipFill>
          <a:blip r:embed="rId2"/>
          <a:stretch/>
        </p:blipFill>
        <p:spPr>
          <a:xfrm>
            <a:off x="4427640" y="3213000"/>
            <a:ext cx="4105080" cy="27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0040" y="4929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Указ Петра </a:t>
            </a: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I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37" name="Picture 2" descr="C:\Users\admin\Desktop\Презентация\пётр 1.jpg"/>
          <p:cNvPicPr/>
          <p:nvPr/>
        </p:nvPicPr>
        <p:blipFill>
          <a:blip r:embed="rId1"/>
          <a:stretch/>
        </p:blipFill>
        <p:spPr>
          <a:xfrm>
            <a:off x="571680" y="571680"/>
            <a:ext cx="3460680" cy="452592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3" descr="C:\Users\admin\Desktop\Презентация\указ петра 1.jpg"/>
          <p:cNvPicPr/>
          <p:nvPr/>
        </p:nvPicPr>
        <p:blipFill>
          <a:blip r:embed="rId2"/>
          <a:stretch/>
        </p:blipFill>
        <p:spPr>
          <a:xfrm>
            <a:off x="4214880" y="1285920"/>
            <a:ext cx="436860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71680" y="457164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Столыпинская реформа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40" name="Picture 2" descr="C:\Users\admin\Desktop\5a824ccd90.jpg"/>
          <p:cNvPicPr/>
          <p:nvPr/>
        </p:nvPicPr>
        <p:blipFill>
          <a:blip r:embed="rId1"/>
          <a:stretch/>
        </p:blipFill>
        <p:spPr>
          <a:xfrm>
            <a:off x="642960" y="1500120"/>
            <a:ext cx="2857320" cy="265752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3" descr="C:\Users\admin\Desktop\TASS_426093_copy.jpg"/>
          <p:cNvPicPr/>
          <p:nvPr/>
        </p:nvPicPr>
        <p:blipFill>
          <a:blip r:embed="rId2"/>
          <a:stretch/>
        </p:blipFill>
        <p:spPr>
          <a:xfrm>
            <a:off x="3714840" y="1285920"/>
            <a:ext cx="4887720" cy="32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68360" y="19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Второй этап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04T14:08:08Z</dcterms:created>
  <dc:creator>ggg</dc:creator>
  <dc:description/>
  <dc:language>en-US</dc:language>
  <cp:lastModifiedBy>Алексей Пастухов</cp:lastModifiedBy>
  <dcterms:modified xsi:type="dcterms:W3CDTF">2015-02-02T13:39:43Z</dcterms:modified>
  <cp:revision>15</cp:revision>
  <dc:subject/>
  <dc:title>История возникновения, развития экологического законодательства и формирования экологического права</dc:title>
</cp:coreProperties>
</file>