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51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</p:sldMasterIdLst>
  <p:sldIdLst>
    <p:sldId id="256" r:id="rId53"/>
    <p:sldId id="257" r:id="rId54"/>
    <p:sldId id="258" r:id="rId55"/>
    <p:sldId id="259" r:id="rId56"/>
    <p:sldId id="260" r:id="rId57"/>
    <p:sldId id="261" r:id="rId58"/>
    <p:sldId id="262" r:id="rId59"/>
    <p:sldId id="263" r:id="rId60"/>
    <p:sldId id="264" r:id="rId61"/>
    <p:sldId id="265" r:id="rId62"/>
    <p:sldId id="266" r:id="rId63"/>
    <p:sldId id="267" r:id="rId64"/>
    <p:sldId id="268" r:id="rId65"/>
    <p:sldId id="269" r:id="rId66"/>
    <p:sldId id="270" r:id="rId67"/>
    <p:sldId id="271" r:id="rId68"/>
    <p:sldId id="272" r:id="rId69"/>
    <p:sldId id="273" r:id="rId70"/>
    <p:sldId id="274" r:id="rId71"/>
    <p:sldId id="275" r:id="rId72"/>
    <p:sldId id="276" r:id="rId73"/>
    <p:sldId id="277" r:id="rId74"/>
    <p:sldId id="278" r:id="rId75"/>
    <p:sldId id="279" r:id="rId76"/>
    <p:sldId id="280" r:id="rId77"/>
    <p:sldId id="281" r:id="rId78"/>
    <p:sldId id="282" r:id="rId79"/>
    <p:sldId id="283" r:id="rId80"/>
    <p:sldId id="28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" Target="slides/slide1.xml"/><Relationship Id="rId54" Type="http://schemas.openxmlformats.org/officeDocument/2006/relationships/slide" Target="slides/slide2.xml"/><Relationship Id="rId55" Type="http://schemas.openxmlformats.org/officeDocument/2006/relationships/slide" Target="slides/slide3.xml"/><Relationship Id="rId56" Type="http://schemas.openxmlformats.org/officeDocument/2006/relationships/slide" Target="slides/slide4.xml"/><Relationship Id="rId57" Type="http://schemas.openxmlformats.org/officeDocument/2006/relationships/slide" Target="slides/slide5.xml"/><Relationship Id="rId58" Type="http://schemas.openxmlformats.org/officeDocument/2006/relationships/slide" Target="slides/slide6.xml"/><Relationship Id="rId59" Type="http://schemas.openxmlformats.org/officeDocument/2006/relationships/slide" Target="slides/slide7.xml"/><Relationship Id="rId60" Type="http://schemas.openxmlformats.org/officeDocument/2006/relationships/slide" Target="slides/slide8.xml"/><Relationship Id="rId61" Type="http://schemas.openxmlformats.org/officeDocument/2006/relationships/slide" Target="slides/slide9.xml"/><Relationship Id="rId62" Type="http://schemas.openxmlformats.org/officeDocument/2006/relationships/slide" Target="slides/slide10.xml"/><Relationship Id="rId63" Type="http://schemas.openxmlformats.org/officeDocument/2006/relationships/slide" Target="slides/slide11.xml"/><Relationship Id="rId64" Type="http://schemas.openxmlformats.org/officeDocument/2006/relationships/slide" Target="slides/slide12.xml"/><Relationship Id="rId65" Type="http://schemas.openxmlformats.org/officeDocument/2006/relationships/slide" Target="slides/slide13.xml"/><Relationship Id="rId66" Type="http://schemas.openxmlformats.org/officeDocument/2006/relationships/slide" Target="slides/slide14.xml"/><Relationship Id="rId67" Type="http://schemas.openxmlformats.org/officeDocument/2006/relationships/slide" Target="slides/slide15.xml"/><Relationship Id="rId68" Type="http://schemas.openxmlformats.org/officeDocument/2006/relationships/slide" Target="slides/slide16.xml"/><Relationship Id="rId69" Type="http://schemas.openxmlformats.org/officeDocument/2006/relationships/slide" Target="slides/slide17.xml"/><Relationship Id="rId70" Type="http://schemas.openxmlformats.org/officeDocument/2006/relationships/slide" Target="slides/slide18.xml"/><Relationship Id="rId71" Type="http://schemas.openxmlformats.org/officeDocument/2006/relationships/slide" Target="slides/slide19.xml"/><Relationship Id="rId72" Type="http://schemas.openxmlformats.org/officeDocument/2006/relationships/slide" Target="slides/slide20.xml"/><Relationship Id="rId73" Type="http://schemas.openxmlformats.org/officeDocument/2006/relationships/slide" Target="slides/slide21.xml"/><Relationship Id="rId74" Type="http://schemas.openxmlformats.org/officeDocument/2006/relationships/slide" Target="slides/slide22.xml"/><Relationship Id="rId75" Type="http://schemas.openxmlformats.org/officeDocument/2006/relationships/slide" Target="slides/slide23.xml"/><Relationship Id="rId76" Type="http://schemas.openxmlformats.org/officeDocument/2006/relationships/slide" Target="slides/slide24.xml"/><Relationship Id="rId77" Type="http://schemas.openxmlformats.org/officeDocument/2006/relationships/slide" Target="slides/slide25.xml"/><Relationship Id="rId78" Type="http://schemas.openxmlformats.org/officeDocument/2006/relationships/slide" Target="slides/slide26.xml"/><Relationship Id="rId79" Type="http://schemas.openxmlformats.org/officeDocument/2006/relationships/slide" Target="slides/slide27.xml"/><Relationship Id="rId80" Type="http://schemas.openxmlformats.org/officeDocument/2006/relationships/slide" Target="slides/slide28.xml"/><Relationship Id="rId81" Type="http://schemas.openxmlformats.org/officeDocument/2006/relationships/slide" Target="slides/slide2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B90-A938-4365-ABA8-3ABAA140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767-A79D-44EB-8A16-D5C40C21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13910-1406-4FCE-B88C-4FB6277D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F4958-BBA5-48A8-90DF-CA891B5F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A706E-8040-415C-9D89-CEFB6ECA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D4947-787E-435B-8D9E-8A1365BA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D2373-18D2-494B-A723-18D30820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0CE86-D1F1-4202-B3D6-8BFB8C1A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90551-DB66-4828-B889-68696397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F4E6C-E942-4D09-86E1-32DEC822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C6747-698A-45A1-A0BD-56510315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CDBA9-D941-4B51-BBE1-2A7433A5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A1A-4734-458D-9F31-ED16C114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8B29A-E0CA-42FB-9D3F-7F3AAD46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87C1F-47BD-49BB-AE00-F36FF65C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FC43A-4D3E-4607-8087-F2E8851E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43357-DF8D-4897-9699-9F007C3C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DCF60-6DB0-4DEA-9444-00A405AA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1B69A-259C-45B7-99A5-77D82DE8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5AC3A-0B10-496F-A509-6939DD1E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64E6E-F564-4B4F-9D91-0E8954A9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B716F-FF47-430F-90B6-12898F8B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51246-33E9-438F-AF2F-7B357FDD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67F-E9E5-41CC-A1E5-222350E1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FAA68-4FF4-4FA8-8ACB-8160559F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34C5B-6969-4DEE-80E5-350CA910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B6C3B-99F0-4624-837A-2B637EF7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9E888-2B9E-4E12-AE93-E8C50D9B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9A04C-0344-42A5-9504-DB531FA3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482C9-A0B9-40E5-8B71-D85F5C14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A7F6C-295A-4F78-94D3-7E50B0CF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F2E66-BD1D-4CFA-BD50-AF63A864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7524F-7C35-4CA5-8E74-EAA17EA3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A5518-9110-47FA-A44D-EDD22D32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C656-6DD0-4CC7-BB4D-3C7C9F15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5CA7A-A9CF-4AEA-89B5-E0DDFE2A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03C5F-9925-4BA4-948E-C59A0A48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919D0-C42B-46BF-ACE4-8AF43949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62BA0-2C08-47BA-BCDF-7FA90D97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1E35B-719C-48CE-8544-E423718B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E0643-BDD8-4898-8C3F-AE96C914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DE499-E577-4F58-A8C1-A9AD6322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4BAA2-08A8-4945-B52D-215EAF5A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197E8-DF7D-4A96-B42F-4EC285E8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5DE4A-2328-478F-99D3-70EB3A9C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FAB2-8674-4329-9290-194F3F18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EA38C-8F92-417E-A3B0-2C912B3D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CCBBD-3587-4068-94BE-0AD7B67F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3A249-5D52-4F50-B504-84E2CC4D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D544D-009B-4529-8422-0212F92F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04E5E-6A0B-42AD-93D0-5F39E542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52624-BFEE-4E25-8E04-40FEE9E4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A2D29-725B-4F92-9848-18FB7ECB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F97B7-C771-4B56-A124-2810F774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4C54C-FFBF-49AA-AF84-7BF9AE39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88BB8E-4F65-4BF5-83D3-30701A31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5252-9160-4A53-9D8D-AB68412D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6535C-523A-4A5E-B9C0-B4AF3991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EB1E2-DA32-41FC-8114-FF04C3E5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20D12-326D-4EDE-BB97-4C36AD06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6BB59-2755-4A96-96D8-755EA2CF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3FA1D-15A4-4843-9744-784F3E89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3D3A51-FF0D-4449-B601-E87E6768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1C003-7ED4-4A48-A7D9-8F206B85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98B3E-FF01-4091-8361-4CA3F576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463E23-D138-4B28-95B6-4B0F0787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CB675-32F4-4A16-B13B-7EB8F836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655C-7476-47A0-85B1-4AD2491E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8E717-DA1D-4E2E-8E7C-246F5FD5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E06FA-EFB6-4319-9A32-9D9DC2F8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40AD6B-2C40-47D2-9483-CB7E4C8A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EA22F-53C7-43CD-BC16-E6E4E1BD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35818-B72D-4876-B686-1E262696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8BD564-A1C5-475F-9EBC-F95C974A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E6FF9-0EC2-4E4C-8272-04FD584C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7120A-B426-4A4B-952D-8C162AD2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16F5B-C959-4CE6-A98B-4433A31B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3B7F1E-FC9F-4E55-8B51-FCFDA452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2F93-575B-4592-BABF-3AE65A8D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AFEA74-7FF0-4CE2-BFB5-B9CD3471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7DD42-4A4C-40A1-B806-0FD17CB7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737D4-0337-4C85-9E94-B86091C1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C9F8A-2D6B-4262-91D5-B60AE592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25E97E-639E-4BEF-ABF5-A83AFB5F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C62282-54E4-49A4-B42B-1D0F6C34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003AD0-E83C-4349-84E5-27217136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A6B09-FAC5-4EC2-B911-814FAB6D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6E39EB-F24D-4C04-82F9-ABB0BE7F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A3DB0D-8A83-454E-8AC5-B6DCB4D5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8F08-594C-458F-90E8-54EF5591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5E664-B38C-4488-A4C6-62973E00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39A5B-8FA0-4F6B-940B-A7B47101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48EFB-BC2F-4303-A343-5592A056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E38B42-AB25-41D1-B4CF-3D985752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4D12C-35FE-41C8-AF01-72180F1B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A3BF61-C788-407A-B9B9-8543DE24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51D82F-B3F8-45D8-9903-BC1788B5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0F565E-CE15-441B-B3CE-00E85299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BE5798-E4C8-489C-8188-308982C8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B682E4-59D3-4C83-96A4-73D976F7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9E9E-D1E3-49B2-8910-455BCDD0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1EA6E5-C2A6-4179-96A0-81EFF11D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DD3CFB-1E22-4A23-AFAF-F420FA4A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2C6EE-10E8-4AE2-8DC0-843C414C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1AC49D-E881-4A18-857B-7D068E58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040DC1-7658-4D40-B0E8-BF568E36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32433-ED7C-45E8-B237-24C6FB5A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0BEB1C-CA67-420F-9217-87396CEB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1F4FFC-F169-4520-972C-745529B3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B752CA-45CF-43BA-BA8C-3C7F36C2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E93E57-4740-4732-AE5B-A5B04801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5A6-D91E-4FBF-B4C1-EAFDBD80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9BB1-12D6-4F94-8A58-888E9893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A2F10A-1ABE-46D4-9EBC-3D626700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DD81A4-C8C0-4E78-AAC2-582CEAA5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4FEB3C-F369-4426-9047-7CD124FA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916CD9-42C0-4DA5-9E16-94FA3599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E3ABE5-191C-44D5-A473-427F2D22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75E2E0-F48B-4163-854C-765EA695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4A50D4-511E-4E70-B690-3B86EA53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BDFD4B-CF98-458B-B43F-EA6379B7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B8BE8B-3682-4D0D-A59F-3C0B7AD2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304351-CECE-4C5D-8AEA-E7B6B248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61D4-417C-4026-A1D7-2FB08480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C04E52-0DFC-446C-86A1-EC498EDF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AB0633-7787-489E-9B5E-2F2EB8AF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F0C40F-C8E4-4B99-8E76-A866BA1C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CEF2C9-4E97-4B77-8A81-42D3CD17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57BA1B-38BB-4A04-A5BC-B471E651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92F2A5-5F67-480B-AD97-4DAA4301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43D030-BA55-4D04-ABF3-91A16BDE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7A8B93-05C9-451D-926E-9AAAB51E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CC4A9E-4950-441C-BA0B-0D06E30D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CC1802-A2C7-4844-9E95-0E0C9C31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D882-97BE-4DCC-A9FE-47DD102F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298C3-0441-4DF9-A9A7-D8C168DF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7000DB-7C3D-4F76-A2D7-DED275A8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926295-4748-4470-8DC4-67585173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08F8EE-DBA3-48B8-8DEE-C60376B0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4F082B-BC5C-471C-9DB6-7F38E9C4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9B675A-D9AB-43DA-B164-545C79C5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9C364B-66EB-41C3-BD9E-6DE9C0FD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E1C493-FF36-4B50-868C-10B78086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48EB33-A2FF-4A10-A481-3957CF06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B18AD9-FAB5-45F1-80BB-0C979EF4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6BEF-D858-4E11-9E9C-A49CC77A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C6F587-73FA-4DF3-85A2-D04EB5DE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FE8AD-B933-4712-ABF5-1CEF2D07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77ED66-1DDF-4A35-80FB-7DC963EA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108AF0-E696-4F6D-ADCA-EA60C709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2BC39E-8171-4AC8-971B-A8530518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A368F0-D8FC-4158-81CF-2D52B65C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C0C2AC-D2BD-466D-87C7-D08951D3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0C73CE-2EBA-4899-94CD-A68361A3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489F22-6443-48D3-901A-56D408C4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EDA8EA-22C0-4D99-A3EF-896DC5A0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C9F1-3127-4833-AD9B-3D9FC0C7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1D6632-55C1-4179-A039-AF70FBEE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D954B0-70E5-4560-A875-36FA898A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9ED19C-811D-4DDF-AA66-CD8FA443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8A4CBB-813D-4E7D-AC2E-7154ECC6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CF16A9-DCA2-439B-B527-29B58F59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5B8684-10A4-4D33-99A2-4267D6CE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2EF971-235A-4B74-9FBA-C7A09193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50B08F-58E0-4944-B749-33CC7936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D27DF7-8A10-46D9-997F-17D3E32C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8DA690-D5C3-4122-9751-6287FF93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579A-8B22-45C2-A0A2-1CD3C2C1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03A92A-67E6-483D-9270-8B293308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781994-8EBF-48CF-8011-E361E5FB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9ECC72-BEA1-4C0A-BE89-10AD53D3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55E07A-0832-4B27-91FC-5F1A427E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6C88CF-726B-48B7-8CB9-143A3466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8C03B6-F00D-4E4B-8B9D-54653D37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5A7C24-6B90-41D6-82C1-36026B29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AC5E83-4CDA-4AD1-8A2B-7060CEA0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1F1A61-6B86-4065-9F2B-900A069B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86BBAE-598B-43F3-96EA-A48CA9C8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17BE-621E-4992-AB57-53EFAB2B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E997E7-6A7E-4E08-9E09-954C65A5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B0C058-FD77-42AD-9CF3-B7A952B6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A4F75A-C5E3-4B6E-BED5-02A22EAE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579BAC-C935-49FA-9514-D38EFA31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E9CF28-005B-43AE-8EC8-9E6B2776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8A3316-C2BA-46A6-A2CD-DB5C781E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A87FCA-0F37-4970-B8BD-3F18A6B2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53A505-5A85-49C1-9E1B-93250E2A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14BFBA-2EB0-424F-819C-5C10F07A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A28C0D-553E-438B-A734-07647918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E850D-49C6-4E9F-9933-3C97F544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403FA9-FA69-4B17-A9A0-A677DA3E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1884C3-4058-4365-929E-428F2ECF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9150D9-8A2A-4D58-B525-1582E3CF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56A0E7-87CC-47C3-AA59-3621D97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20D6B3-0918-4F8E-AA00-019EAE3E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9AF2E2-7B79-4AFE-9DFA-BC5B165A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BA4E8F-FC0B-481E-84E2-98E1BCBD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1576EB-8B46-43DE-BF77-6D91C718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AAFD0D-9D7C-4264-A9BF-E52DCB9B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A2F053-AE14-491B-8C68-59D248D3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C02C2-5925-4D47-8A71-CB56B988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7B7BC6-F52C-4807-8DC1-5C7A38C2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8AFAA7-8F5D-4132-AB05-E2F94AD3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AB59F7-30F5-400D-B965-657919D5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36B161-1BD4-4D16-B9A2-5AF7DD28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79D903-C476-4857-B86A-9CE339E0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9ECF3F-8883-4782-A78F-0F13004A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30FF1B-1224-40C6-AB39-3736A96B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0BCE03-9172-40E4-B1F9-105C57F3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66D327-82A4-4B25-919E-CB31D1C0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68E732-633B-4464-B8D1-86D5CFDA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0A41-BD69-43EF-91E7-08C86F3A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B2B702-A907-490F-8825-F4F8556F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343633-7268-48ED-BA9C-D45634F5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23291A-5A02-401A-AEFA-9997F822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1764F3-9C28-49F2-81ED-ABA288A1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65A0C4-A3A5-439A-BC8E-98ED02BC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CCF0F2-7D09-4E9B-98A1-AD48F94C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279B3C-4723-4C6B-856A-005E9FD5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368B0A-5F7A-43B6-B3B7-72167676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305E53-264F-4BAB-9698-AA92CC71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A03D6D-7715-4F80-809A-9CB956E0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EB4-8B54-4AF9-AAB3-590C6822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31D16-379E-4DDA-8D5B-A4D2BFBE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40554C-ED5A-4EF7-AD07-675881F4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EBBDF6-4836-4AC3-87D0-BF9AF635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07982A-BDED-476C-B2C6-0CCC3CB5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F89DA4-FBAF-4F25-AA5B-A7B8E27D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708EC3-02D7-4BDA-98E8-2A423B21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910310-4A06-423C-AF72-7221D6EF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4A2FD7-7E54-4883-9453-101BBF6D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D2B6A5-72CD-422C-AC46-DD4346A5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0D6C0D-EEEB-4873-9D2E-7D5087B9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A2F02E-B86C-4C1F-800E-5E9DADA7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A9ED-A052-4E2E-B426-7B0BF92A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71239E-13F7-42D8-AD5E-F098DAE8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735EED-E2D3-4356-A357-E6B06455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8132BE-FF74-455E-B696-29E5C487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A35100-C7D1-499D-A5B6-9C970936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C4FA17-FF5A-4A3D-99B0-87792195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E99D8B-B7FA-4A58-A557-E23FB085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B55ACF-7E9E-423B-BF3C-973ADA32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7C053F-C21B-4995-B447-0FB6FB39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95EB42-17F1-4A3B-802B-DB3BEEAB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CC5096-DD6D-4097-95B6-27E849D4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C4E8-71DA-4FA9-9E83-F63379E8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3FB42A-434D-433D-AB50-12BDC6B8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615B97-C168-49B8-9843-D0B16598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00D160-CAA8-4740-B69A-B4506188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4029B0-B92C-4D3A-B0AA-9DE7F88A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9C1B2C-F53B-440C-9653-2B5E3DE7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55528C-81AC-4B04-B0BB-93952B98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4D9038-D39E-48DF-883C-E86EC0E7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EB8138-BF6D-43E1-8735-2C244A01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2DEC5A-C839-4150-B06D-E296BBF6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3C4660-2416-4E72-9450-7F4B8840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F2FAB-6A10-4321-BF7A-FE174AC4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0893B5-8BCB-40D1-B32D-A4389E4B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B7154D-CEBA-43D4-8A5E-A3C6BC6B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FC3132-1AEB-4860-8D00-DB9A51CB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7B3DD9-C8EA-4852-AD00-FA608ECD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1FE3C6-CEFB-4805-B6C9-76E4BBFF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9F9F5A-4DB5-4043-92A4-86C9F995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4AFF99-F74B-48CB-8CD8-EE1BED57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A69D1C-AF36-46B1-BDE0-11DB4BDF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467A1B-833A-4E9D-A257-6F60AB1A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01BD01-C97F-40EE-846A-0FF825A8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085C9-4C3E-4FC6-85CA-04983913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552620-F5E6-4DFE-870C-5B8DCFD1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3C027D-1F4A-4259-BD24-B7CBD93A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592FE7-7DC8-4D2D-A385-D802B8FB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8C373F-A926-4437-A8D4-413D9DE8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A29625-8F86-4742-8DFA-35E54743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5C97E6-942F-4EED-8BD5-DBB68D26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54E359-8C9F-4397-B7E0-4F26B6F7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7404B6-8DF4-42F0-8125-2D9E44EC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81EAD2-7E34-4CB2-9F25-7E067DB9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494581-ABCB-443B-86C6-44D15315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DA3CD-8CCF-4FA3-848A-ED27B33C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C3AB0A-D4F2-42C0-ACDD-567C7D44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6CDAD2-F0F7-4EA6-B772-CAFF5B41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70ABB9-6C1F-46C4-90CC-43E38D11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B0C918-FA5A-497C-AA74-6105211F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3E4E20-9FA3-45D4-801F-E40BF565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079B13-02B7-47AC-8EA9-B8C20D9F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FC333B-EF74-4DC6-8106-70886E93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02AE88-0292-456D-825F-77819B0B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B2FF0C-2B22-4BE6-B2C4-3C98B9F7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710197-104A-4108-9528-1BBBA0C9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F90A1-4ECF-4FA8-A5F6-9DD73DB7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4A0373-D749-4833-BD6E-EEADEFEB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2C0CF4-3FEE-40CF-A014-5A936090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3AFB07-ED52-4855-81BE-76ED4946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65D3E8-FDA8-4AA2-B7BE-15CACAE3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3F7241-4DE2-45E6-8E6F-F109FDF0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D3D2C3-A743-4D8F-8E72-2480319C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656BA2-412A-41ED-8B72-DA31F3E5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61A801-7270-4C0F-B1CE-2405B5F5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81E6A0-1892-4796-BA1B-285B5B8B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80C8F4-DDBB-40E8-8AF8-8E0C63B9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2E4C7-5940-44B0-867B-55F5C33E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8BC865-31C5-49CF-97B5-E9B0DC21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40B281-FD7E-4419-BE22-245A13F7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A244DD-FCE4-4399-A014-1986C065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B33B6D-2734-487C-8EF7-4B5BD9E7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A53D54-E8AD-4F64-A2D1-936E37A3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C1DA78-AC2F-4820-A7AF-4A97AACC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C19CE2-7532-4802-8744-BACAD055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6F2255-44F2-4186-B8BA-B9AAF68B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DFA5AD-6986-4361-AB7B-F372A571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315BB5-3A68-4445-AACA-A0C373CF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A0C4D-C59F-40FD-98D2-C0CD0CC7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121261-F59E-476A-B68A-B68281E7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E1ED3F-1E69-46EF-95D9-A8BC74A1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4AF23F-6EDF-4C5F-A40D-8CAF2916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8C7724-62D1-453C-8484-ECA0124D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2059E5-92C0-4333-B754-40FAA0F0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B374BF-9F1D-48BB-BECB-0D6CEECC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F60AF7-92CB-43CB-ACF5-C19CE54D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0557BC-51F5-4259-BED4-BFF07668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14202B-55B1-4BFD-8DED-754C29A2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8AC933-F7F6-4FE6-B521-A6959182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7A38-9B06-4DF4-9FF7-3784CBA5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CB5E75-DC08-4E1B-B7C3-802D91D7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BF3165-F4C4-4319-BA3E-640AFFDB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36B2DB-26E1-45BC-B59D-83F29AFA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218481-23BF-4522-9D87-D881F3DA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F5C012-5FC9-4C3A-9636-E207B75D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ED139F-C824-4E40-9572-FDDDDA5F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36F2A1-95FF-4EFF-BD3C-D123A468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8B21CE-181E-4ACF-BAFB-FA743EEB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2D851F-41F6-4542-A99C-8C2121D7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785DD7-30B7-407C-828C-9F059401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81D-F936-4DB2-9637-D932D356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32574-56F0-4D89-AED8-22B0C4EA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47BBA9-46F6-4ACF-9AA8-789EAE29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8DBA77-7C31-4F4B-9CE7-93E915A2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483C61-F7EA-4A76-9B67-3C5D03CC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CAACAE-1C2A-4691-BB53-54348013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A19B65-7355-405A-9A69-5D888D1A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B53EDE-F1B0-4CB8-977F-51DBD403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D4BDBD-856A-4CB9-A19D-DEDA5B23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06C435-43C6-4AE2-BDAC-B33AF323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33EAFD-CBFB-4704-A663-7EB7DE6D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A05A35-4889-409C-B02A-E8C9784E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2913F-7B11-4D35-99F5-86F6D0A4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F7BE8E-175F-448E-9DE1-C2632803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E99F7D-8DF0-4A3C-BB79-2C5BC36D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AEEBD40-D1AB-49B5-AFC3-1DB978E6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A4E513A-D48E-42E7-BF0E-7ABF3ED7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F9A769-7498-4779-8E35-1201E523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3252C9-5AC8-41D0-AE9F-43A4CF90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65F96B-7A4D-47E6-B34F-D6001C10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7FB637-058F-4E31-916B-C10FAE26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E28342F-3CD2-4A4E-8A9F-AD125C29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F3AE3F-8639-4CAB-B27D-3532CFFD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F7CB1-4857-4878-8EED-3839DB1A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F35FDFD-C009-4DEE-B202-B07D44CF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7C031E-91F6-4C07-992A-7D1471B7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6F98B4-5F09-44C9-9B19-BA4A239B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B502BB-CABA-469D-A057-40285498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C571A0-F829-44F0-86DD-C709ED3E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0C9CDA-B6FE-4399-B4B1-CBA9ABC3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38D66F-8745-452B-9450-AAB21FB0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FE3E5D-2EF7-4EF5-B16C-3DDCA4CF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B8D706-26A1-455C-B9BC-7647DC9A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A3F1C4-E768-4474-A90E-632B5604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B4B8B-BD33-4F48-9A32-E746F831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1CAF07-E89C-4FC5-AB4B-3B3DF880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6BC60A-B2E7-45E2-95DC-9E070834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5422D5-651D-47B7-8081-CAD6EC5A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FA8EC9-9BE5-4999-8C2A-CDDC61D0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EFA823-BF54-480F-991A-2116EA2D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DBF56DE-38BE-4020-9B09-CC4D12C8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05EA37-C76A-4AAD-882F-BBE0E547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4ABCF7-AAD9-470D-9434-8C46D9F6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0B07EC4-F7D1-415F-9E3A-AB88CB42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F2335A-5AC4-47E3-9ECC-D09390B5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79874-3E35-4842-9335-D0720A44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48D778F-4989-4041-AC11-36393D33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4F123D-CD7D-44DB-A183-AE27C36D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07F1B69-DFF7-485C-B386-AEAA0D25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D8791B-B5D9-4575-B286-A9D28523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3304C40-E43A-4664-ADB7-69A32911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8E5E6F1-346D-4C5F-B61D-AB9BB249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F5A505-0EA1-4E8B-A5AB-2B71F7A4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07D3A3-BD0A-46A4-88AD-BC83F467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503CC2A-944F-4321-9582-F858EB30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71918B7-76FC-46D3-AD4B-3595B3BD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DEC85-C488-4FE7-BB4E-911D8764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B2D85D9-40B0-467E-9450-A8BE832E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9648DE-AD34-4D26-86BA-A79EDFD3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2EAEB2-6D38-4722-85A8-CB116C42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9512A0-A01E-4D30-831C-319BEBF4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9E8D9A1-3049-46D8-8B85-C8318683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4FDE0B5-D86C-4E30-9DE8-F41BD0E8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05E0A4F-74CF-4E6B-807A-2291A296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55F01A1-44F0-4C19-82B0-8FDCAF8C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8A3B615-462B-4D3B-86D4-A1C63C9C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43537A4-1B0E-471F-A539-F84F2303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0E666-F3EC-4B82-B58F-907D08FA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AF80E20-497E-4CC3-803D-E2762D70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C4E6497-F923-43DA-A43D-93DF0671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48879DC-C457-49CC-A890-4A27467C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382E4C-D7F7-4900-9F4F-C5A3E949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1AB0FC9-271B-455B-86E7-C1FD8116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97CA191-7738-47EA-8388-EAF1C12A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D2653EB-2139-459C-BF4E-696625B5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AB8A7D9-E314-4237-9D88-DDC00378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17FB52B-197F-49E5-9D77-ED098C5E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6137615-D19D-4E9F-B4EE-EA821062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40080-E28E-47BE-9163-499D827D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D39D0C9-453B-4A6F-B901-2DF08D6E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C78A163-C027-4020-B711-37C6DC73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B2B0EE9-E78A-4CD2-99B3-D05F9EAC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27F8285-250C-47F4-BD5B-263E4738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0E73995-9E8D-4351-A6B8-D92C7CF3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0EE7EE0-4E0B-4576-BBFF-E2BC038B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D7FCA6E-A4CC-4044-96F9-355EB27C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FDAB596-AD20-45B0-9707-34553415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3C72FE-9581-46A6-86E0-BFCF614B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55AC3A9-B3F8-4A32-85D6-C45DAE0D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26B5B-74DB-4C44-9B97-C4AFDA1D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B72F148-F097-480D-8534-826F7F02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6F1151-087E-4B1B-9FB1-CEA821CC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558FC3-CFE4-4996-9392-38854861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A3C697C-E9EA-47D8-982B-3BA83D3B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EE5CDA2-9919-4CAE-91AC-F7D3AE6E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F4E2517-E128-4CC0-80CE-9541C87D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1B838A-B65C-4D27-A14F-431BCBA1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BB5805C-19C8-41B5-BE0A-A20D9B76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E6655EA-DADB-4E1B-BDFA-C9865BC4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1F091E-E8CF-44DB-A3B5-7768AA1A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701DA-9A8A-446C-9E28-57D64156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8EFF5D6-F1E5-42FF-A96F-5120D9F4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ECD5940-58A1-407C-9AD7-60B88325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13D0BB2-03A1-49B4-8856-55A61879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1D6FA8D-DBAD-4182-BF4C-AD34D9C2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F94AF7D-4FF8-4417-868E-0AE69D45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3A5D1BA-BDEA-4B3B-9F55-2FAC6FBB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0E58960-813A-492B-9DC2-B79C9C0E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9D2D267-21FD-4230-9BAE-27B7A366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6F9F5CA-CBBC-4547-B54B-D5A1A162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E62123A-F62C-46E9-91C7-7D3C4054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DC7-916A-4FDE-9344-780A4F05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AE7ED-07AB-4008-A135-D4CD9BE5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207544-1E1E-4019-B131-6369F8A2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5ECFDB1-2A62-4AC2-954D-4552F76F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C7A5DAE-7C83-402A-A3B3-2B947FD8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4E201C5-D108-4B6D-B89F-B934CB6F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BF9EC15-E768-4BD9-93FD-FB6A7E81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7D5EC16-278F-4DDB-BB52-95FEFBEC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F2D7F56-2136-4490-8963-97703160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96A5FEF-D21F-41EE-8281-B750AB7A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2BDF7F6-C842-4CC5-ABD9-A42FCE58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87C32DE-3CE1-4B57-9DE8-ADD9011F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A993A-D7AE-4925-BAB2-74D3ADCD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40F7F9-303D-4FEE-8089-2453D0A6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60D1F6E-8803-46AB-A2B7-EF2D53BD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9E49910-798C-430C-87A5-28F49BCD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966C06A-F339-4969-B1ED-6B0CF18A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5FA8145-7693-4947-A1E2-BC920977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167EC9C-AB4D-4514-97D7-D8E333F7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35E9662-49A1-4C05-A733-66210970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6D9D7E3-88A5-4861-8F29-73324427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B773916-6E4A-4839-A3B2-85843A7B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791CB45-3B5F-44AD-98F7-6D8DE276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BB889-E13F-40C5-B0FF-1E9E16CA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F59FECA-2F11-446F-9BC3-CACDAB6F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1E27E57-FF52-4D9E-BD48-795C966D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513EE37-CD6B-47FA-8BB1-A9B4E15B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4B953CE-A4FC-4921-ABA1-E6F7102A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2895478-6DDB-4E7A-9B1B-765375C3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1C36F6D-2245-4FC0-B78D-684A9415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7C0E288-726F-47C0-B48F-23EDB1DF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9484A8A-9222-4A28-8189-2D40F4FB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DD82064-82DD-42BC-AA7A-B6F310C6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8107B5D-106E-4B0D-9721-6CF05790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F4B4A-5938-442C-AFF8-3C565D67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2D3149B-A631-4B83-ABFF-12B17A94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DDC2F2E-996A-4728-862F-6ACF2ADF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D4DB9A1-EBC2-49A4-8D24-8817349D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3F99327-B26D-4CA1-938F-FD1125EB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18CCB52-5C16-4391-9553-4CD1AE79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11A6F47-9961-4375-9949-761AC2DC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C3FF92D-F92D-4592-A322-27B2F43C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4644CC1-5F6B-4783-AC67-48AF6829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79B1A87-F88B-41A9-A9BC-933319E9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81E2208-563C-4590-8B34-E83483AA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25DDC-FC0E-43B6-B339-15EAD6E5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28B310B-8D99-4C1B-8C17-80D01DC3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D4B0015-FDF9-461D-9360-FD0999E8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F504499-AEBB-42D3-B2D3-98B62748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42AB025-E86F-4C62-AF47-A3433BC8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C98763D-18DC-4772-8081-F2559D56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40FB3DC-9917-4EB5-9644-1EAF0313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A745906-2990-4BA0-A5BC-7EED9AFB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E11A4F-0C34-4A98-807B-9C6E4C88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CBBA890-0AB7-41A6-8B1A-3AE3E109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23E7C5B-9873-4CFE-8653-DA1C0135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69CE6-5C61-40E1-A035-6C146536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7E0B928-F040-45F7-A4FD-8078DA34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62FB48B-4A36-4BA7-A1C5-C5C4CEEF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9D1D901-FB6B-47A6-A154-C2A5788F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FC05F5B-8AF2-4B74-B1F8-0E7615A2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4A204A8-0414-47F6-83AC-34CFB58D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6FACC18-DB5F-4C28-BCAD-CF2568C8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3438A4F-440E-4F19-981B-4F53CC1A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5641FC2-3850-44E6-83D0-1CD4C013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F6CBF66-8396-4665-A07D-7AA017CF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E2F8EDC-3E8C-4372-8DDA-3BC4F7B5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5019-C6E8-4714-A43C-9C16342B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C59D625-0B9B-46BF-A8D1-B240541D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6BB2553-FB2B-4781-9FC8-C928C1C9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DF563CB-EB56-48C6-97E8-AF11CCB6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9DD2B0F-86A1-4FC2-8474-2396375D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CE4F515-6FE2-4824-B8C6-1464C52D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6B415F2-EC0E-40DF-AB18-77072D5E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D604A5B-355E-4D68-AADD-90693400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A8F12D4-92B7-448B-9C4D-A7B5E762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8B1D750-E617-4C17-8F55-9B5596C7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765A1FC-9B39-460D-B6FF-304CDDE6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76AF6-87F4-4BAA-A6F5-D6B4B3F2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9819B65-3BE6-4DE7-92CA-1E57BB0E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9CCC588-1667-4FA6-8E79-4729D3DF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579381F-D9F7-4693-8679-BA46FA4E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7A5D8DD-9123-40B5-AF9E-D383EAB8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9B7F589-B7A1-4366-8B7C-97B741F5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DE52821-ED2F-42F2-BCDB-2CC3453C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16AA3E7-9FC0-40AC-A26D-6AC3D7E2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BA9DC64-3AA5-4D8D-BA5A-E54B251B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A0E6B91-92B7-4168-85E9-E9BF3ECB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8FB6396-E9E1-4742-93AA-F55F24C2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9C823-2A35-4D21-AE6F-F7BD8251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BFA0861-F945-4677-A961-C7A3AD4B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4A88AD6-E56F-4955-B7A9-289BE31A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12C5313-696C-4BD6-B608-E0F00D76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3880143-332F-4068-AD8F-4CFDB819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DE5B69D-47C0-4BBB-AE94-4D5F4A6B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BC90753-FE44-4751-A840-4285038D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4C8EFCC-5E8D-434E-9221-841EB62F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68BDC9D-4CD0-4502-83AC-39106214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A0132D1-F8AD-40D7-98A2-382E725E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4A91E56-54B4-49C0-BDBE-6B8699B7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A794E-25B4-417F-98FD-C6FFE6D5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A04FD74-5A3E-46EA-B1DF-A1CA81A9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EB75E17-E410-4C23-B7C8-EAC500A7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30DE3CB-2980-47A7-A3A8-EA3AB1F4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3D65D7B-0A4F-4C14-B5F9-0C2FD313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01CBC5A-FC5B-49C7-9954-362CECE6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77E95E8-3A27-45E3-93CE-346990CB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8802AAD-EB04-4241-A606-3FD2553E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55C7317-F8E1-4D78-8C3D-2F385FB1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D271016-F4A3-488E-A5C5-31A26C4F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AE096E2-CAEC-406E-912A-559E0F14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9BE-B661-4A51-8F63-F1A7BB47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61890-7F04-492E-963E-2D3AE0C5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C1BB258-FE6C-4738-821F-21970FBD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B65F377-863A-439B-B28F-0C92DC82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90CEDCC-D3B5-4C9C-8867-BDECDEB4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4D8BED1-A64F-46ED-BFD3-D9FBFBB9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9A70C96-EEFA-4F83-AB3B-ED1BC4C4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A1F84C0-3BCD-4870-B10B-FB11B60D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18722D7-28C0-45E5-AF0F-92DD3ECE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91E736C-9FD7-4053-B4C5-DEB2C891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DED182B-04B7-43B9-A16C-3B5A3FD2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4D70BFB-AF43-4CD1-A48A-8DF56D64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26C3D-0D29-4D08-944E-4E05A4AF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CE9B7E7-CCEA-4FC6-8885-8448297E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F5B4320-3370-45FA-9B25-998E9657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7AF7B48-3746-4296-AB40-896C6879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777E2-E375-4731-89DD-70BC195D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87C68-4917-487D-87F8-E9933A20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D7AE5-F719-4692-8B98-929D10EA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B6DBC-5A1A-47C9-952E-CF664CB2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8DF5D-9DEA-4253-8FFB-2FE66692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6F369-D6F2-404E-B20F-87EFA765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A9349-4A2F-4D52-819E-2485F9D4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EEDEA-1777-45D3-AB68-5A45BFE2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802-BD91-4E5D-A788-BE6E8078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79C85-C9BB-47B1-AD3C-99278080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93CD9-FD1C-4690-91EA-BE5D81B4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7F3D4-C837-44D4-99D6-B0A0CB9B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6974B-FBB0-4A3E-8854-5F433514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1E10A-557B-4565-8AFA-FB108C20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2B346-C95A-44A4-A28D-F081E45F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8467A-FA51-455A-8CCA-3537050B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F2847-013B-49D6-B871-8851E6DA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AF509-2B2C-48EF-B442-E18F677D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9E3F8-C318-46A3-99A0-C9CC2557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49F-F687-48BD-B899-EB004564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BD6BF-27B2-4F47-A3FF-E5D0B319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D7760-8B08-401C-A62F-2079A61F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B758A-92CF-45C5-808E-FE1B8C0B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F755B-70BC-405F-A1DF-4FEA1153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9BA56-1579-4C77-8D97-66CC3ACD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5B6B3-B9BC-444A-A756-4F7E92C0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EE723-8E87-449A-9689-5DC13EAA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2C736-5E4E-4FCC-94C9-AC12C247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721FC-DC17-42A2-BE56-337992D7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7F1C5-3E7C-4878-A1C2-C97B720A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DEFC-893C-4C13-8DFC-7207C4A3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71348-7BAF-4BFC-9396-6D817C24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A6908-CF4C-4A2E-B0B4-D58E4C30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7B059-9FC1-4B6B-921E-D76C7CFB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5522D-736B-4CE1-B2E7-8B0EEE3E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C95AD-8E79-475D-9E4D-C0CF074D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77489-A332-4091-9104-1B1FD817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970A3-7FF3-448A-A0B4-6F153874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C18C5-9814-4F30-8643-8B48E28A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0D922-2873-4326-B879-0054828C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78D47-C18E-4086-85AC-CF70B80D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6586-13D3-467C-9466-524EEA8FCB84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4489-67E3-4A4A-B752-97A68158D1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67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8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8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8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8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68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68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8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8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8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8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69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69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9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9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9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9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70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0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70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F529-DAA8-49A1-833B-1E7A7CDC4A7D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9EB2-3517-4BF4-8195-71584532EA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76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6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76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6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6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76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6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76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7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7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7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7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77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77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77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8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8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8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8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8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78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8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8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8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79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E1A5-F575-445C-9E9A-5DF1726CD5E8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F68F-DAED-427D-9800-A696C3F0616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4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84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4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4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85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85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5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85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85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86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86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86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7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87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DEB8-F938-4D20-A020-7C35C7D32E55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50CD-2875-4D7D-8471-B6FBBBE05F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93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3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3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3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3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36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93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3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3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4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41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942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943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6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947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48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49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95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95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5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95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95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5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5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5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CB61-3CDD-42C6-A2BA-4778A786B4F3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0CA9-91EE-4F85-9E59-5DA318F1873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01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01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01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02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02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02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02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03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04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AD65-3F5C-4776-B4FF-3323534C56B3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FEEC-A845-4D4A-A298-48461A72EFE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09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09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10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0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0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10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11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11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11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1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2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2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6CC5-7B6D-443C-8C53-7AA6A990B6EF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5C1D-6FAF-42C5-AB0A-0F65DCE5A3B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18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8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18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8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8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18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9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9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9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9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19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19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19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0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0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0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20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0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0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20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0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0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1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7A27-5E93-4B48-81B7-874F19F10219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35A1-A61A-40A0-A987-D47DBBE515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26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6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26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6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7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7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27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27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27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28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28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9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29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9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9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9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9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9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9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35F6-ABB3-4DEF-BAA3-5CF75089DCBA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E729-A218-415D-A34F-4FFE657A1D4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741E-FDE1-429A-9EAB-3844CE97900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598E-6AF8-4458-B553-7CF514F22D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5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BBD9-8E8E-48EB-ABFE-2A162F07640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E32E-58B8-46EC-9BA7-F90756442B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2C79-3DBD-4106-915D-AB8E043D018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8398-6D07-4650-889F-0355356DD4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5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7894-DCAC-471B-878F-E4BD2E94719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141D-8786-4D78-825D-9AC9236E58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6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AE08-C32A-4221-AA6E-BA8F192E544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F08F-9283-4B33-9E3D-49E810486D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dt" idx="6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BFB1-BB75-414F-8BA4-C2EC3F5CF3C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64EA-076C-4C31-9925-C43CE48461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 type="dt" idx="6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EC0E-6D88-4D87-9F87-2A62614B100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F8C8-1BB6-4604-ACDB-E07BCAF885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 type="dt" idx="7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72A4-F0A1-4A7D-8B67-90EE50371ED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7375-9ADE-425D-81D4-D8FA3A7B97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 type="dt" idx="7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3385-A792-4B20-B7BA-017DFC5F091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90AB-26F4-4745-865F-170C1969A6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 type="dt" idx="7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9865-E99D-43AB-B993-1C306A5B505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70C3-BECA-4294-8C90-C93C61FB38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 type="dt" idx="7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B62C-059D-4868-960B-CCFA8D499F1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78E6-6F8D-4BD5-A8F3-BF65DA385C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8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779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1780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81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82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83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84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85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86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787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8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9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0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1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2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793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794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95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96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798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99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00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801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802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03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04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805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806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07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08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809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810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11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12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813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5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6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8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9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770C-FF8A-42A8-B29C-0FD82D66EFE5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CEA8-C580-4AF9-AC01-010D8527000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86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86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86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6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6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86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86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86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7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7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7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7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87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87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7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7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7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8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8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88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8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8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8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88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88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8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8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89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dt" idx="8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CF26-ADBC-4DA6-BD71-79F7D626D440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6D03-2B52-45BF-9AC6-FF8F637FA74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2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3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3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3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4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4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4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5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86A7-C3C0-42CE-ADE5-7BCFE8F171F9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9DEE-2A2E-4731-82C1-EBE0103923C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94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4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94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4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95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5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95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95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95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6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6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96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96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96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97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7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7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7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97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 type="dt" idx="8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CAB1-1023-475C-8419-51B42EF86490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DD2F-0F0C-4A9E-A76F-91F14AEBA27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9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03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03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03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03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036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03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1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042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043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44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45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6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047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8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9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5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05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5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05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05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 type="dt" idx="9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54D8-D630-43FF-A35E-AF6409C75689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5CB0-9B3E-4CD0-8AA7-F8EEAC15A21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11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11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11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11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12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12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12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12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2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2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13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3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13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3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13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4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4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14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5124-85BD-42EA-B015-DA79C981A450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4857-8F9F-4B63-A9FD-F281711533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19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19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20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20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20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20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21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21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1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1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21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1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1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2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2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2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22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2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2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22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B481-56DF-47DC-BE2F-76A93234E997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1CA3-2455-4E89-85F8-1974F1ACE7D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28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28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28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8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8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28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28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28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9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9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9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9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29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29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9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9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29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30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30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30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30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1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 type="dt" idx="10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7328-81EC-4114-94D6-ED426D702A67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D372-9033-4D09-8E05-5386D756B27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36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6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36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6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7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7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7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37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7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7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7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7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37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37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38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38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38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38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38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39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39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9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9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9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A00C-EE84-4E42-82A0-C8647688FBBB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57D2-B568-4352-8AA3-86E9F388592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9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45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5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45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45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56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45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1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462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463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464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465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6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467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8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9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47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47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47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47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47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9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9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76FD-DFD4-4FB9-BF84-980FEF550924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5749-6BB3-43D4-8823-AAE79E69213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53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53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53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53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54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54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54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54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54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54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55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5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55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5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55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6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6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56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 type="dt" idx="10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B16E-1A65-4E9D-BF84-9DEC0ABC305A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9BF8-B567-4DA4-BBC6-5D4D5EE2F7C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61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61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62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62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62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62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63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63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3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63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63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63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4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4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64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4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4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4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64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4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4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4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 type="dt" idx="1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27E5-914D-44EF-AA7D-1DEE7484DBC3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D72C-3F30-4545-A0D3-FE2BE45DFE5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70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70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70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0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0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70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70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70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71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71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1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1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71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72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72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72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72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73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 type="dt" idx="1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5212-5C68-4F52-9B95-47F96EC15C26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D318-D609-49F1-86B7-C5447C79C3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1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BF5E-4B66-426F-B4B4-FF90BC42494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006C-5C8D-4E82-B9B2-07F263CD7F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5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786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8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88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89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1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79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1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78F8-0A93-4BDE-8E2B-030F7EFEDFE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861A-42F0-4D88-810C-E135F24D55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3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8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1FA6-354C-457F-A1EC-21C2FFF85FE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DDD3-E0F0-4AA0-A097-30D11284CA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8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8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8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8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8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88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9C62-8810-4C7A-8767-611C4BCE38A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F4F2-ADCF-47FA-BA10-24CB1FC773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92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2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3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3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3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9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 type="dt" idx="1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1B75-FB4D-45B2-A4F5-A5FD4ADB5CF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B690-6207-44B6-AFEF-B8CEB7F60A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97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98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5294-ABCF-49FE-A7EA-CCF36E9FC8C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1130-FBAC-46E0-91AB-3D12B474C1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02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02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F244-8882-423C-811A-366E8168C2C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07A0-13C7-44AD-B489-A6E7CDDD33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06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07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88F8-6976-4B3A-9DF3-50AAE612969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9879-79B3-4A69-BA7E-E56E7BAD80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11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1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1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1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2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1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EE9F-E3EB-49BE-BFA7-FC5B5DDFA81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F979-E26D-4E30-8F9B-E7972913DC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16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6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6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6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6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16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DC9E-AE9F-4DDE-B5AF-F7B4969BA4C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6A77-0672-4FB6-B7A0-0E66CAD05C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21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2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 type="dt" idx="1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4EBE-7ECC-4E00-99D8-2499DA064B5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C9CD-0C83-4152-9EBC-C83E888BD2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59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260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5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67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9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0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2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73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4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278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9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0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282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86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7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8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90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1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2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3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4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5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6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8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9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3CF9-4142-484D-AD6C-EB74B1E2526B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F44D-BF3C-4E57-B4D5-BFC426B6F27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25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26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PlaceHolder 3"/>
          <p:cNvSpPr>
            <a:spLocks noGrp="1"/>
          </p:cNvSpPr>
          <p:nvPr>
            <p:ph type="dt" idx="1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1617-95E5-474E-B025-5F6E320B681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0A4E-1FCC-46CE-AEF8-C4CE878933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0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30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 type="dt" idx="1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05C0-6713-41F7-B15C-440058B4C50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71B1-C022-4225-B3BE-3C7FAA1E30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3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4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3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5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35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35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35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6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6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07F6-5E32-4408-8D98-927E89A21AC5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7486-B583-4717-84D8-9E646C20CEF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2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2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2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2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43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3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43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43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43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44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44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45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45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8C96-31B3-43BA-A686-018F42E7CC63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E8AF-1483-4B66-B831-13DCA41A245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51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51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1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1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1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51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516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1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1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1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2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21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522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23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6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527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28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29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53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53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53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4D84-8A81-4B30-AB47-CC235A8702A1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3EFD-5048-4FE7-B76D-5D9FC39EA7C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59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59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9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9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9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59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60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60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0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0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0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0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60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60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1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1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1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1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1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1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61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1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2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2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2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98C3-3F02-4029-8B88-569B463CD010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A8E9-B38D-49F3-B368-2B60C70DB7D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60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4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7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7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4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7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7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subTitle"/>
          </p:nvPr>
        </p:nvSpPr>
        <p:spPr>
          <a:xfrm>
            <a:off x="4932360" y="4221000"/>
            <a:ext cx="3889440" cy="21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51" name="WordArt 7"/>
          <p:cNvSpPr txBox="1"/>
          <p:nvPr/>
        </p:nvSpPr>
        <p:spPr>
          <a:xfrm>
            <a:off x="611280" y="0"/>
            <a:ext cx="77724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тория новогодних игрушек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52" name="Svet_v_tvoem_okne.mid" descr=""/>
          <p:cNvPicPr/>
          <p:nvPr/>
        </p:nvPicPr>
        <p:blipFill>
          <a:blip r:embed="rId2"/>
          <a:stretch/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353" name="" descr=""/>
          <p:cNvPicPr/>
          <p:nvPr/>
        </p:nvPicPr>
        <p:blipFill>
          <a:blip r:embed="rId3"/>
          <a:stretch/>
        </p:blipFill>
        <p:spPr>
          <a:xfrm>
            <a:off x="468360" y="1413000"/>
            <a:ext cx="8496360" cy="54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9" name="Picture 9" descr="DSC00403"/>
          <p:cNvPicPr/>
          <p:nvPr/>
        </p:nvPicPr>
        <p:blipFill>
          <a:blip r:embed="rId2"/>
          <a:stretch/>
        </p:blipFill>
        <p:spPr>
          <a:xfrm rot="20448000">
            <a:off x="1909440" y="649440"/>
            <a:ext cx="2292480" cy="2546280"/>
          </a:xfrm>
          <a:prstGeom prst="rect">
            <a:avLst/>
          </a:prstGeom>
          <a:ln w="0">
            <a:noFill/>
          </a:ln>
        </p:spPr>
      </p:pic>
      <p:pic>
        <p:nvPicPr>
          <p:cNvPr id="3380" name="Picture 10" descr="DSC00407"/>
          <p:cNvPicPr/>
          <p:nvPr/>
        </p:nvPicPr>
        <p:blipFill>
          <a:blip r:embed="rId3"/>
          <a:stretch/>
        </p:blipFill>
        <p:spPr>
          <a:xfrm rot="20751600">
            <a:off x="1618920" y="3715920"/>
            <a:ext cx="3152880" cy="2152800"/>
          </a:xfrm>
          <a:prstGeom prst="rect">
            <a:avLst/>
          </a:prstGeom>
          <a:ln w="0">
            <a:noFill/>
          </a:ln>
        </p:spPr>
      </p:pic>
      <p:pic>
        <p:nvPicPr>
          <p:cNvPr id="3381" name="Picture 11" descr="DSC00418"/>
          <p:cNvPicPr/>
          <p:nvPr/>
        </p:nvPicPr>
        <p:blipFill>
          <a:blip r:embed="rId4"/>
          <a:stretch/>
        </p:blipFill>
        <p:spPr>
          <a:xfrm rot="20575200">
            <a:off x="6084360" y="3212640"/>
            <a:ext cx="2090880" cy="3009960"/>
          </a:xfrm>
          <a:prstGeom prst="rect">
            <a:avLst/>
          </a:prstGeom>
          <a:ln w="0">
            <a:noFill/>
          </a:ln>
        </p:spPr>
      </p:pic>
      <p:pic>
        <p:nvPicPr>
          <p:cNvPr id="3382" name="Picture 12" descr="DSC00414"/>
          <p:cNvPicPr/>
          <p:nvPr/>
        </p:nvPicPr>
        <p:blipFill>
          <a:blip r:embed="rId5"/>
          <a:stretch/>
        </p:blipFill>
        <p:spPr>
          <a:xfrm rot="20572800">
            <a:off x="4858920" y="764640"/>
            <a:ext cx="2122560" cy="218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3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3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3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Black"/>
              </a:rPr>
              <a:t>Ватные игрушки делали до середины пятидесятых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 Black"/>
              </a:rPr>
              <a:t>Их изготавливали из прессованного хлоп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4" name="Picture 9" descr="DSC00424"/>
          <p:cNvPicPr/>
          <p:nvPr/>
        </p:nvPicPr>
        <p:blipFill>
          <a:blip r:embed="rId2"/>
          <a:stretch/>
        </p:blipFill>
        <p:spPr>
          <a:xfrm rot="20694000">
            <a:off x="1449360" y="2068200"/>
            <a:ext cx="1376280" cy="2190600"/>
          </a:xfrm>
          <a:prstGeom prst="rect">
            <a:avLst/>
          </a:prstGeom>
          <a:ln w="0">
            <a:noFill/>
          </a:ln>
        </p:spPr>
      </p:pic>
      <p:pic>
        <p:nvPicPr>
          <p:cNvPr id="3385" name="Picture 10" descr="DSC00425"/>
          <p:cNvPicPr/>
          <p:nvPr/>
        </p:nvPicPr>
        <p:blipFill>
          <a:blip r:embed="rId3"/>
          <a:stretch/>
        </p:blipFill>
        <p:spPr>
          <a:xfrm rot="886800">
            <a:off x="3131640" y="4292640"/>
            <a:ext cx="1503360" cy="2187360"/>
          </a:xfrm>
          <a:prstGeom prst="rect">
            <a:avLst/>
          </a:prstGeom>
          <a:ln w="0">
            <a:noFill/>
          </a:ln>
        </p:spPr>
      </p:pic>
      <p:pic>
        <p:nvPicPr>
          <p:cNvPr id="3386" name="Picture 11" descr="DSC00443"/>
          <p:cNvPicPr/>
          <p:nvPr/>
        </p:nvPicPr>
        <p:blipFill>
          <a:blip r:embed="rId4"/>
          <a:stretch/>
        </p:blipFill>
        <p:spPr>
          <a:xfrm rot="21165000">
            <a:off x="4140360" y="1701360"/>
            <a:ext cx="2716200" cy="2189160"/>
          </a:xfrm>
          <a:prstGeom prst="rect">
            <a:avLst/>
          </a:prstGeom>
          <a:ln w="0">
            <a:noFill/>
          </a:ln>
        </p:spPr>
      </p:pic>
      <p:pic>
        <p:nvPicPr>
          <p:cNvPr id="3387" name="Picture 12" descr="DSC00444"/>
          <p:cNvPicPr/>
          <p:nvPr/>
        </p:nvPicPr>
        <p:blipFill>
          <a:blip r:embed="rId5"/>
          <a:stretch/>
        </p:blipFill>
        <p:spPr>
          <a:xfrm>
            <a:off x="6012000" y="4149720"/>
            <a:ext cx="2355840" cy="218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С начала 50-х годов стали изготавливать подарочные наборы игрушек – «малюток». Это было очень удобно, так как большинство людей того времени жили в коммуналк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89" name="Picture 8" descr="DSC00540"/>
          <p:cNvPicPr/>
          <p:nvPr/>
        </p:nvPicPr>
        <p:blipFill>
          <a:blip r:embed="rId2"/>
          <a:stretch/>
        </p:blipFill>
        <p:spPr>
          <a:xfrm>
            <a:off x="539640" y="1916280"/>
            <a:ext cx="7561440" cy="4941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3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1000"/>
                                        <p:tgtEl>
                                          <p:spTgt spid="3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Игрушки на прищепках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1950-1960 год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91" name="Picture 9" descr="DSC00437"/>
          <p:cNvPicPr/>
          <p:nvPr/>
        </p:nvPicPr>
        <p:blipFill>
          <a:blip r:embed="rId2"/>
          <a:stretch/>
        </p:blipFill>
        <p:spPr>
          <a:xfrm rot="20681400">
            <a:off x="1029960" y="1405080"/>
            <a:ext cx="2017800" cy="2874960"/>
          </a:xfrm>
          <a:prstGeom prst="rect">
            <a:avLst/>
          </a:prstGeom>
          <a:ln w="0">
            <a:noFill/>
          </a:ln>
        </p:spPr>
      </p:pic>
      <p:pic>
        <p:nvPicPr>
          <p:cNvPr id="3392" name="Picture 10" descr="DSC00439"/>
          <p:cNvPicPr/>
          <p:nvPr/>
        </p:nvPicPr>
        <p:blipFill>
          <a:blip r:embed="rId3"/>
          <a:stretch/>
        </p:blipFill>
        <p:spPr>
          <a:xfrm rot="20624400">
            <a:off x="5138280" y="1429920"/>
            <a:ext cx="1800360" cy="2652840"/>
          </a:xfrm>
          <a:prstGeom prst="rect">
            <a:avLst/>
          </a:prstGeom>
          <a:ln w="0">
            <a:noFill/>
          </a:ln>
        </p:spPr>
      </p:pic>
      <p:pic>
        <p:nvPicPr>
          <p:cNvPr id="3393" name="Picture 11" descr="DSC00498"/>
          <p:cNvPicPr/>
          <p:nvPr/>
        </p:nvPicPr>
        <p:blipFill>
          <a:blip r:embed="rId4"/>
          <a:stretch/>
        </p:blipFill>
        <p:spPr>
          <a:xfrm rot="20706600">
            <a:off x="3363480" y="3795480"/>
            <a:ext cx="1978200" cy="2619360"/>
          </a:xfrm>
          <a:prstGeom prst="rect">
            <a:avLst/>
          </a:prstGeom>
          <a:ln w="0">
            <a:noFill/>
          </a:ln>
        </p:spPr>
      </p:pic>
      <p:pic>
        <p:nvPicPr>
          <p:cNvPr id="3394" name="Picture 12" descr="Копия (2) DSC00434"/>
          <p:cNvPicPr/>
          <p:nvPr/>
        </p:nvPicPr>
        <p:blipFill>
          <a:blip r:embed="rId5"/>
          <a:stretch/>
        </p:blipFill>
        <p:spPr>
          <a:xfrm rot="20692200">
            <a:off x="7168680" y="3760920"/>
            <a:ext cx="1459080" cy="250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3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2000"/>
                                        <p:tgtEl>
                                          <p:spTgt spid="3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2000"/>
                                        <p:tgtEl>
                                          <p:spTgt spid="3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2000"/>
                                        <p:tgtEl>
                                          <p:spTgt spid="3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2000"/>
                                        <p:tgtEl>
                                          <p:spTgt spid="3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Игрушки эпохи космонавтик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97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128000" cy="533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00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7705800" cy="518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ebf7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грушки из пенопла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02" name="Picture 9" descr="DSC00427"/>
          <p:cNvPicPr/>
          <p:nvPr/>
        </p:nvPicPr>
        <p:blipFill>
          <a:blip r:embed="rId1"/>
          <a:stretch/>
        </p:blipFill>
        <p:spPr>
          <a:xfrm>
            <a:off x="1116000" y="1413000"/>
            <a:ext cx="1432080" cy="2663640"/>
          </a:xfrm>
          <a:prstGeom prst="rect">
            <a:avLst/>
          </a:prstGeom>
          <a:ln w="0">
            <a:noFill/>
          </a:ln>
        </p:spPr>
      </p:pic>
      <p:pic>
        <p:nvPicPr>
          <p:cNvPr id="3403" name="Picture 10" descr="DSC00430"/>
          <p:cNvPicPr/>
          <p:nvPr/>
        </p:nvPicPr>
        <p:blipFill>
          <a:blip r:embed="rId2"/>
          <a:stretch/>
        </p:blipFill>
        <p:spPr>
          <a:xfrm>
            <a:off x="5003640" y="1484280"/>
            <a:ext cx="1371600" cy="244008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11" descr="DSC00428"/>
          <p:cNvPicPr/>
          <p:nvPr/>
        </p:nvPicPr>
        <p:blipFill>
          <a:blip r:embed="rId3"/>
          <a:stretch/>
        </p:blipFill>
        <p:spPr>
          <a:xfrm>
            <a:off x="3203640" y="4005360"/>
            <a:ext cx="1409760" cy="2519280"/>
          </a:xfrm>
          <a:prstGeom prst="rect">
            <a:avLst/>
          </a:prstGeom>
          <a:ln w="0">
            <a:noFill/>
          </a:ln>
        </p:spPr>
      </p:pic>
      <p:pic>
        <p:nvPicPr>
          <p:cNvPr id="3405" name="Picture 12" descr="DSC00429"/>
          <p:cNvPicPr/>
          <p:nvPr/>
        </p:nvPicPr>
        <p:blipFill>
          <a:blip r:embed="rId4"/>
          <a:stretch/>
        </p:blipFill>
        <p:spPr>
          <a:xfrm>
            <a:off x="6732720" y="4005360"/>
            <a:ext cx="1450800" cy="25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3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3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3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3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3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3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Также в 1950-1960 годы вошли в моду игрушки на сельскохозяйственную тему: помидоры, морковки, снопы пшеницы и т.д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07" name="Picture 9" descr="DSC00433"/>
          <p:cNvPicPr/>
          <p:nvPr/>
        </p:nvPicPr>
        <p:blipFill>
          <a:blip r:embed="rId2"/>
          <a:stretch/>
        </p:blipFill>
        <p:spPr>
          <a:xfrm rot="20687400">
            <a:off x="941040" y="1485720"/>
            <a:ext cx="1224000" cy="2325600"/>
          </a:xfrm>
          <a:prstGeom prst="rect">
            <a:avLst/>
          </a:prstGeom>
          <a:ln w="0">
            <a:noFill/>
          </a:ln>
        </p:spPr>
      </p:pic>
      <p:pic>
        <p:nvPicPr>
          <p:cNvPr id="3408" name="Picture 10" descr="DSC00458"/>
          <p:cNvPicPr/>
          <p:nvPr/>
        </p:nvPicPr>
        <p:blipFill>
          <a:blip r:embed="rId3"/>
          <a:stretch/>
        </p:blipFill>
        <p:spPr>
          <a:xfrm rot="738000">
            <a:off x="7019640" y="1988640"/>
            <a:ext cx="1079280" cy="2149560"/>
          </a:xfrm>
          <a:prstGeom prst="rect">
            <a:avLst/>
          </a:prstGeom>
          <a:ln w="0">
            <a:noFill/>
          </a:ln>
        </p:spPr>
      </p:pic>
      <p:pic>
        <p:nvPicPr>
          <p:cNvPr id="3409" name="Picture 11" descr="DSC00463"/>
          <p:cNvPicPr/>
          <p:nvPr/>
        </p:nvPicPr>
        <p:blipFill>
          <a:blip r:embed="rId4"/>
          <a:stretch/>
        </p:blipFill>
        <p:spPr>
          <a:xfrm rot="20684400">
            <a:off x="1116000" y="3933360"/>
            <a:ext cx="1278000" cy="2187720"/>
          </a:xfrm>
          <a:prstGeom prst="rect">
            <a:avLst/>
          </a:prstGeom>
          <a:ln w="0">
            <a:noFill/>
          </a:ln>
        </p:spPr>
      </p:pic>
      <p:pic>
        <p:nvPicPr>
          <p:cNvPr id="3410" name="Picture 12" descr="DSC00485"/>
          <p:cNvPicPr/>
          <p:nvPr/>
        </p:nvPicPr>
        <p:blipFill>
          <a:blip r:embed="rId5"/>
          <a:stretch/>
        </p:blipFill>
        <p:spPr>
          <a:xfrm>
            <a:off x="4861080" y="2127240"/>
            <a:ext cx="1650960" cy="3209760"/>
          </a:xfrm>
          <a:prstGeom prst="rect">
            <a:avLst/>
          </a:prstGeom>
          <a:ln w="0">
            <a:noFill/>
          </a:ln>
        </p:spPr>
      </p:pic>
      <p:pic>
        <p:nvPicPr>
          <p:cNvPr id="3411" name="Picture 14" descr="DSC00456"/>
          <p:cNvPicPr/>
          <p:nvPr/>
        </p:nvPicPr>
        <p:blipFill>
          <a:blip r:embed="rId6"/>
          <a:stretch/>
        </p:blipFill>
        <p:spPr>
          <a:xfrm>
            <a:off x="2843280" y="2133720"/>
            <a:ext cx="1657440" cy="3281400"/>
          </a:xfrm>
          <a:prstGeom prst="rect">
            <a:avLst/>
          </a:prstGeom>
          <a:ln w="0">
            <a:noFill/>
          </a:ln>
        </p:spPr>
      </p:pic>
      <p:pic>
        <p:nvPicPr>
          <p:cNvPr id="3412" name="Picture 15" descr="DSC00482"/>
          <p:cNvPicPr/>
          <p:nvPr/>
        </p:nvPicPr>
        <p:blipFill>
          <a:blip r:embed="rId7"/>
          <a:stretch/>
        </p:blipFill>
        <p:spPr>
          <a:xfrm rot="1091400">
            <a:off x="6659280" y="4292640"/>
            <a:ext cx="1041480" cy="238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3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3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3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3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3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eb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442800" y="549360"/>
            <a:ext cx="82440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южетные игрушк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17" name="Picture 9" descr="DSC00441"/>
          <p:cNvPicPr/>
          <p:nvPr/>
        </p:nvPicPr>
        <p:blipFill>
          <a:blip r:embed="rId1"/>
          <a:stretch/>
        </p:blipFill>
        <p:spPr>
          <a:xfrm>
            <a:off x="3132000" y="1484280"/>
            <a:ext cx="1727280" cy="23670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11" descr="DSC00453"/>
          <p:cNvPicPr/>
          <p:nvPr/>
        </p:nvPicPr>
        <p:blipFill>
          <a:blip r:embed="rId2"/>
          <a:stretch/>
        </p:blipFill>
        <p:spPr>
          <a:xfrm>
            <a:off x="1258920" y="3933720"/>
            <a:ext cx="1603440" cy="2519640"/>
          </a:xfrm>
          <a:prstGeom prst="rect">
            <a:avLst/>
          </a:prstGeom>
          <a:ln w="0">
            <a:noFill/>
          </a:ln>
        </p:spPr>
      </p:pic>
      <p:pic>
        <p:nvPicPr>
          <p:cNvPr id="3419" name="Picture 16" descr="DSC00489"/>
          <p:cNvPicPr/>
          <p:nvPr/>
        </p:nvPicPr>
        <p:blipFill>
          <a:blip r:embed="rId3"/>
          <a:stretch/>
        </p:blipFill>
        <p:spPr>
          <a:xfrm>
            <a:off x="6804000" y="1484280"/>
            <a:ext cx="1297080" cy="2367000"/>
          </a:xfrm>
          <a:prstGeom prst="rect">
            <a:avLst/>
          </a:prstGeom>
          <a:ln w="0">
            <a:noFill/>
          </a:ln>
        </p:spPr>
      </p:pic>
      <p:pic>
        <p:nvPicPr>
          <p:cNvPr id="3420" name="Picture 18" descr="DSC00501"/>
          <p:cNvPicPr/>
          <p:nvPr/>
        </p:nvPicPr>
        <p:blipFill>
          <a:blip r:embed="rId4"/>
          <a:stretch/>
        </p:blipFill>
        <p:spPr>
          <a:xfrm>
            <a:off x="5076720" y="3933720"/>
            <a:ext cx="1582920" cy="25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3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20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2000"/>
                                        <p:tgtEl>
                                          <p:spTgt spid="3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3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55" name="Rectangle 4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1" name="Picture 16" descr="DSC00465"/>
          <p:cNvPicPr/>
          <p:nvPr/>
        </p:nvPicPr>
        <p:blipFill>
          <a:blip r:embed="rId1"/>
          <a:stretch/>
        </p:blipFill>
        <p:spPr>
          <a:xfrm rot="1048200">
            <a:off x="5363640" y="475920"/>
            <a:ext cx="1940040" cy="2655720"/>
          </a:xfrm>
          <a:prstGeom prst="rect">
            <a:avLst/>
          </a:prstGeom>
          <a:ln w="0">
            <a:noFill/>
          </a:ln>
        </p:spPr>
      </p:pic>
      <p:pic>
        <p:nvPicPr>
          <p:cNvPr id="3422" name="Picture 18" descr="DSC00473"/>
          <p:cNvPicPr/>
          <p:nvPr/>
        </p:nvPicPr>
        <p:blipFill>
          <a:blip r:embed="rId2"/>
          <a:stretch/>
        </p:blipFill>
        <p:spPr>
          <a:xfrm rot="20681400">
            <a:off x="3131640" y="3357360"/>
            <a:ext cx="1544760" cy="3160440"/>
          </a:xfrm>
          <a:prstGeom prst="rect">
            <a:avLst/>
          </a:prstGeom>
          <a:ln w="0">
            <a:noFill/>
          </a:ln>
        </p:spPr>
      </p:pic>
      <p:pic>
        <p:nvPicPr>
          <p:cNvPr id="3423" name="Picture 20" descr="DSC00457"/>
          <p:cNvPicPr/>
          <p:nvPr/>
        </p:nvPicPr>
        <p:blipFill>
          <a:blip r:embed="rId3"/>
          <a:stretch/>
        </p:blipFill>
        <p:spPr>
          <a:xfrm rot="1030800">
            <a:off x="5795640" y="3573360"/>
            <a:ext cx="1512720" cy="2811600"/>
          </a:xfrm>
          <a:prstGeom prst="rect">
            <a:avLst/>
          </a:prstGeom>
          <a:ln w="0">
            <a:noFill/>
          </a:ln>
        </p:spPr>
      </p:pic>
      <p:pic>
        <p:nvPicPr>
          <p:cNvPr id="3424" name="Picture 22" descr="DSC00460"/>
          <p:cNvPicPr/>
          <p:nvPr/>
        </p:nvPicPr>
        <p:blipFill>
          <a:blip r:embed="rId4"/>
          <a:stretch/>
        </p:blipFill>
        <p:spPr>
          <a:xfrm rot="20617200">
            <a:off x="1187280" y="333000"/>
            <a:ext cx="1700280" cy="320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2000"/>
                                        <p:tgtEl>
                                          <p:spTgt spid="3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2000"/>
                                        <p:tgtEl>
                                          <p:spTgt spid="3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2000"/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3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442800" y="47592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Игрушки в форме зверей,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насекомых и птиц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26" name="Picture 11" descr="DSC00478"/>
          <p:cNvPicPr/>
          <p:nvPr/>
        </p:nvPicPr>
        <p:blipFill>
          <a:blip r:embed="rId2"/>
          <a:stretch/>
        </p:blipFill>
        <p:spPr>
          <a:xfrm>
            <a:off x="2124000" y="1916280"/>
            <a:ext cx="1135080" cy="2152440"/>
          </a:xfrm>
          <a:prstGeom prst="rect">
            <a:avLst/>
          </a:prstGeom>
          <a:ln w="0">
            <a:noFill/>
          </a:ln>
        </p:spPr>
      </p:pic>
      <p:pic>
        <p:nvPicPr>
          <p:cNvPr id="3427" name="Picture 14" descr="DSC00503"/>
          <p:cNvPicPr/>
          <p:nvPr/>
        </p:nvPicPr>
        <p:blipFill>
          <a:blip r:embed="rId3"/>
          <a:stretch/>
        </p:blipFill>
        <p:spPr>
          <a:xfrm>
            <a:off x="5580000" y="1916280"/>
            <a:ext cx="1065240" cy="2152440"/>
          </a:xfrm>
          <a:prstGeom prst="rect">
            <a:avLst/>
          </a:prstGeom>
          <a:ln w="0">
            <a:noFill/>
          </a:ln>
        </p:spPr>
      </p:pic>
      <p:pic>
        <p:nvPicPr>
          <p:cNvPr id="3428" name="Picture 16" descr="DSC00477"/>
          <p:cNvPicPr/>
          <p:nvPr/>
        </p:nvPicPr>
        <p:blipFill>
          <a:blip r:embed="rId4"/>
          <a:stretch/>
        </p:blipFill>
        <p:spPr>
          <a:xfrm>
            <a:off x="7164360" y="4221000"/>
            <a:ext cx="1341360" cy="2151360"/>
          </a:xfrm>
          <a:prstGeom prst="rect">
            <a:avLst/>
          </a:prstGeom>
          <a:ln w="0">
            <a:noFill/>
          </a:ln>
        </p:spPr>
      </p:pic>
      <p:pic>
        <p:nvPicPr>
          <p:cNvPr id="3429" name="Picture 18" descr="DSC00472"/>
          <p:cNvPicPr/>
          <p:nvPr/>
        </p:nvPicPr>
        <p:blipFill>
          <a:blip r:embed="rId5"/>
          <a:stretch/>
        </p:blipFill>
        <p:spPr>
          <a:xfrm>
            <a:off x="3708360" y="4149720"/>
            <a:ext cx="1495440" cy="2151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9" dur="2000"/>
                                        <p:tgtEl>
                                          <p:spTgt spid="3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4" dur="20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442800" y="62064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Игрушки в форме рыбок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31" name="Picture 13" descr="DSC00449"/>
          <p:cNvPicPr/>
          <p:nvPr/>
        </p:nvPicPr>
        <p:blipFill>
          <a:blip r:embed="rId1"/>
          <a:stretch/>
        </p:blipFill>
        <p:spPr>
          <a:xfrm>
            <a:off x="1258920" y="1844640"/>
            <a:ext cx="2305080" cy="2448000"/>
          </a:xfrm>
          <a:prstGeom prst="rect">
            <a:avLst/>
          </a:prstGeom>
          <a:ln w="0">
            <a:noFill/>
          </a:ln>
        </p:spPr>
      </p:pic>
      <p:pic>
        <p:nvPicPr>
          <p:cNvPr id="3432" name="Picture 15" descr="DSC00497"/>
          <p:cNvPicPr/>
          <p:nvPr/>
        </p:nvPicPr>
        <p:blipFill>
          <a:blip r:embed="rId2"/>
          <a:stretch/>
        </p:blipFill>
        <p:spPr>
          <a:xfrm>
            <a:off x="4932360" y="1628640"/>
            <a:ext cx="3398760" cy="2151360"/>
          </a:xfrm>
          <a:prstGeom prst="rect">
            <a:avLst/>
          </a:prstGeom>
          <a:ln w="0">
            <a:noFill/>
          </a:ln>
        </p:spPr>
      </p:pic>
      <p:pic>
        <p:nvPicPr>
          <p:cNvPr id="3433" name="Picture 17" descr="DSC00491"/>
          <p:cNvPicPr/>
          <p:nvPr/>
        </p:nvPicPr>
        <p:blipFill>
          <a:blip r:embed="rId3"/>
          <a:stretch/>
        </p:blipFill>
        <p:spPr>
          <a:xfrm>
            <a:off x="3348000" y="4365720"/>
            <a:ext cx="4680000" cy="20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3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8" dur="2000"/>
                                        <p:tgtEl>
                                          <p:spTgt spid="3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3" dur="2000"/>
                                        <p:tgtEl>
                                          <p:spTgt spid="3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А Деды Морозы и Снегурочки! </a:t>
            </a:r>
            <a:br>
              <a:rPr sz="3200"/>
            </a:b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У многих из нас они хранятся до сих пор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35" name="Picture 14" descr="DSC00401"/>
          <p:cNvPicPr/>
          <p:nvPr/>
        </p:nvPicPr>
        <p:blipFill>
          <a:blip r:embed="rId2"/>
          <a:stretch/>
        </p:blipFill>
        <p:spPr>
          <a:xfrm>
            <a:off x="3419640" y="2781360"/>
            <a:ext cx="1873080" cy="3816360"/>
          </a:xfrm>
          <a:prstGeom prst="rect">
            <a:avLst/>
          </a:prstGeom>
          <a:ln w="0">
            <a:noFill/>
          </a:ln>
        </p:spPr>
      </p:pic>
      <p:pic>
        <p:nvPicPr>
          <p:cNvPr id="3436" name="Picture 15" descr="DSC00499"/>
          <p:cNvPicPr/>
          <p:nvPr/>
        </p:nvPicPr>
        <p:blipFill>
          <a:blip r:embed="rId3"/>
          <a:stretch/>
        </p:blipFill>
        <p:spPr>
          <a:xfrm>
            <a:off x="468360" y="1628640"/>
            <a:ext cx="2654280" cy="4824720"/>
          </a:xfrm>
          <a:prstGeom prst="rect">
            <a:avLst/>
          </a:prstGeom>
          <a:ln w="0">
            <a:noFill/>
          </a:ln>
        </p:spPr>
      </p:pic>
      <p:pic>
        <p:nvPicPr>
          <p:cNvPr id="3437" name="Picture 16" descr="DSC00500"/>
          <p:cNvPicPr/>
          <p:nvPr/>
        </p:nvPicPr>
        <p:blipFill>
          <a:blip r:embed="rId4"/>
          <a:stretch/>
        </p:blipFill>
        <p:spPr>
          <a:xfrm>
            <a:off x="6084720" y="2133720"/>
            <a:ext cx="1946520" cy="43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442800" y="62064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Новогодние шары 1970-1980-е год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39" name="Picture 11" descr="DSC00432"/>
          <p:cNvPicPr/>
          <p:nvPr/>
        </p:nvPicPr>
        <p:blipFill>
          <a:blip r:embed="rId2"/>
          <a:stretch/>
        </p:blipFill>
        <p:spPr>
          <a:xfrm rot="20900400">
            <a:off x="1402920" y="1915920"/>
            <a:ext cx="1633680" cy="2151000"/>
          </a:xfrm>
          <a:prstGeom prst="rect">
            <a:avLst/>
          </a:prstGeom>
          <a:ln w="0">
            <a:noFill/>
          </a:ln>
        </p:spPr>
      </p:pic>
      <p:pic>
        <p:nvPicPr>
          <p:cNvPr id="3440" name="Picture 15" descr="DSC00543"/>
          <p:cNvPicPr/>
          <p:nvPr/>
        </p:nvPicPr>
        <p:blipFill>
          <a:blip r:embed="rId3"/>
          <a:stretch/>
        </p:blipFill>
        <p:spPr>
          <a:xfrm rot="981000">
            <a:off x="5796000" y="1916280"/>
            <a:ext cx="1811160" cy="215100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17" descr="DSC00544"/>
          <p:cNvPicPr/>
          <p:nvPr/>
        </p:nvPicPr>
        <p:blipFill>
          <a:blip r:embed="rId4"/>
          <a:stretch/>
        </p:blipFill>
        <p:spPr>
          <a:xfrm>
            <a:off x="3276720" y="4149720"/>
            <a:ext cx="1938240" cy="215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2000"/>
                                        <p:tgtEl>
                                          <p:spTgt spid="3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3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5508720" y="3141360"/>
            <a:ext cx="3178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Новогодняя ёлка 50-60-70-х г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5796000" y="1484280"/>
            <a:ext cx="289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44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онечно, наша современная елка, увитая электрическими гирляндами, сверкающая мишурой далеко ушла от своей предшественницы начала века.   Но было в тех немного наивных, но таких красивых новогодних лесных красавицах что-то трогательное и по-особому праздничное.          Хотя каждому времени – свою елку, так вед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3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Основные дат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17 век – в Европе устанавливается обычай наряжать «рождественское дерево» съедобными украшениям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1817 год – приходит обычай наряжать елку в Росс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24 января 1918 года – декрет Совнаркома ввел новый стиль и запретил празднования Нового год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1935 год – Советское руководство приняло решение о возобновление празднования Нового года в СССР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28 декабря 1935 года – заработал конвейер по производству елочных игрушек в СССР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Январь 1937 год – первая советская елка в колонном зале Дома Союз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1947 год – Новый год объявлен нерабочим днем.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3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3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3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3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0" fill="hold"/>
                                        <p:tgtEl>
                                          <p:spTgt spid="3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0" fill="hold"/>
                                        <p:tgtEl>
                                          <p:spTgt spid="3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0" fill="hold"/>
                                        <p:tgtEl>
                                          <p:spTgt spid="3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3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0" fill="hold"/>
                                        <p:tgtEl>
                                          <p:spTgt spid="3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3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0" fill="hold"/>
                                        <p:tgtEl>
                                          <p:spTgt spid="3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0" fill="hold"/>
                                        <p:tgtEl>
                                          <p:spTgt spid="3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0" fill="hold"/>
                                        <p:tgtEl>
                                          <p:spTgt spid="3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0" fill="hold"/>
                                        <p:tgtEl>
                                          <p:spTgt spid="3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24364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Знаете ли вы, чт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ешением международной организации коллекционеров елочных игрушек «Золотое свечение» старинными признаются игрушки, произведенные до 1966 год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амую большую елочную игрушку в мире – синий шар из пенопласта и прорезиненной ткани с серебряным наполнением в виде снежинок, весивший почти тонну, - сделали в 2003 году петербургские мастер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амая большая в мире искусственная ель высотою почти 68 метров, украшенная 2 миллионами лампочек, зажглась в Рио-де-Жанейр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3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0"/>
                                        <p:tgtEl>
                                          <p:spTgt spid="3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0"/>
                                        <p:tgtEl>
                                          <p:spTgt spid="3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0"/>
                                        <p:tgtEl>
                                          <p:spTgt spid="3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Я поняла, что высокая культура россиян накопила замечательные духовные традиции в праздновании нового год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знала, как история России в радости и горе, прослеживается в этих простых игрушках. И вам советую присматриваться к простым вещам – это интересно!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и игрушки не такие яркие и гламурные, как современные. Но сделаны с великой любовью к детям нашими дедушками и бабушками, мамами и папами с радостью и удовольствие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этому они достойны уважения и памяти, стоят того, чтобы мы, современные дети любовались ими, интересовались их историей созда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900" fill="hold"/>
                                        <p:tgtEl>
                                          <p:spTgt spid="3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 fill="hold"/>
                                        <p:tgtEl>
                                          <p:spTgt spid="3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900" fill="hold"/>
                                        <p:tgtEl>
                                          <p:spTgt spid="3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900" fill="hold"/>
                                        <p:tgtEl>
                                          <p:spTgt spid="3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00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Когда появились первые елочные украшения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ервые елочные украшения были съедобными – это фигурные пряники и печень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Затем стали изготавливаться более долговечные украшения – золотили еловые шишки пустые яичные скорлупки покрывали тончайшим слоем чеканной латун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 из скрученных оловянных проволочек делали мишур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одными украшениями для лесной красавицы в то время считались – зажженные свечи, которые крепились на ветках при помощи тонкой проволок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3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3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3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3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3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3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3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3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ff"/>
                </a:solidFill>
                <a:latin typeface="Verdana"/>
              </a:rPr>
              <a:t>«Дрезденские» игруш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грушки из картона, плоские и объемные. Также появились на рубеже веков и  имеют немецкое происхожден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ни представляют собой два склеенных между собой кусочка картона с зеркальным расположенным на них рисунком, слегка выпуклым. Игрушка, таким образом, получается двусторонн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0"/>
                                        <p:tgtEl>
                                          <p:spTgt spid="3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0"/>
                                        <p:tgtEl>
                                          <p:spTgt spid="3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62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5132160" cy="626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442800" y="404640"/>
            <a:ext cx="824400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99"/>
                </a:solidFill>
                <a:latin typeface="Verdana"/>
              </a:rPr>
              <a:t>Прототипы «дрезденских» игрушек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64" name="Picture 9" descr="Копия (2) КП 11"/>
          <p:cNvPicPr/>
          <p:nvPr/>
        </p:nvPicPr>
        <p:blipFill>
          <a:blip r:embed="rId2"/>
          <a:stretch/>
        </p:blipFill>
        <p:spPr>
          <a:xfrm>
            <a:off x="4859280" y="4292640"/>
            <a:ext cx="1982880" cy="2151000"/>
          </a:xfrm>
          <a:prstGeom prst="rect">
            <a:avLst/>
          </a:prstGeom>
          <a:ln w="0">
            <a:noFill/>
          </a:ln>
        </p:spPr>
      </p:pic>
      <p:pic>
        <p:nvPicPr>
          <p:cNvPr id="3365" name="Picture 10" descr="Копия (3) КП 11"/>
          <p:cNvPicPr/>
          <p:nvPr/>
        </p:nvPicPr>
        <p:blipFill>
          <a:blip r:embed="rId3"/>
          <a:stretch/>
        </p:blipFill>
        <p:spPr>
          <a:xfrm>
            <a:off x="1835280" y="4292640"/>
            <a:ext cx="1224000" cy="2376360"/>
          </a:xfrm>
          <a:prstGeom prst="rect">
            <a:avLst/>
          </a:prstGeom>
          <a:ln w="0">
            <a:noFill/>
          </a:ln>
        </p:spPr>
      </p:pic>
      <p:pic>
        <p:nvPicPr>
          <p:cNvPr id="3366" name="Picture 11" descr="Копия КП 11"/>
          <p:cNvPicPr/>
          <p:nvPr/>
        </p:nvPicPr>
        <p:blipFill>
          <a:blip r:embed="rId4"/>
          <a:stretch/>
        </p:blipFill>
        <p:spPr>
          <a:xfrm rot="467400">
            <a:off x="4992480" y="1672920"/>
            <a:ext cx="2939760" cy="2330280"/>
          </a:xfrm>
          <a:prstGeom prst="rect">
            <a:avLst/>
          </a:prstGeom>
          <a:ln w="0">
            <a:noFill/>
          </a:ln>
        </p:spPr>
      </p:pic>
      <p:pic>
        <p:nvPicPr>
          <p:cNvPr id="3367" name="Picture 12" descr="КП 11"/>
          <p:cNvPicPr/>
          <p:nvPr/>
        </p:nvPicPr>
        <p:blipFill>
          <a:blip r:embed="rId5"/>
          <a:stretch/>
        </p:blipFill>
        <p:spPr>
          <a:xfrm rot="21188400">
            <a:off x="1054080" y="1755360"/>
            <a:ext cx="301140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3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3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Игрушки из ваты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70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8064360" cy="530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Игрушки 30-х годов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73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7416720" cy="403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 период Великой Отечественной войны на заводе «Москабель» крутили проволочные украшения. В дело шли отходы производства, но из отходов получались великолепные работ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75" name="Picture 10" descr="DSC00420"/>
          <p:cNvPicPr/>
          <p:nvPr/>
        </p:nvPicPr>
        <p:blipFill>
          <a:blip r:embed="rId1"/>
          <a:stretch/>
        </p:blipFill>
        <p:spPr>
          <a:xfrm rot="20632800">
            <a:off x="2195640" y="2997360"/>
            <a:ext cx="1535040" cy="2157120"/>
          </a:xfrm>
          <a:prstGeom prst="rect">
            <a:avLst/>
          </a:prstGeom>
          <a:ln w="0">
            <a:noFill/>
          </a:ln>
        </p:spPr>
      </p:pic>
      <p:pic>
        <p:nvPicPr>
          <p:cNvPr id="3376" name="Picture 11" descr="DSC00412"/>
          <p:cNvPicPr/>
          <p:nvPr/>
        </p:nvPicPr>
        <p:blipFill>
          <a:blip r:embed="rId2"/>
          <a:stretch/>
        </p:blipFill>
        <p:spPr>
          <a:xfrm rot="20800200">
            <a:off x="755280" y="3789360"/>
            <a:ext cx="1224000" cy="2152800"/>
          </a:xfrm>
          <a:prstGeom prst="rect">
            <a:avLst/>
          </a:prstGeom>
          <a:ln w="0">
            <a:noFill/>
          </a:ln>
        </p:spPr>
      </p:pic>
      <p:pic>
        <p:nvPicPr>
          <p:cNvPr id="3377" name="Picture 12" descr="DSC00410"/>
          <p:cNvPicPr/>
          <p:nvPr/>
        </p:nvPicPr>
        <p:blipFill>
          <a:blip r:embed="rId3"/>
          <a:stretch/>
        </p:blipFill>
        <p:spPr>
          <a:xfrm rot="20611800">
            <a:off x="6227640" y="2565360"/>
            <a:ext cx="2095560" cy="3500640"/>
          </a:xfrm>
          <a:prstGeom prst="rect">
            <a:avLst/>
          </a:prstGeom>
          <a:ln w="0">
            <a:noFill/>
          </a:ln>
        </p:spPr>
      </p:pic>
      <p:pic>
        <p:nvPicPr>
          <p:cNvPr id="3378" name="Picture 13" descr="DSC00416"/>
          <p:cNvPicPr/>
          <p:nvPr/>
        </p:nvPicPr>
        <p:blipFill>
          <a:blip r:embed="rId4"/>
          <a:stretch/>
        </p:blipFill>
        <p:spPr>
          <a:xfrm rot="20679000">
            <a:off x="4066920" y="2852280"/>
            <a:ext cx="2016000" cy="339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3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3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3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58:17Z</dcterms:created>
  <dc:creator>Углова Елена</dc:creator>
  <dc:description/>
  <dc:language>en-US</dc:language>
  <cp:lastModifiedBy>BEST</cp:lastModifiedBy>
  <dcterms:modified xsi:type="dcterms:W3CDTF">2013-12-25T19:45:43Z</dcterms:modified>
  <cp:revision>38</cp:revision>
  <dc:subject/>
  <dc:title>История новогодних игрушек</dc:title>
</cp:coreProperties>
</file>