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  <p:sldId id="267" r:id="rId64"/>
    <p:sldId id="268" r:id="rId65"/>
    <p:sldId id="269" r:id="rId66"/>
    <p:sldId id="270" r:id="rId67"/>
    <p:sldId id="271" r:id="rId68"/>
    <p:sldId id="272" r:id="rId69"/>
    <p:sldId id="273" r:id="rId70"/>
    <p:sldId id="274" r:id="rId71"/>
    <p:sldId id="275" r:id="rId72"/>
    <p:sldId id="276" r:id="rId73"/>
    <p:sldId id="277" r:id="rId74"/>
    <p:sldId id="278" r:id="rId75"/>
    <p:sldId id="279" r:id="rId76"/>
    <p:sldId id="280" r:id="rId77"/>
    <p:sldId id="281" r:id="rId78"/>
    <p:sldId id="282" r:id="rId79"/>
    <p:sldId id="283" r:id="rId80"/>
    <p:sldId id="28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slide" Target="slides/slide12.xml"/><Relationship Id="rId65" Type="http://schemas.openxmlformats.org/officeDocument/2006/relationships/slide" Target="slides/slide13.xml"/><Relationship Id="rId66" Type="http://schemas.openxmlformats.org/officeDocument/2006/relationships/slide" Target="slides/slide14.xml"/><Relationship Id="rId67" Type="http://schemas.openxmlformats.org/officeDocument/2006/relationships/slide" Target="slides/slide15.xml"/><Relationship Id="rId68" Type="http://schemas.openxmlformats.org/officeDocument/2006/relationships/slide" Target="slides/slide16.xml"/><Relationship Id="rId69" Type="http://schemas.openxmlformats.org/officeDocument/2006/relationships/slide" Target="slides/slide17.xml"/><Relationship Id="rId70" Type="http://schemas.openxmlformats.org/officeDocument/2006/relationships/slide" Target="slides/slide18.xml"/><Relationship Id="rId71" Type="http://schemas.openxmlformats.org/officeDocument/2006/relationships/slide" Target="slides/slide19.xml"/><Relationship Id="rId72" Type="http://schemas.openxmlformats.org/officeDocument/2006/relationships/slide" Target="slides/slide20.xml"/><Relationship Id="rId73" Type="http://schemas.openxmlformats.org/officeDocument/2006/relationships/slide" Target="slides/slide21.xml"/><Relationship Id="rId74" Type="http://schemas.openxmlformats.org/officeDocument/2006/relationships/slide" Target="slides/slide22.xml"/><Relationship Id="rId75" Type="http://schemas.openxmlformats.org/officeDocument/2006/relationships/slide" Target="slides/slide23.xml"/><Relationship Id="rId76" Type="http://schemas.openxmlformats.org/officeDocument/2006/relationships/slide" Target="slides/slide24.xml"/><Relationship Id="rId77" Type="http://schemas.openxmlformats.org/officeDocument/2006/relationships/slide" Target="slides/slide25.xml"/><Relationship Id="rId78" Type="http://schemas.openxmlformats.org/officeDocument/2006/relationships/slide" Target="slides/slide26.xml"/><Relationship Id="rId79" Type="http://schemas.openxmlformats.org/officeDocument/2006/relationships/slide" Target="slides/slide27.xml"/><Relationship Id="rId80" Type="http://schemas.openxmlformats.org/officeDocument/2006/relationships/slide" Target="slides/slide28.xml"/><Relationship Id="rId81" Type="http://schemas.openxmlformats.org/officeDocument/2006/relationships/slide" Target="slides/slide2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0BF-8A6B-4372-BF2F-A18399F0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643-7415-44C3-B8E6-E18909B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D50AF-1780-4350-8654-3B5F7B23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12470-3868-4784-8C03-86DB222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A3EF2-28DF-4486-A72D-18A6DD4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2394A-EDB0-4A33-B1B1-06D09731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B8E68-588B-49A5-A76E-D3C612E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869B4-C1A6-4324-8C0D-B7B55337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877D5-DCB6-4F27-B389-196D393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F3E1E-5CE3-4EB1-A082-75E19C2C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B2517-8238-41A6-A9E0-B5113958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E4C6F-67F1-4A08-AD31-5D024D53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0E7-EDF2-4E0F-A24E-44EBD656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FD3B-97F2-42D7-BD5B-A491B8D3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0774-CEBD-45AE-B6DD-0895A7E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8FF20-23F1-40B7-9568-0DA96E0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31819-F46E-4C25-A23E-AD7B3BD3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CFC6A-60F1-4F39-8D3D-2366C40E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626DA-B714-4F28-956F-A84F082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AEDD4-8233-4DE6-8EED-2ED6DA8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3AF00-A705-40D4-9870-B089488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4FE9B-9FFB-466F-B97B-DC9338EC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5A41B-990D-4B20-91CB-7AB7EA45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F3A-7350-4D15-8E64-869D6FC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5676C-9780-4642-877E-290293FF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0FD6-1A6E-4CAE-8B20-E4D220B2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9F06-12C9-4DCB-AA48-F1ADCC0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5C21F-ED4C-45CF-992B-0E64376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97F2-C32B-4194-AF94-C0138D3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361DD-6591-4B8F-B8EE-34E1D8C4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85F9F-218E-4ADA-94B5-8A458D5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BB6E1-A375-4F2E-A23B-91E0853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2E8BF-7445-4B6D-9BAE-AF63186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59E7F-054D-4438-A3BE-727F35F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F2C-ACE5-4E0A-97C0-B04D674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D1370-C708-465A-A0D4-2A0DC95D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DE0AA-88E2-46C3-9430-A89C4D2A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E82D6-B4BA-4946-8935-0D598859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B74F9-B5FF-45AB-8376-085E7EE2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D42EE-65E0-404D-9B34-FBF3E985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8FBF9-CDCC-4231-AEE0-780F5F8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93BF2-57F8-4EEA-BFC1-B1836CCB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7E482-8276-412F-B785-08DF6248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D6109-5A71-4097-A2AA-D7F81898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DBD75-5A79-4631-AD26-5B589D2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F670-863E-4357-981B-19D45DCF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679F1-6A4A-4C15-839A-6DB3C70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AA3F7-F0A6-4B34-8C1F-7FABA62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7B0EF-E262-41CF-98CC-C5F5248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09BF7-7AFA-4D55-8393-CF6A0736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ABE16-52A4-4DD2-93AE-AA66FDDF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425EB-64F7-42F7-8B22-9B9B690F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E57A7-E502-472E-A03F-2E051AC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42F14-B276-4385-9BF7-E651B8C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46F38-026E-4667-8848-7E90B8B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285D1-476B-4799-BAFA-448AE7F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758F-4B32-4FEA-92BA-98FC5740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AEA3A-D4A1-4610-97BC-BC6299D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6F498-4C38-4E14-A054-4097A72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1122A-2DD0-4369-9226-6E63ABA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8AD43-BDC7-4260-B703-7799CC55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2AD46-828A-4C87-BD03-386F30F2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2C968-9857-4236-A4F0-F2C979F3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FAC05-933B-4B01-914B-EBA20C5D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42A57-3115-4059-9B90-6CA1431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9C1EF-4069-464F-87A5-6B031F5C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96023-491F-483D-A847-15CC819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D30-FAE8-4DC2-89A5-70227F1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734B8-828A-447C-938B-D3CE4A4A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993B2-BA3B-438A-99B8-40D0499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2E0AF-C219-4608-B39D-62C94ADB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0E29A-0407-4184-8D1E-AA14C71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77E9B-DF36-4372-8A04-A7F185F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96D38-F529-4FB7-B3F6-4B698BD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A782E-5EC0-4085-A354-8C9375C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98B9C-6DBC-4EF2-8077-2266E797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9C5DE-D810-4DBB-883E-2152D208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60C15-342F-454A-9716-1124D9BD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80D-2BCF-4737-9C60-C832DF19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174A5-7298-419C-8C70-E0DE342F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C18B1-ADC5-4C5A-8151-1A28BD8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F69B8-6CCF-470B-9199-07C8DBF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8DD2E-A849-460C-90E0-71BA14C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F2741-C2D6-44F7-ADF4-4DEBFD1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811AB-EEF4-41B3-B91D-DA6297C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23FD8-B639-4F4E-9124-0A8EC3B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DFC0D-DD79-4D45-876F-6FDE5A4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37D75-921C-4F38-BC69-74F5FB2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E2077-D50E-43C4-AAD1-755F1A45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ED75-6DF0-4757-838B-4EB53A0F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A84EC-CC32-4B08-8499-16965529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03689-CBEE-4200-A453-6A068EF8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9F2EB-3C53-4BC4-B64B-3D26F62A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AF70C-9EDF-4BC8-905D-AECF0813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C01FE-7C4D-4975-86F8-BDA2022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1CCB7-7B7D-4297-A2C2-1088212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85648-016E-45E8-9D5B-563CA49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DB26C-D887-4ECF-9944-ACFB47A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5E072-9474-42D8-8E83-1B00E42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0327F-137F-47EB-92BB-6041FF9F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1E19-794F-4CBB-86CD-95A2786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A38CF-41DB-4D40-B1D2-D3EA20A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4D887-4544-4837-AAB9-6A72DBCA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97C2A-3881-4786-B928-FEFC44A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9D23F-8E4F-4929-A431-41A04ABF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CAADB-F6D9-4B0D-8A8F-B3A0C08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D3F24-94EA-4A01-8F85-17EB9A9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C3FCC-1C6C-4732-8D7F-2869EE6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4ACE4-D5B3-440D-AB32-053FA07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3C600-002C-4CAE-8D6A-F2962E02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94674-DB4E-4A98-8104-888F0209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1BD-9D07-4C57-981A-B30BD2B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B262-A1B6-4F63-BD8D-04A264A6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C0CB5-E653-4990-B939-37FB8A6B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7F560-12E5-410B-B1B0-026E208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BA389-F77C-4071-B822-4ED545AF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8B965-71CB-4B8F-BC71-033B4F6C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A2011-8D27-4031-9D41-0E278DEB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E3EBD-9463-4DBC-9AD2-CCBF8359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3C9583-CD41-4344-B26B-8ABDBE5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FFC27-B5E0-4050-A754-298B031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7227D-FD5F-47A8-90B6-3F901D0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8E925-3F95-49DC-9A87-13DE2E9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5476-59D1-4061-BDC4-6CED851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1650D-8091-425B-8CDF-EC393E75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51EA6-050C-47BD-B749-ABC9304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DD50C-CDA3-4FC8-A893-F7EE6DC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00E4A-31F0-49B1-9104-63471C9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04C5E-C189-4B73-BCEC-8C48555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D4EF2-A89F-47DB-9B32-AF0AF082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ADF96-CA25-47BE-B63D-76074D0F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FADE2-32EC-49CC-B8FE-730876ED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DFB0D-478A-4C27-80A3-AD964004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201FB-7019-43FA-BBD0-ED4F152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52D-0F9E-4286-8C7F-FD9D245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9A812-17F2-4D21-84BF-0C5473EF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C40AA-DB2F-4E40-91F6-D870CF54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F176D-38E4-412D-810A-DA2EE6E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54022-BDFC-41EC-9B71-F046C30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BEBE8-A75A-42D5-A849-7D4C191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C5A37-74C3-4D07-8218-C367D0B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21FCA-69BA-4296-A734-54197FD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87108-71EB-4810-B1AD-BCA094D8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A5405-4994-4FE3-B011-79BEC35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51F81-1E6D-41C4-A834-7F89DA5B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2153-0D34-41E9-909D-F47964FC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09B70-6FD9-440C-BC0F-7D351EB4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E89CF-E8EA-40D1-A155-3A50FE4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00592-0CF4-4017-A465-EE81792C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ACAB1-D6AE-4FB6-8E87-4D84812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0F2FA-1599-41FA-BC5A-6565A63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B9A4B0-F218-4720-8C15-313E07B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A6684-0B2F-4443-BEB2-118EC95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67201-6B3F-4405-9C2C-43B3B93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FFFC5-59AC-4094-A561-B9D24F8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AD5EC-F86C-46B7-88CA-D8EE085C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B3B8-3327-4DE8-9BA8-C51E98C7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56D6F-2CD8-4147-B05F-E7B89F86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F6EE7-ABF6-4454-B12B-B67DF470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F0C3C-BAD8-4B4D-83AF-85B11CE7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4EFE4-0CAC-4344-9DF2-09C19A60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64C0A-36AB-42D7-87E1-BE77CC2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8E945-C060-4E0E-89DC-1D2B9BCD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9523F-887B-4F27-8AED-14403A7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2F791-F719-4D86-B548-58508D1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841F3-7043-4364-9E7E-5504435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7B105-9522-4E57-9A0D-4A0437A1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8C6F-260F-48FD-A396-1A1CBEB1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62C62-20FD-4EAE-B620-E9837288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78CB1-82C0-473D-AA82-D2F44155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03F7E-8BE0-4B35-994A-666ED08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8775C-E904-4BB4-8534-CE278E93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DD203-6BF4-494B-8126-9F07034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00C12-BBB5-4C89-89ED-88747D12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E663E-8D45-4783-BD03-360A4CE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4C6D2F-47C3-4A6B-8FFE-4F5663EE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83276-FF82-479E-8A56-E621609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2EC4E-4CC7-4F7A-B0A5-1F1AC7C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EC0A-1A48-4606-8E44-BC415423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3CA0E-6FE6-493C-9F22-B94B866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0B076E-46E1-4C91-8299-7F4785AB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0D9256-6250-448F-8048-19B5BF4A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985466-94F7-403D-B2C5-FAF109B8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B897E-E8B4-4B8C-9686-326D6252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B30E3-9195-4F1A-835C-1A67EED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7849E-0031-4E3C-9CF0-6A606745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860D1-A690-4A04-AD78-84D5846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1974B4-2A5D-404E-BDA3-EE9B1800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4D248D-6722-48B5-A73B-24B8AB46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AE18-9045-486A-AFD1-5563C0A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B0ADD-C04E-4A8D-BA8A-B18BE09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F88D1-ACFA-4B96-9F7F-46B28D8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C5790-EBD8-49B8-8294-1838AAF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1BF11-6D8F-49DF-8514-FABCCEA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1080F-ABDE-46AC-B381-395171C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320E51-E0F8-4D80-BBBF-739B43A1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8550E-FD2A-41BA-82CE-9644D6AD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080E53-41BA-4F0C-8D42-217BD143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AA96B-C827-4406-96F8-42BF305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156EC6-CA8F-427E-95F6-DB0A2261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FEF5-FC95-4C56-94C7-7B46C2AC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74D176-6589-4211-835C-38A7587B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3ADA1-37CA-4C2E-B1E6-81B461A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B5C9FC-E32D-4149-B5B9-FB00C4C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B495FC-50CB-4277-83A0-7874912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DB4883-F893-401E-BE30-2B4525D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30D137-35A4-41E2-9142-3A176C7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E0ED79-40ED-46CC-9A6B-17F88A97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9D97DB-ADAB-4847-8EF9-2491D080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E2B0FF-236E-4B4B-A0BD-2B1DD45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49A57C-6E1F-42F7-AE4D-EE55E78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6AF3-549C-4695-9B20-34D5909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8AC1B-6426-4E6E-B6E4-4BE352F2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D95EE1-314B-4AC2-8721-94DF890D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B547FC-7F67-4877-840C-1F2917C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975D4B-7477-4ABA-AE26-E3000F7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1079BE-C383-4BA2-A308-C737BBD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3BAD02-794F-41BB-87A0-14B01CAA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9D69A4-A6AF-47F3-BD44-DB83E28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DF7697-848C-4551-B070-C4F165A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193087-F52F-4B48-A83E-5DF6C20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EC8C32-2EBB-44CF-A7B0-42E1AE94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BA5-10ED-4ACA-B6E1-71CFA389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D54B-3A57-43EB-84EC-57897F2B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C6CAEC-7F74-4DE7-AEFB-73564CDB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ED2613-1AB3-4AC7-8F59-1FC2D05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F2A339-CA44-4D11-A2C4-DEDF07F9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689757-4AA7-4B7D-A717-5090BFC0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8A26C-76FA-43FA-8F61-FA2E6D0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E147E2-DFE8-4338-9780-5A2EC62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AB55B1-36F1-4491-8C0E-1F9AE33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B7C908-6732-47BE-82F9-5E12ABA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6D7F1C-E038-471E-B362-2780420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002FB2-5D12-401B-9A4D-23708E0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860F-E416-48BB-B91E-8C89C0D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170A6E-85C0-49CD-97B1-76678AC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D972FC-61F5-42C1-9E1A-4ADC9B37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6B193-4F10-4E47-B1FA-D5B147D1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5C7EB9-07C7-47BD-9698-612B605C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8CA590-FC85-4EBA-89F5-A2EF750F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72E16E-95EB-4FEC-87F2-D7C3C98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3BC33B-102D-4915-9790-22B83BD7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35ED6-54D0-47F7-92E5-02608289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6FB060-02F8-48A1-81E5-50774F0C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4AAC68-F45B-4034-89A6-AEC5365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949C-CE90-4EFB-911F-232EBC7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AEC903-BE0D-4A17-B65B-CE43F4C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C9EC58-6249-4036-8031-3FFE5D4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84EF6B-CDB0-42F0-AB03-6F191A3C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E1837B-0472-4628-8176-138F786A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46DE8-05EF-4A4F-831C-78D605D9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D17D10-8454-4320-ACFD-7C093A33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9B16B3-BB88-4288-AD12-034F4A6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9AD5CB-0ADE-4AC1-A989-79AD6D9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F3CE88-BF63-45EC-A194-469A485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3C2E3B-BCD3-45D0-BE79-C4708A4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FD5B-006E-4B3D-95EE-09B5772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285A3-1244-4BFD-82B6-B5CAAA03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8F851-8977-42EF-94AB-B65217E0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575C6E-CFE9-419C-B012-DBBEF1EE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B99CD6-8868-484A-B15C-1292B3E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D7D251-A0F6-4BF0-A16A-E90811C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DBF5E4-C0EA-4F00-9B5A-AF76E992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6591DC-AAB7-43D9-B8C6-98DC401D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94C9A7-8318-4340-9C90-08989DF5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D6A01A-BB6B-4019-8B1B-1DBE6BAC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F06E49-F523-4319-9E4A-241FD41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88A2-FF4E-4BCD-B8C2-A88DD87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C6CCE6-C554-4410-B72D-598F2924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E1C8C3-0DD7-4BC3-8790-EBF8990C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4B9264-A77D-4E00-87BB-10118D0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E68876-9A59-4846-9B79-C062493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C913E4-96EC-49CA-9EE4-0A3597C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D65494-B1A8-4DC8-BE08-9247C7D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2BB15A-EBD7-4B38-9CFF-A35BD7D9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4C2E2-DF2B-4333-89D6-E994BCB5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DB0FFC-6477-4EBA-A54A-79FE17A5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3E8F57-ADCF-496D-8C82-7B887E64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6F23-0989-48D8-8B9E-8209B0DF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A196CE-B531-40D4-9D43-82B70AC5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0F2BFA-3D2C-4246-A0BB-DF12EA62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5FA192-E454-4F0F-87C9-5EC45C5D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EB7AB4-65CF-4E34-A200-6F30784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83939-F09E-41F9-B25F-3871F18C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6F278F-9AFC-407A-836A-C045D03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6134A0-47A6-47B9-9CE8-97E65D0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D51735-4EFB-4350-A5F1-DC5B013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66EA85-F608-426A-88F4-DAB58A31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3B1037-AEDF-4580-AD94-B6CFFEEE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776F-23CB-447B-8D88-5943AFEA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345198-0C20-43D6-9AEE-6004ACC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7F710C-186C-4637-9011-7C5F71E8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4E8208-A75A-422C-8123-57301930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635482-2175-45A7-95BC-ED7A068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5C375-EA37-465E-9515-601DE12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7E15F5-73BE-487A-96E2-4B5D0A1D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DD06D2-B5BC-4E7D-822B-8023DF6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83AFBB-DDF6-45F9-9A5A-9FC7ABB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86CEF6-C4D5-48BB-897D-F575D56B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71FFCA-0601-4D0B-8E35-675B218C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1925-F9BE-4A60-BD17-0BD67331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906F38-1045-4B0F-B194-5436065E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6CAA52-6589-48E1-AA00-C02B7CA7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3380C4-ACB1-462D-85CF-7240888E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E3B8D1-3182-4D7B-A734-3948BDC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AD292C-211C-4B91-BD73-BBF3937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74C5DC-B7C2-4A77-8F26-30BD174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EF3237-C35B-4862-94FD-F999440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7C1AE5-C85F-457E-A74B-4F56130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D53D0B-54B9-4266-929B-EB6CB35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BDA1F7-F81A-4E8C-8638-7A5E0BA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19E4-2A74-4C37-B4D0-9ACB5CDF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D6D4F0-0A5F-4497-9323-B9DE1B6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375D2C-A811-4469-B13D-CA1E7B5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E3CCFB-D5AB-45D4-95B1-BA056B28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AB6FBA-C135-4B7F-9DAE-4E32C34C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457176-002D-49A4-8F0B-4D408130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4EF6D4-01FB-4651-9A08-A0507F87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B14570-69AD-4AA9-853F-463674E0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6FD1F9-14AA-41DE-B01D-88768477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BA76FC-CCB9-4797-80E0-37B2404F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DC386A-1E09-4831-8241-99E4C08B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F53B-D493-4531-B16E-18CAA40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230C72-877E-4DD9-9395-D92ADB9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9B05C3-B083-442D-AF2A-7514C45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6F9DDA-DCBA-4DCA-ADFF-474CD9B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6BFE60-68FD-4BB7-968E-D83C8A5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4C727A-1A77-4776-B854-88DA28D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FB2FBE-DA54-41D3-86FF-09BAA195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E5DF34-47A5-4A50-8A27-F3E43418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186721-C3FF-45D1-BC93-24C789FC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55FA0A-08B5-48A9-AFE8-8ADBD1DB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C9A38F-C617-47B4-A958-3B7C91C1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D43-BFF1-4D9C-BB01-7175CE63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0557-62ED-4FF2-AAE8-E6CCC9D0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6C1B9B-525B-4D56-B016-A430BD7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07D93E-851C-4A95-8C18-0AECE69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E1BA67-64EE-433D-8C5D-062BA091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537026-9B70-4A73-BB41-CAFCA1B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8F51CB-8D3F-4EBF-B588-5796E00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E8B81D-F296-4A0E-B23B-96ADD59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7560FE-2F8C-40AF-9644-74DCC93C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205FC6-A5B5-4269-AE1C-59E551F9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7EE0B0-D2C4-495C-AB20-CCA067E3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6F0FD9-39CD-4AF1-BD29-C6F5C660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CC36-2857-4802-8A1E-DF27EC6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ED561E-5F39-447E-987C-3528228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3A1362-C3A8-47EB-9B57-ED13B6F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A752B1-B28A-4D74-8A9F-BBFE6DA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49B866-CC86-41CF-A710-7B4B8E7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D3595B-E1A2-4D42-A4C3-3E885EF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A323E0-8138-44FB-98B3-6D56CCF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2500FB-D354-4A22-95E9-BE2C227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4964A6-D3EB-4221-A540-227A40B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66CBB8-F6AB-4DCC-A3C5-6EF6DD2B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FD0900-5AD7-496E-84A9-1DF9EE9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D180-1B6C-4B1B-987D-1613CB83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632642-5001-4A06-BF4C-71B78EBD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FF4E7B-6382-4659-BC0F-69053DB5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0DCA5F-776F-4C35-9F9D-674E9B4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3FB0E6-3415-4DCA-9FE3-EEB02984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AD4612-BD00-4E24-B583-B42ABF0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56CC5C-A49A-4CC2-9BF1-341328CB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D5F1BB-6B34-4E2F-878A-EC589CE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D8FFD6-F05A-417A-8034-E90A909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2EF562-B5BF-4806-8958-1149534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16BDE5-EE68-4861-9510-2A55BB4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2A92-1BF6-459D-8093-77C2CF2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555093-0CD3-4546-903B-324FCF3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4D53ED-433A-43AE-A09F-555F8A18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07D813-E4B7-4219-A0D8-4B7A894C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9D3C5A-F43B-4DF6-A962-0A00033B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26AD51-E94F-464D-88DC-D5190E3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29FE15-10B4-4CC6-B3B6-AC42A7E6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3F67DF-F00E-4A90-8D4F-63B464CB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9D92F7-BFF2-46E3-9098-12030224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26AE9F-8E50-4ECA-84BA-2F0FF5AA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C15A24-E2B2-4057-B714-244B252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EDFF-B3EE-45F2-8851-ECB38F5E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274EBD-37D4-41B5-9BB9-8EFAC31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48B1C5-6A34-4802-BFAF-0F654F4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DCCE4B-F528-46AE-830F-6F59A8B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D80E97-DC8D-4C09-87CD-B6151F2B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54E41D-C65E-4052-BC43-9DB96871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339B70-AC9C-4D9A-91F9-65571A61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ABDE4B-1411-45B4-8AC6-6D60E3A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A6BF20-026E-4C0A-BDDD-0AD8F9D2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8F1FCD-0109-4DDB-AAE9-85EF8E8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6124FB-6F89-4865-A99F-5BCDF33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A2BF-B615-40B4-812B-18BCB93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20E044-970E-42E2-9897-876EB4C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5E9312-F720-40F3-B13D-9F251748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0194BC-B36F-46C5-87CF-F68B1A2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8B5F5F-E213-470E-A746-C8F0348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2D3973-5E4F-46BB-95E0-5A49E61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DBCEAA-EAC2-45B4-8E4E-33416499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81A5C4-40D6-4A2A-827C-28E1B436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6AB715-6902-4E3F-96E6-0728A97B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6F0AAA-3633-47AB-A4D4-D71C250F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15604C-2AFF-4CA0-8F69-6AAE2BC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7B11-4782-4F90-85F3-0EC6294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83A530-2A9D-402A-8C25-9DA8796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FA44B0-087D-482F-B07C-D5026BB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8C13D2-9F3E-4012-8647-D89E376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01542C-E0C7-44B6-87FB-1656B48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084DEB-60D2-4B70-9F85-0442082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DF40D7-C4EC-4C43-B558-64315622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40AE94-2A18-4341-BD43-5DE26C8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B1C67B-CE42-4384-AE27-B11AADB9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28319B-1B0C-45C7-853D-3FB2FE99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762619-8E3D-440E-BE5F-DA48CF6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7981-E512-457F-8BD0-192AE800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E97EF4-CDAF-4B46-958B-D5BB45E3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9DCD13-F4B1-42BB-AD95-3724D0B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D7ED92-BBAB-497C-9DF9-24EA3C04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1513EF-2B34-4688-A7DB-9FC466E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CC1727-3DBC-4763-BA25-78E69C6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6A811B-A2AF-4D24-8149-E97D9AA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018D94-5BC4-4B5A-84BD-4E5C4BD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82EAE8-17D9-40C8-8302-DF9896B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401E74-1F83-42BF-8122-4E0F019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87C2B7-ABE6-4889-92D8-4828DAF7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9F5E-2376-4B55-AA31-4CF52645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72B457-1980-4EA4-8ABF-0C94B9BF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1960A3-A6EE-4FF4-B785-EA6F9537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F1678E-DD86-49A4-9207-FE71135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5B2E1E-887F-42E5-B7DD-B1BAD3B0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A21AED-1D86-4C79-A7E4-EF329776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2A6EB2-AF4B-4E4F-84AA-11A0F17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0766DE-1A16-42D4-93F3-22955DFD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A73AAF-0ECB-46DD-848B-B17C6601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F71F1C-D5C6-472E-B591-147B072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7CE752-5A02-4066-99C3-6A0149E6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EBA1-09EA-4772-AB44-D0323BDD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6F803C-E432-4363-9F99-883D3EA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6B8F57-0B85-4DC6-8483-ECCCB3A8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363CC1-DBA0-4A0D-8B73-B2DB4E3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C7C399-2FF4-4847-9781-F54B186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EF3B3F-887B-438E-8309-8C68113D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C9283C-B15E-4457-B8C1-3EE82EDE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BE842F-7376-4475-ADE7-28C371A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A5B1C4-6604-47E9-B97B-EAED857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41A711-2635-4829-AB21-ED3DC5B2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F7B8BB-333A-452B-A2AC-BCC8834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A9F-8F31-42FA-97D6-280BF25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82EC1-0443-4DC6-B2E3-C8547F5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9AFD22-50FA-48EF-BBF2-0D70B60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7CBA47-E9B4-4A7E-B329-AEDE0F1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F51F57-75C8-4E07-AA02-945F68A0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747CCF-8546-4A0C-941E-3400433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2935DF-CC2C-4DAE-BAC9-FAFA3B84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3C0213-6725-4A67-B8FA-EC6F6DF6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BB00D9-91EB-4975-95A5-476B183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B8C3E4-91EC-4EB0-8731-00FBA083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BD7851-AB90-45AA-915A-71410970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F44B57-670D-4EA1-BDC7-47FA7BC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960EE-BDE1-4D7D-9525-4CD922E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5EAA04-5598-4C86-B464-F9C20130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77D01B-B85D-43D1-A376-652E386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12F5FA-6243-4A1D-A9F6-87640E3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510955-A3F7-42C5-A713-EF39225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D539B0-C808-44FE-9ED0-11FC9AE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42153C-3CA5-450C-A7DB-FF5E819A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87307E-250D-42D4-A361-701562E2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313CBB-6A67-48A9-8E05-BE64110D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51BAC5C-E7D3-400D-9469-25D88A3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40EA86-150D-4847-BC0F-F2584E4E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0B4C-9E1F-4E92-B629-50DF77B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87A8FF-D647-4120-BAC0-52183AC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EB835A-5BE2-4C1A-84B8-228CEDF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0DD1DE-94DD-45C2-8C63-B2DEE10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8C6217-1BA3-4CE2-8362-254E6C02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913840-8AA9-48F4-9858-A63312D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BECD33-5BB7-4442-A077-5D096783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AA7243-E7C6-4111-AE65-6104C20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7382BA-4500-4F37-A09B-C14049FC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5F62D2-AD6B-42EB-BBF8-C75A65F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70991B-1A43-4D01-9197-0E655B61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5985-E5F3-4FF6-A793-729C5AC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B7FACE1-C05D-48AF-8628-CD01052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B7D886-4DD0-4400-85FF-F1FD57D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06ECE9-DA20-4829-ADF3-5E90F01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D2CE10-FF0E-42E8-AB7D-9CB3DD0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F7B849-258E-4096-A056-6A3E2CD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7BE803-80D3-49E8-BC62-3EEA666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343AF0-ECEE-448D-B379-B1A6447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2C4AB7-2DFF-4F31-B62B-4440CA0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554FD9-7283-4076-BAB2-FDE6A1D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E1D430-67C5-41A7-B797-6FC898BE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CF42-328D-41AD-88B0-A141F4B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77C693-DD37-4EC1-813D-D7CB263C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F0DF42-E201-4DCC-AA2B-41DEE32C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73840E-330C-47C7-B25A-8565165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18F167-3E84-4776-92C3-4874247B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4AAF59-EDE2-4B86-A0E0-364AE055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CBC0ED-6855-4919-8F79-B96AE7F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7EBE52-2DEA-4A54-88B6-9D1C344F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6D1032-2450-4C69-921A-C03DBDC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9D8AA3-669A-4E73-BB89-FF83208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EFD1FD-4D7B-41A3-8B5D-1ECE570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2AAE-68A2-4FF2-930F-2DDB6A3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DF549E-B5C8-46B6-8E1C-90949B0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F2861A-A40A-418E-A7A6-66503F86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A5B5F1-599C-4E01-BB50-D746E61A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0A9526B-B03C-4786-932A-BCAF75C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0BB368-FFC0-47B1-883E-21BD683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0371AA-0C0B-4673-8EEC-251EBB5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44299F-D7E0-444E-A8BF-719C441E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BA99FF-A9EB-4DCF-80C9-5173E6A2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3632A3-78E3-4FA2-A234-3F23A62C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6D0DF9-5E65-4E8A-81D6-C85F57F2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DDCF-24B1-46E5-84F7-B65F265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A83D97-4E63-476F-BDE2-108D3BD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A0D7DA-099E-47F7-B3A7-A95D61E7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774AAE-D033-49DD-B5CD-81F46AA4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39BF63-A95D-4A1A-BFDF-3CAE2F6C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8BC890-DC87-4997-B58F-F0A6B747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321C98-FEF6-402E-AFE6-22740F6F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62F1A8-79E4-4EC4-BDC5-F3135A9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6EDCE7A-F638-4B1D-80C1-509C2161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98F74E-15D9-4170-B888-E78058F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12AC78-773D-4B4A-8772-CD60988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E1C6-9151-4AF9-9E97-409700B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47D58D-E181-45CB-8674-4690CAF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25F6D0-51F8-4194-9AC0-B2DCAB0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81034D-D28A-4B24-8294-343CF42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C0B290-6883-4A5E-9AB6-E1406D1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296C61-29B1-4855-AF0D-175282D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F02D23-87F6-4A83-8349-13032BC1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702A12-015D-413A-BAD1-2558C6EB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B1E332-8FA2-44CF-BC9B-2914E776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820D79-37E5-4929-85FE-409CD2E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6F4488-8822-4740-A487-BD24E13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02276-FBDC-4C9A-B8A3-744AA11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BB7F7E-9166-4A8D-8ABF-1AB491AF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9D494C9-8683-496C-BCC5-F07C2EC5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23AC0B-0C51-4E52-9341-9B1503AF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2957B09-B4B7-40EB-9F6A-07874F5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B81C67-2DE8-4AFE-AEC5-DDA0CA9F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B861415-34E8-4087-B3C7-412C399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C9F79A-0D75-45F0-B705-6566393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9E6BB3-E63C-4845-8F28-1E538C80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BFC025-5153-4E7B-8977-B8FFFFDE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27A7CB-F6FE-4BBA-9543-FF5A88AB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449E-02C8-4F5C-847D-4468A60F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A22EBE-80B5-4E8D-8D4A-B1CD513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344838-2F43-4D21-811F-AD995EC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3BA4802-7DA7-45FF-8050-7D5C8B0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5C6A78-3D4D-4384-9BB1-566E5DAF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5AB9C8-D567-4F3C-9F9E-4A50B777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EAE7A1-9880-489C-B06C-E27E5C1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5BC576-5CA2-47B9-B0ED-0986F901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6DB11D-0E02-40D4-97B8-851F9D0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BA3DA56-42B9-4558-A960-62B6992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29F363-3CE5-4C04-BA82-596F6DA6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E79-EB81-4F89-8F90-CD1A124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F9CF-126D-47D3-9C91-8DB3A51A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9B7CE6-0BE4-4FB1-BC58-A94264B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CC1DB5-085D-4186-99FC-50747E59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FBA52C-93F2-402E-924E-7F77A69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B15F71-5060-4DE7-BACB-AB3332A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339C87-D02E-4756-A5E4-E3A79C5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F46DE4-0268-4BFA-A2B6-F59B6757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A65022-046F-4973-8D77-68375C8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B7C453-77CB-4286-B2A5-0AA205E8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CE3C39-DC3C-4F5E-887C-E0FA3F4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F4B9759-A1B7-4E8E-B851-5AAB5CB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795E-B0F2-4FFC-9013-00546B8D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5ABC068-E2E4-403C-A972-B3003C39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D06F705-8158-4B4D-8F3A-9AEE5061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74BECE2-F217-4EEA-A466-7300FCA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248B-70E0-4A1E-8049-86C16913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6452-2FE4-430A-993C-976712D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8808-5FC0-41F7-A8C8-8864183B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4001-2222-4B3D-B6AE-DEEA3B1B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7192D-90A4-4D3A-A081-213D11D8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92AA-2DAC-4884-9808-FB8025F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7C67-1AE7-4575-9894-60C25A8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D591-77AD-4DFD-88FA-3CE3BDD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AA0-73DA-4E5A-8C58-649A033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51689-E831-4AF6-95EA-3B279F04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3B643-A03A-4AC9-BCBD-8D6C4793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1DF8-4BB0-4C80-8E9C-D83AEFC8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474BB-FBD6-48E7-9523-D2E3DCC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EA56-D222-4BFB-8068-FC45A00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FB984-C2FD-4CF2-B650-307D9E2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A491-5425-4199-89B2-3F4B7C2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6DF4-8747-4934-8E2F-8538A6E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81E9-109C-403B-B47A-5CFB7DEF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89A25-A9C7-4466-B43A-BC16CBE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25F-FC0C-4B2E-830E-609C29C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B6C8-3F0B-420B-BA15-1723C04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A0FC5-3969-415D-83A6-77BAFDF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7DEDA-23AA-4DD4-B733-82E6513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8F738-5AE5-4F3A-B713-A4B5BF52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8312-350B-4A32-A762-96A395FE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7EF54-A8E0-495A-954C-61670B8A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0ABA4-1C7B-4643-987B-E2C0FC58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9440A-7CE0-45A9-BF86-6F85430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D1F2C-5B49-42F7-9EB0-AC824D75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CEC7D-818F-423A-9C03-C078115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A0B-0EE5-4F17-8595-325AF4F8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D747-B6A9-45F9-ABD0-61FDAF9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AAD8-99D2-4F52-90D3-7F01A9D8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F504A-7CFF-44AD-B8AF-58370465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AFA8-EBAD-4DC7-8F94-7AD8272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4816E-817B-49E5-8BD3-ECB45602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CC39-B64D-499E-9F21-EED719D9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54DF9-AD9C-4DA0-BED6-5E4523E7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F882-8D0A-4D08-B57A-F1981E82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FCA29-8D0D-4649-B179-A095DD7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82FBB-E67B-426C-85F2-2024F08D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59C-CEA8-4FF0-9DAE-B6D61E8AEA6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28C-1858-4431-B3C7-A77AD9F4E3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67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8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8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8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8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69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9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9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0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0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142-D20F-45B6-B9F1-7CFCB2D16AD9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B76B-E58D-41E3-AFAF-1521170405D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6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6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6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6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6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6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7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7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7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8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8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9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9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0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62EC-68FD-4F62-856C-3F4653113A6E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324-C973-4996-9A2C-796461E6AA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8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8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8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8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FF0-4045-4153-AF2E-83B19200F95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EF9-20E8-4BAE-8451-88C0135BD5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3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9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9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9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5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5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F5C-ABCF-4140-85F0-E3F8B7DF6C9E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48F1-724D-41AE-935D-15DA2C2173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1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1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01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2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2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02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2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3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3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4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04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848-325F-4DF3-8A71-5FBE3FC58E9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6A3D-689B-4541-AAE6-4CCB9C184C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9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09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0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0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0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10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11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1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1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1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2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2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2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3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22A-E9F4-4A39-B54F-F8847E4A4D8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890-7748-4C37-B899-A2CBEF560E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18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8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8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8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8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18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9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19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9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0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0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0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0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1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CF6-F405-4346-8D7A-D1E196BA5F0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817-3B75-4CA9-8FEB-14F0C45800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7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2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7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27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27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28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2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2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BE85-16A5-48EC-A7F2-8BA27DCD3A7C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CA5A-7589-4EC1-B283-7364B2B3D0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1C91-A83A-4DF8-9EFD-35CDCDE1BC7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DDE0-5F0D-4CDC-B1E5-5B4B25F46C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E95D-F2AB-449E-8315-EA1668E4C2E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0BF2-45B7-4028-8736-1354333D61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7B58-EAF3-409F-90CE-B5C878BA1D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011-775E-4A58-9DFD-4D45E8BC7D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5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04B-0266-4804-8CEF-70E2DDE4BF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021-24BD-4C09-8176-AB94094FD0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1B36-C186-486C-B2A6-ECF427962E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B2E-4A7F-4172-B0E0-5C7404BA9C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6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981A-EDFF-4F4F-89B5-28C754D77A4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796-8241-4DB6-9FB3-3D68B3122B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6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10F6-EF9B-48BD-A320-7EF2E8E72CB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E13-7A7F-4AAB-8E60-7404A4CD31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dt" idx="7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60A8-11E2-48F7-B26F-D7355BFC3D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0DCF-A77E-4542-BD6E-9634755D53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dt" idx="7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2F92-5541-4088-93A3-C4F30EEC83D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C5D-4C05-4461-8C9E-346CAF0B82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7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5DA-1165-44F3-A01E-BC7ECB9B1C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41F-2C7C-4EDA-9E9F-D2728670D0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7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FF7-1F06-4B20-BB54-573E744271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2CD-576D-4A76-B060-3F3FD7AE57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779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1780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1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2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3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4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5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6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78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9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79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798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9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0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1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802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3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4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80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0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81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1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67E5-FC9E-4587-8CC4-1142EE880F3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448-175C-441E-9083-DE1EC7E237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86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6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86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6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6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6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86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7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87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87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7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8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8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88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88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8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89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351-BBF3-43ED-B8EF-CB1C3CE2F66C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C431-5495-414E-9660-357B2FB4B3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3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3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4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4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5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70F-4CE9-466B-9FFB-8C2C5385FC6F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BE3-D7E0-4E51-B8F5-DEF4B5CDCE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94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4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4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5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5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95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5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95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96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6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97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7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97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FE7-3A99-46D0-9F94-BDE58F2F1F4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505-E6F3-4404-A2B1-AD6E592EEE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03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3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03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03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3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03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4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04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04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5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05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5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5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05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6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7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CDE-3E45-4BDC-97FD-93FD3249B79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577-8899-4514-9AFA-506D1499330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11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1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11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11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2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12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12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12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13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3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3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3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3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14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0176-3CC4-474B-9E21-0932378F2FD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879-3919-44C7-B311-8C9D3935D8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19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9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0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0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0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20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1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21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21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1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1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22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2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2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3CBF-4E66-42BC-A028-D23C4967C51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2BB-9DFF-4F43-82DE-0AE2F852B0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28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8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8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8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8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28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9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29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29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9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29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30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0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0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1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7C5A-E270-40E6-8D57-BC3F76D5587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209D-FFEC-40FA-9905-A66158A6CE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3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3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7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3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37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37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8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38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38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3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195-51E2-42E3-BDA7-D9E100A07A0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7E5-AFD6-40FC-ACA5-C9B6B00F13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4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4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4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5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4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46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46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46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46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46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4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4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4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560-02D9-4E7C-AAC7-5AE55482444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60F5-C53A-43A6-B19A-265B9489F7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53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53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3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3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54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54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54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54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4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54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55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55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5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5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6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4EFB-84F5-446C-816B-70BE9393DF04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A98-591E-4A1E-B01A-85E7A2FA63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61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1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62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2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62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63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63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63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63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4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4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38C-63A5-41F3-BAF1-7729C941CB92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14A-6231-4704-8F25-0FA4DF56F8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70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0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70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0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0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70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71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71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71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2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2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2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2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3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78F8-8DD6-45A5-89BD-CB354A40B1C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9CDF-6C3E-45B1-805A-6A97C8D41A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19C-3C2E-4B4B-9973-10C049333A1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E27-DF38-4707-8AFA-44CF4EB69F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78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9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6F6A-5A62-4D4F-AA5C-8C16E75D33A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F00-4CED-4F51-9293-42256CB43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3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957D-2AAD-496C-A08F-DF458E6D390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B99-7B35-43D6-BAF3-6B22A053D2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8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A2EE-40E0-487F-B95B-AFF8F043FC1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F8A-A874-4F93-A9AF-5323F1CFA4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BC11-671C-4D9F-B389-205BBB7D94E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B1C3-BFCE-4DE4-8552-3454889EC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D8E-FB1C-4203-92A4-7E5AD98AA44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EE3-809B-4B7D-821C-9BB1CBC08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8A7-066B-4731-BDCC-D4741D17BBF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A463-5B3B-457C-9264-0E67672232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6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6A73-5027-48FF-9A7B-E68F5AAF22E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222-CF3C-4F54-B1FC-D1D999E9D9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1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9782-623A-4897-82CF-D7263BDA09F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D5E5-A51B-4F89-823D-4A136B8323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6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16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E90-B804-4812-9506-451F53AD815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4359-2FAE-4FCF-8EE5-C4515AB107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1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176A-10A8-4262-BA3B-F5EA1A7C077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BCC-B8E1-452A-AB43-7140D09AE2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59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60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78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9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0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82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8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9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68A7-6866-4072-8CA3-6A2413859C61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1BF6-44B9-4887-8044-F72ABC13A3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5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2D3-6709-4A31-93BB-EAFEFFDB979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40D3-84E8-4011-BF51-E0EBFAA873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0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30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4CC-2EBB-4B70-90BC-AC93B96B0A6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гл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71E-522C-49E4-B529-D4B1E2579B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3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3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5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35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35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C81-0D4D-4014-99FB-359C124223B2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768-EC0B-47F9-987A-D16A2F3F2B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2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2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3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3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3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3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43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44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4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5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C29-2BA6-4765-965B-3195B224ABD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2BA-5F1D-4E50-AC45-F484141103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1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1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1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1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2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2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52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2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3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3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3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C39-277D-4CE3-B91B-87294EDC004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2EB-0396-4C60-A67B-B2782A24C4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9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9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9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59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60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0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0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60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0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1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1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1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2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2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2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F6C-85E4-4D12-B498-063B4425CC06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лова Н.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1DAA-C69A-4EF0-8E97-7A83C76491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6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7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4932360" y="4221000"/>
            <a:ext cx="3889440" cy="21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1" name="WordArt 7"/>
          <p:cNvSpPr txBox="1"/>
          <p:nvPr/>
        </p:nvSpPr>
        <p:spPr>
          <a:xfrm>
            <a:off x="611280" y="0"/>
            <a:ext cx="77724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тория новогодних игрушек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52" name="Svet_v_tvoem_okne.mid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53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849636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9" descr="DSC00403"/>
          <p:cNvPicPr/>
          <p:nvPr/>
        </p:nvPicPr>
        <p:blipFill>
          <a:blip r:embed="rId2"/>
          <a:stretch/>
        </p:blipFill>
        <p:spPr>
          <a:xfrm rot="20448000">
            <a:off x="1909440" y="649440"/>
            <a:ext cx="2292480" cy="2546280"/>
          </a:xfrm>
          <a:prstGeom prst="rect">
            <a:avLst/>
          </a:prstGeom>
          <a:ln w="0">
            <a:noFill/>
          </a:ln>
        </p:spPr>
      </p:pic>
      <p:pic>
        <p:nvPicPr>
          <p:cNvPr id="3380" name="Picture 10" descr="DSC00407"/>
          <p:cNvPicPr/>
          <p:nvPr/>
        </p:nvPicPr>
        <p:blipFill>
          <a:blip r:embed="rId3"/>
          <a:stretch/>
        </p:blipFill>
        <p:spPr>
          <a:xfrm rot="20751600">
            <a:off x="1618920" y="3715920"/>
            <a:ext cx="3152880" cy="2152800"/>
          </a:xfrm>
          <a:prstGeom prst="rect">
            <a:avLst/>
          </a:prstGeom>
          <a:ln w="0">
            <a:noFill/>
          </a:ln>
        </p:spPr>
      </p:pic>
      <p:pic>
        <p:nvPicPr>
          <p:cNvPr id="3381" name="Picture 11" descr="DSC00418"/>
          <p:cNvPicPr/>
          <p:nvPr/>
        </p:nvPicPr>
        <p:blipFill>
          <a:blip r:embed="rId4"/>
          <a:stretch/>
        </p:blipFill>
        <p:spPr>
          <a:xfrm rot="20575200">
            <a:off x="6084360" y="3212640"/>
            <a:ext cx="2090880" cy="3009960"/>
          </a:xfrm>
          <a:prstGeom prst="rect">
            <a:avLst/>
          </a:prstGeom>
          <a:ln w="0">
            <a:noFill/>
          </a:ln>
        </p:spPr>
      </p:pic>
      <p:pic>
        <p:nvPicPr>
          <p:cNvPr id="3382" name="Picture 12" descr="DSC00414"/>
          <p:cNvPicPr/>
          <p:nvPr/>
        </p:nvPicPr>
        <p:blipFill>
          <a:blip r:embed="rId5"/>
          <a:stretch/>
        </p:blipFill>
        <p:spPr>
          <a:xfrm rot="20572800">
            <a:off x="4858920" y="764640"/>
            <a:ext cx="2122560" cy="21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3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Ватные игрушки делали до середины пятидесятых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Их изготавливали из прессованного хло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Picture 9" descr="DSC00424"/>
          <p:cNvPicPr/>
          <p:nvPr/>
        </p:nvPicPr>
        <p:blipFill>
          <a:blip r:embed="rId2"/>
          <a:stretch/>
        </p:blipFill>
        <p:spPr>
          <a:xfrm rot="20694000">
            <a:off x="1449360" y="2068200"/>
            <a:ext cx="1376280" cy="2190600"/>
          </a:xfrm>
          <a:prstGeom prst="rect">
            <a:avLst/>
          </a:prstGeom>
          <a:ln w="0">
            <a:noFill/>
          </a:ln>
        </p:spPr>
      </p:pic>
      <p:pic>
        <p:nvPicPr>
          <p:cNvPr id="3385" name="Picture 10" descr="DSC00425"/>
          <p:cNvPicPr/>
          <p:nvPr/>
        </p:nvPicPr>
        <p:blipFill>
          <a:blip r:embed="rId3"/>
          <a:stretch/>
        </p:blipFill>
        <p:spPr>
          <a:xfrm rot="886800">
            <a:off x="3131640" y="4292640"/>
            <a:ext cx="1503360" cy="2187360"/>
          </a:xfrm>
          <a:prstGeom prst="rect">
            <a:avLst/>
          </a:prstGeom>
          <a:ln w="0">
            <a:noFill/>
          </a:ln>
        </p:spPr>
      </p:pic>
      <p:pic>
        <p:nvPicPr>
          <p:cNvPr id="3386" name="Picture 11" descr="DSC00443"/>
          <p:cNvPicPr/>
          <p:nvPr/>
        </p:nvPicPr>
        <p:blipFill>
          <a:blip r:embed="rId4"/>
          <a:stretch/>
        </p:blipFill>
        <p:spPr>
          <a:xfrm rot="21165000">
            <a:off x="4140360" y="1701360"/>
            <a:ext cx="2716200" cy="2189160"/>
          </a:xfrm>
          <a:prstGeom prst="rect">
            <a:avLst/>
          </a:prstGeom>
          <a:ln w="0">
            <a:noFill/>
          </a:ln>
        </p:spPr>
      </p:pic>
      <p:pic>
        <p:nvPicPr>
          <p:cNvPr id="3387" name="Picture 12" descr="DSC00444"/>
          <p:cNvPicPr/>
          <p:nvPr/>
        </p:nvPicPr>
        <p:blipFill>
          <a:blip r:embed="rId5"/>
          <a:stretch/>
        </p:blipFill>
        <p:spPr>
          <a:xfrm>
            <a:off x="6012000" y="4149720"/>
            <a:ext cx="2355840" cy="21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С начала 50-х годов стали изготавливать подарочные наборы игрушек – «малюток». Это было очень удобно, так как большинство людей того времени жили в коммунал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89" name="Picture 8" descr="DSC00540"/>
          <p:cNvPicPr/>
          <p:nvPr/>
        </p:nvPicPr>
        <p:blipFill>
          <a:blip r:embed="rId2"/>
          <a:stretch/>
        </p:blipFill>
        <p:spPr>
          <a:xfrm>
            <a:off x="539640" y="1916280"/>
            <a:ext cx="7561440" cy="49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1000"/>
                                        <p:tgtEl>
                                          <p:spTgt spid="3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Игрушки на прищепках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1950-1960 г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91" name="Picture 9" descr="DSC00437"/>
          <p:cNvPicPr/>
          <p:nvPr/>
        </p:nvPicPr>
        <p:blipFill>
          <a:blip r:embed="rId2"/>
          <a:stretch/>
        </p:blipFill>
        <p:spPr>
          <a:xfrm rot="20681400">
            <a:off x="1029960" y="1405080"/>
            <a:ext cx="2017800" cy="2874960"/>
          </a:xfrm>
          <a:prstGeom prst="rect">
            <a:avLst/>
          </a:prstGeom>
          <a:ln w="0">
            <a:noFill/>
          </a:ln>
        </p:spPr>
      </p:pic>
      <p:pic>
        <p:nvPicPr>
          <p:cNvPr id="3392" name="Picture 10" descr="DSC00439"/>
          <p:cNvPicPr/>
          <p:nvPr/>
        </p:nvPicPr>
        <p:blipFill>
          <a:blip r:embed="rId3"/>
          <a:stretch/>
        </p:blipFill>
        <p:spPr>
          <a:xfrm rot="20624400">
            <a:off x="5138280" y="1429920"/>
            <a:ext cx="1800360" cy="2652840"/>
          </a:xfrm>
          <a:prstGeom prst="rect">
            <a:avLst/>
          </a:prstGeom>
          <a:ln w="0">
            <a:noFill/>
          </a:ln>
        </p:spPr>
      </p:pic>
      <p:pic>
        <p:nvPicPr>
          <p:cNvPr id="3393" name="Picture 11" descr="DSC00498"/>
          <p:cNvPicPr/>
          <p:nvPr/>
        </p:nvPicPr>
        <p:blipFill>
          <a:blip r:embed="rId4"/>
          <a:stretch/>
        </p:blipFill>
        <p:spPr>
          <a:xfrm rot="20706600">
            <a:off x="3363480" y="3795480"/>
            <a:ext cx="1978200" cy="2619360"/>
          </a:xfrm>
          <a:prstGeom prst="rect">
            <a:avLst/>
          </a:prstGeom>
          <a:ln w="0">
            <a:noFill/>
          </a:ln>
        </p:spPr>
      </p:pic>
      <p:pic>
        <p:nvPicPr>
          <p:cNvPr id="3394" name="Picture 12" descr="Копия (2) DSC00434"/>
          <p:cNvPicPr/>
          <p:nvPr/>
        </p:nvPicPr>
        <p:blipFill>
          <a:blip r:embed="rId5"/>
          <a:stretch/>
        </p:blipFill>
        <p:spPr>
          <a:xfrm rot="20692200">
            <a:off x="7168680" y="3760920"/>
            <a:ext cx="145908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20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Игрушки эпохи космонавтик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97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12800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0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705800" cy="518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ebf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ушки из пенопла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02" name="Picture 9" descr="DSC00427"/>
          <p:cNvPicPr/>
          <p:nvPr/>
        </p:nvPicPr>
        <p:blipFill>
          <a:blip r:embed="rId1"/>
          <a:stretch/>
        </p:blipFill>
        <p:spPr>
          <a:xfrm>
            <a:off x="1116000" y="1413000"/>
            <a:ext cx="1432080" cy="2663640"/>
          </a:xfrm>
          <a:prstGeom prst="rect">
            <a:avLst/>
          </a:prstGeom>
          <a:ln w="0">
            <a:noFill/>
          </a:ln>
        </p:spPr>
      </p:pic>
      <p:pic>
        <p:nvPicPr>
          <p:cNvPr id="3403" name="Picture 10" descr="DSC00430"/>
          <p:cNvPicPr/>
          <p:nvPr/>
        </p:nvPicPr>
        <p:blipFill>
          <a:blip r:embed="rId2"/>
          <a:stretch/>
        </p:blipFill>
        <p:spPr>
          <a:xfrm>
            <a:off x="5003640" y="1484280"/>
            <a:ext cx="1371600" cy="244008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11" descr="DSC00428"/>
          <p:cNvPicPr/>
          <p:nvPr/>
        </p:nvPicPr>
        <p:blipFill>
          <a:blip r:embed="rId3"/>
          <a:stretch/>
        </p:blipFill>
        <p:spPr>
          <a:xfrm>
            <a:off x="3203640" y="4005360"/>
            <a:ext cx="1409760" cy="2519280"/>
          </a:xfrm>
          <a:prstGeom prst="rect">
            <a:avLst/>
          </a:prstGeom>
          <a:ln w="0">
            <a:noFill/>
          </a:ln>
        </p:spPr>
      </p:pic>
      <p:pic>
        <p:nvPicPr>
          <p:cNvPr id="3405" name="Picture 12" descr="DSC00429"/>
          <p:cNvPicPr/>
          <p:nvPr/>
        </p:nvPicPr>
        <p:blipFill>
          <a:blip r:embed="rId4"/>
          <a:stretch/>
        </p:blipFill>
        <p:spPr>
          <a:xfrm>
            <a:off x="6732720" y="4005360"/>
            <a:ext cx="14508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3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Также в 1950-1960 годы вошли в моду игрушки на сельскохозяйственную тему: помидоры, морковки, снопы пшеницы и т.д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07" name="Picture 9" descr="DSC00433"/>
          <p:cNvPicPr/>
          <p:nvPr/>
        </p:nvPicPr>
        <p:blipFill>
          <a:blip r:embed="rId2"/>
          <a:stretch/>
        </p:blipFill>
        <p:spPr>
          <a:xfrm rot="20687400">
            <a:off x="941040" y="1485720"/>
            <a:ext cx="1224000" cy="2325600"/>
          </a:xfrm>
          <a:prstGeom prst="rect">
            <a:avLst/>
          </a:prstGeom>
          <a:ln w="0">
            <a:noFill/>
          </a:ln>
        </p:spPr>
      </p:pic>
      <p:pic>
        <p:nvPicPr>
          <p:cNvPr id="3408" name="Picture 10" descr="DSC00458"/>
          <p:cNvPicPr/>
          <p:nvPr/>
        </p:nvPicPr>
        <p:blipFill>
          <a:blip r:embed="rId3"/>
          <a:stretch/>
        </p:blipFill>
        <p:spPr>
          <a:xfrm rot="738000">
            <a:off x="7019640" y="1988640"/>
            <a:ext cx="1079280" cy="2149560"/>
          </a:xfrm>
          <a:prstGeom prst="rect">
            <a:avLst/>
          </a:prstGeom>
          <a:ln w="0">
            <a:noFill/>
          </a:ln>
        </p:spPr>
      </p:pic>
      <p:pic>
        <p:nvPicPr>
          <p:cNvPr id="3409" name="Picture 11" descr="DSC00463"/>
          <p:cNvPicPr/>
          <p:nvPr/>
        </p:nvPicPr>
        <p:blipFill>
          <a:blip r:embed="rId4"/>
          <a:stretch/>
        </p:blipFill>
        <p:spPr>
          <a:xfrm rot="20684400">
            <a:off x="1116000" y="3933360"/>
            <a:ext cx="1278000" cy="2187720"/>
          </a:xfrm>
          <a:prstGeom prst="rect">
            <a:avLst/>
          </a:prstGeom>
          <a:ln w="0">
            <a:noFill/>
          </a:ln>
        </p:spPr>
      </p:pic>
      <p:pic>
        <p:nvPicPr>
          <p:cNvPr id="3410" name="Picture 12" descr="DSC00485"/>
          <p:cNvPicPr/>
          <p:nvPr/>
        </p:nvPicPr>
        <p:blipFill>
          <a:blip r:embed="rId5"/>
          <a:stretch/>
        </p:blipFill>
        <p:spPr>
          <a:xfrm>
            <a:off x="4861080" y="2127240"/>
            <a:ext cx="1650960" cy="3209760"/>
          </a:xfrm>
          <a:prstGeom prst="rect">
            <a:avLst/>
          </a:prstGeom>
          <a:ln w="0">
            <a:noFill/>
          </a:ln>
        </p:spPr>
      </p:pic>
      <p:pic>
        <p:nvPicPr>
          <p:cNvPr id="3411" name="Picture 14" descr="DSC00456"/>
          <p:cNvPicPr/>
          <p:nvPr/>
        </p:nvPicPr>
        <p:blipFill>
          <a:blip r:embed="rId6"/>
          <a:stretch/>
        </p:blipFill>
        <p:spPr>
          <a:xfrm>
            <a:off x="2843280" y="2133720"/>
            <a:ext cx="1657440" cy="3281400"/>
          </a:xfrm>
          <a:prstGeom prst="rect">
            <a:avLst/>
          </a:prstGeom>
          <a:ln w="0">
            <a:noFill/>
          </a:ln>
        </p:spPr>
      </p:pic>
      <p:pic>
        <p:nvPicPr>
          <p:cNvPr id="3412" name="Picture 15" descr="DSC00482"/>
          <p:cNvPicPr/>
          <p:nvPr/>
        </p:nvPicPr>
        <p:blipFill>
          <a:blip r:embed="rId7"/>
          <a:stretch/>
        </p:blipFill>
        <p:spPr>
          <a:xfrm rot="1091400">
            <a:off x="6659280" y="4292640"/>
            <a:ext cx="1041480" cy="238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3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3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3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южетные игруш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17" name="Picture 9" descr="DSC00441"/>
          <p:cNvPicPr/>
          <p:nvPr/>
        </p:nvPicPr>
        <p:blipFill>
          <a:blip r:embed="rId1"/>
          <a:stretch/>
        </p:blipFill>
        <p:spPr>
          <a:xfrm>
            <a:off x="3132000" y="1484280"/>
            <a:ext cx="1727280" cy="23670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11" descr="DSC00453"/>
          <p:cNvPicPr/>
          <p:nvPr/>
        </p:nvPicPr>
        <p:blipFill>
          <a:blip r:embed="rId2"/>
          <a:stretch/>
        </p:blipFill>
        <p:spPr>
          <a:xfrm>
            <a:off x="1258920" y="3933720"/>
            <a:ext cx="1603440" cy="2519640"/>
          </a:xfrm>
          <a:prstGeom prst="rect">
            <a:avLst/>
          </a:prstGeom>
          <a:ln w="0">
            <a:noFill/>
          </a:ln>
        </p:spPr>
      </p:pic>
      <p:pic>
        <p:nvPicPr>
          <p:cNvPr id="3419" name="Picture 16" descr="DSC00489"/>
          <p:cNvPicPr/>
          <p:nvPr/>
        </p:nvPicPr>
        <p:blipFill>
          <a:blip r:embed="rId3"/>
          <a:stretch/>
        </p:blipFill>
        <p:spPr>
          <a:xfrm>
            <a:off x="6804000" y="1484280"/>
            <a:ext cx="1297080" cy="2367000"/>
          </a:xfrm>
          <a:prstGeom prst="rect">
            <a:avLst/>
          </a:prstGeom>
          <a:ln w="0">
            <a:noFill/>
          </a:ln>
        </p:spPr>
      </p:pic>
      <p:pic>
        <p:nvPicPr>
          <p:cNvPr id="3420" name="Picture 18" descr="DSC00501"/>
          <p:cNvPicPr/>
          <p:nvPr/>
        </p:nvPicPr>
        <p:blipFill>
          <a:blip r:embed="rId4"/>
          <a:stretch/>
        </p:blipFill>
        <p:spPr>
          <a:xfrm>
            <a:off x="5076720" y="3933720"/>
            <a:ext cx="158292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3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55" name="Rectangle 4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1" name="Picture 16" descr="DSC00465"/>
          <p:cNvPicPr/>
          <p:nvPr/>
        </p:nvPicPr>
        <p:blipFill>
          <a:blip r:embed="rId1"/>
          <a:stretch/>
        </p:blipFill>
        <p:spPr>
          <a:xfrm rot="1048200">
            <a:off x="5363640" y="475920"/>
            <a:ext cx="1940040" cy="2655720"/>
          </a:xfrm>
          <a:prstGeom prst="rect">
            <a:avLst/>
          </a:prstGeom>
          <a:ln w="0">
            <a:noFill/>
          </a:ln>
        </p:spPr>
      </p:pic>
      <p:pic>
        <p:nvPicPr>
          <p:cNvPr id="3422" name="Picture 18" descr="DSC00473"/>
          <p:cNvPicPr/>
          <p:nvPr/>
        </p:nvPicPr>
        <p:blipFill>
          <a:blip r:embed="rId2"/>
          <a:stretch/>
        </p:blipFill>
        <p:spPr>
          <a:xfrm rot="20681400">
            <a:off x="3131640" y="3357360"/>
            <a:ext cx="1544760" cy="3160440"/>
          </a:xfrm>
          <a:prstGeom prst="rect">
            <a:avLst/>
          </a:prstGeom>
          <a:ln w="0">
            <a:noFill/>
          </a:ln>
        </p:spPr>
      </p:pic>
      <p:pic>
        <p:nvPicPr>
          <p:cNvPr id="3423" name="Picture 20" descr="DSC00457"/>
          <p:cNvPicPr/>
          <p:nvPr/>
        </p:nvPicPr>
        <p:blipFill>
          <a:blip r:embed="rId3"/>
          <a:stretch/>
        </p:blipFill>
        <p:spPr>
          <a:xfrm rot="1030800">
            <a:off x="5795640" y="3573360"/>
            <a:ext cx="1512720" cy="2811600"/>
          </a:xfrm>
          <a:prstGeom prst="rect">
            <a:avLst/>
          </a:prstGeom>
          <a:ln w="0">
            <a:noFill/>
          </a:ln>
        </p:spPr>
      </p:pic>
      <p:pic>
        <p:nvPicPr>
          <p:cNvPr id="3424" name="Picture 22" descr="DSC00460"/>
          <p:cNvPicPr/>
          <p:nvPr/>
        </p:nvPicPr>
        <p:blipFill>
          <a:blip r:embed="rId4"/>
          <a:stretch/>
        </p:blipFill>
        <p:spPr>
          <a:xfrm rot="20617200">
            <a:off x="1187280" y="333000"/>
            <a:ext cx="1700280" cy="32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грушки в форме зверей,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секомых и птиц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26" name="Picture 11" descr="DSC00478"/>
          <p:cNvPicPr/>
          <p:nvPr/>
        </p:nvPicPr>
        <p:blipFill>
          <a:blip r:embed="rId2"/>
          <a:stretch/>
        </p:blipFill>
        <p:spPr>
          <a:xfrm>
            <a:off x="2124000" y="1916280"/>
            <a:ext cx="1135080" cy="2152440"/>
          </a:xfrm>
          <a:prstGeom prst="rect">
            <a:avLst/>
          </a:prstGeom>
          <a:ln w="0">
            <a:noFill/>
          </a:ln>
        </p:spPr>
      </p:pic>
      <p:pic>
        <p:nvPicPr>
          <p:cNvPr id="3427" name="Picture 14" descr="DSC00503"/>
          <p:cNvPicPr/>
          <p:nvPr/>
        </p:nvPicPr>
        <p:blipFill>
          <a:blip r:embed="rId3"/>
          <a:stretch/>
        </p:blipFill>
        <p:spPr>
          <a:xfrm>
            <a:off x="5580000" y="1916280"/>
            <a:ext cx="1065240" cy="2152440"/>
          </a:xfrm>
          <a:prstGeom prst="rect">
            <a:avLst/>
          </a:prstGeom>
          <a:ln w="0">
            <a:noFill/>
          </a:ln>
        </p:spPr>
      </p:pic>
      <p:pic>
        <p:nvPicPr>
          <p:cNvPr id="3428" name="Picture 16" descr="DSC00477"/>
          <p:cNvPicPr/>
          <p:nvPr/>
        </p:nvPicPr>
        <p:blipFill>
          <a:blip r:embed="rId4"/>
          <a:stretch/>
        </p:blipFill>
        <p:spPr>
          <a:xfrm>
            <a:off x="7164360" y="4221000"/>
            <a:ext cx="1341360" cy="2151360"/>
          </a:xfrm>
          <a:prstGeom prst="rect">
            <a:avLst/>
          </a:prstGeom>
          <a:ln w="0">
            <a:noFill/>
          </a:ln>
        </p:spPr>
      </p:pic>
      <p:pic>
        <p:nvPicPr>
          <p:cNvPr id="3429" name="Picture 18" descr="DSC00472"/>
          <p:cNvPicPr/>
          <p:nvPr/>
        </p:nvPicPr>
        <p:blipFill>
          <a:blip r:embed="rId5"/>
          <a:stretch/>
        </p:blipFill>
        <p:spPr>
          <a:xfrm>
            <a:off x="3708360" y="4149720"/>
            <a:ext cx="1495440" cy="215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3" dur="2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Игрушки в форме рыбок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1" name="Picture 13" descr="DSC00449"/>
          <p:cNvPicPr/>
          <p:nvPr/>
        </p:nvPicPr>
        <p:blipFill>
          <a:blip r:embed="rId1"/>
          <a:stretch/>
        </p:blipFill>
        <p:spPr>
          <a:xfrm>
            <a:off x="1258920" y="1844640"/>
            <a:ext cx="2305080" cy="2448000"/>
          </a:xfrm>
          <a:prstGeom prst="rect">
            <a:avLst/>
          </a:prstGeom>
          <a:ln w="0">
            <a:noFill/>
          </a:ln>
        </p:spPr>
      </p:pic>
      <p:pic>
        <p:nvPicPr>
          <p:cNvPr id="3432" name="Picture 15" descr="DSC00497"/>
          <p:cNvPicPr/>
          <p:nvPr/>
        </p:nvPicPr>
        <p:blipFill>
          <a:blip r:embed="rId2"/>
          <a:stretch/>
        </p:blipFill>
        <p:spPr>
          <a:xfrm>
            <a:off x="4932360" y="1628640"/>
            <a:ext cx="3398760" cy="2151360"/>
          </a:xfrm>
          <a:prstGeom prst="rect">
            <a:avLst/>
          </a:prstGeom>
          <a:ln w="0">
            <a:noFill/>
          </a:ln>
        </p:spPr>
      </p:pic>
      <p:pic>
        <p:nvPicPr>
          <p:cNvPr id="3433" name="Picture 17" descr="DSC00491"/>
          <p:cNvPicPr/>
          <p:nvPr/>
        </p:nvPicPr>
        <p:blipFill>
          <a:blip r:embed="rId3"/>
          <a:stretch/>
        </p:blipFill>
        <p:spPr>
          <a:xfrm>
            <a:off x="3348000" y="4365720"/>
            <a:ext cx="4680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А Деды Морозы и Снегурочки! </a:t>
            </a:r>
            <a:br>
              <a:rPr sz="32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У многих из нас они хранятся до сих пор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5" name="Picture 14" descr="DSC00401"/>
          <p:cNvPicPr/>
          <p:nvPr/>
        </p:nvPicPr>
        <p:blipFill>
          <a:blip r:embed="rId2"/>
          <a:stretch/>
        </p:blipFill>
        <p:spPr>
          <a:xfrm>
            <a:off x="3419640" y="2781360"/>
            <a:ext cx="1873080" cy="3816360"/>
          </a:xfrm>
          <a:prstGeom prst="rect">
            <a:avLst/>
          </a:prstGeom>
          <a:ln w="0">
            <a:noFill/>
          </a:ln>
        </p:spPr>
      </p:pic>
      <p:pic>
        <p:nvPicPr>
          <p:cNvPr id="3436" name="Picture 15" descr="DSC00499"/>
          <p:cNvPicPr/>
          <p:nvPr/>
        </p:nvPicPr>
        <p:blipFill>
          <a:blip r:embed="rId3"/>
          <a:stretch/>
        </p:blipFill>
        <p:spPr>
          <a:xfrm>
            <a:off x="468360" y="1628640"/>
            <a:ext cx="2654280" cy="4824720"/>
          </a:xfrm>
          <a:prstGeom prst="rect">
            <a:avLst/>
          </a:prstGeom>
          <a:ln w="0">
            <a:noFill/>
          </a:ln>
        </p:spPr>
      </p:pic>
      <p:pic>
        <p:nvPicPr>
          <p:cNvPr id="3437" name="Picture 16" descr="DSC00500"/>
          <p:cNvPicPr/>
          <p:nvPr/>
        </p:nvPicPr>
        <p:blipFill>
          <a:blip r:embed="rId4"/>
          <a:stretch/>
        </p:blipFill>
        <p:spPr>
          <a:xfrm>
            <a:off x="6084720" y="2133720"/>
            <a:ext cx="194652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овогодние шары 1970-1980-е г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39" name="Picture 11" descr="DSC00432"/>
          <p:cNvPicPr/>
          <p:nvPr/>
        </p:nvPicPr>
        <p:blipFill>
          <a:blip r:embed="rId2"/>
          <a:stretch/>
        </p:blipFill>
        <p:spPr>
          <a:xfrm rot="20900400">
            <a:off x="1402920" y="1915920"/>
            <a:ext cx="1633680" cy="2151000"/>
          </a:xfrm>
          <a:prstGeom prst="rect">
            <a:avLst/>
          </a:prstGeom>
          <a:ln w="0">
            <a:noFill/>
          </a:ln>
        </p:spPr>
      </p:pic>
      <p:pic>
        <p:nvPicPr>
          <p:cNvPr id="3440" name="Picture 15" descr="DSC00543"/>
          <p:cNvPicPr/>
          <p:nvPr/>
        </p:nvPicPr>
        <p:blipFill>
          <a:blip r:embed="rId3"/>
          <a:stretch/>
        </p:blipFill>
        <p:spPr>
          <a:xfrm rot="981000">
            <a:off x="5796000" y="1916280"/>
            <a:ext cx="1811160" cy="215100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17" descr="DSC00544"/>
          <p:cNvPicPr/>
          <p:nvPr/>
        </p:nvPicPr>
        <p:blipFill>
          <a:blip r:embed="rId4"/>
          <a:stretch/>
        </p:blipFill>
        <p:spPr>
          <a:xfrm>
            <a:off x="3276720" y="4149720"/>
            <a:ext cx="1938240" cy="215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5508720" y="3141360"/>
            <a:ext cx="3178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Новогодняя ёлка 50-60-70-х г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5796000" y="1484280"/>
            <a:ext cx="289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нечно, наша современная елка, увитая электрическими гирляндами, сверкающая мишурой далеко ушла от своей предшественницы начала века.   Но было в тех немного наивных, но таких красивых новогодних лесных красавицах что-то трогательное и по-особому праздничное.          Хотя каждому времени – свою елку, так вед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Verdana"/>
              </a:rPr>
              <a:t>Основные да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7 век – в Европе устанавливается обычай наряжать «рождественское дерево» съедобными украшения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817 год – приходит обычай наряжать елку в Росс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24 января 1918 года – декрет Совнаркома ввел новый стиль и запретил празднования Нового го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935 год – Советское руководство приняло решение о возобновление празднования Нового года в ССС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28 декабря 1935 года – заработал конвейер по производству елочных игрушек в ССС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Январь 1937 год – первая советская елка в колонном зале Дома Союз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1947 год – Новый год объявлен нерабочим днем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3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3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3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0" fill="hold"/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3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3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3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0" fill="hold"/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0" fill="hold"/>
                                        <p:tgtEl>
                                          <p:spTgt spid="3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436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наете ли вы, ч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ешением международной организации коллекционеров елочных игрушек «Золотое свечение» старинными признаются игрушки, произведенные до 1966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амую большую елочную игрушку в мире – синий шар из пенопласта и прорезиненной ткани с серебряным наполнением в виде снежинок, весивший почти тонну, - сделали в 2003 году петербургские мастер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амая большая в мире искусственная ель высотою почти 68 метров, украшенная 2 миллионами лампочек, зажглась в Рио-де-Жанейр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3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0"/>
                                        <p:tgtEl>
                                          <p:spTgt spid="3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0"/>
                                        <p:tgtEl>
                                          <p:spTgt spid="3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Я поняла, что высокая культура россиян накопила замечательные духовные традиции в праздновании нового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ла, как история России в радости и горе, прослеживается в этих простых игрушках. И вам советую присматриваться к простым вещам – это интересно!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игрушки не такие яркие и гламурные, как современные. Но сделаны с великой любовью к детям нашими дедушками и бабушками, мамами и папами с радостью и удовольстви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этому они достойны уважения и памяти, стоят того, чтобы мы, современные дети любовались ими, интересовались их историей созд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900" fill="hold"/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Когда появились первые елочные украшения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ервые елочные украшения были съедобными – это фигурные пряники и печен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атем стали изготавливаться более долговечные украшения – золотили еловые шишки пустые яичные скорлупки покрывали тончайшим слоем чеканной латун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из скрученных оловянных проволочек делали мишур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одными украшениями для лесной красавицы в то время считались – зажженные свечи, которые крепились на ветках при помощи тонкой проволок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Verdana"/>
              </a:rPr>
              <a:t>«Дрезденские» игруш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грушки из картона, плоские и объемные. Также появились на рубеже веков и  имеют немецкое происхо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и представляют собой два склеенных между собой кусочка картона с зеркальным расположенным на них рисунком, слегка выпуклым. Игрушка, таким образом, получается двусторонн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0"/>
                                        <p:tgtEl>
                                          <p:spTgt spid="3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0"/>
                                        <p:tgtEl>
                                          <p:spTgt spid="3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6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132160" cy="62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99"/>
                </a:solidFill>
                <a:latin typeface="Verdana"/>
              </a:rPr>
              <a:t>Прототипы «дрезденских» игрушек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64" name="Picture 9" descr="Копия (2) КП 11"/>
          <p:cNvPicPr/>
          <p:nvPr/>
        </p:nvPicPr>
        <p:blipFill>
          <a:blip r:embed="rId2"/>
          <a:stretch/>
        </p:blipFill>
        <p:spPr>
          <a:xfrm>
            <a:off x="4859280" y="4292640"/>
            <a:ext cx="1982880" cy="2151000"/>
          </a:xfrm>
          <a:prstGeom prst="rect">
            <a:avLst/>
          </a:prstGeom>
          <a:ln w="0">
            <a:noFill/>
          </a:ln>
        </p:spPr>
      </p:pic>
      <p:pic>
        <p:nvPicPr>
          <p:cNvPr id="3365" name="Picture 10" descr="Копия (3) КП 11"/>
          <p:cNvPicPr/>
          <p:nvPr/>
        </p:nvPicPr>
        <p:blipFill>
          <a:blip r:embed="rId3"/>
          <a:stretch/>
        </p:blipFill>
        <p:spPr>
          <a:xfrm>
            <a:off x="1835280" y="4292640"/>
            <a:ext cx="1224000" cy="2376360"/>
          </a:xfrm>
          <a:prstGeom prst="rect">
            <a:avLst/>
          </a:prstGeom>
          <a:ln w="0">
            <a:noFill/>
          </a:ln>
        </p:spPr>
      </p:pic>
      <p:pic>
        <p:nvPicPr>
          <p:cNvPr id="3366" name="Picture 11" descr="Копия КП 11"/>
          <p:cNvPicPr/>
          <p:nvPr/>
        </p:nvPicPr>
        <p:blipFill>
          <a:blip r:embed="rId4"/>
          <a:stretch/>
        </p:blipFill>
        <p:spPr>
          <a:xfrm rot="467400">
            <a:off x="4992480" y="1672920"/>
            <a:ext cx="2939760" cy="2330280"/>
          </a:xfrm>
          <a:prstGeom prst="rect">
            <a:avLst/>
          </a:prstGeom>
          <a:ln w="0">
            <a:noFill/>
          </a:ln>
        </p:spPr>
      </p:pic>
      <p:pic>
        <p:nvPicPr>
          <p:cNvPr id="3367" name="Picture 12" descr="КП 11"/>
          <p:cNvPicPr/>
          <p:nvPr/>
        </p:nvPicPr>
        <p:blipFill>
          <a:blip r:embed="rId5"/>
          <a:stretch/>
        </p:blipFill>
        <p:spPr>
          <a:xfrm rot="21188400">
            <a:off x="1054080" y="1755360"/>
            <a:ext cx="30114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3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Игрушки из ват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0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064360" cy="53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Игрушки 30-х год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3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416720" cy="40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период Великой Отечественной войны на заводе «Москабель» крутили проволочные украшения. В дело шли отходы производства, но из отходов получались великолепные работ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75" name="Picture 10" descr="DSC00420"/>
          <p:cNvPicPr/>
          <p:nvPr/>
        </p:nvPicPr>
        <p:blipFill>
          <a:blip r:embed="rId1"/>
          <a:stretch/>
        </p:blipFill>
        <p:spPr>
          <a:xfrm rot="20632800">
            <a:off x="2195640" y="2997360"/>
            <a:ext cx="1535040" cy="2157120"/>
          </a:xfrm>
          <a:prstGeom prst="rect">
            <a:avLst/>
          </a:prstGeom>
          <a:ln w="0">
            <a:noFill/>
          </a:ln>
        </p:spPr>
      </p:pic>
      <p:pic>
        <p:nvPicPr>
          <p:cNvPr id="3376" name="Picture 11" descr="DSC00412"/>
          <p:cNvPicPr/>
          <p:nvPr/>
        </p:nvPicPr>
        <p:blipFill>
          <a:blip r:embed="rId2"/>
          <a:stretch/>
        </p:blipFill>
        <p:spPr>
          <a:xfrm rot="20800200">
            <a:off x="755280" y="3789360"/>
            <a:ext cx="1224000" cy="2152800"/>
          </a:xfrm>
          <a:prstGeom prst="rect">
            <a:avLst/>
          </a:prstGeom>
          <a:ln w="0">
            <a:noFill/>
          </a:ln>
        </p:spPr>
      </p:pic>
      <p:pic>
        <p:nvPicPr>
          <p:cNvPr id="3377" name="Picture 12" descr="DSC00410"/>
          <p:cNvPicPr/>
          <p:nvPr/>
        </p:nvPicPr>
        <p:blipFill>
          <a:blip r:embed="rId3"/>
          <a:stretch/>
        </p:blipFill>
        <p:spPr>
          <a:xfrm rot="20611800">
            <a:off x="6227640" y="2565360"/>
            <a:ext cx="2095560" cy="3500640"/>
          </a:xfrm>
          <a:prstGeom prst="rect">
            <a:avLst/>
          </a:prstGeom>
          <a:ln w="0">
            <a:noFill/>
          </a:ln>
        </p:spPr>
      </p:pic>
      <p:pic>
        <p:nvPicPr>
          <p:cNvPr id="3378" name="Picture 13" descr="DSC00416"/>
          <p:cNvPicPr/>
          <p:nvPr/>
        </p:nvPicPr>
        <p:blipFill>
          <a:blip r:embed="rId4"/>
          <a:stretch/>
        </p:blipFill>
        <p:spPr>
          <a:xfrm rot="20679000">
            <a:off x="4066920" y="2852280"/>
            <a:ext cx="2016000" cy="339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58:17Z</dcterms:created>
  <dc:creator>Углова Елена</dc:creator>
  <dc:description/>
  <dc:language>en-US</dc:language>
  <cp:lastModifiedBy>BEST</cp:lastModifiedBy>
  <dcterms:modified xsi:type="dcterms:W3CDTF">2013-12-25T19:45:43Z</dcterms:modified>
  <cp:revision>38</cp:revision>
  <dc:subject/>
  <dc:title>История новогодних игрушек</dc:title>
</cp:coreProperties>
</file>