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7D8-5DA7-4DAC-8884-1CD4436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0D3-5740-451A-B51C-341461C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C03-B743-4A86-97C6-2BA8150A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952-F51A-4D30-8963-1A6D91E9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529D-BD57-4331-A221-80D33EB2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2C1A-9886-46E8-BB8E-3D48748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B071-C7D6-4BB5-AFAD-70FBB7D0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A3E-AE47-4BF9-99CD-12E636A3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58C-6E2C-4727-AD36-B028E11C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5AE-E550-430D-A39E-E716469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639-9D5F-42BE-99A9-F8048C4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135-1F22-420C-B815-C776AC0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55E4-AA24-4337-ACAC-B47E53A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06FF-7A02-46ED-AA3A-FA4560C6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A4B0-5035-4768-87BE-4F84158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5BCB-E195-4B0C-B743-16EB8102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1B32-E165-4687-BB26-BDEC4885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509-BA3E-4B56-A468-2B0ACDB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55D-6486-4F5B-9EB3-E437451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457-C98E-498D-A1CB-88E6C84C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6D9-9637-4FF8-B67A-2A7D827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636-5C4A-4BBC-88F2-B8EA1FE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6C3-7402-4702-BB70-3BB35A12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AF6-0F06-4C23-8747-1867AA0B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D9CD-C86D-4BCC-B127-FF69AB378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4456516.png"/>
          <p:cNvPicPr/>
          <p:nvPr/>
        </p:nvPicPr>
        <p:blipFill>
          <a:blip r:embed="rId3"/>
          <a:stretch/>
        </p:blipFill>
        <p:spPr>
          <a:xfrm>
            <a:off x="281160" y="281160"/>
            <a:ext cx="8581680" cy="658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CBB-BAC3-4B00-BAC8-2BD07374F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6"/>
          <p:cNvGrpSpPr/>
          <p:nvPr/>
        </p:nvGrpSpPr>
        <p:grpSpPr>
          <a:xfrm>
            <a:off x="250920" y="692280"/>
            <a:ext cx="8569080" cy="5550840"/>
            <a:chOff x="250920" y="692280"/>
            <a:chExt cx="8569080" cy="555084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0920" y="692280"/>
              <a:ext cx="85690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оугольник 5"/>
            <p:cNvSpPr/>
            <p:nvPr/>
          </p:nvSpPr>
          <p:spPr>
            <a:xfrm>
              <a:off x="1646280" y="5326200"/>
              <a:ext cx="607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66092"/>
                  </a:solidFill>
                  <a:latin typeface="Arial"/>
                </a:rPr>
                <a:t>Выполнил ученик 8 «Б» класса Батурин Денис (группа «Историки»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66092"/>
                  </a:solidFill>
                  <a:latin typeface="Arial"/>
                </a:rPr>
                <a:t>2014 го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й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от англ. writer — писатель) — человек, занимающийся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ей-артом, граффи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Пользователь\Downloads\1305489065_lrdopm.jpg"/>
          <p:cNvPicPr/>
          <p:nvPr/>
        </p:nvPicPr>
        <p:blipFill>
          <a:blip r:embed="rId2"/>
          <a:stretch/>
        </p:blipFill>
        <p:spPr>
          <a:xfrm>
            <a:off x="539640" y="2133720"/>
            <a:ext cx="4896000" cy="385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0956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Виды граффи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ing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с англ. предписание, письмо, надпись). Это основной вид граффити, в сущности, это и есть само граффити, точнее то, что рисуется графферами на стен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Пользователь\Downloads\1305495211_dsc00006.jpg"/>
          <p:cNvPicPr/>
          <p:nvPr/>
        </p:nvPicPr>
        <p:blipFill>
          <a:blip r:embed="rId2"/>
          <a:stretch/>
        </p:blipFill>
        <p:spPr>
          <a:xfrm>
            <a:off x="395280" y="3573360"/>
            <a:ext cx="4032360" cy="278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Пользователь\Downloads\1305488838_peeta-graffiti-artist1.jpg"/>
          <p:cNvPicPr/>
          <p:nvPr/>
        </p:nvPicPr>
        <p:blipFill>
          <a:blip r:embed="rId3"/>
          <a:stretch/>
        </p:blipFill>
        <p:spPr>
          <a:xfrm>
            <a:off x="4643280" y="3562200"/>
            <a:ext cx="396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Bomb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экстремальный вид граффити, обычно рисуется на разных видах транспорта. Изначально это было метр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ownloads\1305490649__fat_si_train_kyiv_00.jpg"/>
          <p:cNvPicPr/>
          <p:nvPr/>
        </p:nvPicPr>
        <p:blipFill>
          <a:blip r:embed="rId2"/>
          <a:stretch/>
        </p:blipFill>
        <p:spPr>
          <a:xfrm>
            <a:off x="468360" y="2997360"/>
            <a:ext cx="4105080" cy="257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4032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06436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Street-Аrt (Стрит-Арт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видов graffiti - нанесение на здания и другие объекты городского пейзажа рисунков и надписей с помощью аэрозольной краски. Уличное искусство, направленное на то, чтобы взаимодействовать с толпой, а не только засветить своё им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Пользователь\Downloads\1305493372_684-traditional_art_street_art.jpg"/>
          <p:cNvPicPr/>
          <p:nvPr/>
        </p:nvPicPr>
        <p:blipFill>
          <a:blip r:embed="rId2"/>
          <a:stretch/>
        </p:blipFill>
        <p:spPr>
          <a:xfrm>
            <a:off x="395280" y="2276640"/>
            <a:ext cx="4248000" cy="318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Пользователь\Downloads\1305493394_1305533b0a63.jpg"/>
          <p:cNvPicPr/>
          <p:nvPr/>
        </p:nvPicPr>
        <p:blipFill>
          <a:blip r:embed="rId3"/>
          <a:stretch/>
        </p:blipFill>
        <p:spPr>
          <a:xfrm>
            <a:off x="4716360" y="2276640"/>
            <a:ext cx="4038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820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Tagging (Тэгинг)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Это приложение граффити, хотя именно с него началась история этой субкультуры. Тэг – это подпись writer'а, его ник, выполняемый одним цветом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чень быстр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со вкусом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Пользователь\Downloads\1305495346_09_subculture.jpg"/>
          <p:cNvPicPr/>
          <p:nvPr/>
        </p:nvPicPr>
        <p:blipFill>
          <a:blip r:embed="rId2"/>
          <a:stretch/>
        </p:blipFill>
        <p:spPr>
          <a:xfrm>
            <a:off x="684360" y="2060640"/>
            <a:ext cx="74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или граффи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806472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Throw-u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амый простенький стиль, выполнен в двух цветах. Одним цветом выполняется контур, другим заливк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Пользователь\Downloads\1305496737_sca134.jpg"/>
          <p:cNvPicPr/>
          <p:nvPr/>
        </p:nvPicPr>
        <p:blipFill>
          <a:blip r:embed="rId2"/>
          <a:stretch/>
        </p:blipFill>
        <p:spPr>
          <a:xfrm>
            <a:off x="1763640" y="2924280"/>
            <a:ext cx="5761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799308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lockbuster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простой стиль, отличается большими, широкими бук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Пользователь\Downloads\1305534359_blockbuster-graffiti.jpg"/>
          <p:cNvPicPr/>
          <p:nvPr/>
        </p:nvPicPr>
        <p:blipFill>
          <a:blip r:embed="rId2"/>
          <a:stretch/>
        </p:blipFill>
        <p:spPr>
          <a:xfrm>
            <a:off x="1547640" y="1700280"/>
            <a:ext cx="59770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06:32:06Z</dcterms:created>
  <dc:creator>User</dc:creator>
  <dc:description/>
  <dc:language>en-US</dc:language>
  <cp:lastModifiedBy>MainUser</cp:lastModifiedBy>
  <dcterms:modified xsi:type="dcterms:W3CDTF">2014-10-17T15:34:17Z</dcterms:modified>
  <cp:revision>18</cp:revision>
  <dc:subject/>
  <dc:title>Слайд 1</dc:title>
</cp:coreProperties>
</file>