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3407-773C-4856-BC8C-546D4145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9B05-12FB-4CF0-A483-82CA4F9E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F05C-1E23-45E2-A032-544E7074E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4DD1-83D1-4BFA-AC69-03B0F3C7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4AC3-4DE2-4C7E-A3D3-021F7DB8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52F9-F11F-4571-8DA0-70040D7D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C8C2-DE3B-4B91-BAD8-1A63472B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842E-B35D-4060-9DE8-0302694B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DCFD-781E-4C72-BC1A-B79CD13D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D047-2EB0-42EC-AEB1-B8FF19DD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744B-525F-492D-9461-475A5F2D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E6B6-4642-40D5-98BC-A07E0069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2F36-3355-40AD-987E-F35C84E9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A77F-B5F1-4B7E-B31A-71C387E9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BBD3-7E6B-4B5D-A4FD-A0A9C32F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D8E4-21C2-42F4-A524-47F7FCA9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C781-DDBD-4FC8-85D1-E8B18ADD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F47B-BC75-4403-8A81-C9DFA973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05CF-1598-4C51-8D8B-2D2BD1C2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668F-904A-4B93-A1A5-801C456D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3DA8-3574-4DB6-85ED-CC646466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2C91-32B5-427B-855C-1191B8D6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3E36-3AAC-489E-98A8-4EF7E9BB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E617-A839-4505-A44D-E7ED3F9C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142F-E595-4F30-A3BA-8580A5982B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4456516.png"/>
          <p:cNvPicPr/>
          <p:nvPr/>
        </p:nvPicPr>
        <p:blipFill>
          <a:blip r:embed="rId3"/>
          <a:stretch/>
        </p:blipFill>
        <p:spPr>
          <a:xfrm>
            <a:off x="281160" y="281160"/>
            <a:ext cx="8581680" cy="6583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DFD7-67BE-402F-A92B-67BACA48B6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Группа 6"/>
          <p:cNvGrpSpPr/>
          <p:nvPr/>
        </p:nvGrpSpPr>
        <p:grpSpPr>
          <a:xfrm>
            <a:off x="250920" y="692280"/>
            <a:ext cx="8569080" cy="5550840"/>
            <a:chOff x="250920" y="692280"/>
            <a:chExt cx="8569080" cy="5550840"/>
          </a:xfrm>
        </p:grpSpPr>
        <p:pic>
          <p:nvPicPr>
            <p:cNvPr id="84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250920" y="692280"/>
              <a:ext cx="8569080" cy="25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Прямоугольник 5"/>
            <p:cNvSpPr/>
            <p:nvPr/>
          </p:nvSpPr>
          <p:spPr>
            <a:xfrm>
              <a:off x="1646280" y="5326200"/>
              <a:ext cx="6070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66092"/>
                  </a:solidFill>
                  <a:latin typeface="Arial"/>
                </a:rPr>
                <a:t>Выполнил ученик 8 «Б» класса Батурин Денис (группа «Историки»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66092"/>
                  </a:solidFill>
                  <a:latin typeface="Arial"/>
                </a:rPr>
                <a:t>2014 год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йте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(от англ. writer — писатель) — человек, занимающийся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рей-артом, граффи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C:\Users\Пользователь\Downloads\1305489065_lrdopm.jpg"/>
          <p:cNvPicPr/>
          <p:nvPr/>
        </p:nvPicPr>
        <p:blipFill>
          <a:blip r:embed="rId2"/>
          <a:stretch/>
        </p:blipFill>
        <p:spPr>
          <a:xfrm>
            <a:off x="539640" y="2133720"/>
            <a:ext cx="4896000" cy="3855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435640" y="1052640"/>
            <a:ext cx="309564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Виды граффит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23640" y="1557360"/>
            <a:ext cx="8280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riting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с англ. предписание, письмо, надпись). Это основной вид граффити, в сущности, это и есть само граффити, точнее то, что рисуется графферами на стен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C:\Users\Пользователь\Downloads\1305495211_dsc00006.jpg"/>
          <p:cNvPicPr/>
          <p:nvPr/>
        </p:nvPicPr>
        <p:blipFill>
          <a:blip r:embed="rId2"/>
          <a:stretch/>
        </p:blipFill>
        <p:spPr>
          <a:xfrm>
            <a:off x="395280" y="3573360"/>
            <a:ext cx="4032360" cy="2781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Users\Пользователь\Downloads\1305488838_peeta-graffiti-artist1.jpg"/>
          <p:cNvPicPr/>
          <p:nvPr/>
        </p:nvPicPr>
        <p:blipFill>
          <a:blip r:embed="rId3"/>
          <a:stretch/>
        </p:blipFill>
        <p:spPr>
          <a:xfrm>
            <a:off x="4643280" y="3562200"/>
            <a:ext cx="3961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Bombing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это экстремальный вид граффити, обычно рисуется на разных видах транспорта. Изначально это было метр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C:\Users\Пользователь\Downloads\1305490649__fat_si_train_kyiv_00.jpg"/>
          <p:cNvPicPr/>
          <p:nvPr/>
        </p:nvPicPr>
        <p:blipFill>
          <a:blip r:embed="rId2"/>
          <a:stretch/>
        </p:blipFill>
        <p:spPr>
          <a:xfrm>
            <a:off x="468360" y="2997360"/>
            <a:ext cx="4105080" cy="2570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643280" y="1989000"/>
            <a:ext cx="403236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064360" cy="18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Street-Аrt (Стрит-Арт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ин из видов graffiti - нанесение на здания и другие объекты городского пейзажа рисунков и надписей с помощью аэрозольной краски. Уличное искусство, направленное на то, чтобы взаимодействовать с толпой, а не только засветить своё им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C:\Users\Пользователь\Downloads\1305493372_684-traditional_art_street_art.jpg"/>
          <p:cNvPicPr/>
          <p:nvPr/>
        </p:nvPicPr>
        <p:blipFill>
          <a:blip r:embed="rId2"/>
          <a:stretch/>
        </p:blipFill>
        <p:spPr>
          <a:xfrm>
            <a:off x="395280" y="2276640"/>
            <a:ext cx="4248000" cy="3187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Users\Пользователь\Downloads\1305493394_1305533b0a63.jpg"/>
          <p:cNvPicPr/>
          <p:nvPr/>
        </p:nvPicPr>
        <p:blipFill>
          <a:blip r:embed="rId3"/>
          <a:stretch/>
        </p:blipFill>
        <p:spPr>
          <a:xfrm>
            <a:off x="4716360" y="2276640"/>
            <a:ext cx="403884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94920" y="404280"/>
            <a:ext cx="8209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4. 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Tagging (Тэгинг)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Это приложение граффити, хотя именно с него началась история этой субкультуры. Тэг – это подпись writer'а, его ник, выполняемый одним цветом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очень быстро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но со вкусом.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Users\Пользователь\Downloads\1305495346_09_subculture.jpg"/>
          <p:cNvPicPr/>
          <p:nvPr/>
        </p:nvPicPr>
        <p:blipFill>
          <a:blip r:embed="rId2"/>
          <a:stretch/>
        </p:blipFill>
        <p:spPr>
          <a:xfrm>
            <a:off x="684360" y="2060640"/>
            <a:ext cx="7488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тили граффи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39640" y="1341360"/>
            <a:ext cx="8064720" cy="22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Throw-up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самый простенький стиль, выполнен в двух цветах. Одним цветом выполняется контур, другим заливка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C:\Users\Пользователь\Downloads\1305496737_sca134.jpg"/>
          <p:cNvPicPr/>
          <p:nvPr/>
        </p:nvPicPr>
        <p:blipFill>
          <a:blip r:embed="rId2"/>
          <a:stretch/>
        </p:blipFill>
        <p:spPr>
          <a:xfrm>
            <a:off x="1763640" y="2924280"/>
            <a:ext cx="576108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94920" y="549000"/>
            <a:ext cx="7993080" cy="18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Blockbuster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кже простой стиль, отличается большими, широкими букв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C:\Users\Пользователь\Downloads\1305534359_blockbuster-graffiti.jpg"/>
          <p:cNvPicPr/>
          <p:nvPr/>
        </p:nvPicPr>
        <p:blipFill>
          <a:blip r:embed="rId2"/>
          <a:stretch/>
        </p:blipFill>
        <p:spPr>
          <a:xfrm>
            <a:off x="1547640" y="1700280"/>
            <a:ext cx="597708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5T06:32:06Z</dcterms:created>
  <dc:creator>User</dc:creator>
  <dc:description/>
  <dc:language>en-US</dc:language>
  <cp:lastModifiedBy>MainUser</cp:lastModifiedBy>
  <dcterms:modified xsi:type="dcterms:W3CDTF">2014-10-17T15:34:17Z</dcterms:modified>
  <cp:revision>18</cp:revision>
  <dc:subject/>
  <dc:title>Слайд 1</dc:title>
</cp:coreProperties>
</file>