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D97-6089-42E1-B7B5-5FD6AF3B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326-EDEA-4100-8E5A-A6A33422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39D-A378-45AF-91C0-7E3D7358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F4B-40BF-4C24-9D2E-E6761EE7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2E36-1E46-4581-AD28-61E5AB4F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F91F-CE67-4EAB-9F9A-80F966AF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B95-26A7-4C69-A6F2-1EF9EF5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EF6-853F-41F4-9005-F2EB8520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EDBE-ED1B-49C1-B902-0A8C058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2179-4BE3-409B-9D0C-7320DE1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868-6F5C-464E-B90F-DD724CE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165-44EC-4411-9DD0-B9CAF234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6E77-0DEF-466C-9F0B-705D8C0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9175-821D-4EEF-B7B5-EA41F2F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C6DB-0CC9-435C-B200-2AF31367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7A3B-75D5-4443-A5ED-37E58392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B7E1-57E9-4485-9A07-79FBB74C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A18-5F76-4138-81F8-505C8B91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0C3-C19E-4A87-BDEB-4F548259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81A-3314-46FB-9198-2A782DD8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E66-300E-433E-9E86-317B7A54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039-84A6-41C4-B327-BC16E2E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5F0-D562-4AB1-8E55-F3A310C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516-DBB1-40A4-8B3A-D60DAE8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840-CF76-466E-A2F7-DC6F1DBBE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3A9C-815E-43B6-9DC2-2C7FD8E41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бобщение и систематизация знаний по теме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Химические реакции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7144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Актуализация опорных знаний: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Назовите признаки классификации химических реакций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 Назовите факторы, влияющие на скорость химических реакций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.Принцип Ле Шателье, в чём его сущность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ставьте коэффициенты, дайте  характеристику реакциям по всем изученным классификационным признакам: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+ 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O+Q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Fe + 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O     Fe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+ Н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- Q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4479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95320" y="160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419720" y="3733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885840" y="5486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кажите среду водных растворов следующих солей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. Карбоната натрия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Б. Хлорида калия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. Нитрата цинка. 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мостоятельная работа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             2 вариант 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Na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 Ba(N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            ZnC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Na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=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Cu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 NaOH=                BaC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 Na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*Fe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 BaC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      *Al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+ KOH=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*K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C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HN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             *K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+H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SO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=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.</a:t>
            </a:r>
            <a:br>
              <a:rPr sz="40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1.Решите задачу.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акой объём оксида серы (4) (н.у.) можно получить из 800 кг технической серы, содержащей 10% примесей?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2.Осуществите цепочку превращений:</a:t>
            </a:r>
            <a:br>
              <a:rPr sz="36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CrCl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Cr         CrCl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Cr(OH)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09320" y="5257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295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12-21T16:20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