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418-997B-4AAC-9DB0-6F83D2FC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C6D-5BCF-418E-8A2B-620F948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E8C-9034-4CB8-B76E-47B07055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A63-6F9A-4CAE-BD8B-718C0F65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838-3835-4CDF-AF83-10AAD3E8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2CC6-8048-4CF3-8CE6-AAB07A1D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1368-B411-429C-A80C-FF1F225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610D-3EFB-42E1-AF3F-4A13BE68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B4B-EB73-49CD-A1D2-3FB879A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F910-5746-4A18-95E1-8C0EBE6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84C-300D-44BC-BBC3-F7EDB8F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DF5-0903-4716-822C-A2EB339B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AE04-B251-41BF-AF4D-A3D8E9B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F92A-C675-4B6B-9AF0-CAFB023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3636-DA16-4C8F-8020-13D168A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DA8F-DDEB-4A76-B1E6-A5C3A4EC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7CC5-DF60-485F-9FB1-45172C9E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CB8-F25A-435A-9633-A78BB87B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78E-F608-499D-A180-BAA79347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761-418F-4408-96AD-5217161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C57-8501-47C4-9A8F-0C5FBF4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843-3712-4F94-8030-DF50B33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964-2D33-4321-8468-907AF26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4D6-401E-4E8E-9015-E643324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252F-E728-44A3-BD0C-122FF43C6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8E9-EE6E-4AEE-93B1-5F6072F71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бобщение и систематизация знаний по теме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Химические реакции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7144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Актуализация опорных знаний: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Назовите признаки классификации химических реакций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 Назовите факторы, влияющие на скорость химических реакций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.Принцип Ле Шателье, в чём его сущность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ставьте коэффициенты, дайте  характеристику реакциям по всем изученным классификационным признакам: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+ 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O+Q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Fe + 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O     Fe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+ Н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- Q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4479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95320" y="160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419720" y="3733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885840" y="5486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кажите среду водных растворов следующих солей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. Карбоната натрия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Б. Хлорида калия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. Нитрата цинка. 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мостоятельная работа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             2 вариант 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Na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 Ba(N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            ZnC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Na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=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Cu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 NaOH=                BaC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 Na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*Fe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 BaC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      *A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 KOH=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*K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C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HN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             *K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.</a:t>
            </a:r>
            <a:br>
              <a:rPr sz="40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1.Решите задачу.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акой объём оксида серы (4) (н.у.) можно получить из 800 кг технической серы, содержащей 10% примесей?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2.Осуществите цепочку превращений:</a:t>
            </a:r>
            <a:br>
              <a:rPr sz="36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CrCl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Cr         CrCl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Cr(OH)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09320" y="5257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12-21T16:20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