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FDA1-7264-4F08-A13D-D92DB4B6FA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2AFA-1239-4EC7-901C-1BD9C41428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F8A-8110-4AFB-9DDD-8875353A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791-AC84-477B-80BC-4AB7D7E1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B45-4947-4391-AF86-74FB7A85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85D-C079-4611-8565-760CDD71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F930-6903-4339-8B96-F06E791D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7434-D8AE-4CB1-A5D2-D3FE390B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0B6-E1E8-4247-8307-542E79DD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819C-5F56-44BA-91E6-8D5B982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DB08-35F8-4C7C-9975-1A0A454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FD1-F1B0-4F95-B053-00FCE2E0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85EC-95AD-48B8-BC6C-ECA64B8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886-5873-445D-B0EB-08A2852B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ADAC-5591-40B6-AA61-6E3121FE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5152-4069-4563-BD52-6D9692C3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5770-BAF6-4DEC-A09D-4693FD35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6EF3-D9A5-458B-A3AB-F44FAEA7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C0F0-F763-4A01-B2CA-409A36D7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1B3-922A-4308-A104-57355E87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95C-6060-48EF-8C8C-D07CF080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FE0-9862-44FF-BE44-2361B727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2C7-D613-439D-B4EC-D70338A2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F60-C5EB-4C6A-9934-7D8A16B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0E1-4CEF-46B6-B397-5934D456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042-FE6E-4CC4-B004-EE19C95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399E-3825-4FE7-8FE4-0B2058DDE4EC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9760" y="1428120"/>
              <a:ext cx="1106280" cy="1095840"/>
              <a:chOff x="5459760" y="1428120"/>
              <a:chExt cx="1106280" cy="109584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9760" y="1428120"/>
                <a:ext cx="1106280" cy="109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6320"/>
                <a:ext cx="75420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4360"/>
              <a:ext cx="855000" cy="845640"/>
              <a:chOff x="5627160" y="1404360"/>
              <a:chExt cx="855000" cy="84564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4360"/>
                <a:ext cx="855000" cy="8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9360" y="1545120"/>
                <a:ext cx="57600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4480" y="1874880"/>
              <a:ext cx="621720" cy="631080"/>
              <a:chOff x="5244480" y="1874880"/>
              <a:chExt cx="621720" cy="63108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4480" y="1874880"/>
                <a:ext cx="62172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9600" y="1983960"/>
                <a:ext cx="41796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11880" y="1791360"/>
              <a:ext cx="508320" cy="518040"/>
              <a:chOff x="5411880" y="1791360"/>
              <a:chExt cx="508320" cy="51804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11880" y="1791360"/>
                <a:ext cx="50832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8280" y="1886400"/>
                <a:ext cx="3398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65680"/>
              <a:ext cx="280800" cy="279720"/>
              <a:chOff x="4718160" y="2065680"/>
              <a:chExt cx="280800" cy="2797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65680"/>
                <a:ext cx="280800" cy="2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2520" y="211932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5600" y="993600"/>
              <a:ext cx="280800" cy="285840"/>
              <a:chOff x="6105600" y="993600"/>
              <a:chExt cx="280800" cy="28584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5600" y="993600"/>
                <a:ext cx="28080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9600" y="105408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2960" y="1881000"/>
              <a:ext cx="221040" cy="220320"/>
              <a:chOff x="5052960" y="1881000"/>
              <a:chExt cx="221040" cy="2203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2960" y="188100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8320" y="192636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23600" y="1064880"/>
              <a:ext cx="221040" cy="220320"/>
              <a:chOff x="6123600" y="1064880"/>
              <a:chExt cx="221040" cy="2203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23600" y="106488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7520" y="111132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2F79-DEC4-4D04-A577-CD00025F9F64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Объект 3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2952720" cy="4443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35268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3"/>
          <a:stretch/>
        </p:blipFill>
        <p:spPr>
          <a:xfrm>
            <a:off x="4915080" y="4076640"/>
            <a:ext cx="4028760" cy="19382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Чуруктар-биле ажыл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Практиктиг кезээ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Verdana"/>
              </a:rPr>
              <a:t>Бѳлүктер аразынга ажыл «Кезээде өөрүшкүлүг болурунуң дүрүмнери»</a:t>
            </a: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(өөреникчилер боттары чогаадып тургузар)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C:\Users\ион\Pictures\09920.gif"/>
          <p:cNvPicPr/>
          <p:nvPr/>
        </p:nvPicPr>
        <p:blipFill>
          <a:blip r:embed="rId1"/>
          <a:stretch/>
        </p:blipFill>
        <p:spPr>
          <a:xfrm>
            <a:off x="7051680" y="1989000"/>
            <a:ext cx="1641600" cy="2465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5" name="Заголовок 1"/>
          <p:cNvSpPr/>
          <p:nvPr/>
        </p:nvSpPr>
        <p:spPr>
          <a:xfrm>
            <a:off x="0" y="0"/>
            <a:ext cx="6510240" cy="6858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dc9e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 счастья и рад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 чашу терпе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йте в нее полное сердце любви, Добавьте две горсти щедрости, Посыпьте доброто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те немного юмор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бавьте как можно больше вер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хорошо перемешайт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ажьте на кусок отпущенной вам жиз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дложите каждому, кого встретите на своем пути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3" descr="C:\Users\ион\Pictures\1715552000ca3ae8933f4bca2991072e8c33102826.jpg"/>
          <p:cNvPicPr/>
          <p:nvPr/>
        </p:nvPicPr>
        <p:blipFill>
          <a:blip r:embed="rId2"/>
          <a:stretch/>
        </p:blipFill>
        <p:spPr>
          <a:xfrm>
            <a:off x="6510240" y="4425840"/>
            <a:ext cx="26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ион\Pictures\i.jpg"/>
          <p:cNvPicPr/>
          <p:nvPr/>
        </p:nvPicPr>
        <p:blipFill>
          <a:blip r:embed="rId3"/>
          <a:stretch/>
        </p:blipFill>
        <p:spPr>
          <a:xfrm>
            <a:off x="6534000" y="0"/>
            <a:ext cx="250056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10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Чуруктар-биле ажы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611280" y="1836720"/>
            <a:ext cx="2952720" cy="43466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2"/>
          <a:stretch/>
        </p:blipFill>
        <p:spPr>
          <a:xfrm>
            <a:off x="4140360" y="1989000"/>
            <a:ext cx="42876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Чуруктарда кымнарны көрүп тур силер?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 Оларның сагыш-сеткилиниң илерээшкинин чүзүнден эскерип тур силер?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 Олар чүге каттырып турар деп бодаар силер?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10045800" y="227664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7760" y="836280"/>
            <a:ext cx="71186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5f7c7"/>
                </a:solidFill>
                <a:latin typeface="Verdana"/>
              </a:rPr>
              <a:t>Класс шагы-сайгарылга: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302760" y="2565360"/>
            <a:ext cx="846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Verdana"/>
              </a:rPr>
              <a:t>«Ѳѳрүшкүӊнү кажан-да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Verdana"/>
              </a:rPr>
              <a:t>чидирбе!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Сорулгазы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Ѳѳрүшкү болгаш муӊгарал деп билиишкиннерге хамаарышкан сайгарылганы чорудуп, чугаалажыр; кезээде ѳѳрүшкүлүг чоруурун чедип алыр;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Амыдыралчы ниити билиглерин сайзырадыр;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Сѳс-биле ажыл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Радость-чувство удовольствия, внутреннего удовлетворения (күзел ханары, иштики сеткил ханыышкыны)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Кол кезээ:Мультфильм кѳрүлдези. («Про Барашка»)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09800" y="1806480"/>
            <a:ext cx="7124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5" name="мультик про барашка.avi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94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Музыкалыг тренинг «Мээӊ чуртталгамда эӊ-не ѳѳрүшкүлуг хүн»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Хостуг, эптиг кылдыр олуруп алыр. Караан шийип алгаш, чуртталгазында эн-не өөрүшкүлүг болган хүннү сактып боданыр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8" name="010 УЛЫБКА.mp3" descr=""/>
          <p:cNvPicPr/>
          <p:nvPr/>
        </p:nvPicPr>
        <p:blipFill>
          <a:blip r:embed="rId1"/>
          <a:stretch/>
        </p:blipFill>
        <p:spPr>
          <a:xfrm>
            <a:off x="4427640" y="522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Методика «Лучи солнца».(Хүннүӊ херелдери»)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Саазынга херелдерлиг хүн чурааш, хүннүң ортузунга бодунуң адын бижип алыр; хүннүң мурнуку херелдеринге бодунуң эки талаларын бижиир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28:37Z</dcterms:created>
  <dc:creator>Солчурская</dc:creator>
  <dc:description/>
  <dc:language>en-US</dc:language>
  <cp:lastModifiedBy>Customer</cp:lastModifiedBy>
  <dcterms:modified xsi:type="dcterms:W3CDTF">2014-03-11T05:07:42Z</dcterms:modified>
  <cp:revision>24</cp:revision>
  <dc:subject/>
  <dc:title>Класс шагы-сайгарылга:</dc:title>
</cp:coreProperties>
</file>