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AED2-2C44-4C56-AADD-6BA1BF29C9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56BC-6B77-41D7-87A9-DB9A6A0DCF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402-B292-42DC-B20F-34BC06A2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AB9-26AF-4BC6-8ED3-35E3092F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0D5-7DBC-49AE-AD84-42FA9506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647-59B0-4368-93CC-9F6AF430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64E4-325A-4870-91F8-2E7DE20B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5E29-10DB-42D8-BD12-E7887533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FE41-2855-477E-9E35-83967AC8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71E3-4A4B-4514-A1AB-7E838BB8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1BEF-EF57-4542-9DFB-609CAD23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4A4D-E2E1-439A-BB29-AB59847E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B3F1-79EE-44C9-9734-BB4EA0C3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2D2-F15E-42CC-9153-AC8B0A89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48C8-2007-4DF4-85DF-FF312FA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4AFE-7FE0-49CE-A723-B1B8C98D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BC4E-6238-4743-AAF6-9E827179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D4E8-3662-42D9-B649-296BDB14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79DB-0BDA-4409-B734-52BC4142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D36-B713-4F7A-8FF9-B657D517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5B1-2E70-4F6B-AA3A-74E11C8C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E1C-06DE-4722-90E0-BE586073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2FA-CC4D-44D5-B386-DE0A6180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505-C53C-4772-B610-42AC4FBE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DD0-4D45-4F81-AD21-444547C4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3ED-8298-4B1E-8C79-64B3E56C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0E80-9374-48D8-B714-D577AF451154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9760" y="1428120"/>
              <a:ext cx="1106280" cy="1095840"/>
              <a:chOff x="5459760" y="1428120"/>
              <a:chExt cx="1106280" cy="109584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9760" y="1428120"/>
                <a:ext cx="1106280" cy="109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6320"/>
                <a:ext cx="75420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4360"/>
              <a:ext cx="855000" cy="845640"/>
              <a:chOff x="5627160" y="1404360"/>
              <a:chExt cx="855000" cy="84564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4360"/>
                <a:ext cx="855000" cy="84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9360" y="1545120"/>
                <a:ext cx="57600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4480" y="1874880"/>
              <a:ext cx="621720" cy="631080"/>
              <a:chOff x="5244480" y="1874880"/>
              <a:chExt cx="621720" cy="63108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4480" y="1874880"/>
                <a:ext cx="62172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9600" y="1983960"/>
                <a:ext cx="41796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11880" y="1791360"/>
              <a:ext cx="508320" cy="518040"/>
              <a:chOff x="5411880" y="1791360"/>
              <a:chExt cx="508320" cy="51804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11880" y="1791360"/>
                <a:ext cx="508320" cy="51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8280" y="1886400"/>
                <a:ext cx="3398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65680"/>
              <a:ext cx="280800" cy="279720"/>
              <a:chOff x="4718160" y="2065680"/>
              <a:chExt cx="280800" cy="2797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65680"/>
                <a:ext cx="280800" cy="2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2520" y="211932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5600" y="993600"/>
              <a:ext cx="280800" cy="285840"/>
              <a:chOff x="6105600" y="993600"/>
              <a:chExt cx="280800" cy="28584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5600" y="993600"/>
                <a:ext cx="28080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9600" y="105408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2960" y="1881000"/>
              <a:ext cx="221040" cy="220320"/>
              <a:chOff x="5052960" y="1881000"/>
              <a:chExt cx="221040" cy="2203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2960" y="188100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8320" y="192636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23600" y="1064880"/>
              <a:ext cx="221040" cy="220320"/>
              <a:chOff x="6123600" y="1064880"/>
              <a:chExt cx="221040" cy="2203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23600" y="106488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7520" y="111132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89B8-E8EF-4FF5-BAC4-8B344ECD4CB0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Объект 3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2952720" cy="4443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35268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3"/>
          <a:stretch/>
        </p:blipFill>
        <p:spPr>
          <a:xfrm>
            <a:off x="4915080" y="4076640"/>
            <a:ext cx="4028760" cy="19382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Чуруктар-биле ажыл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Практиктиг кезээ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Verdana"/>
              </a:rPr>
              <a:t>Бѳлүктер аразынга ажыл «Кезээде өөрүшкүлүг болурунуң дүрүмнери»</a:t>
            </a:r>
            <a:r>
              <a:rPr b="0" lang="ru-RU" sz="3600" spc="-1" strike="noStrike">
                <a:solidFill>
                  <a:srgbClr val="404040"/>
                </a:solidFill>
                <a:latin typeface="Arial"/>
              </a:rPr>
              <a:t>(өөреникчилер боттары чогаадып тургузар)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C:\Users\ион\Pictures\09920.gif"/>
          <p:cNvPicPr/>
          <p:nvPr/>
        </p:nvPicPr>
        <p:blipFill>
          <a:blip r:embed="rId1"/>
          <a:stretch/>
        </p:blipFill>
        <p:spPr>
          <a:xfrm>
            <a:off x="7051680" y="1989000"/>
            <a:ext cx="1641600" cy="2465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5" name="Заголовок 1"/>
          <p:cNvSpPr/>
          <p:nvPr/>
        </p:nvSpPr>
        <p:spPr>
          <a:xfrm>
            <a:off x="0" y="0"/>
            <a:ext cx="6510240" cy="6858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dc9e0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 счастья и рад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те чашу терпен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ейте в нее полное сердце любви, Добавьте две горсти щедрости, Посыпьте доброто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сните немного юмор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бавьте как можно больше вер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хорошо перемешайт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ажьте на кусок отпущенной вам жиз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дложите каждому, кого встретите на своем пути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3" descr="C:\Users\ион\Pictures\1715552000ca3ae8933f4bca2991072e8c33102826.jpg"/>
          <p:cNvPicPr/>
          <p:nvPr/>
        </p:nvPicPr>
        <p:blipFill>
          <a:blip r:embed="rId2"/>
          <a:stretch/>
        </p:blipFill>
        <p:spPr>
          <a:xfrm>
            <a:off x="6510240" y="4425840"/>
            <a:ext cx="26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Users\ион\Pictures\i.jpg"/>
          <p:cNvPicPr/>
          <p:nvPr/>
        </p:nvPicPr>
        <p:blipFill>
          <a:blip r:embed="rId3"/>
          <a:stretch/>
        </p:blipFill>
        <p:spPr>
          <a:xfrm>
            <a:off x="6534000" y="0"/>
            <a:ext cx="250056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-609480">
              <a:lnSpc>
                <a:spcPct val="10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Чуруктар-биле ажы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3" name="Объект 3" descr=""/>
          <p:cNvPicPr/>
          <p:nvPr/>
        </p:nvPicPr>
        <p:blipFill>
          <a:blip r:embed="rId1"/>
          <a:stretch/>
        </p:blipFill>
        <p:spPr>
          <a:xfrm>
            <a:off x="611280" y="1836720"/>
            <a:ext cx="2952720" cy="43466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2"/>
          <a:stretch/>
        </p:blipFill>
        <p:spPr>
          <a:xfrm>
            <a:off x="4140360" y="1989000"/>
            <a:ext cx="428760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-Чуруктарда кымнарны көрүп тур силер?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- Оларның сагыш-сеткилиниң илерээшкинин чүзүнден эскерип тур силер?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- Олар чүге каттырып турар деп бодаар силер?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10045800" y="227664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7760" y="836280"/>
            <a:ext cx="71186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5f7c7"/>
                </a:solidFill>
                <a:latin typeface="Verdana"/>
              </a:rPr>
              <a:t>Класс шагы-сайгарылга: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302760" y="2565360"/>
            <a:ext cx="846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Verdana"/>
              </a:rPr>
              <a:t>«Ѳѳрүшкүӊнү кажан-да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Verdana"/>
              </a:rPr>
              <a:t>чидирбе!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Сорулгазы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Ѳѳрүшкү болгаш муӊгарал деп билиишкиннерге хамаарышкан сайгарылганы чорудуп, чугаалажыр; кезээде ѳѳрүшкүлүг чоруурун чедип алыр;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Амыдыралчы ниити билиглерин сайзырадыр;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Сѳс-биле ажыл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Радость-чувство удовольствия, внутреннего удовлетворения (күзел ханары, иштики сеткил ханыышкыны)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Кол кезээ:Мультфильм кѳрүлдези. («Про Барашка»)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09800" y="1806480"/>
            <a:ext cx="7124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5" name="мультик про барашка.avi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94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Музыкалыг тренинг «Мээӊ чуртталгамда эӊ-не ѳѳрүшкүлуг хүн»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Хостуг, эптиг кылдыр олуруп алыр. Караан шийип алгаш, чуртталгазында эн-не өөрүшкүлүг болган хүннү сактып боданыр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8" name="010 УЛЫБКА.mp3" descr=""/>
          <p:cNvPicPr/>
          <p:nvPr/>
        </p:nvPicPr>
        <p:blipFill>
          <a:blip r:embed="rId1"/>
          <a:stretch/>
        </p:blipFill>
        <p:spPr>
          <a:xfrm>
            <a:off x="4427640" y="522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Verdana"/>
              </a:rPr>
              <a:t>Методика «Лучи солнца».(Хүннүӊ херелдери»)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Саазынга херелдерлиг хүн чурааш, хүннүң ортузунга бодунуң адын бижип алыр; хүннүң мурнуку херелдеринге бодунуң эки талаларын бижиир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3:28:37Z</dcterms:created>
  <dc:creator>Солчурская</dc:creator>
  <dc:description/>
  <dc:language>en-US</dc:language>
  <cp:lastModifiedBy>Customer</cp:lastModifiedBy>
  <dcterms:modified xsi:type="dcterms:W3CDTF">2014-03-11T05:07:42Z</dcterms:modified>
  <cp:revision>24</cp:revision>
  <dc:subject/>
  <dc:title>Класс шагы-сайгарылга:</dc:title>
</cp:coreProperties>
</file>