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55363E-74D1-4D24-9BC1-FD21DCC82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442C17-77E3-4973-B45D-0C2A36C2D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08856-C1F2-43D0-8295-933AA8AA2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360A9F-CD00-4319-80DB-6CC322DE6E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DE9D0-3814-4A73-9F74-C04772EA0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B89A2-A660-4773-BD7F-CC3B748CC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324F9-C843-421E-A4F8-9B9E3E7F7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0AA60-6648-4FFB-A111-A3E435D94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FEDB8-89FD-4A9C-9A69-505C979AB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90EB5-6830-4121-A252-698F2061A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7EBE2-4E8F-4D90-8EB5-98925FA4B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985A18-1E26-44C4-B369-47D4A2223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39418-54BE-4A9C-8C20-F56C2487F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C8F22-FD57-451D-B90A-9AAB07F59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A4011-D1EB-405E-9363-3813F6D37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937E5-AB28-407A-96AF-C23811F42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0816E-FDD2-4E95-8B32-7A090FEBE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59FBE6-90EB-4314-BD9E-6E4B830D1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5DE2E3-BA3F-423C-9197-BB3A08B55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328B5F-49CF-4A2D-80E6-05EDCEC37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EE85FE-EA62-4239-96EF-CA9491035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44B4D-2E79-40B7-B6A6-28E7C4584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E27E5D-8ACD-4F49-8BD3-7077CFF72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3E99C9-9682-482F-8DFB-2C0C3AD28A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7B2-AD75-4FE6-85F2-0BCA8D883C0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CE58-3CD3-4FBC-B473-A1A5361AA86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ru.wikipedia.org/wiki/&#1057;&#1086;&#1094;&#1080;&#1086;&#1083;&#1086;&#1075;&#1080;&#1103;" TargetMode="External"/><Relationship Id="rId2" Type="http://schemas.openxmlformats.org/officeDocument/2006/relationships/hyperlink" Target="https://ru.wikipedia.org/wiki/&#1056;&#1077;&#1081;&#1085;&#1075;&#1086;&#1083;&#1100;&#1076;,_&#1043;&#1086;&#1074;&#1072;&#1088;&#1076;" TargetMode="External"/><Relationship Id="rId3" Type="http://schemas.openxmlformats.org/officeDocument/2006/relationships/hyperlink" Target="https://ru.wikipedia.org/wiki/&#1056;&#1077;&#1081;&#1085;&#1075;&#1086;&#1083;&#1100;&#1076;,_&#1043;&#1086;&#1074;&#1072;&#1088;&#1076;" TargetMode="External"/><Relationship Id="rId4" Type="http://schemas.openxmlformats.org/officeDocument/2006/relationships/hyperlink" Target="https://ru.wikipedia.org/wiki/&#1056;&#1077;&#1081;&#1085;&#1075;&#1086;&#1083;&#1100;&#1076;,_&#1043;&#1086;&#1074;&#1072;&#1088;&#1076;"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 </a:t>
            </a:r>
            <a:r>
              <a:rPr b="0" lang="ru-RU" sz="4400" spc="-1" strike="noStrike">
                <a:solidFill>
                  <a:srgbClr val="ffffcc"/>
                </a:solidFill>
                <a:latin typeface="Tahoma"/>
              </a:rPr>
              <a:t>Конспект- презентация учебного занятия по теме: «Понятие «флешмоб». Плюсы и минусы данного направления. Обучение танцевальному флешмобу». </a:t>
            </a:r>
            <a:endParaRPr b="0" lang="en-US" sz="4400" spc="-1" strike="noStrike">
              <a:solidFill>
                <a:srgbClr val="ffffcc"/>
              </a:solidFill>
              <a:latin typeface="Tahoma"/>
            </a:endParaRPr>
          </a:p>
        </p:txBody>
      </p:sp>
      <p:sp>
        <p:nvSpPr>
          <p:cNvPr id="127" name="PlaceHolder 2"/>
          <p:cNvSpPr>
            <a:spLocks noGrp="1"/>
          </p:cNvSpPr>
          <p:nvPr>
            <p:ph type="subTitle"/>
          </p:nvPr>
        </p:nvSpPr>
        <p:spPr>
          <a:xfrm>
            <a:off x="250560" y="4797360"/>
            <a:ext cx="8785080" cy="115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втор: педагог дополнительного   </a:t>
            </a:r>
            <a:endParaRPr b="0" lang="en-US" sz="3200" spc="-1" strike="noStrike">
              <a:solidFill>
                <a:srgbClr val="ffffff"/>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образования детей Камышанская И.Е.</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езусловно, действия, которые можно квалифицировать как флешмоб, могли происходить и задолго до появления книги Рейнгольда. Но это были скорее одиночные случаи, не являющиеся массовым явлением. Только наличие удобных и быстрых средств связи и более-менее сформированные правила позволили флешмобу стремительно стать популярным практически по всему миру. Поэтому можно утверждать, что он имеет уникальную идеологию и не имеет аналогов в мировой истории. </a:t>
            </a:r>
            <a:endParaRPr b="0" lang="en-US" sz="20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Флешмоб, как правило, организовывается через интернет-сайты. В каждом городе действует по одному сайту, чтобы не было неразберихи. В интернете  разрабатывают, предлагают и обсуждают сценарии для акций. Сценарий, место и время акции назначается либо администрацией сайта, либо путём голосования. Акции проводятся в многолюдных местах. Инструкции к акции могут быть опубликованы на сайте, либо инструкции выдаются до акции специальными агентами.</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24000" y="333360"/>
            <a:ext cx="8496000" cy="589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404280"/>
            <a:ext cx="8229600" cy="5688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Tahoma"/>
              </a:rPr>
              <a:t>Чтобы не вызывать отрицательной реакции у случайных зрителей, такие акции проходят тихо и без шума, спокойно и вообще еле заметно. Чтобы не вызвать смех у случайных зрителей, участниками акции всё делается с серьёзным видом. На акциях участниками делается вид, что всё спонтанно и вполне обыденно для них. А потому он не должен быть сложным и с какой-либо яркой атрибутикой. Начинается акция одновременно всеми участниками. Для этого согласовывается время или назначается специальный человек, который должен подать всем сигнал для начала акции. Такие акции длятся недолго (обычно до пяти минут), иначе случайные зрители начинают проявлять активность: приставать с вопросами, вызывать работников охраны и правопорядка, игнорировать и дальше заниматься своим делом.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755640" y="0"/>
            <a:ext cx="7848720" cy="4753080"/>
          </a:xfrm>
          <a:prstGeom prst="rect">
            <a:avLst/>
          </a:prstGeom>
          <a:ln w="0">
            <a:noFill/>
          </a:ln>
        </p:spPr>
      </p:pic>
      <p:sp>
        <p:nvSpPr>
          <p:cNvPr id="146" name=""/>
          <p:cNvSpPr/>
          <p:nvPr/>
        </p:nvSpPr>
        <p:spPr>
          <a:xfrm>
            <a:off x="179280" y="4731480"/>
            <a:ext cx="87854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крытый интерес СМИ к происходящему на акции может испортить эффект проведения акций. На многих сайтах флешмоба есть специальное обращение к СМИ с призывом воздержаться по мере возможности от освещения в средствах массовой информации всего, что касается движения флешмоб.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2000" spc="-1" strike="noStrike">
                <a:solidFill>
                  <a:srgbClr val="ffffff"/>
                </a:solidFill>
                <a:latin typeface="Tahoma"/>
              </a:rPr>
              <a:t>Организаторы флешмобов рекомендуют:</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повторять чужие и свои уже состоявшиеся акци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икому не помогать, но никого и не карать.</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нарушать общественный порядок.</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оставлять после себя мусор.</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общаться вживую до, во время и после акций.</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о время акции участники не должны создавать неудобства для простых обывателей, оказавшихся волей случая вблизи от места проведения акци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79280" y="0"/>
            <a:ext cx="8964720" cy="3789360"/>
          </a:xfrm>
          <a:prstGeom prst="rect">
            <a:avLst/>
          </a:prstGeom>
          <a:ln w="0">
            <a:noFill/>
          </a:ln>
        </p:spPr>
      </p:pic>
      <p:sp>
        <p:nvSpPr>
          <p:cNvPr id="149" name=""/>
          <p:cNvSpPr/>
          <p:nvPr/>
        </p:nvSpPr>
        <p:spPr>
          <a:xfrm>
            <a:off x="-176040" y="3904200"/>
            <a:ext cx="93200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 мере существования явления флешмоба стали появляться такие сценарии, которые не соответствовали его правилам.И тогда стало ясно, что термин «флешмоб» уже не способен удовлетворить всех.  В настоящее время само слово «флешмоб» стало нарицательным,</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им начали называть любую акцию, в которой участвует некоторое количество человек.</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Хотя все новые виды акций «вышли» из флешмоба, некоторые из них стали настолько отличаться от него идеологически и организационно,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их уже нельзя относить к разновидностям флешмоб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11280" y="189000"/>
            <a:ext cx="7848360" cy="4032000"/>
          </a:xfrm>
          <a:prstGeom prst="rect">
            <a:avLst/>
          </a:prstGeom>
          <a:ln w="0">
            <a:noFill/>
          </a:ln>
        </p:spPr>
      </p:pic>
      <p:sp>
        <p:nvSpPr>
          <p:cNvPr id="151" name=""/>
          <p:cNvSpPr/>
          <p:nvPr/>
        </p:nvSpPr>
        <p:spPr>
          <a:xfrm>
            <a:off x="0" y="4294440"/>
            <a:ext cx="91425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деальный сценарий должен быть абсурдным, загадочным, не очень заметным и ни в коем случае не вызывающим смеха.  Действия должны казаться случайным зрителям бессмысленными, однако совершаться так,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ак будто в этом есть смысл. В итоге случайные зрители, воспринимаю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происходящее серьёзно, как будто в разыгрываемой ситуации есть какой-то смысл, который они пытаются отыскать. У них возникает чувство интереса, тревоги, непонимания или даже ощущение собственного помешательств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ценарий не должен перейти грань, за которой он уже становитс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мешным, но это получается крайне редк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06600" y="260280"/>
            <a:ext cx="7953120" cy="597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259920"/>
            <a:ext cx="822960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меры флешмоба: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Замирание.</a:t>
            </a:r>
            <a:r>
              <a:rPr b="0" lang="ru-RU" sz="1800" spc="-1" strike="noStrike">
                <a:solidFill>
                  <a:srgbClr val="ffffff"/>
                </a:solidFill>
                <a:latin typeface="Tahoma"/>
              </a:rPr>
              <a:t>   В определённый момент в определённом месте участники резко замирают, как будто остановилось время. В замершем состоянии они стоят три минуты, после чего делается передышка на несколько секунд и снова на три минуты замирают. После этого все одновременно расходятся в  разные стороны.</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згляд в небо</a:t>
            </a:r>
            <a:r>
              <a:rPr b="0" lang="ru-RU" sz="1800" spc="-1" strike="noStrike">
                <a:solidFill>
                  <a:srgbClr val="ffffff"/>
                </a:solidFill>
                <a:latin typeface="Tahoma"/>
              </a:rPr>
              <a:t>. Собирается народ, в определённое время достаются из карманов/сумок/портфелей бинокли/подзорные трубы/свёрнутые газеты и взгляды устремляются на небо. По прошествии минут 5—10 всё сворачивается и народ расходится по своим делам, оставляя прохожих, в недоумении пытающихся найти нечто необычное на неб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Танцевальный флешмоб.</a:t>
            </a:r>
            <a:r>
              <a:rPr b="0" lang="ru-RU" sz="1800" spc="-1" strike="noStrike">
                <a:solidFill>
                  <a:srgbClr val="ffffff"/>
                </a:solidFill>
                <a:latin typeface="Tahoma"/>
              </a:rPr>
              <a:t> Участники скрываются в толпе, иногда в костюмах. Один из них включает музыку, под которую заранее подготовили танец. По несколько человек выходят из толпы и начинают танцевать. После окончания танца снова уходят в толп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259920"/>
            <a:ext cx="8229600" cy="5761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000" spc="-1" strike="noStrike">
                <a:solidFill>
                  <a:srgbClr val="ffffff"/>
                </a:solidFill>
                <a:latin typeface="Tahoma"/>
              </a:rPr>
              <a:t>Флешмоб нередко подвергается критике. Когда прокатились первые флешмобы, то многие политики не поняли его сути и придали ему политический оттенок, хотя идеология флешмоба гласит, что «Флешмоб вне политики и экономики». Бывали высказывания, что это «западное дуровство», хотя именно в странах СНГ особо развилась идеологическая составляющая флешмоба. Большинство критиков считает его бессмысленным занятием. Хотя многие психологи благосклонно относятся к явлению флешмоба, поскольку оно (в определённой степени) благотворно влияет на психологическое состояние участников, помогает участникам лишиться скованности, боязни общественного мнения, вырабатывает умение самоорганизации, даёт возможность знакомиться с единомышленниками и приносит в жизнь разнообразие. Другие критики отмечают, что флешмоб порождает чувство вседозволенности, которое может провоцировать его участников на групповое хулиганство. Также критика коснулась самого принципа организации, которая может использоваться заинтересованными людьми в корыстных целях.</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ы с вами остановимся на танцевальном флешмобе и я предлагаю разучить вам несколько танцевальных движен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Цели и задачи:</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оинформировать учащихся о таком на данный момент распространенном понятие, как «флешмоб»,</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формировать творческое мышление,</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азвивать мотивацию детей к познанию и творчеству,</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овершенствовать нравственно- эстетические, духовные и физические потребности,</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оспитывать чувство гармонии.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50920" y="-360"/>
            <a:ext cx="8229600" cy="6093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1</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п. – ноги вместе, руки на ширине плеч.</a:t>
            </a:r>
            <a:endParaRPr b="0" lang="en-US" sz="1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правой ногой делается шаг вправо, правая рука сгибается в локте.</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исходное полож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левой ногой делается шаг влево, левая рука сгибается в локт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исходное полож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 descr=""/>
          <p:cNvPicPr/>
          <p:nvPr/>
        </p:nvPicPr>
        <p:blipFill>
          <a:blip r:embed="rId1"/>
          <a:stretch/>
        </p:blipFill>
        <p:spPr>
          <a:xfrm>
            <a:off x="0" y="2924280"/>
            <a:ext cx="4813200" cy="3197160"/>
          </a:xfrm>
          <a:prstGeom prst="rect">
            <a:avLst/>
          </a:prstGeom>
          <a:ln w="0">
            <a:noFill/>
          </a:ln>
        </p:spPr>
      </p:pic>
      <p:pic>
        <p:nvPicPr>
          <p:cNvPr id="157" name="" descr=""/>
          <p:cNvPicPr/>
          <p:nvPr/>
        </p:nvPicPr>
        <p:blipFill>
          <a:blip r:embed="rId2"/>
          <a:stretch/>
        </p:blipFill>
        <p:spPr>
          <a:xfrm>
            <a:off x="4284720" y="3733920"/>
            <a:ext cx="485928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260280"/>
            <a:ext cx="8229600" cy="612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2.</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правой ногой вправо,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ерекрестный шаг вперед левой ногой,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ерекрестный шаг вперед правой ногой,</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шаг левой ногой назад в исходное полож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9" name="" descr=""/>
          <p:cNvPicPr/>
          <p:nvPr/>
        </p:nvPicPr>
        <p:blipFill>
          <a:blip r:embed="rId1"/>
          <a:stretch/>
        </p:blipFill>
        <p:spPr>
          <a:xfrm>
            <a:off x="0" y="1916280"/>
            <a:ext cx="4824360" cy="3125520"/>
          </a:xfrm>
          <a:prstGeom prst="rect">
            <a:avLst/>
          </a:prstGeom>
          <a:ln w="0">
            <a:noFill/>
          </a:ln>
        </p:spPr>
      </p:pic>
      <p:pic>
        <p:nvPicPr>
          <p:cNvPr id="160" name="" descr=""/>
          <p:cNvPicPr/>
          <p:nvPr/>
        </p:nvPicPr>
        <p:blipFill>
          <a:blip r:embed="rId2"/>
          <a:stretch/>
        </p:blipFill>
        <p:spPr>
          <a:xfrm>
            <a:off x="4211640" y="1916280"/>
            <a:ext cx="4932360" cy="3079440"/>
          </a:xfrm>
          <a:prstGeom prst="rect">
            <a:avLst/>
          </a:prstGeom>
          <a:ln w="0">
            <a:noFill/>
          </a:ln>
        </p:spPr>
      </p:pic>
      <p:pic>
        <p:nvPicPr>
          <p:cNvPr id="161" name="" descr=""/>
          <p:cNvPicPr/>
          <p:nvPr/>
        </p:nvPicPr>
        <p:blipFill>
          <a:blip r:embed="rId3"/>
          <a:stretch/>
        </p:blipFill>
        <p:spPr>
          <a:xfrm>
            <a:off x="1763640" y="3994200"/>
            <a:ext cx="5486400" cy="2863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333360"/>
            <a:ext cx="8229600" cy="5904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3.</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вправо с правой ноги с поворото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оворот продолжается вправ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оворот заканчиваетс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левую ногу приставляем к правой.</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влево с левой ноги с поворото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оворот продолжается влев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оворот заканчиваетс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авую ногу приставляем к левой. </a:t>
            </a:r>
            <a:endParaRPr b="0" lang="en-US" sz="1800" spc="-1" strike="noStrike">
              <a:solidFill>
                <a:srgbClr val="ffffff"/>
              </a:solidFill>
              <a:latin typeface="Tahoma"/>
            </a:endParaRPr>
          </a:p>
        </p:txBody>
      </p:sp>
      <p:pic>
        <p:nvPicPr>
          <p:cNvPr id="163" name="" descr=""/>
          <p:cNvPicPr/>
          <p:nvPr/>
        </p:nvPicPr>
        <p:blipFill>
          <a:blip r:embed="rId1"/>
          <a:stretch/>
        </p:blipFill>
        <p:spPr>
          <a:xfrm>
            <a:off x="0" y="3562200"/>
            <a:ext cx="5629320" cy="3295800"/>
          </a:xfrm>
          <a:prstGeom prst="rect">
            <a:avLst/>
          </a:prstGeom>
          <a:ln w="0">
            <a:noFill/>
          </a:ln>
        </p:spPr>
      </p:pic>
      <p:pic>
        <p:nvPicPr>
          <p:cNvPr id="164" name="" descr=""/>
          <p:cNvPicPr/>
          <p:nvPr/>
        </p:nvPicPr>
        <p:blipFill>
          <a:blip r:embed="rId2"/>
          <a:stretch/>
        </p:blipFill>
        <p:spPr>
          <a:xfrm>
            <a:off x="4570560" y="3562200"/>
            <a:ext cx="4573440" cy="329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79280" y="404280"/>
            <a:ext cx="822960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6" name="" descr=""/>
          <p:cNvPicPr/>
          <p:nvPr/>
        </p:nvPicPr>
        <p:blipFill>
          <a:blip r:embed="rId1"/>
          <a:stretch/>
        </p:blipFill>
        <p:spPr>
          <a:xfrm>
            <a:off x="250920" y="189000"/>
            <a:ext cx="5486400" cy="3295440"/>
          </a:xfrm>
          <a:prstGeom prst="rect">
            <a:avLst/>
          </a:prstGeom>
          <a:ln w="0">
            <a:noFill/>
          </a:ln>
        </p:spPr>
      </p:pic>
      <p:pic>
        <p:nvPicPr>
          <p:cNvPr id="167" name="" descr=""/>
          <p:cNvPicPr/>
          <p:nvPr/>
        </p:nvPicPr>
        <p:blipFill>
          <a:blip r:embed="rId2"/>
          <a:stretch/>
        </p:blipFill>
        <p:spPr>
          <a:xfrm>
            <a:off x="3492360" y="3357720"/>
            <a:ext cx="5486400" cy="329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4.</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шаг вправо с правой ноги. Левую руку поднимаем ввер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левую ногу ставим сзади правой, руку опускаем вниз на правое бедр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шаг влево с левой ноги. Правую руку поднимаем ввер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авую ногу ставим сзади левой, руку опускаем вниз на левое бедро.</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9" name="" descr=""/>
          <p:cNvPicPr/>
          <p:nvPr/>
        </p:nvPicPr>
        <p:blipFill>
          <a:blip r:embed="rId1"/>
          <a:stretch/>
        </p:blipFill>
        <p:spPr>
          <a:xfrm>
            <a:off x="0" y="2708280"/>
            <a:ext cx="4657680" cy="3295800"/>
          </a:xfrm>
          <a:prstGeom prst="rect">
            <a:avLst/>
          </a:prstGeom>
          <a:ln w="0">
            <a:noFill/>
          </a:ln>
        </p:spPr>
      </p:pic>
      <p:pic>
        <p:nvPicPr>
          <p:cNvPr id="170" name="" descr=""/>
          <p:cNvPicPr/>
          <p:nvPr/>
        </p:nvPicPr>
        <p:blipFill>
          <a:blip r:embed="rId2"/>
          <a:stretch/>
        </p:blipFill>
        <p:spPr>
          <a:xfrm>
            <a:off x="4356000" y="3562200"/>
            <a:ext cx="4788000" cy="329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404280"/>
            <a:ext cx="8229600" cy="5688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Движение № 5.</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правую ногу выбрасываем вперед, одновременно вытягивая  тоже вперед перекрещенные рук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ногу сгибаем в колене и руки сгибаем в локтя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0" y="1700280"/>
            <a:ext cx="5486400" cy="3222720"/>
          </a:xfrm>
          <a:prstGeom prst="rect">
            <a:avLst/>
          </a:prstGeom>
          <a:ln w="0">
            <a:noFill/>
          </a:ln>
        </p:spPr>
      </p:pic>
      <p:pic>
        <p:nvPicPr>
          <p:cNvPr id="173" name="" descr=""/>
          <p:cNvPicPr/>
          <p:nvPr/>
        </p:nvPicPr>
        <p:blipFill>
          <a:blip r:embed="rId2"/>
          <a:stretch/>
        </p:blipFill>
        <p:spPr>
          <a:xfrm>
            <a:off x="3995640" y="3760920"/>
            <a:ext cx="514836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5280" y="-360"/>
            <a:ext cx="8229600" cy="6481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рисесть вправо и хлопнуть себя по коленя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исесть влево и хлопнуть себя по коленя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
          <p:cNvSpPr/>
          <p:nvPr/>
        </p:nvSpPr>
        <p:spPr>
          <a:xfrm>
            <a:off x="611280" y="981000"/>
            <a:ext cx="622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76" name="" descr=""/>
          <p:cNvPicPr/>
          <p:nvPr/>
        </p:nvPicPr>
        <p:blipFill>
          <a:blip r:embed="rId1"/>
          <a:stretch/>
        </p:blipFill>
        <p:spPr>
          <a:xfrm>
            <a:off x="0" y="1052640"/>
            <a:ext cx="5486400" cy="3295440"/>
          </a:xfrm>
          <a:prstGeom prst="rect">
            <a:avLst/>
          </a:prstGeom>
          <a:ln w="0">
            <a:noFill/>
          </a:ln>
        </p:spPr>
      </p:pic>
      <p:pic>
        <p:nvPicPr>
          <p:cNvPr id="177" name="" descr=""/>
          <p:cNvPicPr/>
          <p:nvPr/>
        </p:nvPicPr>
        <p:blipFill>
          <a:blip r:embed="rId2"/>
          <a:stretch/>
        </p:blipFill>
        <p:spPr>
          <a:xfrm>
            <a:off x="3657600" y="3562200"/>
            <a:ext cx="5486400" cy="3295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549000"/>
            <a:ext cx="8624880" cy="5941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раз – левую ногу выбрасываем вперед, одновременно вытягивая тоже вперед руки,</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ногу сгибаем в колене и руки сгибаем в локтях,</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9" name="" descr=""/>
          <p:cNvPicPr/>
          <p:nvPr/>
        </p:nvPicPr>
        <p:blipFill>
          <a:blip r:embed="rId1"/>
          <a:stretch/>
        </p:blipFill>
        <p:spPr>
          <a:xfrm>
            <a:off x="0" y="1844640"/>
            <a:ext cx="5113440" cy="3295800"/>
          </a:xfrm>
          <a:prstGeom prst="rect">
            <a:avLst/>
          </a:prstGeom>
          <a:ln w="0">
            <a:noFill/>
          </a:ln>
        </p:spPr>
      </p:pic>
      <p:pic>
        <p:nvPicPr>
          <p:cNvPr id="180" name="" descr=""/>
          <p:cNvPicPr/>
          <p:nvPr/>
        </p:nvPicPr>
        <p:blipFill>
          <a:blip r:embed="rId2"/>
          <a:stretch/>
        </p:blipFill>
        <p:spPr>
          <a:xfrm>
            <a:off x="4140360" y="3562200"/>
            <a:ext cx="5003640" cy="329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360"/>
            <a:ext cx="8229600" cy="5826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два – присесть влево и хлопнуть себя по коленям,</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На и – присесть вправо и хлопнуть себя по коленям</a:t>
            </a:r>
            <a:endParaRPr b="0" lang="en-US" sz="1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 descr=""/>
          <p:cNvPicPr/>
          <p:nvPr/>
        </p:nvPicPr>
        <p:blipFill>
          <a:blip r:embed="rId1"/>
          <a:stretch/>
        </p:blipFill>
        <p:spPr>
          <a:xfrm>
            <a:off x="0" y="1125360"/>
            <a:ext cx="5256360" cy="3295800"/>
          </a:xfrm>
          <a:prstGeom prst="rect">
            <a:avLst/>
          </a:prstGeom>
          <a:ln w="0">
            <a:noFill/>
          </a:ln>
        </p:spPr>
      </p:pic>
      <p:pic>
        <p:nvPicPr>
          <p:cNvPr id="183" name="" descr=""/>
          <p:cNvPicPr/>
          <p:nvPr/>
        </p:nvPicPr>
        <p:blipFill>
          <a:blip r:embed="rId2"/>
          <a:stretch/>
        </p:blipFill>
        <p:spPr>
          <a:xfrm>
            <a:off x="3851280" y="3562200"/>
            <a:ext cx="5292720" cy="3295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5280" y="188640"/>
            <a:ext cx="8229600" cy="597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ahoma"/>
              </a:rPr>
              <a:t>Я надеюсь, вам понравилось. Разученные нами движения вы можете применить для создания танцевальной композиции. Научить других ребят. Спасибо девочкам за помощь.</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5" name="" descr=""/>
          <p:cNvPicPr/>
          <p:nvPr/>
        </p:nvPicPr>
        <p:blipFill>
          <a:blip r:embed="rId1"/>
          <a:stretch/>
        </p:blipFill>
        <p:spPr>
          <a:xfrm>
            <a:off x="1828800" y="1781280"/>
            <a:ext cx="5486400" cy="329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Ход занятия.</a:t>
            </a:r>
            <a:br>
              <a:rPr sz="3800"/>
            </a:br>
            <a:endParaRPr b="0" lang="en-US" sz="3800" spc="-1" strike="noStrike">
              <a:solidFill>
                <a:srgbClr val="ffffcc"/>
              </a:solidFill>
              <a:latin typeface="Tahoma"/>
            </a:endParaRPr>
          </a:p>
        </p:txBody>
      </p:sp>
      <p:sp>
        <p:nvSpPr>
          <p:cNvPr id="131" name="PlaceHolder 2"/>
          <p:cNvSpPr>
            <a:spLocks noGrp="1"/>
          </p:cNvSpPr>
          <p:nvPr>
            <p:ph/>
          </p:nvPr>
        </p:nvSpPr>
        <p:spPr>
          <a:xfrm>
            <a:off x="395280" y="836640"/>
            <a:ext cx="8291520" cy="6526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последнее время мы часто слышим и произносим сами слово флешмоб,  скажите, кто-нибудь из присутствующих здесь может дать определение данного слова.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Флешмо́б</a:t>
            </a:r>
            <a:r>
              <a:rPr b="0" lang="ru-RU" sz="1800" spc="-1" strike="noStrike">
                <a:solidFill>
                  <a:srgbClr val="ffffff"/>
                </a:solidFill>
                <a:latin typeface="Tahoma"/>
              </a:rPr>
              <a:t>  (от англ. </a:t>
            </a:r>
            <a:r>
              <a:rPr b="0" i="1" lang="en" sz="1800" spc="-1" strike="noStrike">
                <a:solidFill>
                  <a:srgbClr val="ffffff"/>
                </a:solidFill>
                <a:latin typeface="Tahoma"/>
              </a:rPr>
              <a:t>flash mob</a:t>
            </a:r>
            <a:r>
              <a:rPr b="0" lang="ru-RU" sz="1800" spc="-1" strike="noStrike">
                <a:solidFill>
                  <a:srgbClr val="ffffff"/>
                </a:solidFill>
                <a:latin typeface="Tahoma"/>
              </a:rPr>
              <a:t> — </a:t>
            </a:r>
            <a:r>
              <a:rPr b="0" i="1" lang="ru-RU" sz="1800" spc="-1" strike="noStrike">
                <a:solidFill>
                  <a:srgbClr val="ffffff"/>
                </a:solidFill>
                <a:latin typeface="Tahoma"/>
              </a:rPr>
              <a:t>flash</a:t>
            </a:r>
            <a:r>
              <a:rPr b="0" lang="ru-RU" sz="1800" spc="-1" strike="noStrike">
                <a:solidFill>
                  <a:srgbClr val="ffffff"/>
                </a:solidFill>
                <a:latin typeface="Tahoma"/>
              </a:rPr>
              <a:t> — вспышка; миг, мгновение; </a:t>
            </a:r>
            <a:r>
              <a:rPr b="0" i="1" lang="ru-RU" sz="1800" spc="-1" strike="noStrike">
                <a:solidFill>
                  <a:srgbClr val="ffffff"/>
                </a:solidFill>
                <a:latin typeface="Tahoma"/>
              </a:rPr>
              <a:t>mob</a:t>
            </a:r>
            <a:r>
              <a:rPr b="0" lang="ru-RU" sz="1800" spc="-1" strike="noStrike">
                <a:solidFill>
                  <a:srgbClr val="ffffff"/>
                </a:solidFill>
                <a:latin typeface="Tahoma"/>
              </a:rPr>
              <a:t> — толпа; переводится как «мгновенная толпа») — это заранее спланированная массовая акция, в которой большая группа людей появляется в общественном месте, выполняет заранее оговоренные действия  и затем расходится.  Сбор участников флешмоба осуществляется посредством связи (в основном это Интерне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t>
            </a:r>
            <a:endParaRPr b="0" lang="en-US" sz="2400" spc="-1" strike="noStrike">
              <a:solidFill>
                <a:srgbClr val="ffffff"/>
              </a:solidFill>
              <a:latin typeface="Tahoma"/>
            </a:endParaRPr>
          </a:p>
        </p:txBody>
      </p:sp>
      <p:pic>
        <p:nvPicPr>
          <p:cNvPr id="132" name="" descr=""/>
          <p:cNvPicPr/>
          <p:nvPr/>
        </p:nvPicPr>
        <p:blipFill>
          <a:blip r:embed="rId1"/>
          <a:stretch/>
        </p:blipFill>
        <p:spPr>
          <a:xfrm>
            <a:off x="539640" y="3213000"/>
            <a:ext cx="8353440" cy="345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89000"/>
            <a:ext cx="8229600" cy="6408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1800" spc="-1" strike="noStrike">
                <a:solidFill>
                  <a:srgbClr val="ffffff"/>
                </a:solidFill>
                <a:latin typeface="Tahoma"/>
              </a:rPr>
              <a:t>Флешмоб рассчитан на случайных зрителей, вызывая смешанные чувства непонимания, интереса и даже участ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частники флешмобов часто ищут в проведение акци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звлечени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очувствовать себя свободным от общественных стереотипов поведен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оизвести впечатление на окружающи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амоутверждение (испытать себя: «Смогу ли я это сделать на людях?»);</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опытка получить острые ощущения;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олучить эффект, как от групповой психотерапи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обретение новых друзей. </a:t>
            </a: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50920" y="189000"/>
            <a:ext cx="8715240" cy="5256000"/>
          </a:xfrm>
          <a:prstGeom prst="rect">
            <a:avLst/>
          </a:prstGeom>
          <a:ln w="0">
            <a:noFill/>
          </a:ln>
        </p:spPr>
      </p:pic>
      <p:sp>
        <p:nvSpPr>
          <p:cNvPr id="135" name=""/>
          <p:cNvSpPr/>
          <p:nvPr/>
        </p:nvSpPr>
        <p:spPr>
          <a:xfrm flipV="1" rot="10800000">
            <a:off x="248760" y="5596920"/>
            <a:ext cx="86439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Цели флешмоба достигаются за счёт «эффекта толпы». Участники подобных акций, в жизни часто являются вполне успешными и серьёзными людьми.</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26028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которые психологи объясняют участие в флешмобах тем, что обыденная жизнь и повседневные заботы их утомляют.</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сновные принципы флешмоб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понтанность в широком смысле.</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тсутствие централизованного руководства, избранного командир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тсутствие каких-либо финансовых или рекламных целей.</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частники флешмоба (в идеале это абсолютно незнакомые люди) во время акции не должны никак показывать, что их что-то связывает.</a:t>
            </a:r>
            <a:endParaRPr b="0" lang="en-US" sz="1800" spc="-1" strike="noStrike">
              <a:solidFill>
                <a:srgbClr val="ffffff"/>
              </a:solidFill>
              <a:latin typeface="Tahoma"/>
            </a:endParaRPr>
          </a:p>
        </p:txBody>
      </p:sp>
      <p:pic>
        <p:nvPicPr>
          <p:cNvPr id="137" name="" descr=""/>
          <p:cNvPicPr/>
          <p:nvPr/>
        </p:nvPicPr>
        <p:blipFill>
          <a:blip r:embed="rId1"/>
          <a:stretch/>
        </p:blipFill>
        <p:spPr>
          <a:xfrm>
            <a:off x="0" y="2852640"/>
            <a:ext cx="9144000" cy="4005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920" y="333000"/>
            <a:ext cx="8229600" cy="6048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000" spc="-1" strike="noStrike">
                <a:solidFill>
                  <a:srgbClr val="ffffff"/>
                </a:solidFill>
                <a:latin typeface="Tahoma"/>
              </a:rPr>
              <a:t>Общепринятые правила флешмоба:</a:t>
            </a:r>
            <a:endParaRPr b="0" lang="en-US" sz="20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икто из участников не платит и не получает денег.</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Действие должно казаться спонтанным.</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Должно сложиться впечатление, что люди, которые проводят флешмоб — такие же случайные прохожие, как и все.</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Сценарий чаще всего имеет абсурдный характер (за исключением танцевального флешмоба).</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Флешмоб не должен содержать рекламу. </a:t>
            </a:r>
            <a:endParaRPr b="0" lang="en-US" sz="1600" spc="-1" strike="noStrike">
              <a:solidFill>
                <a:srgbClr val="ffffff"/>
              </a:solidFill>
              <a:latin typeface="Tahoma"/>
            </a:endParaRPr>
          </a:p>
        </p:txBody>
      </p:sp>
      <p:pic>
        <p:nvPicPr>
          <p:cNvPr id="139" name="" descr=""/>
          <p:cNvPicPr/>
          <p:nvPr/>
        </p:nvPicPr>
        <p:blipFill>
          <a:blip r:embed="rId1"/>
          <a:stretch/>
        </p:blipFill>
        <p:spPr>
          <a:xfrm>
            <a:off x="611280" y="2997360"/>
            <a:ext cx="7632720" cy="360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476280"/>
            <a:ext cx="8229600" cy="6153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Явление флешмобов началось после того, как в октябре 2002 вышла книга </a:t>
            </a:r>
            <a:r>
              <a:rPr b="0" lang="ru-RU" sz="2000" spc="-1" strike="noStrike" u="sng">
                <a:solidFill>
                  <a:srgbClr val="ebf25a"/>
                </a:solidFill>
                <a:uFillTx/>
                <a:latin typeface="Tahoma"/>
                <a:hlinkClick r:id="rId1"/>
              </a:rPr>
              <a:t>социолога</a:t>
            </a:r>
            <a:r>
              <a:rPr b="0" lang="ru-RU" sz="2000" spc="-1" strike="noStrike">
                <a:solidFill>
                  <a:srgbClr val="ffffff"/>
                </a:solidFill>
                <a:latin typeface="Tahoma"/>
              </a:rPr>
              <a:t> </a:t>
            </a:r>
            <a:r>
              <a:rPr b="0" lang="ru-RU" sz="2000" spc="-1" strike="noStrike" u="sng">
                <a:solidFill>
                  <a:srgbClr val="ebf25a"/>
                </a:solidFill>
                <a:uFillTx/>
                <a:latin typeface="Tahoma"/>
                <a:hlinkClick r:id="rId2"/>
              </a:rPr>
              <a:t>Говарда</a:t>
            </a:r>
            <a:r>
              <a:rPr b="0" lang="ru-RU" sz="2000" spc="-1" strike="noStrike" u="sng">
                <a:solidFill>
                  <a:srgbClr val="ebf25a"/>
                </a:solidFill>
                <a:uFillTx/>
                <a:latin typeface="Tahoma"/>
                <a:hlinkClick r:id="rId3"/>
              </a:rPr>
              <a:t> </a:t>
            </a:r>
            <a:r>
              <a:rPr b="0" lang="ru-RU" sz="2000" spc="-1" strike="noStrike" u="sng">
                <a:solidFill>
                  <a:srgbClr val="ebf25a"/>
                </a:solidFill>
                <a:uFillTx/>
                <a:latin typeface="Tahoma"/>
                <a:hlinkClick r:id="rId4"/>
              </a:rPr>
              <a:t>Рейнгольда</a:t>
            </a:r>
            <a:r>
              <a:rPr b="0" lang="ru-RU" sz="2000" spc="-1" strike="noStrike">
                <a:solidFill>
                  <a:srgbClr val="ffffff"/>
                </a:solidFill>
                <a:latin typeface="Tahoma"/>
              </a:rPr>
              <a:t> «Умные толпы: следующая социальная революция», в которой автор предсказывал, что люди будут использовать новые коммуникационные технологии (Интернет, сотовые телефоны) для самоорганизаци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ервый флешмоб был намечен на 3 июня 2003 года в Нью-Йорке, США, но не состоялся. Ему помешала заранее предупреждённая полиция. Организаторы избежали этой проблемы при проведении второго флешмоба, который состоялся 17 июня 2003 года. Участники пришли в заранее определённое место, где они получили инструкции. Приблизительно двести человек  собрались вокруг одного дорогого ковра в мебельном отделе универмага  и стали говорить продавцам, что живут вместе на складе в «пригородной коммуне» на окраине Нью - Йорка и пришли купить коврик.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ервые российские акции были организованы  и состоялись одновременно в Санкт-Петербурге и Москве 16-го августа 2003. Их участники с непонятными табличками встречали на вокзале приехавших поездом пассажиров. </a:t>
            </a:r>
            <a:endParaRPr b="0" lang="en-US" sz="2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79280" y="620640"/>
            <a:ext cx="8734680" cy="540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4T09:59:57Z</dcterms:created>
  <dc:creator>Савин</dc:creator>
  <dc:description/>
  <dc:language>en-US</dc:language>
  <cp:lastModifiedBy>Савин</cp:lastModifiedBy>
  <dcterms:modified xsi:type="dcterms:W3CDTF">2015-02-02T07:33:10Z</dcterms:modified>
  <cp:revision>8</cp:revision>
  <dc:subject/>
  <dc:title> Конспект- презентация учебного занятия по теме: «Понятие «флешмоб». Плюсы и минусы данного направления. Обучение танцевальному флешмобу. </dc:title>
</cp:coreProperties>
</file>