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0ED-457D-4C3F-8317-EC9D297A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94B-87B6-4900-8866-4F96F184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EA1-0345-43CB-9BF4-1DCE28EA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7D1-6158-4536-B10F-7C55F0FD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9AC-BD38-4393-8B16-8C8B1F9B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8D6-638D-433B-A279-B08E7028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EB8-8C3C-43C3-9154-79C67481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E04-9E95-4DA3-B899-BF349125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62C-44DD-49AD-A11F-1C7BF14A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556-9FA5-48F8-8FD4-E1CFF731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EC9-9807-416A-96EC-8B11E004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53A-B75C-461F-A3FB-09ADE1E9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EB52-3729-40F3-AF0F-72E546284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57160" y="4357800"/>
            <a:ext cx="6972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вторение. Конституция - основной Закон стра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C:\Documents and Settings\марат\Мои документы\Мои рисунки\const.jpg"/>
          <p:cNvPicPr/>
          <p:nvPr/>
        </p:nvPicPr>
        <p:blipFill>
          <a:blip r:embed="rId1"/>
          <a:stretch/>
        </p:blipFill>
        <p:spPr>
          <a:xfrm>
            <a:off x="2928960" y="142920"/>
            <a:ext cx="3443400" cy="400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марат\Мои документы\Мои рисунки\1316112491_gh.jpg"/>
          <p:cNvPicPr/>
          <p:nvPr/>
        </p:nvPicPr>
        <p:blipFill>
          <a:blip r:embed="rId2"/>
          <a:stretch/>
        </p:blipFill>
        <p:spPr>
          <a:xfrm>
            <a:off x="7643880" y="5214960"/>
            <a:ext cx="12142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>
            <a:alpha val="2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1357200" y="500040"/>
            <a:ext cx="66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«Наши жизненные приоритеты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ое впечатление оно произвело на в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Какими приоритетами прежде всего должен обладать граждан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А теперь прочитайте стихотворение начиная с ко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4"/>
          <p:cNvSpPr/>
          <p:nvPr/>
        </p:nvSpPr>
        <p:spPr>
          <a:xfrm>
            <a:off x="428760" y="357120"/>
            <a:ext cx="542916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СТЬ НАДЕЖДА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- часть потерянного поколения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я отказываюсь верить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могу изменить этот мир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нимаю, возможно, это шокирует вас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Счастье уже внутри тебя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Это ложь, на самом деле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ньги cделaют меня счастливы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 тридцать лет я расскажу своему ребенку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- не самая важная вещь в моей жизни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й босс будет знать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и принципы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жнее, чем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ья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лушай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давних пор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юди живут семьями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сейчас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ство никогда не будет таким, как прежд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сперты говорят мне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тридцать лет я буду празднова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сятилетие моего развода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214960" y="500040"/>
            <a:ext cx="371484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не верю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буду жить в стране, которую сам создам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будуще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ничтoжениe природы станет нормой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кто не верит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сохраним нашу прекрасную планет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онеч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е поколение уже потерян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упо пoлaгать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ть надеж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85880" y="1285920"/>
          <a:ext cx="7500960" cy="3786120"/>
        </p:xfrm>
        <a:graphic>
          <a:graphicData uri="http://schemas.openxmlformats.org/drawingml/2006/table">
            <a:tbl>
              <a:tblPr/>
              <a:tblGrid>
                <a:gridCol w="1152360"/>
                <a:gridCol w="6348600"/>
              </a:tblGrid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уществитель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бозначающее тему синквей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онституц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Два прилагательных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раскрывающих какие-либо интересные, характерные признаки явления, предмета, заявленного в теме синквейна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захстанская, важн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Три глагол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раскрывающие действия, воздействия и т.д., свойственные данному явлению, предмету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язует, защищает, охраня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Фраз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раскрывающая суть явления, предмета, усиливающая предыдущие две строки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он суров, но это зако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уществитель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ыступающее как итог, вывод, подводящее черту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ос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Box 4"/>
          <p:cNvSpPr/>
          <p:nvPr/>
        </p:nvSpPr>
        <p:spPr>
          <a:xfrm>
            <a:off x="1143000" y="357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ставление синквей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3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1500120" y="2309760"/>
            <a:ext cx="64850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1500120" y="1285920"/>
            <a:ext cx="664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§ 36,  запишите в тетрадь в виде кратких тезисов основные положения действующей Конституции Казахстан, разделив их по разде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"/>
          <p:cNvSpPr/>
          <p:nvPr/>
        </p:nvSpPr>
        <p:spPr>
          <a:xfrm>
            <a:off x="642960" y="714240"/>
            <a:ext cx="7715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«Создайте лишь немного закон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о следите за тем, чтобы они соблюдалис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Джон Ло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5" descr=""/>
          <p:cNvPicPr/>
          <p:nvPr/>
        </p:nvPicPr>
        <p:blipFill>
          <a:blip r:embed="rId1"/>
          <a:stretch/>
        </p:blipFill>
        <p:spPr>
          <a:xfrm>
            <a:off x="1073160" y="3876840"/>
            <a:ext cx="73882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1000080" y="571680"/>
            <a:ext cx="7215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КОНСТИТУЦИЯ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– (от лат.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onstitution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установление, устройств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онституция – Основной Закон государ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пределяющ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Как устроено  государ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Как  образованы органы  вл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 Каковы права и обязанности граж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481120" y="3144960"/>
            <a:ext cx="394344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2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 3"/>
          <p:cNvSpPr/>
          <p:nvPr/>
        </p:nvSpPr>
        <p:spPr>
          <a:xfrm>
            <a:off x="3286080" y="2286000"/>
            <a:ext cx="2643120" cy="12142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ы Конституционного стро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Стрелка вверх 4"/>
          <p:cNvGrpSpPr/>
          <p:nvPr/>
        </p:nvGrpSpPr>
        <p:grpSpPr>
          <a:xfrm>
            <a:off x="4359240" y="1243080"/>
            <a:ext cx="425520" cy="987480"/>
            <a:chOff x="4359240" y="1243080"/>
            <a:chExt cx="425520" cy="987480"/>
          </a:xfrm>
        </p:grpSpPr>
        <p:pic>
          <p:nvPicPr>
            <p:cNvPr id="48" name="Стрелка вверх 4" descr=""/>
            <p:cNvPicPr/>
            <p:nvPr/>
          </p:nvPicPr>
          <p:blipFill>
            <a:blip r:embed="rId1"/>
            <a:stretch/>
          </p:blipFill>
          <p:spPr>
            <a:xfrm>
              <a:off x="4359240" y="1243080"/>
              <a:ext cx="425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00720" y="1357200"/>
              <a:ext cx="1425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Стрелка вверх 5"/>
          <p:cNvGrpSpPr/>
          <p:nvPr/>
        </p:nvGrpSpPr>
        <p:grpSpPr>
          <a:xfrm>
            <a:off x="5614920" y="1682640"/>
            <a:ext cx="828720" cy="920880"/>
            <a:chOff x="5614920" y="1682640"/>
            <a:chExt cx="828720" cy="920880"/>
          </a:xfrm>
        </p:grpSpPr>
        <p:pic>
          <p:nvPicPr>
            <p:cNvPr id="51" name="Стрелка вверх 5" descr=""/>
            <p:cNvPicPr/>
            <p:nvPr/>
          </p:nvPicPr>
          <p:blipFill>
            <a:blip r:embed="rId2"/>
            <a:stretch/>
          </p:blipFill>
          <p:spPr>
            <a:xfrm>
              <a:off x="5614920" y="1682640"/>
              <a:ext cx="8287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62800">
              <a:off x="5932080" y="1771560"/>
              <a:ext cx="142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Стрелка вверх 6"/>
          <p:cNvGrpSpPr/>
          <p:nvPr/>
        </p:nvGrpSpPr>
        <p:grpSpPr>
          <a:xfrm>
            <a:off x="2822400" y="1682640"/>
            <a:ext cx="774720" cy="951120"/>
            <a:chOff x="2822400" y="1682640"/>
            <a:chExt cx="774720" cy="951120"/>
          </a:xfrm>
        </p:grpSpPr>
        <p:pic>
          <p:nvPicPr>
            <p:cNvPr id="54" name="Стрелка вверх 6" descr=""/>
            <p:cNvPicPr/>
            <p:nvPr/>
          </p:nvPicPr>
          <p:blipFill>
            <a:blip r:embed="rId3"/>
            <a:stretch/>
          </p:blipFill>
          <p:spPr>
            <a:xfrm>
              <a:off x="2822400" y="1682640"/>
              <a:ext cx="77472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9601400">
              <a:off x="3160440" y="1787040"/>
              <a:ext cx="142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Стрелка вверх 7"/>
          <p:cNvGrpSpPr/>
          <p:nvPr/>
        </p:nvGrpSpPr>
        <p:grpSpPr>
          <a:xfrm>
            <a:off x="4498920" y="3608280"/>
            <a:ext cx="433440" cy="976320"/>
            <a:chOff x="4498920" y="3608280"/>
            <a:chExt cx="433440" cy="976320"/>
          </a:xfrm>
        </p:grpSpPr>
        <p:pic>
          <p:nvPicPr>
            <p:cNvPr id="57" name="Стрелка вверх 7" descr=""/>
            <p:cNvPicPr/>
            <p:nvPr/>
          </p:nvPicPr>
          <p:blipFill>
            <a:blip r:embed="rId4"/>
            <a:stretch/>
          </p:blipFill>
          <p:spPr>
            <a:xfrm>
              <a:off x="4498920" y="3608280"/>
              <a:ext cx="43344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rot="10800000">
              <a:off x="4642920" y="3642840"/>
              <a:ext cx="142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Стрелка вверх 8"/>
          <p:cNvGrpSpPr/>
          <p:nvPr/>
        </p:nvGrpSpPr>
        <p:grpSpPr>
          <a:xfrm>
            <a:off x="2822400" y="3255840"/>
            <a:ext cx="895680" cy="846360"/>
            <a:chOff x="2822400" y="3255840"/>
            <a:chExt cx="895680" cy="846360"/>
          </a:xfrm>
        </p:grpSpPr>
        <p:pic>
          <p:nvPicPr>
            <p:cNvPr id="60" name="Стрелка вверх 8" descr=""/>
            <p:cNvPicPr/>
            <p:nvPr/>
          </p:nvPicPr>
          <p:blipFill>
            <a:blip r:embed="rId5"/>
            <a:stretch/>
          </p:blipFill>
          <p:spPr>
            <a:xfrm>
              <a:off x="2822400" y="3255840"/>
              <a:ext cx="89568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3697400">
              <a:off x="3226320" y="3261240"/>
              <a:ext cx="142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Стрелка вверх 9"/>
          <p:cNvGrpSpPr/>
          <p:nvPr/>
        </p:nvGrpSpPr>
        <p:grpSpPr>
          <a:xfrm>
            <a:off x="5761080" y="3181320"/>
            <a:ext cx="931680" cy="762120"/>
            <a:chOff x="5761080" y="3181320"/>
            <a:chExt cx="931680" cy="762120"/>
          </a:xfrm>
        </p:grpSpPr>
        <p:pic>
          <p:nvPicPr>
            <p:cNvPr id="63" name="Стрелка вверх 9" descr=""/>
            <p:cNvPicPr/>
            <p:nvPr/>
          </p:nvPicPr>
          <p:blipFill>
            <a:blip r:embed="rId6"/>
            <a:stretch/>
          </p:blipFill>
          <p:spPr>
            <a:xfrm>
              <a:off x="5761080" y="3181320"/>
              <a:ext cx="9316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7319400">
              <a:off x="6123600" y="3151800"/>
              <a:ext cx="142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Облако 10"/>
          <p:cNvSpPr/>
          <p:nvPr/>
        </p:nvSpPr>
        <p:spPr>
          <a:xfrm>
            <a:off x="571680" y="642960"/>
            <a:ext cx="2428560" cy="12142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овое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блако 11"/>
          <p:cNvSpPr/>
          <p:nvPr/>
        </p:nvSpPr>
        <p:spPr>
          <a:xfrm>
            <a:off x="3286080" y="0"/>
            <a:ext cx="2428920" cy="12142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нитарное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блако 12"/>
          <p:cNvSpPr/>
          <p:nvPr/>
        </p:nvSpPr>
        <p:spPr>
          <a:xfrm>
            <a:off x="6000840" y="642960"/>
            <a:ext cx="2428920" cy="12142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спубликанская форма 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блако 13"/>
          <p:cNvSpPr/>
          <p:nvPr/>
        </p:nvSpPr>
        <p:spPr>
          <a:xfrm>
            <a:off x="928800" y="4000680"/>
            <a:ext cx="2428920" cy="12142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емократическое государ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блако 14"/>
          <p:cNvSpPr/>
          <p:nvPr/>
        </p:nvSpPr>
        <p:spPr>
          <a:xfrm>
            <a:off x="3714840" y="4572000"/>
            <a:ext cx="2428920" cy="12142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еловек и его права – высшая ц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15"/>
          <p:cNvSpPr/>
          <p:nvPr/>
        </p:nvSpPr>
        <p:spPr>
          <a:xfrm>
            <a:off x="6215040" y="3786120"/>
            <a:ext cx="2428920" cy="12146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ское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Скругленный прямоугольник 3"/>
          <p:cNvSpPr/>
          <p:nvPr/>
        </p:nvSpPr>
        <p:spPr>
          <a:xfrm>
            <a:off x="2357280" y="428760"/>
            <a:ext cx="47149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сударственная в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Стрелка влево 4"/>
          <p:cNvGrpSpPr/>
          <p:nvPr/>
        </p:nvGrpSpPr>
        <p:grpSpPr>
          <a:xfrm>
            <a:off x="1768320" y="1561680"/>
            <a:ext cx="1328760" cy="1449360"/>
            <a:chOff x="1768320" y="1561680"/>
            <a:chExt cx="1328760" cy="1449360"/>
          </a:xfrm>
        </p:grpSpPr>
        <p:pic>
          <p:nvPicPr>
            <p:cNvPr id="73" name="Стрелка влево 4" descr=""/>
            <p:cNvPicPr/>
            <p:nvPr/>
          </p:nvPicPr>
          <p:blipFill>
            <a:blip r:embed="rId1"/>
            <a:stretch/>
          </p:blipFill>
          <p:spPr>
            <a:xfrm>
              <a:off x="1768320" y="1561680"/>
              <a:ext cx="132876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rot="18607800">
              <a:off x="1775520" y="2138760"/>
              <a:ext cx="13845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Стрелка влево 5"/>
          <p:cNvSpPr/>
          <p:nvPr/>
        </p:nvSpPr>
        <p:spPr>
          <a:xfrm rot="16200000">
            <a:off x="3571920" y="2714400"/>
            <a:ext cx="2428560" cy="428760"/>
          </a:xfrm>
          <a:prstGeom prst="lef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лево 6"/>
          <p:cNvSpPr/>
          <p:nvPr/>
        </p:nvSpPr>
        <p:spPr>
          <a:xfrm rot="14410200">
            <a:off x="6023520" y="2114640"/>
            <a:ext cx="1500120" cy="4287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788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Горизонтальный свиток 7"/>
          <p:cNvSpPr/>
          <p:nvPr/>
        </p:nvSpPr>
        <p:spPr>
          <a:xfrm>
            <a:off x="285840" y="2714760"/>
            <a:ext cx="3071880" cy="1428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конод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Горизонтальный свиток 8"/>
          <p:cNvSpPr/>
          <p:nvPr/>
        </p:nvSpPr>
        <p:spPr>
          <a:xfrm>
            <a:off x="5715000" y="2857680"/>
            <a:ext cx="3071880" cy="1428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уд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Горизонтальный свиток 9"/>
          <p:cNvSpPr/>
          <p:nvPr/>
        </p:nvSpPr>
        <p:spPr>
          <a:xfrm>
            <a:off x="3286080" y="4286160"/>
            <a:ext cx="3071880" cy="14288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сполн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1214280" y="114300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щита проект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785880" y="221472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группа: Казахстан – демократическое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группа: Конституции 1993 года и 1995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928800" y="107172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 вы считаете, какой раздел важен для человека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750960" y="292428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здел «Человек и гражданин». Потому что Конституция защищает и гарантирует права и свободы человека – гражданина РК, регламентирует его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428760" y="428760"/>
            <a:ext cx="84294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, народ Казахстана, объединенный общей исторической судьбой, созидая государственность на исконной казахской земле, сознавая себя миролюбивым гражданским обществом, приверженным идеалам свободы, равенства и согласия, желая занять достойное место в мировом сообществе, осознавая свою высокую ответственность перед нынешним и будущими поколениями, исходя из своего суверенного права, принимаем настоящую КОНСТИТУЦ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I. Общие положения (ст. 1-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II. Человек и гражданин (ст. 10-3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III. Президент (ст. 40-48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IV. Парламент (ст. 49-6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V. Правительство (ст. 64-7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VI. Конституционный Совет (ст. 71-7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VII. Суды и правосудие (ст. 75-8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VIII. Местное государственное управление и самоуправление (ст. 85-8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здел IX. Заключительные и переходные положения (ст. 90-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714240" y="785880"/>
            <a:ext cx="77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титуц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новной закон страны, все принимаемые законы должны ориентироваться на Конституцию и не могут ей противореч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д Конституцией стоят три 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и гарантировать права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ядочить государственную власть, используя “непревзойдённое изобретение человечества” принцип разделения вла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дить правосудие – независимую и сильную власть, защищающую права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4"/>
          <p:cNvSpPr/>
          <p:nvPr/>
        </p:nvSpPr>
        <p:spPr>
          <a:xfrm>
            <a:off x="428760" y="357120"/>
            <a:ext cx="542916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СТЬ НАДЕЖДА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- часть потерянного поколения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я отказываюсь верить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могу изменить этот мир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нимаю, возможно, это шокирует вас,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Счастье уже внутри тебя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Это ложь, на самом деле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ньги cделaют меня счастливы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 тридцать лет я расскажу своему ребенку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- не самая важная вещь в моей жизни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й босс будет знать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и принципы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жнее, чем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ья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лушай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давних пор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юди живут семьями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сейчас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ство никогда не будет таким, как прежд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сперты говорят мне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тридцать лет я буду празднова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сятилетие моего развода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5214960" y="500040"/>
            <a:ext cx="371484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не верю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буду жить в стране, которую сам создам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будуще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ничтoжениe природы станет нормой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кто не верит, что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сохраним нашу прекрасную планет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онеч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е поколение уже потерян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упо пoлaгать, ч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ть надеж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0:05:21Z</dcterms:created>
  <dc:creator>МАРАТ</dc:creator>
  <dc:description/>
  <dc:language>en-US</dc:language>
  <cp:lastModifiedBy>user</cp:lastModifiedBy>
  <dcterms:modified xsi:type="dcterms:W3CDTF">2013-03-11T06:04:16Z</dcterms:modified>
  <cp:revision>48</cp:revision>
  <dc:subject/>
  <dc:title>Слайд 1</dc:title>
</cp:coreProperties>
</file>