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929-F6ED-44C0-9BE5-6BC85B31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47E-4536-408A-915B-1D280A50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FFD-7799-4BE1-8390-FDA7E9A6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9E0-A3E5-40AA-827C-CBEEC331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AFA-F19A-4AC7-ADB0-D814ED55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24D-9209-473A-8E0D-6FF2BB97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8FC-13B7-4FA6-88CD-C61EE8D7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990-C467-4F2A-87DB-3A4B5C1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5D5-FC1E-4FD1-B31D-40606660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58B-B6D0-4324-88E9-CB4DE2B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CA6-B9B9-4D5E-9B1C-00D9FBE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6C9-CFEA-457B-A346-057CEB27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0516-5C51-4F12-BA93-6F60C5378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57160" y="4357800"/>
            <a:ext cx="6972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вторение. Конституция - основной Закон стра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C:\Documents and Settings\марат\Мои документы\Мои рисунки\const.jpg"/>
          <p:cNvPicPr/>
          <p:nvPr/>
        </p:nvPicPr>
        <p:blipFill>
          <a:blip r:embed="rId1"/>
          <a:stretch/>
        </p:blipFill>
        <p:spPr>
          <a:xfrm>
            <a:off x="2928960" y="142920"/>
            <a:ext cx="3443400" cy="400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марат\Мои документы\Мои рисунки\1316112491_gh.jpg"/>
          <p:cNvPicPr/>
          <p:nvPr/>
        </p:nvPicPr>
        <p:blipFill>
          <a:blip r:embed="rId2"/>
          <a:stretch/>
        </p:blipFill>
        <p:spPr>
          <a:xfrm>
            <a:off x="7643880" y="5214960"/>
            <a:ext cx="12142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>
            <a:alpha val="2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357200" y="500040"/>
            <a:ext cx="66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«Наши жизненные приоритеты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ое впечатление оно произвело на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акими приоритетами прежде всего должен обладать граждан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А теперь прочитайте стихотворение начиная с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4"/>
          <p:cNvSpPr/>
          <p:nvPr/>
        </p:nvSpPr>
        <p:spPr>
          <a:xfrm>
            <a:off x="428760" y="357120"/>
            <a:ext cx="542916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Ь НАДЕЖДА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- часть потерянного поколения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я отказываюсь вери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могу изменить этот ми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нимаю, возможно, это шокирует вас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частье уже внутри теб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Это ложь, на самом деле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ньги cделaют меня счастливы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 тридцать лет я расскажу своему ребенку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- не самая важная вещь в моей жизн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й босс будет знать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и принципы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жнее, че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ья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лушай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давних по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ди живут семьям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сейчас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ство никогда не будет таким, как прежд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ерты говорят мне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тридцать лет я буду празднов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сятилетие моего развода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214960" y="500040"/>
            <a:ext cx="371484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не верю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буду жить в стране, которую сам созда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будуще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ничтoжениe природы станет нормой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то не верит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сохраним нашу прекрасную планет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онеч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е поколение уже потерян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упо пoлaга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надеж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85880" y="1285920"/>
          <a:ext cx="7500960" cy="3786120"/>
        </p:xfrm>
        <a:graphic>
          <a:graphicData uri="http://schemas.openxmlformats.org/drawingml/2006/table">
            <a:tbl>
              <a:tblPr/>
              <a:tblGrid>
                <a:gridCol w="1152360"/>
                <a:gridCol w="6348600"/>
              </a:tblGrid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уществи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бозначающее тему синкве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онституц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ва прилагательны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раскрывающих какие-либо интересные, характерные признаки явления, предмета, заявленного в теме синквейна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танская, важ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Три глаг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раскрывающие действия, воздействия и т.д., свойственные данному явлению, предмету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язует, защищает, охраня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Фраз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раскрывающая суть явления, предмета, усиливающая предыдущие две строки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он суров, но это зако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уществи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ыступающее как итог, вывод, подводящее черту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4"/>
          <p:cNvSpPr/>
          <p:nvPr/>
        </p:nvSpPr>
        <p:spPr>
          <a:xfrm>
            <a:off x="1143000" y="357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тавление синквей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3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1500120" y="2309760"/>
            <a:ext cx="64850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1500120" y="1285920"/>
            <a:ext cx="664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§ 36,  запишите в тетрадь в виде кратких тезисов основные положения действующей Конституции Казахстан, разделив их по разде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642960" y="714240"/>
            <a:ext cx="7715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Создайте лишь немного закон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о следите за тем, чтобы они соблюдали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Джон Ло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5" descr=""/>
          <p:cNvPicPr/>
          <p:nvPr/>
        </p:nvPicPr>
        <p:blipFill>
          <a:blip r:embed="rId1"/>
          <a:stretch/>
        </p:blipFill>
        <p:spPr>
          <a:xfrm>
            <a:off x="1073160" y="3876840"/>
            <a:ext cx="73882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000080" y="571680"/>
            <a:ext cx="7215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КОНСТИТУЦИЯ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– (от лат.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nstitution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установление, устройст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онституция – Основной Закон государ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пределяющ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ак устроено  государ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ак  образованы органы  вл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аковы права и обязанности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481120" y="3144960"/>
            <a:ext cx="394344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2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3"/>
          <p:cNvSpPr/>
          <p:nvPr/>
        </p:nvSpPr>
        <p:spPr>
          <a:xfrm>
            <a:off x="3286080" y="2286000"/>
            <a:ext cx="2643120" cy="1214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ы Конституционного стр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Стрелка вверх 4"/>
          <p:cNvGrpSpPr/>
          <p:nvPr/>
        </p:nvGrpSpPr>
        <p:grpSpPr>
          <a:xfrm>
            <a:off x="4359240" y="1243080"/>
            <a:ext cx="425520" cy="987480"/>
            <a:chOff x="4359240" y="1243080"/>
            <a:chExt cx="425520" cy="987480"/>
          </a:xfrm>
        </p:grpSpPr>
        <p:pic>
          <p:nvPicPr>
            <p:cNvPr id="48" name="Стрелка вверх 4" descr=""/>
            <p:cNvPicPr/>
            <p:nvPr/>
          </p:nvPicPr>
          <p:blipFill>
            <a:blip r:embed="rId1"/>
            <a:stretch/>
          </p:blipFill>
          <p:spPr>
            <a:xfrm>
              <a:off x="4359240" y="1243080"/>
              <a:ext cx="42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00720" y="1357200"/>
              <a:ext cx="1425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Стрелка вверх 5"/>
          <p:cNvGrpSpPr/>
          <p:nvPr/>
        </p:nvGrpSpPr>
        <p:grpSpPr>
          <a:xfrm>
            <a:off x="5614920" y="1682640"/>
            <a:ext cx="828720" cy="920880"/>
            <a:chOff x="5614920" y="1682640"/>
            <a:chExt cx="828720" cy="920880"/>
          </a:xfrm>
        </p:grpSpPr>
        <p:pic>
          <p:nvPicPr>
            <p:cNvPr id="51" name="Стрелка вверх 5" descr=""/>
            <p:cNvPicPr/>
            <p:nvPr/>
          </p:nvPicPr>
          <p:blipFill>
            <a:blip r:embed="rId2"/>
            <a:stretch/>
          </p:blipFill>
          <p:spPr>
            <a:xfrm>
              <a:off x="5614920" y="1682640"/>
              <a:ext cx="828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62800">
              <a:off x="5932080" y="177156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Стрелка вверх 6"/>
          <p:cNvGrpSpPr/>
          <p:nvPr/>
        </p:nvGrpSpPr>
        <p:grpSpPr>
          <a:xfrm>
            <a:off x="2822400" y="1682640"/>
            <a:ext cx="774720" cy="951120"/>
            <a:chOff x="2822400" y="1682640"/>
            <a:chExt cx="774720" cy="951120"/>
          </a:xfrm>
        </p:grpSpPr>
        <p:pic>
          <p:nvPicPr>
            <p:cNvPr id="54" name="Стрелка вверх 6" descr=""/>
            <p:cNvPicPr/>
            <p:nvPr/>
          </p:nvPicPr>
          <p:blipFill>
            <a:blip r:embed="rId3"/>
            <a:stretch/>
          </p:blipFill>
          <p:spPr>
            <a:xfrm>
              <a:off x="2822400" y="1682640"/>
              <a:ext cx="77472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9601400">
              <a:off x="3160440" y="178704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Стрелка вверх 7"/>
          <p:cNvGrpSpPr/>
          <p:nvPr/>
        </p:nvGrpSpPr>
        <p:grpSpPr>
          <a:xfrm>
            <a:off x="4498920" y="3608280"/>
            <a:ext cx="433440" cy="976320"/>
            <a:chOff x="4498920" y="3608280"/>
            <a:chExt cx="433440" cy="976320"/>
          </a:xfrm>
        </p:grpSpPr>
        <p:pic>
          <p:nvPicPr>
            <p:cNvPr id="57" name="Стрелка вверх 7" descr=""/>
            <p:cNvPicPr/>
            <p:nvPr/>
          </p:nvPicPr>
          <p:blipFill>
            <a:blip r:embed="rId4"/>
            <a:stretch/>
          </p:blipFill>
          <p:spPr>
            <a:xfrm>
              <a:off x="4498920" y="3608280"/>
              <a:ext cx="4334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10800000">
              <a:off x="4642920" y="364284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Стрелка вверх 8"/>
          <p:cNvGrpSpPr/>
          <p:nvPr/>
        </p:nvGrpSpPr>
        <p:grpSpPr>
          <a:xfrm>
            <a:off x="2822400" y="3255840"/>
            <a:ext cx="895680" cy="846360"/>
            <a:chOff x="2822400" y="3255840"/>
            <a:chExt cx="895680" cy="846360"/>
          </a:xfrm>
        </p:grpSpPr>
        <p:pic>
          <p:nvPicPr>
            <p:cNvPr id="60" name="Стрелка вверх 8" descr=""/>
            <p:cNvPicPr/>
            <p:nvPr/>
          </p:nvPicPr>
          <p:blipFill>
            <a:blip r:embed="rId5"/>
            <a:stretch/>
          </p:blipFill>
          <p:spPr>
            <a:xfrm>
              <a:off x="2822400" y="3255840"/>
              <a:ext cx="89568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3697400">
              <a:off x="3226320" y="326124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Стрелка вверх 9"/>
          <p:cNvGrpSpPr/>
          <p:nvPr/>
        </p:nvGrpSpPr>
        <p:grpSpPr>
          <a:xfrm>
            <a:off x="5761080" y="3181320"/>
            <a:ext cx="931680" cy="762120"/>
            <a:chOff x="5761080" y="3181320"/>
            <a:chExt cx="931680" cy="762120"/>
          </a:xfrm>
        </p:grpSpPr>
        <p:pic>
          <p:nvPicPr>
            <p:cNvPr id="63" name="Стрелка вверх 9" descr=""/>
            <p:cNvPicPr/>
            <p:nvPr/>
          </p:nvPicPr>
          <p:blipFill>
            <a:blip r:embed="rId6"/>
            <a:stretch/>
          </p:blipFill>
          <p:spPr>
            <a:xfrm>
              <a:off x="5761080" y="3181320"/>
              <a:ext cx="931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7319400">
              <a:off x="6123600" y="3151800"/>
              <a:ext cx="142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Облако 10"/>
          <p:cNvSpPr/>
          <p:nvPr/>
        </p:nvSpPr>
        <p:spPr>
          <a:xfrm>
            <a:off x="571680" y="642960"/>
            <a:ext cx="242856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овое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блако 11"/>
          <p:cNvSpPr/>
          <p:nvPr/>
        </p:nvSpPr>
        <p:spPr>
          <a:xfrm>
            <a:off x="3286080" y="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нитарн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блако 12"/>
          <p:cNvSpPr/>
          <p:nvPr/>
        </p:nvSpPr>
        <p:spPr>
          <a:xfrm>
            <a:off x="6000840" y="64296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спубликанская форма 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13"/>
          <p:cNvSpPr/>
          <p:nvPr/>
        </p:nvSpPr>
        <p:spPr>
          <a:xfrm>
            <a:off x="928800" y="400068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мократическое государ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лако 14"/>
          <p:cNvSpPr/>
          <p:nvPr/>
        </p:nvSpPr>
        <p:spPr>
          <a:xfrm>
            <a:off x="3714840" y="457200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еловек и его права – высшая ц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15"/>
          <p:cNvSpPr/>
          <p:nvPr/>
        </p:nvSpPr>
        <p:spPr>
          <a:xfrm>
            <a:off x="6215040" y="3786120"/>
            <a:ext cx="2428920" cy="12146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ское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Скругленный прямоугольник 3"/>
          <p:cNvSpPr/>
          <p:nvPr/>
        </p:nvSpPr>
        <p:spPr>
          <a:xfrm>
            <a:off x="2357280" y="428760"/>
            <a:ext cx="47149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ударственная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Стрелка влево 4"/>
          <p:cNvGrpSpPr/>
          <p:nvPr/>
        </p:nvGrpSpPr>
        <p:grpSpPr>
          <a:xfrm>
            <a:off x="1768320" y="1561680"/>
            <a:ext cx="1328760" cy="1449360"/>
            <a:chOff x="1768320" y="1561680"/>
            <a:chExt cx="1328760" cy="1449360"/>
          </a:xfrm>
        </p:grpSpPr>
        <p:pic>
          <p:nvPicPr>
            <p:cNvPr id="73" name="Стрелка влево 4" descr=""/>
            <p:cNvPicPr/>
            <p:nvPr/>
          </p:nvPicPr>
          <p:blipFill>
            <a:blip r:embed="rId1"/>
            <a:stretch/>
          </p:blipFill>
          <p:spPr>
            <a:xfrm>
              <a:off x="1768320" y="1561680"/>
              <a:ext cx="132876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18607800">
              <a:off x="1775520" y="2138760"/>
              <a:ext cx="1384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Стрелка влево 5"/>
          <p:cNvSpPr/>
          <p:nvPr/>
        </p:nvSpPr>
        <p:spPr>
          <a:xfrm rot="16200000">
            <a:off x="3571920" y="2714400"/>
            <a:ext cx="2428560" cy="428760"/>
          </a:xfrm>
          <a:prstGeom prst="lef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лево 6"/>
          <p:cNvSpPr/>
          <p:nvPr/>
        </p:nvSpPr>
        <p:spPr>
          <a:xfrm rot="14410200">
            <a:off x="6023520" y="2114640"/>
            <a:ext cx="1500120" cy="4287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788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Горизонтальный свиток 7"/>
          <p:cNvSpPr/>
          <p:nvPr/>
        </p:nvSpPr>
        <p:spPr>
          <a:xfrm>
            <a:off x="285840" y="2714760"/>
            <a:ext cx="3071880" cy="1428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конод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Горизонтальный свиток 8"/>
          <p:cNvSpPr/>
          <p:nvPr/>
        </p:nvSpPr>
        <p:spPr>
          <a:xfrm>
            <a:off x="5715000" y="2857680"/>
            <a:ext cx="3071880" cy="1428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Горизонтальный свиток 9"/>
          <p:cNvSpPr/>
          <p:nvPr/>
        </p:nvSpPr>
        <p:spPr>
          <a:xfrm>
            <a:off x="3286080" y="4286160"/>
            <a:ext cx="3071880" cy="1428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с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214280" y="11430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щита проект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785880" y="221472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группа: Казахстан – демократическ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группа: Конституции 1993 года и 19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928800" y="107172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 вы считаете, какой раздел важен для человека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750960" y="29242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здел «Человек и гражданин». Потому что Конституция защищает и гарантирует права и свободы человека – гражданина РК, регламентирует его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28760" y="428760"/>
            <a:ext cx="84294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, народ Казахстана, объединенный общей исторической судьбой, созидая государственность на исконной казахской земле, сознавая себя миролюбивым гражданским обществом, приверженным идеалам свободы, равенства и согласия, желая занять достойное место в мировом сообществе, осознавая свою высокую ответственность перед нынешним и будущими поколениями, исходя из своего суверенного права, принимаем настоящую КОНСТИТУЦ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. Общие положения (ст. 1-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I. Человек и гражданин (ст. 10-3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II. Президент (ст. 40-48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V. Парламент (ст. 49-6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. Правительство (ст. 64-7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I. Конституционный Совет (ст. 71-7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II. Суды и правосудие (ст. 75-8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III. Местное государственное управление и самоуправление (ст. 85-8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X. Заключительные и переходные положения (ст. 90-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14240" y="78588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иту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новной закон страны, все принимаемые законы должны ориентироваться на Конституцию и не могут ей противореч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д Конституцией стоят три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и гарантировать права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ядочить государственную власть, используя “непревзойдённое изобретение человечества” принцип разделения вла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ть правосудие – независимую и сильную власть, защищающую права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4"/>
          <p:cNvSpPr/>
          <p:nvPr/>
        </p:nvSpPr>
        <p:spPr>
          <a:xfrm>
            <a:off x="428760" y="357120"/>
            <a:ext cx="542916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Ь НАДЕЖДА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- часть потерянного поколения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я отказываюсь вери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могу изменить этот ми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нимаю, возможно, это шокирует вас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частье уже внутри теб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Это ложь, на самом деле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ньги cделaют меня счастливы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 тридцать лет я расскажу своему ребенку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- не самая важная вещь в моей жизн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й босс будет знать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и принципы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жнее, че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ья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лушай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давних по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ди живут семьям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сейчас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ство никогда не будет таким, как прежд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ерты говорят мне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тридцать лет я буду празднов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сятилетие моего развода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214960" y="500040"/>
            <a:ext cx="371484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не верю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буду жить в стране, которую сам созда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будуще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ничтoжениe природы станет нормой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то не верит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сохраним нашу прекрасную планет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онеч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е поколение уже потерян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упо пoлaга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надеж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0:05:21Z</dcterms:created>
  <dc:creator>МАРАТ</dc:creator>
  <dc:description/>
  <dc:language>en-US</dc:language>
  <cp:lastModifiedBy>user</cp:lastModifiedBy>
  <dcterms:modified xsi:type="dcterms:W3CDTF">2013-03-11T06:04:16Z</dcterms:modified>
  <cp:revision>48</cp:revision>
  <dc:subject/>
  <dc:title>Слайд 1</dc:title>
</cp:coreProperties>
</file>