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545-C0A3-4D21-897A-BEDCDE58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CB2-E153-4EFF-A07C-943AEF11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C24-210E-4AA3-A294-DB3D4A91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C82-5E20-4812-B64E-C1B5A275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1D5-D9BE-4516-926D-A926729B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0AA-C401-4C34-8D63-FFDA2BB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928-0DBC-4282-83F4-D7FBD08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2CD5-18C2-480E-AC8F-33B3E509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6BC8-23D6-46C3-BAD9-5BB83A44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BC7E-AB1D-4CC4-954C-4860987D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7E90-5821-469D-AAA3-EC7E4F4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FB3-49E9-4E55-81E5-CF27780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8EB4-4ADC-44E5-8863-F1B1940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E5C2-4640-4E61-BECA-D3D38D0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90A-4495-45F4-944A-821D6FE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083D-99A1-44A7-BB57-28D24E40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29F1-D6A8-4A5E-87B1-6737A029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143-49D3-43FC-9917-46917CB0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CC7-3C69-45F1-9A1C-94037DF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526-FA06-49C0-9E0E-08B16DB9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385-576B-40DE-9796-E81CED1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189-3401-4930-831D-4144DD2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020-23F9-450D-AFF1-68A29D1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F6B-55EC-4819-904A-B9E2C59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C4BC-71F3-434B-9F2C-64F1E5C40C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D47C-76E4-4E85-9C0E-66CABEA5B3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1;&#1079;&#1077;&#1081;_&#1096;&#1086;&#1082;&#1086;&#1083;&#1072;&#1076;&#1072;_(&#1050;&#1105;&#1083;&#1100;&#1085;)" TargetMode="External"/><Relationship Id="rId2" Type="http://schemas.openxmlformats.org/officeDocument/2006/relationships/hyperlink" Target="http://ru.wikipedia.org/wiki/&#1052;&#1091;&#1079;&#1077;&#1081;_&#1096;&#1086;&#1082;&#1086;&#1083;&#1072;&#1076;&#1072;_(&#1055;&#1086;&#1082;&#1088;&#1086;&#1074;)" TargetMode="External"/><Relationship Id="rId3" Type="http://schemas.openxmlformats.org/officeDocument/2006/relationships/hyperlink" Target="http://ru.wikipedia.org/wiki/&#1052;&#1091;&#1079;&#1077;&#1081;_&#1096;&#1086;&#1082;&#1086;&#1083;&#1072;&#1076;&#1072;_(&#1041;&#1088;&#1102;&#1075;&#1075;&#1077;)" TargetMode="External"/><Relationship Id="rId4" Type="http://schemas.openxmlformats.org/officeDocument/2006/relationships/hyperlink" Target="http://ru.wikipedia.org/wiki/&#1055;&#1086;&#1082;&#1088;&#1086;&#1074;_(&#1042;&#1083;&#1072;&#1076;&#1080;&#1084;&#1080;&#1088;&#1089;&#1082;&#1072;&#1103;_&#1086;&#1073;&#1083;&#1072;&#1089;&#1090;&#1100;)" TargetMode="External"/><Relationship Id="rId5" Type="http://schemas.openxmlformats.org/officeDocument/2006/relationships/hyperlink" Target="http://ru.wikipedia.org/wiki/&#1042;&#1083;&#1072;&#1076;&#1080;&#1084;&#1080;&#1088;&#1089;&#1082;&#1072;&#1103;_&#1086;&#1073;&#1083;&#1072;&#1089;&#1090;&#1100;" TargetMode="External"/><Relationship Id="rId6" Type="http://schemas.openxmlformats.org/officeDocument/2006/relationships/hyperlink" Target="http://ru.wikipedia.org/wiki/&#1055;&#1072;&#1084;&#1103;&#1090;&#1085;&#1080;&#1082;_&#1096;&#1086;&#1082;&#1086;&#1083;&#1072;&#1076;&#1091;" TargetMode="External"/><Relationship Id="rId7" Type="http://schemas.openxmlformats.org/officeDocument/2006/relationships/hyperlink" Target="http://ru.wikipedia.org/wiki/&#1050;&#1085;&#1080;&#1075;&#1072;_&#1088;&#1077;&#1082;&#1086;&#1088;&#1076;&#1086;&#1074;_&#1043;&#1080;&#1085;&#1085;&#1077;&#1089;&#1089;&#1072;" TargetMode="External"/><Relationship Id="rId8" Type="http://schemas.openxmlformats.org/officeDocument/2006/relationships/hyperlink" Target="http://ru.wikipedia.org/wiki/&#1050;&#1085;&#1080;&#1075;&#1072;_&#1088;&#1077;&#1082;&#1086;&#1088;&#1076;&#1086;&#1074;_&#1043;&#1080;&#1085;&#1085;&#1077;&#1089;&#1089;&#1072;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76;&#1080;&#1090;&#1077;&#1088;&#1089;&#1082;&#1080;&#1077;_&#1080;&#1079;&#1076;&#1077;&#1083;&#1080;&#1103;" TargetMode="External"/><Relationship Id="rId2" Type="http://schemas.openxmlformats.org/officeDocument/2006/relationships/hyperlink" Target="http://ru.wikipedia.org/wiki/&#1050;&#1072;&#1082;&#1072;&#1086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99;&#1081;_&#1087;&#1077;&#1088;&#1077;&#1094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3;&#1086;&#1082;&#1086;" TargetMode="External"/><Relationship Id="rId2" Type="http://schemas.openxmlformats.org/officeDocument/2006/relationships/hyperlink" Target="http://ru.wikipedia.org/wiki/&#1057;&#1083;&#1080;&#1074;&#1082;&#1080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wezdo4et.ru/?p=107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64;&#1040;" TargetMode="External"/><Relationship Id="rId2" Type="http://schemas.openxmlformats.org/officeDocument/2006/relationships/hyperlink" Target="http://ru.wikipedia.org/wiki/&#1064;&#1086;&#1082;&#1086;&#1083;&#1072;&#1076;&#1085;&#1086;&#1077;_&#1103;&#1081;&#1094;&#1086;" TargetMode="External"/><Relationship Id="rId3" Type="http://schemas.openxmlformats.org/officeDocument/2006/relationships/hyperlink" Target="http://ru.wikipedia.org/wiki/Kit_Kat" TargetMode="External"/><Relationship Id="rId4" Type="http://schemas.openxmlformats.org/officeDocument/2006/relationships/hyperlink" Target="http://ru.wikipedia.org/wiki/Kit_Kat" TargetMode="External"/><Relationship Id="rId5" Type="http://schemas.openxmlformats.org/officeDocument/2006/relationships/hyperlink" Target="http://ru.wikipedia.org/wiki/Kit_Kat" TargetMode="External"/><Relationship Id="rId6" Type="http://schemas.openxmlformats.org/officeDocument/2006/relationships/hyperlink" Target="http://ru.wikipedia.org/wiki/&#1048;&#1090;&#1072;&#1083;&#1080;&#1103;" TargetMode="External"/><Relationship Id="rId7" Type="http://schemas.openxmlformats.org/officeDocument/2006/relationships/hyperlink" Target="http://ru.wikipedia.org/wiki/&#1040;&#1083;&#1077;&#1082;&#1089;&#1072;&#1085;&#1076;&#1088;_II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62320" y="838080"/>
            <a:ext cx="443844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все о шоколад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28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6. Шоколад в КУЛЬТУ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мире существует несколько шоколадных музеев — например, в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ёльн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окров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рюгг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                         В город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окров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ладимирской обла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уществует единственный в мире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памятник шоколаду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Монумент словно создан из плитки шоколада и представляет собой образ сказочной Феи с шоколадкой в руке. С шоколадом связано несколько рекордов: британский производитель шоколада Thorntons побил мировой рекорд 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Книги рекордов </a:t>
            </a:r>
            <a:r>
              <a:rPr b="0" lang="ru-RU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Гиннесс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приготовив самую большую плитку шоколада, весом почти 6 тонн (5 792,5 кг), четыре метра в ширину и четыре метра в дли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 сентября в мире празднуется Всемирный день шоколада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околад также часто используется в качестве подарка на различные праздники, а шоколадные яйца используются во время Пасх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околад фигурирует во многих произведениях. В 1964 году была опубликована книга «Чарли и шоколадная фабрика» о бедном мальчике Чарли Беккете, выигравшем экскурсию на шоколадную фабрику гениального производителя Вилли Вон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46483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Общие сведения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Шоколад— </a:t>
            </a:r>
            <a:r>
              <a:rPr b="0" lang="en-US" sz="9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дитерские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ahoma"/>
              </a:rPr>
              <a:t> продукты, изготавливаемые с использованием плодов </a:t>
            </a:r>
            <a:r>
              <a:rPr b="0" lang="en-US" sz="9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какао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Качество и вкус шоколада зависит прежде всего от сорта какао-бобов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Дерево какао, вечнозеленое древесное растение.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Твердые плоды этого дерева похожи на небольшие дыньки. Каждый плод содержит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от 20 до 40 семян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, уложенных в ряды. Их называют какао-бобами, хотя к настоящим бобам и бобовым они не имеют никакого отношения. Страны-производители какао – Центральная и Южная Америка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ревращение какао-бобов в шоколад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 сложный процесс, в котором решающую роль играют ингредиенты, время и температура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 тертое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ервичная обработка какао-бобов включает очистку, сортировку, термическую обработку — удаление остаточной влаги. После дробления какао-бобов получается новый продукт — какао-крупка, в результате размола которой получается какао тертое. При температуре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свыше +40°С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 какао тертое представляет собой сметанообразную жидкость, в которой жидкой фазой является какао-масло, а твердой — частички клеточных стенок какао-бобов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Дальнейшая переработка какао тертого приводит к появлению двух разных компонентов: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какао-масла и какао-порошка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-масло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Продукт золотистого цвета и приятного вкуса. Его получают на стадии технологической обработки какао-бобов. Именно какао-масло человек чувствует, когда 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шоколад тает у него во рту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900"/>
            </a:br>
            <a:r>
              <a:rPr b="0" i="1" lang="en-US" sz="900" spc="-1" strike="noStrike">
                <a:solidFill>
                  <a:srgbClr val="ffffff"/>
                </a:solidFill>
                <a:latin typeface="Tahoma"/>
              </a:rPr>
              <a:t>Какао-порошок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Вырабатывается путем измельчения какао-жмыха, означает всего лишь продукт, который получается, если из какао тертого выжать часть какао-масла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1827360"/>
            <a:ext cx="3848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рия шокол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одиной шоколада, как и дерева какао, является Центральная и Южная Америка. На протяжении многих столетий шоколад употреблялся в виде напитка — индейцы смешивали молотые и обжаренные какао-бобы с водой, а затем в эту смесь добавлялся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расный перец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ередине XVI века ученый-монах Бенцони представил королю Испании доклад о полезных свойствах жидкого шоколада. Доклад тут же засекретили, а шоколад объявили государственной тайной. За её нарушение были казнены десятки человек. Долго шоколад был доступен только очень богатым: производство было сложным, а ингредиенты — очень дорогими. И лишь в конце 19 века кондитеры смогли добиться изготовления практически современного шоколада. А случившееся в самом начале 20 века резкое удешевление какао и сахара сделало шоколад доступным вс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2054160"/>
            <a:ext cx="33958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ды шокола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ёрный (горький) шокола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делают из какао тёртого, сахарной пудры и масла какао. Изменяя соотношение между сахарной пудрой и какао тёртым, можно изменять вкусовые особенности получаемого шоколада — от горького до сладкого. Чем больше в шоколаде какао тёртого, тем более горьким вкусом и более ярким ароматом обладает шокол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2281320"/>
            <a:ext cx="24382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ый шокола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готовят из масла какао, сахара, плёночного сухого молока и ванилина без добавления какао-порошка, поэтому он имеет кремовый цвет (белый). Неповторимый вкус белый шоколад приобретает благодаря особому сухому молоку, имеющему карамельный привку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38400" y="2509920"/>
            <a:ext cx="24764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лочный шокола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с добавлениями изготавливают из какао тёртого, масла какао, сахарной пудры и сухого молока, чаще всего используют плёночное сухое 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молоко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жирностью 25 % или сухие 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ливк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. Аромат молочному шоколаду придаёт какао, вкус складывается из сахарной пудры и сухого мол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9320" y="235728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4. Полезен ли шоколад для детей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пециалисты по детскому питанию считают, что у шоколада, как у медали, есть две стороны. Шоколад содержит много углеводов, то есть является неплохим источником энергии. Так как дети очень подвижны, большую часть дня проводят в движении, им необходимо восстанавливать силы и пополнять запасы энергии. 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Согласно последним медицинским исследованиям, шоколад содержит антиоксиданты – вещества, оказывающие положительное влияние на иммунитет и обмен веществ, препятствуют развитию атеросклероза, различных злокачественных образований, инфекций. То есть медики нашли еще один аргумент в пользу шоколада, как самого популярного лакомства. Кроме того, давно известно, что шоколад способствует выработке в организме человека эндорфина – гормона счастья. Поэтому сладости можно включить в детский рацион, но, разумеется, в небольших количествах.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едики утверждают, что </a:t>
            </a:r>
            <a:r>
              <a:rPr b="0" lang="ru-RU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здоровое питание ребенк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допускает присутствие  в рационе сладостей, но не более 30-40 г. Это может быть шоколад, зефир или сладкое печенье. Если в какой-то день норма была превышена, значит, на следующий день сладкое лучше не предлагать. Как же распределить «сладкое удовольствие» в детском меню? На завтрак сладкое лучше не давать , достаточно подсластить чай, или какао.  На обед можно сделать десерт, но необязательно. Лучшее время для сладостей это полдник – пусть малыш съест конфету или печенье. На ужин сладкое давать не стоит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276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ит задуматься, полезен ли детям шоколад, если он поедается в больших количествах. И не только шоколад, но и любая другая сладость, ведь они содержат низкомолекулярные углеводы, сахара, включающие в себя глюкозу и сахарозу. Когда конфета попадает в рот, сахароза преобразуется в молочную кислоту, в результате чего кислотность во рту повышается. А это приводит к образованию кариеса. Поэтому конфеты лучше есть после еды, когда на зубах остается налет, который частично защищает их от возникновения кариес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оме того, легкоусвояемые углеводы, содержащиеся в кондитерских изделиях, способны накапливаться в организме в виде жиров. Отсюда возникает лишний вес. Излишнее злоупотребление сладостями вызывает и дополнительную нагрузку на печень, может спровоцировать появление аллергических реакций, например, диатез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околад содержит калий, полезный для организма, а в последнее время производители стали разрабатывать шоколад с добавлением витаминов, кальция, железа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5. Интересные факт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200—1000 годах до нашей эры индейцы Центральной Америки пили «шоколадное пиво», которое изготавливали из перебродивших плодов кака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СШ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ельзя купить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шоколадное яйц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Там действует закон, который запрещает вкладывать несъедобные предметы в продукты пит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понские учащиеся едят перед экзаменами шоколадки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Kit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Ka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так как название созвучно со словами «китто кацу» («непременно победить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рко Фанти (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Итал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и его команда за 23 ч. сложила из 330 шоколадных кирпичей шоколадное иглу весом 3 т. в Перудже (Италия) 17 октября 2006 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оссийской империи выпускался шоколад длиной 1 метр. Его история началась в 1877 году во время русско-турецкой войны. Первым городом, захваченным русской армией, был болгарский Свищов. Российский император 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Александр I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главнокомандующий, великий князь Николай Николаевич, разместили свою штаб-квартиру недалеко от города и оттуда руководили боевыми действиями. Жизнь в императорском штабе сопровождалась традиционными застольями, где в меню должны были присутствовать шампанское и шоколад. Из-за сложности доставки его начали изготавливать в большой форме длиной 1 мет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6:21:44Z</dcterms:created>
  <dc:creator>Виталик</dc:creator>
  <dc:description/>
  <dc:language>en-US</dc:language>
  <cp:lastModifiedBy>Виталик</cp:lastModifiedBy>
  <dcterms:modified xsi:type="dcterms:W3CDTF">2012-12-10T17:09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