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dt" idx="25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B75EF-16B2-4F7F-91C0-F59A5C9D44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C099F-1AB9-4202-95A9-5DFE688B8B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56CCD-4DE5-4500-A990-E38BC112E1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69334-84ED-4E5E-B0BF-C05DFCD80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77E4A-D2DF-4182-9445-AAC6C391FA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EC9D0-31C0-4D7C-8584-F714F71F4C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D631C-90CB-4757-89DF-B6EF11F4C9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7DA59-3100-4856-B832-E514136B1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5732F-97E7-42A3-9DBE-C3CFA038FB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BD1D6-3ABB-47C5-8915-6BB343A487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0A43D-35F8-4D05-9D3B-9F06678C66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8D1AD-06FA-48C3-BC3C-37999F90E8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1A786-292F-4F8B-A30C-A7C987751E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18398-7315-4B2E-ABEA-B29CACAE3D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C2B89-26DA-4086-9D54-4ED597456E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7EA-8FC1-4749-87B4-433FB726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391-B7FE-45BE-8A98-7D08A53E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17E-CE20-4B88-8568-6B7092F1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527-5840-49D1-8D9E-6C6C983D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4D1-4A4F-42DC-935C-7D05A9DD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12B7-C379-4D8C-B82A-A53237D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9A99-22C5-4412-8629-6EBB7095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2978-9136-4D65-A10B-26487C4A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F651-BB2F-4D6E-A715-EC254986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0E4F-9C41-4EBE-AB87-2E68E6D0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1584-0B84-4CEA-85F2-6208D81A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53A-028D-4E23-A9B1-5C3BD5F3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2129-B237-47C8-BAF6-A6F8380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843E-0039-4DC0-AA79-8ACBCF9E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FB05-9E02-4ADC-81C2-694668BA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DDF-7976-41C6-94BF-E9B8F1C2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6000-C0D0-459A-A27F-6D362BF2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CB67-36DF-4E42-95E6-C8201654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99BE-6869-4E29-A75A-CFDC98B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B2C0-0ECB-4053-ACE4-44E6E29A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079D-E469-47F6-9370-0FE66C73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D203-64DF-4FB0-A048-9B665047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01A-A6C2-48D7-A0FA-AB2A8F1D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CA20-3D96-4789-B6EC-856CB66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A5508-AB75-4962-94A6-9BC274B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FA23-A0FF-41F1-85FC-9A8ABE65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EDEE-E0A7-4281-965E-B4982207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CDEA-72FE-46FB-B5DF-8B78BA44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4A90-6CA7-4695-B428-6EF216DB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9D0C2-5740-4067-9665-2619BA9F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461A-8FBE-4094-A3B5-E8015621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0E40-EA3E-476A-9FBF-49C12D3C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035B5-F648-47CF-922A-341DF28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2D8-784C-4392-980C-33B83DBF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BD2D-E46A-4B99-A273-3E80534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53B0-C4D7-4FD0-B275-32DE2BF7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20AB-95BF-4262-B1CE-FEE26A4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3245-294E-4449-BA2C-A48E66D9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F7D6-29AF-4E34-A365-5B9DD068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24FE-5DBB-410C-B0A8-9AE50065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C5827-DCFA-434E-923C-B32328C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4500-283F-4902-9A78-CF9222BC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171F-6488-4077-B590-D98B0A03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1B940-5344-47D3-AE95-6CD41678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3CF-8CF1-4999-B936-83BCF53A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0360-C137-4FE1-B09C-4F3FFA6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5C108-0DB4-4C31-BA3C-E7070080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0120-EBF8-4122-A973-9F2F4B09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4247A-06EA-4286-9DD6-B63C495B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909B-0260-4E3B-921E-7A0452C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1F5F-F16D-4141-8BCB-475DF0E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4950-CDE2-4140-BF96-B4D6481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A28F-6CFA-46E4-A8D0-5CEA28F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2262A-CFEE-488F-AED3-3A030024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8766-035D-462C-BD2B-B66AEC9A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75A-44E9-449C-A940-41ED3037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52F2-D1CC-440E-B0F3-F88D8DF7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EF21E-DE49-4EB5-9262-D2A24137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AAE9-3D26-46E0-A6A8-9860D48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6E45E-9B61-4EDC-95B5-09EDE319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144D9-320E-4477-B464-9C46281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C91B2-FA2B-45E4-BC38-7DA3848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BCCE-1601-4CCE-823F-C05C27F5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D989B-316D-45E9-AA04-C2D98507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2F39B-5AEE-4243-AA77-2D795F8A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D5D77-7893-4FE7-BA17-D662FFF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CCA-F7DF-42B4-89D8-C9F4C4B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87E4-B36F-40DE-83D5-4C16FEF7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731E-ED44-4F91-B099-9AA19646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1AFE-4FE8-4CF2-9806-5D5E1167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2CFFB-88F7-4E46-A5D3-4B086022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5A3ED-DA22-48A9-83B3-DBFD679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25C60-53C9-43B3-A8A5-B64725AA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343E-C98F-4405-AFA1-4FB5670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04148-B364-4962-985C-534AC9D1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4F572-88B2-4504-911B-605CAD84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0F68C-C057-46C7-8A45-50CD130F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DBA-B215-432B-B8F6-05AD67B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9C4C9-6836-4D27-967E-FC871E0F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84D4A-B9DF-45F2-BB24-1A7B630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2273-8041-40FA-943B-A77A9075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5E55-9984-45E8-8481-7804D491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C0D15-B3AC-4C96-8136-332AEE94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DC33C-0EC0-43B6-BCA3-FC558A34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A9F5-5C29-412D-92A8-D609B061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95AB-CDB0-4AC5-958E-39F9EE51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9B8B4-62D3-46A6-BCE5-3A968F77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6123A-3EB8-4E7D-998C-7070A86C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8DC-A191-49CE-A346-67A51AB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2DAA6-FCE3-4FAD-B0F8-46325A02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8FB9C-68BA-491A-B011-467C5F87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E6D85-3AF4-4213-8E5E-E5EB5BC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C654B-A075-4B45-BB23-F5F143A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3F803-D19A-4A08-98B4-66BE1975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91112-B37B-4B3B-91C9-017A5789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D88AC-3F58-429B-9538-08E0B25B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5BB2E-C1D1-4C81-98B4-D14B13A42C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CA6B6-E744-4247-9F7C-7C24B5EA62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1EE6D-07D7-459C-85C8-CB91DF39FF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0FA51-83E9-49CF-8848-49BC363173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E9AD14-30DE-4413-987F-D61608572E1A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A6C60C-CA15-4FC2-9BB8-C3ED17FAB28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81B127-5235-475D-B007-1F5AE305E20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04DF45-016F-46D4-8B5B-DAB464ED60F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keck.hawaii.edu/optics/lgsao/lgsbasics.html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4%E8%F0%E0%EA,_%CF%EE%EB%FC_%C0%E4%F0%E8%E5%ED_%CC%EE%F0%E8%F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79;&#1077;&#1088;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za-nauku.mipt.ru/hardcopies/2004/1664/firstlaser.html" TargetMode="Externa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%CC%E0%E9%EC%E0%ED,_%D2%E5%EE%E4%EE%F0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ru.wikipedia.org/wiki/%C1%E0%F1%EE%E2,_%CD%E8%EA%EE%EB%E0%E9_%C3%E5%ED%ED%E0%E4%E8%E5%E2%E8%F7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u.wikipedia.org/wiki/%D2%E0%F3%ED%F1,_%D7%E0%F0%EB%E7_%D5%E0%F0%E4" TargetMode="External"/><Relationship Id="rId8" Type="http://schemas.openxmlformats.org/officeDocument/2006/relationships/hyperlink" Target="http://ru.wikipedia.org/wiki/%CF%F0%EE%F5%EE%F0%EE%E2,_%C0%EB%E5%EA%F1%E0%ED%E4%F0_%CC%E8%F5%E0%E9%EB%EE%E2%E8%F7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hyperlink" Target="http://ru.wikipedia.org/wiki/%D1%EF%EE%ED%F2%E0%ED%ED%EE%E5_%E8%E7%EB%F3%F7%E5%ED%E8%E5" TargetMode="External"/><Relationship Id="rId5" Type="http://schemas.openxmlformats.org/officeDocument/2006/relationships/hyperlink" Target="http://ru.wikipedia.org/wiki/%C2%FB%ED%F3%E6%E4%E5%ED%ED%EE%E5_%E8%E7%EB%F3%F7%E5%ED%E8%E5" TargetMode="External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ipdip.ru/video/id000280971/" TargetMode="External"/><Relationship Id="rId2" Type="http://schemas.openxmlformats.org/officeDocument/2006/relationships/hyperlink" Target="http://silris.blogspot.ru/2013/02/blog-post.html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u.wikipedia.org/wiki/&#1042;&#1080;&#1076;&#1099;_&#1083;&#1072;&#1079;&#1077;&#1088;&#1086;&#1074;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232000" y="360000"/>
            <a:ext cx="7848720" cy="6659640"/>
          </a:xfrm>
          <a:prstGeom prst="rect">
            <a:avLst/>
          </a:prstGeom>
          <a:noFill/>
          <a:ln w="0">
            <a:noFill/>
          </a:ln>
        </p:spPr>
        <p:txBody>
          <a:bodyPr tIns="38880" anchor="t">
            <a:noAutofit/>
          </a:bodyPr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1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1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Ravie"/>
              </a:rPr>
              <a:t>ЛАЗЕР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ченица 10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БОУ Хову-Аксынская ОСОШ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ады 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16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2160720" y="7020000"/>
            <a:ext cx="5940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ву-Аксы 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60000" y="539280"/>
            <a:ext cx="9396360" cy="648036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Создание искусственных звез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   искусственная опорная зв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Вооруж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Лазерное навед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лазерная рак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 Лазерный дально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6300720" y="1079640"/>
            <a:ext cx="3238560" cy="3419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469800" y="3600360"/>
            <a:ext cx="3490920" cy="3780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4530600" y="5040360"/>
            <a:ext cx="48294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03280" y="720720"/>
            <a:ext cx="9036000" cy="630072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Гравир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Фотолитогра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4859280" y="1619280"/>
            <a:ext cx="4210200" cy="3060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3780000" y="4859280"/>
            <a:ext cx="40557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02920" y="720720"/>
            <a:ext cx="9217080" cy="630072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Медиц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Лазерная коррекция з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Лазерная стомат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5219640" y="1006560"/>
            <a:ext cx="3959280" cy="29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5219640" y="4319640"/>
            <a:ext cx="395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60360" y="360360"/>
            <a:ext cx="9360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зерные шоу                   Лазерный уровен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зерные коррекции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2700360" cy="3060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959280" y="720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360360" y="4500720"/>
            <a:ext cx="3419640" cy="2519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4"/>
          <a:stretch/>
        </p:blipFill>
        <p:spPr>
          <a:xfrm>
            <a:off x="3959280" y="4319640"/>
            <a:ext cx="2965320" cy="2700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5"/>
          <a:stretch/>
        </p:blipFill>
        <p:spPr>
          <a:xfrm>
            <a:off x="7199280" y="431964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Используем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20720" y="1260360"/>
            <a:ext cx="9360000" cy="36007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вятков Н. Д. Применение электроники в медицине и биолог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ческая энциклопедия под редакцией А.М.Прохор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расов Л. В. Физика процессов в генераторах когерентного оптического изл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50-летию создания лазеров (рус.) // УФН. —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нет ресур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Прямоугольник 1"/>
          <p:cNvSpPr/>
          <p:nvPr/>
        </p:nvSpPr>
        <p:spPr>
          <a:xfrm>
            <a:off x="4753080" y="5292720"/>
            <a:ext cx="503856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ца 10 класса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ОУ СОШ №135 г.Каза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оровичева Ал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: учитель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Б.Широ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0" y="1760400"/>
            <a:ext cx="8531280" cy="291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. «Готовые к решению еще неизвестных проблем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  Определение лазер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3.  Открытия и уче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4.  Спонтанное и вынужденное изл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.  Принцип действия и устройство лазе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6.  Виды лазе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7.  Примен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8.  Используемые ресурс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860720" y="682200"/>
            <a:ext cx="5219640" cy="6877080"/>
          </a:xfrm>
          <a:prstGeom prst="rect">
            <a:avLst/>
          </a:prstGeom>
          <a:noFill/>
          <a:ln w="0">
            <a:noFill/>
          </a:ln>
        </p:spPr>
        <p:txBody>
          <a:bodyPr tIns="30600" anchor="t">
            <a:noAutofit/>
          </a:bodyPr>
          <a:p>
            <a:pPr marL="343080" indent="-3398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Ещё в 1916 году Эйнштейн предсказал существование вынужденного излучения - физического базиса действия любого лазера.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С момента своего открытия лазеры получили "звание" "готовых решений ещё не известных проблем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Строгое теоретическое обоснование в рамках квантовой механики это явление получило в работах английского физика-теоретика  </a:t>
            </a:r>
            <a:r>
              <a:rPr b="0" lang="en-US" sz="2200" spc="-1" strike="noStrike" u="sng">
                <a:solidFill>
                  <a:srgbClr val="0563c1"/>
                </a:solidFill>
                <a:uFillTx/>
                <a:latin typeface="Courier New"/>
                <a:hlinkClick r:id="rId1"/>
              </a:rPr>
              <a:t>П. Дирак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в 1927—1930 г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306072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0" y="178920"/>
            <a:ext cx="9360000" cy="396900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Autofit/>
          </a:bodyPr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Ла́зе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англ.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lase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акроним от англ.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ght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mplification by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timulated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mission of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diation) — усиление света посредством вынужденного изл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ти́ческий ква́нтовый генера́тор — устройство, преобразующее энергию накачки  в энергию когерентного, монохроматического, поляризованного и узконаправленного потока изл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719280" y="4273560"/>
            <a:ext cx="5759280" cy="3240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6148440" y="680724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Первый лаз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7020000" y="3959280"/>
            <a:ext cx="2408040" cy="3060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6659640" y="7199280"/>
            <a:ext cx="2700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Майман, Теод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3273480" y="539640"/>
            <a:ext cx="3206520" cy="2880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4"/>
          <a:stretch/>
        </p:blipFill>
        <p:spPr>
          <a:xfrm>
            <a:off x="6929280" y="539640"/>
            <a:ext cx="2249640" cy="2700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6772320" y="3419640"/>
            <a:ext cx="2587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Басов Н.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0" y="3780000"/>
            <a:ext cx="7020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54 год: первый микроволновой генератор — мазер на аммиаке ( амереканский физик Ч. Таунс, советские физики Басов Н.Г. и Прохоров А.М. — Нобелевская премия по физике 1964 года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6"/>
          <a:stretch/>
        </p:blipFill>
        <p:spPr>
          <a:xfrm>
            <a:off x="539640" y="519120"/>
            <a:ext cx="2340000" cy="27208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8"/>
          <p:cNvSpPr/>
          <p:nvPr/>
        </p:nvSpPr>
        <p:spPr>
          <a:xfrm>
            <a:off x="539640" y="3419640"/>
            <a:ext cx="34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Ч.Тау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79280" y="5219640"/>
            <a:ext cx="630072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июля 1960 года американский физик Теодор Майман провел презентацию первого лазера. Лазер представлял собой монокристалл искусственного рубина, который создавал интенсивное излучение красного цв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2519280" y="3419640"/>
            <a:ext cx="30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8"/>
              </a:rPr>
              <a:t>А.М.Прох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262080"/>
            <a:ext cx="5940360" cy="247464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rmAutofit/>
          </a:bodyPr>
          <a:p>
            <a:pPr marL="43164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нтанное и вынужденное излучение.Механизмы испускания световеществом (Энштейн,19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40360" y="3959280"/>
            <a:ext cx="4859280" cy="2638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6267600" y="179280"/>
            <a:ext cx="3450960" cy="3419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179280" y="3959280"/>
            <a:ext cx="4680000" cy="2630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360360" y="6659640"/>
            <a:ext cx="45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Спонтанное излу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5219640" y="6659640"/>
            <a:ext cx="48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Вынужденное излу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9070920" cy="2411280"/>
          </a:xfrm>
          <a:prstGeom prst="rect">
            <a:avLst/>
          </a:prstGeom>
          <a:noFill/>
          <a:ln w="0">
            <a:noFill/>
          </a:ln>
        </p:spPr>
        <p:txBody>
          <a:bodyPr tIns="31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инцип действия и устройство лазера</a:t>
            </a:r>
            <a:br>
              <a:rPr sz="3600"/>
            </a:br>
            <a:r>
              <a:rPr b="0" lang="en-US" sz="36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http://www.chipdip.ru/video/id000280971/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2124000" y="6946920"/>
            <a:ext cx="5743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silris.blogspot.ru/2013/02/blog-pos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3"/>
          <a:stretch/>
        </p:blipFill>
        <p:spPr>
          <a:xfrm>
            <a:off x="1432080" y="2340000"/>
            <a:ext cx="712764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503280" y="2658960"/>
            <a:ext cx="9036000" cy="32068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"/>
          <p:cNvSpPr/>
          <p:nvPr/>
        </p:nvSpPr>
        <p:spPr>
          <a:xfrm>
            <a:off x="50472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лазе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26960" y="7020000"/>
            <a:ext cx="5332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ru.wikipedia.org/wiki/Виды_лазе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рименение лазеров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27120" y="1192320"/>
            <a:ext cx="44262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стройство,которое само ищет решаемые задач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539640" y="2341440"/>
            <a:ext cx="899964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лазеров тема очень обширная, их применяют практичес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 всех отраслях 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этому рассмотрим самые интересные из ни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 Изменение расстояния до Лу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лазерная локация Лу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781600" y="4395960"/>
            <a:ext cx="3600360" cy="2727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2340000" y="5759280"/>
            <a:ext cx="360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ns-serif;Arial"/>
              </a:rPr>
              <a:t>Открытая «шкатулка» слева — уголковый отражатель </a:t>
            </a:r>
            <a:r>
              <a:rPr b="0" lang="en-US" sz="1800" spc="-1" strike="noStrike">
                <a:solidFill>
                  <a:srgbClr val="ccccff"/>
                </a:solidFill>
                <a:latin typeface="sans-serif;Arial"/>
              </a:rPr>
              <a:t> Лунохода-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6:33:54Z</dcterms:created>
  <dc:creator>User</dc:creator>
  <dc:description/>
  <dc:language>en-US</dc:language>
  <cp:lastModifiedBy>User</cp:lastModifiedBy>
  <dcterms:modified xsi:type="dcterms:W3CDTF">2015-02-02T11:09:32Z</dcterms:modified>
  <cp:revision>10</cp:revision>
  <dc:subject/>
  <dc:title>ЛАЗЕРЫ     Выполнила  ученица 10 класса Б МБОУ СОШ №135  Федоровичева Алиса, 16 лет</dc:title>
</cp:coreProperties>
</file>