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dt" idx="25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4F16B-2C9B-4716-A636-9B84B174FF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5A3B4-59A0-4307-B200-5450B9E95C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E0CBB-D4CF-4459-819C-522FE8A611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F86AF-FC2B-4C0D-93F5-0AAE985CC3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8A405-E3FE-497C-8344-956E686511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3C2A9-88C1-4BDA-AB06-8DBC56465F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D8332-A563-4B23-9D3D-6CF267C93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59BA0-3E85-43B1-8EA2-65B84D846D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E9EF8-DE14-493F-BD37-9053B16C01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A0B91-D116-4D20-86A7-24637D9D7B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B2B64-137F-479C-BCFA-C5A4AB5BB1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5C614-9F79-4A20-B343-52DF17EA84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CE019-78E5-48D9-BA1B-AFE61713C3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3F215-0E1A-4917-9BF3-70EC235301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0487F-CADF-4928-A437-93CBE9A64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764-89B9-4EC6-9DA7-E325C818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9C2-11FD-4AA0-9E1D-2FF51053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862-4C9B-4330-9146-5066278F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CED-6988-4830-BC39-DB306C15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5B9A-1231-48BF-953C-50757A60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FE05-93EA-48D4-A732-40F58DC6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2658-9608-4283-8F50-D81EFF1F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8DC9-FFA1-41E1-90BD-63D809EE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3AE0-3537-4C67-95E5-EB95656C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2C85-DF4E-43E0-A8AA-F0C12FD8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C3E9-31FE-4A0A-8233-07F7B0B1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B28-2961-477C-B763-59FA3B86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7707-304C-44FD-9063-6BE58349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9B3F-A673-4D4C-A529-F8B0EC28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DFAD-B628-4782-A976-17A3780D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BB52-5FC2-43BF-A83E-CE529E48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C2FE-49C1-4935-A1D2-56E634D5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AE82-D502-47C0-9CD9-A6766501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29CF-0115-4406-BEC5-A201B145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4694-09B5-46DB-9BE3-9007A5FF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03343-9878-4C3D-ADE9-282587AD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273B-6B26-4291-A505-D0050D9A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C92-D158-4948-AE8A-19D8A8A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560D-2A38-49F1-AA7B-C242F5F2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012E-CF4A-4DB0-867E-1154B22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3289-9FBB-43E8-BCCD-12E6151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19437-F471-497F-B7B1-B7E7260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6258-637A-48EC-AEEB-4F2E2BE0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76D7-FB6E-4855-8E48-A78D0F93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322F-7B3E-4D5B-AA8A-B9D83183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2DA56-8DC1-431C-8D2B-A5406E8D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3AED5-F9FA-4665-9567-551CFDA2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A55C-8231-4EDC-8F41-FB3F1BE1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506-DE65-4C03-8222-D81B5DD2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33853-C85E-4CDE-90ED-3BBDA1DA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E80D-A224-4168-A0BB-781A083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85B8-4F9E-43FE-9406-8F8BFE1D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7456-C66C-4F93-A5DE-CBE6832E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B0B94-70F8-41C4-B0D9-49988ABB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C064-B5D3-4F43-A790-09BB326B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50E8-4557-4EF5-9642-E6F7C2B3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E51E-658B-40D2-89B3-D5B03020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3D83-5D06-43EC-999E-E797A838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6283E-5659-4199-A964-B64AC246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DAB-24E7-49D9-8D32-BA8066EB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AE75C-05C7-4A0C-8A5B-1C2675FB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44D40-EEE6-4637-8D87-0E615D73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C145-0BD6-475C-A653-38CDAED1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9161C-6FA2-48D8-8EC0-A57221A0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4C789-05BB-4FF0-8FC2-4658298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418E-9D16-46B9-A24F-10EC990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EF767-A3B8-4B42-B778-8B559725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246BD-94D6-407C-87F7-304F3026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E43D-8079-4D0F-AB03-C8A91D09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992FF-9EB4-4996-8DC1-BD8AC690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641-F4EF-45EE-8A7F-59B9D88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BC65-BC8C-46D7-83EC-39A286CE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7BCB6-E7AC-46EC-8B7E-82210CCA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A031-FE17-43B1-9FD0-CB99CE57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8AE5-5187-428A-9D7B-A43A3A51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7AF4D-AF84-4EA4-A118-51A5F912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B82C8-B1D6-4977-86D9-C02C2ECB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1546B-BF64-4C7F-B25E-0D1856A6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16471-F259-447D-AC85-F6D230F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3428-1814-4FA1-B706-C25C84A9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6ACC-51DA-4B96-BF09-AB1A71B9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D41-9CDF-46AB-845D-05605ECB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E3F18-C700-43B2-80E6-953615B8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77EA-2EA9-4AB9-B1E4-9EDA5F42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8E31A-73F2-4533-901C-1980BEE6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69760-EF54-431E-A02F-3284208C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14CC-8F57-47AC-A84D-C4A201A9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4B5C4-1E97-4D28-A248-2D09BE34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C95A9-04BF-40ED-9481-2FA42D15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0CBE-7D1D-4A2A-BC05-4273AB4B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1B036-D8AD-4A09-BEEB-693E4543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AE2CE-2383-409B-8507-AD64B5DD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2D3-C3A4-45CE-88E7-0728B5A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A7E33-CF66-4539-85C5-79FFF11C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2A86C-FB9C-4AF7-B1D4-7C01A899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33A4B-B93E-4785-9672-6FD09D28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E57AF-DAF4-4DF8-98E1-3D7566F9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A5E15-4C86-42BE-8BBE-B004DCFF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31118-B012-4D11-9354-806A4F23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58D4F-7D09-4B47-B018-66149E44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F5D9C-0F2B-4736-A093-EA86F4B5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84EBA-6556-48BF-B5CE-7955F9FD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D9B65-1301-4DBC-869F-6739D6E8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0EC-6B65-45CC-A028-307CD2A9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3BFB5-FEEC-4D9B-8705-2419963C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8FC4-B826-4D6F-B948-995DCC22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A0B91-321A-4BC9-A784-C889EB0E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0023A-3EA2-4FC7-8282-4CF687C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51EAE-F6FA-4995-B7E2-70BFE84B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5AD67-F626-478C-A334-79C38014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E980E-8A9A-4D83-9CFF-547B1EA5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2BB2A-AEDE-4F12-9847-D86FA2505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8FC83-61EA-41FF-841B-00ABC34C56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41A9C-2B6B-4EB2-AEC7-F133976502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82BA1-5444-4F38-B045-B4BAC21409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68FD37-7EEF-4C25-A616-9D48638B8CF0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54D452-3B54-418A-B790-C8E65352E32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B70D9C-6E26-48F7-ACCB-3131BEABDF36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540B98-0197-417F-8E7F-C184D655D233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keck.hawaii.edu/optics/lgsao/lgsbasics.html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4%E8%F0%E0%EA,_%CF%EE%EB%FC_%C0%E4%F0%E8%E5%ED_%CC%EE%F0%E8%F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79;&#1077;&#1088;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za-nauku.mipt.ru/hardcopies/2004/1664/firstlaser.html" TargetMode="Externa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%CC%E0%E9%EC%E0%ED,_%D2%E5%EE%E4%EE%F0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ru.wikipedia.org/wiki/%C1%E0%F1%EE%E2,_%CD%E8%EA%EE%EB%E0%E9_%C3%E5%ED%ED%E0%E4%E8%E5%E2%E8%F7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ru.wikipedia.org/wiki/%D2%E0%F3%ED%F1,_%D7%E0%F0%EB%E7_%D5%E0%F0%E4" TargetMode="External"/><Relationship Id="rId8" Type="http://schemas.openxmlformats.org/officeDocument/2006/relationships/hyperlink" Target="http://ru.wikipedia.org/wiki/%CF%F0%EE%F5%EE%F0%EE%E2,_%C0%EB%E5%EA%F1%E0%ED%E4%F0_%CC%E8%F5%E0%E9%EB%EE%E2%E8%F7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hyperlink" Target="http://ru.wikipedia.org/wiki/%D1%EF%EE%ED%F2%E0%ED%ED%EE%E5_%E8%E7%EB%F3%F7%E5%ED%E8%E5" TargetMode="External"/><Relationship Id="rId5" Type="http://schemas.openxmlformats.org/officeDocument/2006/relationships/hyperlink" Target="http://ru.wikipedia.org/wiki/%C2%FB%ED%F3%E6%E4%E5%ED%ED%EE%E5_%E8%E7%EB%F3%F7%E5%ED%E8%E5" TargetMode="External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ipdip.ru/video/id000280971/" TargetMode="External"/><Relationship Id="rId2" Type="http://schemas.openxmlformats.org/officeDocument/2006/relationships/hyperlink" Target="http://silris.blogspot.ru/2013/02/blog-post.html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u.wikipedia.org/wiki/&#1042;&#1080;&#1076;&#1099;_&#1083;&#1072;&#1079;&#1077;&#1088;&#1086;&#1074;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2232000" y="360000"/>
            <a:ext cx="7848720" cy="6659640"/>
          </a:xfrm>
          <a:prstGeom prst="rect">
            <a:avLst/>
          </a:prstGeom>
          <a:noFill/>
          <a:ln w="0">
            <a:noFill/>
          </a:ln>
        </p:spPr>
        <p:txBody>
          <a:bodyPr tIns="38880" anchor="t">
            <a:noAutofit/>
          </a:bodyPr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1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101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Ravie"/>
              </a:rPr>
              <a:t>ЛАЗЕР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ченица 10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БОУ Хову-Аксынская ОСОШ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ады 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16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2160720" y="7020000"/>
            <a:ext cx="5940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ву-Аксы 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60000" y="539280"/>
            <a:ext cx="9396360" cy="648036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Создание искусственных звез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   искусственная опорная зв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Вооруж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Лазерное навед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лазерная рак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 Лазерный дальном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6300720" y="1079640"/>
            <a:ext cx="3238560" cy="3419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469800" y="3600360"/>
            <a:ext cx="3490920" cy="3780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4530600" y="5040360"/>
            <a:ext cx="48294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503280" y="720720"/>
            <a:ext cx="9036000" cy="630072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Гравир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Фотолитогра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4859280" y="1619280"/>
            <a:ext cx="4210200" cy="3060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3"/>
          <a:stretch/>
        </p:blipFill>
        <p:spPr>
          <a:xfrm>
            <a:off x="3780000" y="4859280"/>
            <a:ext cx="40557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02920" y="720720"/>
            <a:ext cx="9217080" cy="630072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Медиц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Лазерная коррекция з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 Лазерная стомат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5219640" y="1006560"/>
            <a:ext cx="3959280" cy="29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5219640" y="4319640"/>
            <a:ext cx="39592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60360" y="360360"/>
            <a:ext cx="936000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азерные шоу                   Лазерный уровен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азерные коррекции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2700360" cy="3060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3959280" y="720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360360" y="4500720"/>
            <a:ext cx="3419640" cy="2519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4"/>
          <a:stretch/>
        </p:blipFill>
        <p:spPr>
          <a:xfrm>
            <a:off x="3959280" y="4319640"/>
            <a:ext cx="2965320" cy="2700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5"/>
          <a:stretch/>
        </p:blipFill>
        <p:spPr>
          <a:xfrm>
            <a:off x="7199280" y="431964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Используем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20720" y="1260360"/>
            <a:ext cx="9360000" cy="36007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вятков Н. Д. Применение электроники в медицине и биолог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зическая энциклопедия под редакцией А.М.Прохор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расов Л. В. Физика процессов в генераторах когерентного оптического изл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50-летию создания лазеров (рус.) // УФН. —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нет ресур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Прямоугольник 1"/>
          <p:cNvSpPr/>
          <p:nvPr/>
        </p:nvSpPr>
        <p:spPr>
          <a:xfrm>
            <a:off x="4753080" y="5292720"/>
            <a:ext cx="503856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ца 10 класса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БОУ СОШ №135 г.Каза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оровичева Ал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: учитель физ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Б.Широ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0" y="1760400"/>
            <a:ext cx="8531280" cy="291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. «Готовые к решению еще неизвестных проблем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  Определение лазер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3.  Открытия и уче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4.  Спонтанное и вынужденное изл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5.  Принцип действия и устройство лазер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6.  Виды лазер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7.  Примен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8.  Используемые ресурс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860720" y="682200"/>
            <a:ext cx="5219640" cy="6877080"/>
          </a:xfrm>
          <a:prstGeom prst="rect">
            <a:avLst/>
          </a:prstGeom>
          <a:noFill/>
          <a:ln w="0">
            <a:noFill/>
          </a:ln>
        </p:spPr>
        <p:txBody>
          <a:bodyPr tIns="30600" anchor="t">
            <a:noAutofit/>
          </a:bodyPr>
          <a:p>
            <a:pPr marL="343080" indent="-3398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Ещё в 1916 году Эйнштейн предсказал существование вынужденного излучения - физического базиса действия любого лазера.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С момента своего открытия лазеры получили "звание" "готовых решений ещё не известных проблем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Строгое теоретическое обоснование в рамках квантовой механики это явление получило в работах английского физика-теоретика  </a:t>
            </a:r>
            <a:r>
              <a:rPr b="0" lang="en-US" sz="2200" spc="-1" strike="noStrike" u="sng">
                <a:solidFill>
                  <a:srgbClr val="0563c1"/>
                </a:solidFill>
                <a:uFillTx/>
                <a:latin typeface="Courier New"/>
                <a:hlinkClick r:id="rId1"/>
              </a:rPr>
              <a:t>П. Дирак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в 1927—1930 г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306072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0" y="178920"/>
            <a:ext cx="9360000" cy="396900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Autofit/>
          </a:bodyPr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3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Ла́зе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англ.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lase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акроним от англ.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ght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mplification by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timulated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mission of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adiation) — усиление света посредством вынужденного изл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ти́ческий ква́нтовый генера́тор — устройство, преобразующее энергию накачки  в энергию когерентного, монохроматического, поляризованного и узконаправленного потока изл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719280" y="4273560"/>
            <a:ext cx="5759280" cy="3240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6148440" y="680724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Первый лаз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7020000" y="3959280"/>
            <a:ext cx="2408040" cy="3060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"/>
          <p:cNvSpPr/>
          <p:nvPr/>
        </p:nvSpPr>
        <p:spPr>
          <a:xfrm>
            <a:off x="6659640" y="7199280"/>
            <a:ext cx="2700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Майман, Теод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3"/>
          <a:stretch/>
        </p:blipFill>
        <p:spPr>
          <a:xfrm>
            <a:off x="3273480" y="539640"/>
            <a:ext cx="3206520" cy="2880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4"/>
          <a:stretch/>
        </p:blipFill>
        <p:spPr>
          <a:xfrm>
            <a:off x="6929280" y="539640"/>
            <a:ext cx="2249640" cy="2700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6772320" y="3419640"/>
            <a:ext cx="2587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Басов Н.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0" y="3780000"/>
            <a:ext cx="7020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54 год: первый микроволновой генератор — мазер на аммиаке ( амереканский физик Ч. Таунс, советские физики Басов Н.Г. и Прохоров А.М. — Нобелевская премия по физике 1964 года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6"/>
          <a:stretch/>
        </p:blipFill>
        <p:spPr>
          <a:xfrm>
            <a:off x="539640" y="519120"/>
            <a:ext cx="2340000" cy="27208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8"/>
          <p:cNvSpPr/>
          <p:nvPr/>
        </p:nvSpPr>
        <p:spPr>
          <a:xfrm>
            <a:off x="539640" y="3419640"/>
            <a:ext cx="34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Ч.Тау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79280" y="5219640"/>
            <a:ext cx="630072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июля 1960 года американский физик Теодор Майман провел презентацию первого лазера. Лазер представлял собой монокристалл искусственного рубина, который создавал интенсивное излучение красного цв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2519280" y="3419640"/>
            <a:ext cx="30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8"/>
              </a:rPr>
              <a:t>А.М.Прох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262080"/>
            <a:ext cx="5940360" cy="2474640"/>
          </a:xfrm>
          <a:prstGeom prst="rect">
            <a:avLst/>
          </a:prstGeom>
          <a:noFill/>
          <a:ln w="0">
            <a:noFill/>
          </a:ln>
        </p:spPr>
        <p:txBody>
          <a:bodyPr tIns="28080" anchor="t">
            <a:normAutofit/>
          </a:bodyPr>
          <a:p>
            <a:pPr marL="43164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нтанное и вынужденное излучение.Механизмы испускания световеществом (Энштейн,19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lnSpc>
                <a:spcPct val="90000"/>
              </a:lnSpc>
              <a:spcBef>
                <a:spcPts val="825"/>
              </a:spcBef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40360" y="3959280"/>
            <a:ext cx="4859280" cy="2638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6267600" y="179280"/>
            <a:ext cx="3450960" cy="3419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179280" y="3959280"/>
            <a:ext cx="4680000" cy="26305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360360" y="6659640"/>
            <a:ext cx="45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Спонтанное излу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5219640" y="6659640"/>
            <a:ext cx="48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Вынужденное излу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9070920" cy="2411280"/>
          </a:xfrm>
          <a:prstGeom prst="rect">
            <a:avLst/>
          </a:prstGeom>
          <a:noFill/>
          <a:ln w="0">
            <a:noFill/>
          </a:ln>
        </p:spPr>
        <p:txBody>
          <a:bodyPr tIns="31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инцип действия и устройство лазера</a:t>
            </a:r>
            <a:br>
              <a:rPr sz="3600"/>
            </a:br>
            <a:r>
              <a:rPr b="0" lang="en-US" sz="36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http://www.chipdip.ru/video/id000280971/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2124000" y="6946920"/>
            <a:ext cx="5743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http://silris.blogspot.ru/2013/02/blog-pos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3"/>
          <a:stretch/>
        </p:blipFill>
        <p:spPr>
          <a:xfrm>
            <a:off x="1432080" y="2340000"/>
            <a:ext cx="712764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503280" y="2658960"/>
            <a:ext cx="9036000" cy="32068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"/>
          <p:cNvSpPr/>
          <p:nvPr/>
        </p:nvSpPr>
        <p:spPr>
          <a:xfrm>
            <a:off x="50472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лазер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26960" y="7020000"/>
            <a:ext cx="5332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http://ru.wikipedia.org/wiki/Виды_лазе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рименение лазеров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127120" y="1192320"/>
            <a:ext cx="44262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стройство,которое само ищет решаемые задач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539640" y="2341440"/>
            <a:ext cx="899964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лазеров тема очень обширная, их применяют практичес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 всех отраслях 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этому рассмотрим самые интересные из ни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 Изменение расстояния до Лу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лазерная локация Лу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781600" y="4395960"/>
            <a:ext cx="3600360" cy="2727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2340000" y="5759280"/>
            <a:ext cx="360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ns-serif;Arial"/>
              </a:rPr>
              <a:t>Открытая «шкатулка» слева — уголковый отражатель </a:t>
            </a:r>
            <a:r>
              <a:rPr b="0" lang="en-US" sz="1800" spc="-1" strike="noStrike">
                <a:solidFill>
                  <a:srgbClr val="ccccff"/>
                </a:solidFill>
                <a:latin typeface="sans-serif;Arial"/>
              </a:rPr>
              <a:t> Лунохода-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6:33:54Z</dcterms:created>
  <dc:creator>User</dc:creator>
  <dc:description/>
  <dc:language>en-US</dc:language>
  <cp:lastModifiedBy>User</cp:lastModifiedBy>
  <dcterms:modified xsi:type="dcterms:W3CDTF">2015-02-02T11:09:32Z</dcterms:modified>
  <cp:revision>10</cp:revision>
  <dc:subject/>
  <dc:title>ЛАЗЕРЫ     Выполнила  ученица 10 класса Б МБОУ СОШ №135  Федоровичева Алиса, 16 лет</dc:title>
</cp:coreProperties>
</file>