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5E2-3BC0-4520-92A5-B41098AC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E3B-691E-40AF-8669-DE482952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FA5-019F-4C2C-9AA1-A3B77152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070-C2B4-4333-A304-E5E665A9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9C94-D4BA-4522-9439-19795DE1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DB7D-7D54-4F8B-8139-6C3565D9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A67E-226A-4FC5-A10D-EF8E2884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C471-50F6-48C1-8F87-956E699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D0D8-63FC-4ADF-9DC7-2515D8A7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E451-5A3D-4D05-9B95-62109AC7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2F78-D8CB-4F0F-AB53-566FD82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999-809D-4E6B-813A-F6312F07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633B-8E47-48CA-AC5F-993D839F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CF51-1DC6-442B-86CB-B3DD4F9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B9E4-482A-426E-8941-1CDA3FDD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4E45-C719-4F7F-AE2E-3197C50E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E14A-FB71-4AF5-ACBC-06B6090B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3533E-E6F5-41A7-84F0-8008EB39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2C986-C8FF-424D-AB7D-EFA9AF5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7B0D-AACB-4674-8275-E62F2BD8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DD18-E5C2-4E41-BD99-55C4F2C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ECD1-F645-4FD4-9E7F-3DE6E1E5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5A4-B035-41B7-B721-E02D1EA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54DB-7527-4807-A42C-4F02F519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600E0-ECBD-4FF7-AA3E-C821B0F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9BD1-53A7-4FB8-8F20-B84DF894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EB2B-BAB5-4421-934B-3E6343E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2F42-5C49-4D11-BF0C-20DFEC71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61E6-F502-496D-A728-DD287071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835E-74A4-444C-9379-2FA551CD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115D0-7D1A-4CD3-B32D-646A9161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A5B8-6DDC-40D1-9BA0-115F653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0986-B34E-4BB1-8BDB-88990BCE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2EA-4AF5-4552-BA4C-BB9822D0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AC64-BD8B-4726-8DCB-158A3344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69B3-C252-413F-AD5F-DD91BDDB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3663-C1EA-451E-B756-5CB24AA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9A03E-120C-4BEC-ABFC-6646F00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0F0E-CAD5-494F-BC21-1E4B9283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2B8F-0CBA-457F-81BD-66EE94E5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BD4A6-1E15-4CCE-B430-5C555164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D6F1E-B7E0-4D1A-8486-E9A524C4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E8DF8-7882-4A4C-9553-5D34D698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0CE0-7837-49CF-9FE1-FC4E12CB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A2D-C093-4723-B580-FBB2533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3EB3B-6F81-4E1E-A3DB-E79B14BF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0554-8958-40F7-97FF-882AE12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50649-14CF-48BE-982C-5FC49151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F90C-D03F-44E6-9906-A69DA12E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BCD1-39D3-4E79-96F7-01518FA7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274E-C706-41F2-9870-B1205681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F3FA1-054B-4A8B-BD74-7F9B7F8D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0DA71-693A-4035-8777-2E89950C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C3AF-38F2-4784-9600-55299711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A726-E95A-44E9-B810-44ED054F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4C1-BF35-44F7-AE94-9C84E802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824D-AE16-459E-8772-0FEC2FCD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58372-FA2C-4C79-BC09-6C9D7711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CFAE-1208-4C2E-8CC2-5D7E0D8D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49D44-ED47-4F9D-A838-52BF24A2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65962-074F-4769-BE98-24BE85B2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B10E-C55B-4639-BF74-7119D039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9B8F4-A0F6-4138-9F86-1AF32F2E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8B8C3-A4FF-4B6E-82AB-26B9F181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944A1-716F-4ED0-A1E9-D31034F1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4E01C-5743-42F5-A8F0-2DBFB57F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165-D6F0-42A9-8708-F589BDA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DD391-959E-474E-9339-0A507DCF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39949-A0F6-4C57-96AA-C1462DD9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4D2CD-B8FE-4D1E-8540-243557B0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46C72-C0D0-49CD-98DF-19961926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F152B-7E29-4A94-886D-84D00D29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4CD37-0088-4F8C-87F7-B71AF312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AF10-4DBA-4BD5-8F6D-85452556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E61B6-312F-4FEB-AC87-DE5760A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D19A-BC5D-4C0B-B9C4-3EC1D442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A9383-6960-48BE-8D35-4788F80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EED-B61C-4AA9-9000-74310C46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DB575-FE95-47B9-914A-CE0541E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A4932-AFAC-4481-9CD7-D979C0B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16A5-FFC9-40D2-8A98-071E6217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BAE2-E0AD-4E62-9B6D-E30BE3A1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9CA62-620B-4B98-BB52-FEE17795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6044C-C8FC-45F6-93A9-0628233E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10759-A2C1-4687-8650-F3B7C827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C1222-CE30-4EE7-953F-2D71F8EE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2AAB9-3115-4717-B9C5-DAAE3AF8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9E0D9-7A6E-47AC-BB89-57DDFD74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8CE-3B24-448B-B6DB-0852BD0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CEE38-102E-492C-8124-23714AFB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9390C-5463-4DD6-8B50-942088C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E62EA-DAFC-46F7-8099-B226BBE4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19123-A9E7-4C25-9B02-2B99234A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D6A4A-7C30-474F-895C-5F151F20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0D493-DD2B-4B92-A62E-B6821DFF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02842-9C83-470F-AECD-E44A3B87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67FB-2522-48FB-8475-7783B91694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D37-4969-480F-8694-1323609FA385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A0D6-1CD7-477C-87B1-614919ADF0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430F-0E95-4FB5-9B0A-2EAB2AACB6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FB1A-9F11-43D7-B35B-984AC210D8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836C-391E-47D4-904D-6D0554C64F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0188-66C6-4197-A1A6-C0E6B3DB4A2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2D72-4663-44B6-B2DA-CEBCFD61776F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8" name="Рисунок 5" descr="0_9452c_9f000ee3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6" descr=""/>
          <p:cNvPicPr/>
          <p:nvPr/>
        </p:nvPicPr>
        <p:blipFill>
          <a:blip r:embed="rId2"/>
          <a:stretch/>
        </p:blipFill>
        <p:spPr>
          <a:xfrm>
            <a:off x="-133200" y="2103480"/>
            <a:ext cx="3906720" cy="19018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85480" y="500040"/>
            <a:ext cx="80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361" name="Подзаголовок 2" descr=""/>
          <p:cNvPicPr/>
          <p:nvPr/>
        </p:nvPicPr>
        <p:blipFill>
          <a:blip r:embed="rId3"/>
          <a:stretch/>
        </p:blipFill>
        <p:spPr>
          <a:xfrm>
            <a:off x="-6480" y="4767120"/>
            <a:ext cx="4827600" cy="184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las-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4"/>
          <p:cNvSpPr/>
          <p:nvPr/>
        </p:nvSpPr>
        <p:spPr>
          <a:xfrm>
            <a:off x="214200" y="4000680"/>
            <a:ext cx="707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Лес – это местность, более 10% которой покрыто деревьями высотой более 5 метров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6" name="Содержимое 3" descr="PicsDesktop.net_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1285920" y="1428840"/>
            <a:ext cx="678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6f6"/>
                </a:solidFill>
                <a:latin typeface="Century Gothic"/>
              </a:rPr>
              <a:t>В мире осталось только 37 крупных зон девственного леса.</a:t>
            </a:r>
            <a:br>
              <a:rPr sz="2800"/>
            </a:br>
            <a:r>
              <a:rPr b="1" lang="ru-RU" sz="2800" spc="-1" strike="noStrike">
                <a:solidFill>
                  <a:srgbClr val="f6f6f6"/>
                </a:solidFill>
                <a:latin typeface="Century Gothic"/>
              </a:rPr>
              <a:t>Девственной называется территория, покрытая растительностью, с населением меньше 5 человек на1 кв.км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9" name="Содержимое 3" descr="1171385895_4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357120" y="5715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 Gothic"/>
              </a:rPr>
              <a:t>В прошлом вся земля была покрыта лесом, однако, люди уничтожили ег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2" name="Содержимое 3" descr="derevo.gif"/>
          <p:cNvPicPr/>
          <p:nvPr/>
        </p:nvPicPr>
        <p:blipFill>
          <a:blip r:embed="rId2"/>
          <a:stretch/>
        </p:blipFill>
        <p:spPr>
          <a:xfrm>
            <a:off x="214200" y="1857240"/>
            <a:ext cx="1500480" cy="2217960"/>
          </a:xfrm>
          <a:prstGeom prst="rect">
            <a:avLst/>
          </a:prstGeom>
          <a:ln w="0">
            <a:noFill/>
          </a:ln>
        </p:spPr>
      </p:pic>
      <p:pic>
        <p:nvPicPr>
          <p:cNvPr id="373" name="Содержимое 3" descr="derevo.gif"/>
          <p:cNvPicPr/>
          <p:nvPr/>
        </p:nvPicPr>
        <p:blipFill>
          <a:blip r:embed="rId3"/>
          <a:stretch/>
        </p:blipFill>
        <p:spPr>
          <a:xfrm>
            <a:off x="1643040" y="1928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4" name="Содержимое 3" descr="derevo.gif"/>
          <p:cNvPicPr/>
          <p:nvPr/>
        </p:nvPicPr>
        <p:blipFill>
          <a:blip r:embed="rId4"/>
          <a:stretch/>
        </p:blipFill>
        <p:spPr>
          <a:xfrm>
            <a:off x="285840" y="4214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3" descr="derevo.gif"/>
          <p:cNvPicPr/>
          <p:nvPr/>
        </p:nvPicPr>
        <p:blipFill>
          <a:blip r:embed="rId5"/>
          <a:stretch/>
        </p:blipFill>
        <p:spPr>
          <a:xfrm>
            <a:off x="3214800" y="4214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6" name="Содержимое 3" descr="derevo.gif"/>
          <p:cNvPicPr/>
          <p:nvPr/>
        </p:nvPicPr>
        <p:blipFill>
          <a:blip r:embed="rId6"/>
          <a:stretch/>
        </p:blipFill>
        <p:spPr>
          <a:xfrm>
            <a:off x="1714680" y="4214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3" descr="derevo.gif"/>
          <p:cNvPicPr/>
          <p:nvPr/>
        </p:nvPicPr>
        <p:blipFill>
          <a:blip r:embed="rId7"/>
          <a:stretch/>
        </p:blipFill>
        <p:spPr>
          <a:xfrm>
            <a:off x="3143160" y="1928880"/>
            <a:ext cx="1500120" cy="221760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3" descr="derevo.gif"/>
          <p:cNvPicPr/>
          <p:nvPr/>
        </p:nvPicPr>
        <p:blipFill>
          <a:blip r:embed="rId8"/>
          <a:stretch/>
        </p:blipFill>
        <p:spPr>
          <a:xfrm>
            <a:off x="6643800" y="2786040"/>
            <a:ext cx="1500120" cy="2217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42840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Лес существует 380 000 000 лет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Люди существуют 4 000 000 лет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Всего известно 145 000 пород  дерева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1" name="Рисунок 3" descr="0_73d52_4b850319_XL.png"/>
          <p:cNvPicPr/>
          <p:nvPr/>
        </p:nvPicPr>
        <p:blipFill>
          <a:blip r:embed="rId1"/>
          <a:stretch/>
        </p:blipFill>
        <p:spPr>
          <a:xfrm>
            <a:off x="0" y="3000240"/>
            <a:ext cx="5429160" cy="3684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3" descr="reWalls.com-273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285840" y="21420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Кроме бескрайних северных лесов России существуют еще леса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42920" y="1857240"/>
            <a:ext cx="59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Сундарбан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Бассейн реки Амазон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Центральная Африк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Азия (о.Новая Гвинея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8" name="Содержимое 3" descr="l_b8d483c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4"/>
          <p:cNvSpPr/>
          <p:nvPr/>
        </p:nvSpPr>
        <p:spPr>
          <a:xfrm>
            <a:off x="357120" y="5000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entury Gothic"/>
              </a:rPr>
              <a:t>В лесу живут 300 000 000 челове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entury Gothic"/>
              </a:rPr>
              <a:t>Всего на земле около 7 000 000 000 000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1" name="Содержимое 2" descr=""/>
          <p:cNvPicPr/>
          <p:nvPr/>
        </p:nvPicPr>
        <p:blipFill>
          <a:blip r:embed="rId2"/>
          <a:stretch/>
        </p:blipFill>
        <p:spPr>
          <a:xfrm>
            <a:off x="450720" y="1798560"/>
            <a:ext cx="8242560" cy="466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7:10:55Z</dcterms:created>
  <dc:creator>FuckYouBill</dc:creator>
  <dc:description/>
  <dc:language>en-US</dc:language>
  <cp:lastModifiedBy>FuckYouBill</cp:lastModifiedBy>
  <dcterms:modified xsi:type="dcterms:W3CDTF">2012-09-26T08:03:18Z</dcterms:modified>
  <cp:revision>7</cp:revision>
  <dc:subject/>
  <dc:title>ЛЕС</dc:title>
</cp:coreProperties>
</file>