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176-DBCB-4916-AC47-2B6B4AFF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5D6-BE0B-48BB-ACFD-8F5DE83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587-4CD0-439A-8AEA-3FDE0241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2E4-0783-45ED-A82D-99827422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5BA1-453F-4B79-935D-EDF43DC0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ACB-A1D0-4B64-B905-7CF88ACE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E60-7E37-4712-A5C8-0229FDFD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B4C-1126-48C2-8163-3296E36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8880-47C7-41E1-840C-478FB4D2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5116-6735-4FC0-B937-FC0B9B6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DD76-F831-43C8-B3FC-75A2E90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CB5-7CDE-4DA0-BFFA-9752E8C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311-811C-45B7-8382-5468CDD1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5F9E-EFF7-4B35-893C-093D131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A8A4-0F9F-45D1-9134-A3E8A0D1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CBFD-D701-437C-B4DD-4A32FE6D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2CDB-091C-40DD-87DC-F763C583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425B-029C-4199-B624-15378FCF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0979-54B2-4F6A-9C92-1E457E2D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3740-EC20-4674-9E13-D4738D06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015B-1124-4A48-8561-D632B89B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E886-E392-4F7F-A34E-805784D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0AD-006A-40DA-9DB3-C605D53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2D03-2E97-4779-83D8-C0AAC36D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5D50-0827-4F9E-99C7-CA5382C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9EF5-6B04-4F43-AABF-4F885CF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55AC4-7939-435A-AD1D-1ECE982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4134-962E-4BBD-9871-4514EB5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1C40-2445-40BC-8ED6-279F9F04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797C-706A-4708-86DE-CDA884C6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D111-CB1D-48B8-81AD-2D3D63F0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591F-729F-4179-854E-8A991007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C36E-1146-4210-8DA0-D4F306C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F74-79E3-4568-9475-E800F29E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D625-D6C8-4B4E-BF71-1B0A1CB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4943-71BB-48E4-AC18-E58084A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54F8-DA95-4AF5-8016-0F7F4DA1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9841-866B-4D4D-B17C-6CA42B8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4761-9440-4B01-94F0-F6AC592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BF8B-0271-45F0-A711-7A70E2E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22B3-8C3A-41C3-BF13-F30D27CF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BFCF-C880-45F9-997A-7EE53641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5678-46F1-4EEB-B9F9-1679F1FC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DCCAF-21F6-48A6-88AE-DD6712A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CEF-C057-4F7A-8ECD-773D36E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94EC-C34C-4A36-9351-F201CEB7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5004-6269-4F92-B3F3-77F23F3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94553-F5DA-4AB1-B58E-AB10AC2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7F50-8FA4-4E38-9A6D-3613B94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1574F-60DB-4B3B-AAAF-0C706476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E129C-DF68-4CBD-B671-D9FBB14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3601B-5271-4298-9487-9B90B6F8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E547-43C6-45E0-B4FF-1A760C4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A8D5-38FF-4258-8F97-8F6F10D9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C67B-4A24-4586-AD31-D923C58D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90A-DF51-4284-A7CA-0D9B094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DCD2-A542-47D7-97E1-26CEC84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E31C-B94C-4A65-ACBF-067AD86A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46A46-3F68-4A8B-8B4B-C2EEE6AD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EB5A-0A29-4A82-9A76-D911A42C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AC09-B586-4A65-B94E-2351A15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1BF2C-9EF4-46E3-883F-1BC49D6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EF05E-3832-461A-8965-24C39460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C425-4397-4E84-980A-76B77BF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C5EA-974D-4D8D-B6BD-A9518D7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55DC1-8B2D-4E59-AE5E-69BF3F8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CC0-207E-4EBE-8C06-26EE348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AEB87-CD21-42E4-AF08-42D4F91D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42593-2A2B-45AF-A900-8A4C32BE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1068-695B-42EA-A76E-5B08AAF6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DCC6A-B7EC-4785-8E56-EFB28278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E42A-5B03-4D02-ABDE-24E2496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D349-1590-4652-A324-EB0DF5D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490E-EAF2-4159-A8E6-05B8C9B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D955A-12CC-4AEF-97CE-F362556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A2CF-5412-45BB-A149-F10AA37C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7FAB-92B7-4BCC-9EDC-38D4FDC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E7A-99C3-4DD0-819A-DE4616E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1F3F3-6DE1-40A6-AACC-C621A6E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93E9D-E1E0-4495-A6B1-88012C9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E748-2421-46E7-A0B3-FA5A45B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7637-4937-4C8C-AAE9-16F77B2F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E923-08D2-4654-B00C-26F5D5D0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70535-02BC-4183-A984-2F023ACE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5D574-A805-455E-98DB-3F8DD297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D74F4-96D7-4EB9-A601-C264F10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E2E08-ED74-430A-81CF-F0F77DE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82B6-63AF-4EC9-B7D7-D8F344A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B0C-94DB-4EDC-82BD-95767B1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4B3D-2D71-4085-938A-4F21C6FA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57DC-C129-4861-8932-3DCFAD4B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61AB2-7446-40B1-A2DF-E4C5CC7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AA30-C894-4ABA-88F3-0575BEAB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345B-2BF6-4B35-BBBE-5078E1E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6787-C53E-4C40-ACEC-3239C494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77FE-F579-41A7-80D1-9E630042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9646-6C52-4EDE-BEFA-2997B1AAED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C971-06AA-4FAE-9EA9-4D92F5EF608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926-A6AE-4FC8-8C58-D7F935888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22B-720F-4CE0-ADCC-B51FBB049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A405-F822-4EC8-9904-7AFC428D0D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AB6D-9E40-43FE-83B8-90B92B1DED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E76-B013-4174-9C4F-F336171E025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8E39-08B7-4FAB-B38E-470724C9FD55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8" name="Рисунок 5" descr="0_9452c_9f000ee3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6" descr=""/>
          <p:cNvPicPr/>
          <p:nvPr/>
        </p:nvPicPr>
        <p:blipFill>
          <a:blip r:embed="rId2"/>
          <a:stretch/>
        </p:blipFill>
        <p:spPr>
          <a:xfrm>
            <a:off x="-133200" y="2103480"/>
            <a:ext cx="3906720" cy="1901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85480" y="500040"/>
            <a:ext cx="80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361" name="Подзаголовок 2" descr=""/>
          <p:cNvPicPr/>
          <p:nvPr/>
        </p:nvPicPr>
        <p:blipFill>
          <a:blip r:embed="rId3"/>
          <a:stretch/>
        </p:blipFill>
        <p:spPr>
          <a:xfrm>
            <a:off x="-6480" y="4767120"/>
            <a:ext cx="4827600" cy="184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las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214200" y="4000680"/>
            <a:ext cx="70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Лес – это местность, более 10% которой покрыто деревьями высотой более 5 метров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6" name="Содержимое 3" descr="PicsDesktop.net_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1285920" y="1428840"/>
            <a:ext cx="67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6f6"/>
                </a:solidFill>
                <a:latin typeface="Century Gothic"/>
              </a:rPr>
              <a:t>В мире осталось только 37 крупных зон девственного леса.</a:t>
            </a:r>
            <a:br>
              <a:rPr sz="2800"/>
            </a:br>
            <a:r>
              <a:rPr b="1" lang="ru-RU" sz="2800" spc="-1" strike="noStrike">
                <a:solidFill>
                  <a:srgbClr val="f6f6f6"/>
                </a:solidFill>
                <a:latin typeface="Century Gothic"/>
              </a:rPr>
              <a:t>Девственной называется территория, покрытая растительностью, с населением меньше 5 человек на1 кв.км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9" name="Содержимое 3" descr="1171385895_4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35712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Gothic"/>
              </a:rPr>
              <a:t>В прошлом вся земля была покрыта лесом, однако, люди уничтожили ег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3" descr="derevo.gif"/>
          <p:cNvPicPr/>
          <p:nvPr/>
        </p:nvPicPr>
        <p:blipFill>
          <a:blip r:embed="rId2"/>
          <a:stretch/>
        </p:blipFill>
        <p:spPr>
          <a:xfrm>
            <a:off x="214200" y="1857240"/>
            <a:ext cx="1500480" cy="2217960"/>
          </a:xfrm>
          <a:prstGeom prst="rect">
            <a:avLst/>
          </a:prstGeom>
          <a:ln w="0">
            <a:noFill/>
          </a:ln>
        </p:spPr>
      </p:pic>
      <p:pic>
        <p:nvPicPr>
          <p:cNvPr id="373" name="Содержимое 3" descr="derevo.gif"/>
          <p:cNvPicPr/>
          <p:nvPr/>
        </p:nvPicPr>
        <p:blipFill>
          <a:blip r:embed="rId3"/>
          <a:stretch/>
        </p:blipFill>
        <p:spPr>
          <a:xfrm>
            <a:off x="1643040" y="1928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4" name="Содержимое 3" descr="derevo.gif"/>
          <p:cNvPicPr/>
          <p:nvPr/>
        </p:nvPicPr>
        <p:blipFill>
          <a:blip r:embed="rId4"/>
          <a:stretch/>
        </p:blipFill>
        <p:spPr>
          <a:xfrm>
            <a:off x="285840" y="4214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3" descr="derevo.gif"/>
          <p:cNvPicPr/>
          <p:nvPr/>
        </p:nvPicPr>
        <p:blipFill>
          <a:blip r:embed="rId5"/>
          <a:stretch/>
        </p:blipFill>
        <p:spPr>
          <a:xfrm>
            <a:off x="3214800" y="4214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3" descr="derevo.gif"/>
          <p:cNvPicPr/>
          <p:nvPr/>
        </p:nvPicPr>
        <p:blipFill>
          <a:blip r:embed="rId6"/>
          <a:stretch/>
        </p:blipFill>
        <p:spPr>
          <a:xfrm>
            <a:off x="1714680" y="4214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3" descr="derevo.gif"/>
          <p:cNvPicPr/>
          <p:nvPr/>
        </p:nvPicPr>
        <p:blipFill>
          <a:blip r:embed="rId7"/>
          <a:stretch/>
        </p:blipFill>
        <p:spPr>
          <a:xfrm>
            <a:off x="3143160" y="1928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3" descr="derevo.gif"/>
          <p:cNvPicPr/>
          <p:nvPr/>
        </p:nvPicPr>
        <p:blipFill>
          <a:blip r:embed="rId8"/>
          <a:stretch/>
        </p:blipFill>
        <p:spPr>
          <a:xfrm>
            <a:off x="6643800" y="2786040"/>
            <a:ext cx="1500120" cy="2217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Лес существует 380 000 000 лет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Люди существуют 4 000 000 лет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Всего известно 145 000 пород  дерева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1" name="Рисунок 3" descr="0_73d52_4b850319_XL.png"/>
          <p:cNvPicPr/>
          <p:nvPr/>
        </p:nvPicPr>
        <p:blipFill>
          <a:blip r:embed="rId1"/>
          <a:stretch/>
        </p:blipFill>
        <p:spPr>
          <a:xfrm>
            <a:off x="0" y="3000240"/>
            <a:ext cx="5429160" cy="368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" descr="reWalls.com-273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285840" y="21420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Кроме бескрайних северных лесов России существуют еще леса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42920" y="1857240"/>
            <a:ext cx="59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Сундарба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Бассейн реки Амазон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Центральная Афри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Азия (о.Новая Гвинея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8" name="Содержимое 3" descr="l_b8d48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4"/>
          <p:cNvSpPr/>
          <p:nvPr/>
        </p:nvSpPr>
        <p:spPr>
          <a:xfrm>
            <a:off x="357120" y="5000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В лесу живут 300 000 000 челове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Всего на земле около 7 000 000 000 0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1" name="Содержимое 2" descr=""/>
          <p:cNvPicPr/>
          <p:nvPr/>
        </p:nvPicPr>
        <p:blipFill>
          <a:blip r:embed="rId2"/>
          <a:stretch/>
        </p:blipFill>
        <p:spPr>
          <a:xfrm>
            <a:off x="450720" y="1798560"/>
            <a:ext cx="8242560" cy="466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0:55Z</dcterms:created>
  <dc:creator>FuckYouBill</dc:creator>
  <dc:description/>
  <dc:language>en-US</dc:language>
  <cp:lastModifiedBy>FuckYouBill</cp:lastModifiedBy>
  <dcterms:modified xsi:type="dcterms:W3CDTF">2012-09-26T08:03:18Z</dcterms:modified>
  <cp:revision>7</cp:revision>
  <dc:subject/>
  <dc:title>ЛЕС</dc:title>
</cp:coreProperties>
</file>