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62A5-2C18-4B6C-9082-FBB3B5C739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0FAF-0DA0-4472-97CA-2D60021F63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5BF8B-7EE4-4EA0-8AC6-F697848FC3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A60BF-0768-4F25-B7C8-30C1113A3C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0F6BF-3D09-4EEA-B6EA-2A874F0D1C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A67E9-115F-4FD6-93FF-E59B6B62A1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AF13D-F641-4B0A-9F75-0E67F327C4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187A5-AAC9-44C3-9710-91214518DF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1EB4B-2504-4F42-96EC-545C28B0D8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AD02-C889-4E5B-99B6-671D7D83D5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91D-E111-4DA9-8EC9-FC49D465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1120" y="101628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AE6-C469-4495-9BE3-E3C16AC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07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644-502B-43FF-A078-E34952C1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908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04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112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908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04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3E5-BC5E-461F-AAA3-EA1830A6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1CE-0A47-487B-993B-674B958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C3E-9353-40AE-A94A-D59685A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7FC-2CF8-4DBE-9F22-AD2CC243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ACF-B743-4BB7-9CF6-7658422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647640"/>
            <a:ext cx="8190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C4A-5786-4A8D-B8AD-D846B12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17F-2D5D-4A07-B81B-9CD1B1E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07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AE9-CFF3-4B6A-A809-33C6CAC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830-C974-4C4F-8B2A-B8DBF29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559404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2320" y="5594040"/>
            <a:ext cx="30794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59404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EE5B85-E7E2-4EF4-85DF-79B040D996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144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800000"/>
                </a:solidFill>
                <a:latin typeface="Arial"/>
              </a:rPr>
              <a:t>Медный всадник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0" y="1618920"/>
            <a:ext cx="3981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4a4a"/>
                </a:solidFill>
                <a:latin typeface="Arial"/>
              </a:rPr>
              <a:t>«Медный всадник» - символ Санкт-Петербурга, самый выразительный     и многозначный скульптурный памятник Петербурга. Памятнику посвящены множество книг и монографий. Порой кажется, что известно о нём и его создателях всё.</a:t>
            </a:r>
            <a:endParaRPr b="0" lang="en-US" sz="2400" spc="-1" strike="noStrike">
              <a:solidFill>
                <a:srgbClr val="004a4a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3240000" cy="41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амятник Петру I во многом необычен. В том числе и тем, что он дважды родился. Первый раз, конечно, в 1782 году, когда его установка и торжественное открытие были приурочены к 100-летию провозглашения Петра I царём. Замысел, создание памятника Петру I неразрывно связаны с царствованием императрицы Екатерины II. Надпись, начертанная на пьедестале памятника по приказу императрицы «Петру I Екатерина II» подчёркивает продолжение ею славных дел Петровых. Автора памятника, гениального французского скульптора М.Э. Фальконе к моменту открытия монумента в Петербурге уже не было. Устав от враждебного отношения двора и отчасти самой императрицы к своему детищу и себе, Фальконе покинул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987480" y="720720"/>
            <a:ext cx="819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Вторым рождением памятника Петру I можно поистине считать 1833 год, когда А.С, Пушкиным была создана поэма «Медный всадник». Поэт называет поэму петербургской повестью, тем самым указывая на теснейшую связь своего произведения с городом на Не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4360" y="219240"/>
            <a:ext cx="8888400" cy="603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079640" y="72072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Вода в 1824 году поднялась на 4,1 метра выше ординара. Напоминание об этом сохранилось до наших дней. Черту, отмечающую уровень воды в ноябре 1824 года, можно увидеть и у Синего моста на водомерном обелиске, и на стене Невских ворот Петропавловской крепости, и на фасадах некоторых петербургских домов. При этом надо иметь ввиду, что с тех пор – без малого двести лет прошло – из-за многочисленных наслоений старые здания города будто осели в землю. И сторожевые львы у крыльца дома князя Лобанова-Ростовского, что вблизи Исаакиевского собора, тоже уже не выглядят сегодня столь высокими, как в 1824 году. Тогда на этих львах можно было спастись от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82036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62040" y="55404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900000" y="687240"/>
            <a:ext cx="833292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Медный всадник словно вырвался к заливу… Следы его, оставленные на некогда пустынных берегах, - это новые высотные строения морского фасада Петербурга. Совсем маленькими, затерянными выглядят здесь низенькие башенки-кроншпицы, построенные ещё при Петре I и отмечающие вход в галерную гавань. Их видел и А.С. Пушкин. Они, как и тогда, сторожат вход в Галерную гав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15:14:40Z</dcterms:created>
  <dc:creator/>
  <dc:description>Template created by Sun Microsystems</dc:description>
  <dc:language>en-US</dc:language>
  <cp:lastModifiedBy>админ</cp:lastModifiedBy>
  <dcterms:modified xsi:type="dcterms:W3CDTF">2015-02-02T19:52:06Z</dcterms:modified>
  <cp:revision>3</cp:revision>
  <dc:subject/>
  <dc:title>Raster</dc:title>
</cp:coreProperties>
</file>