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D66C8-EB09-403A-972F-7B7F4B7C5B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F1A8E-965C-4A85-827D-35BC4EB7EE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6B99B-91DA-420A-A9AA-A036B38507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C206-A153-46DA-8C16-BACF17759E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1ED87-38CD-442B-A2A9-369B792B92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F0E69-CF9C-4DC5-B155-426EC58E21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D1ADF-074D-4F44-9324-4F85AB3B33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5932A-AD72-4BF2-9DCB-37D2CC4440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B17AE-8C19-4A2D-82F9-646DB39AE5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0A5D6-E5CD-430D-9C16-BE46CFF79F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405-91F8-4869-AB7F-492B63AA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81565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1120" y="1016280"/>
            <a:ext cx="81565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002-2870-4BC8-BD4E-1A27541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11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07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010-6449-4A52-9A66-E76DB2B8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9080" y="-68940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040" y="-68940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1120" y="101628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9080" y="101628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040" y="1016280"/>
            <a:ext cx="26262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CBF-759A-4F6D-8423-4A14CFC5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1120" y="-689400"/>
            <a:ext cx="8156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EB2-214E-49C8-A912-D0F98DDB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8156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0A6-9FC0-483E-A241-AE0676C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9F3-D571-4517-84DC-D4725B15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0E6-950C-4B06-B5CB-A95FBDFE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647640"/>
            <a:ext cx="8190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8B2-AE91-43BD-97B6-E5F468A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11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99A-3662-4B88-81E4-3EB170C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0720" y="101628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E69-9EA1-4DAE-81AC-6CDE877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1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0720" y="-689400"/>
            <a:ext cx="39801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1120" y="1016280"/>
            <a:ext cx="81565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CDC-25D0-47F0-B847-B591FD39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0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-689400"/>
            <a:ext cx="8156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a4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559404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2320" y="5594040"/>
            <a:ext cx="30794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59404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F8E3B-7033-4B15-A7E9-2246F23800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480" y="647640"/>
            <a:ext cx="819144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800000"/>
                </a:solidFill>
                <a:latin typeface="Arial"/>
              </a:rPr>
              <a:t>Медный всадник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0000" y="1618920"/>
            <a:ext cx="3981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4a4a"/>
                </a:solidFill>
                <a:latin typeface="Arial"/>
              </a:rPr>
              <a:t>«Медный всадник» - символ Санкт-Петербурга, самый выразительный     и многозначный скульптурный памятник Петербурга. Памятнику посвящены множество книг и монографий. Порой кажется, что известно о нём и его создателях всё.</a:t>
            </a:r>
            <a:endParaRPr b="0" lang="en-US" sz="2400" spc="-1" strike="noStrike">
              <a:solidFill>
                <a:srgbClr val="004a4a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3240000" cy="41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Памятник Петру I во многом необычен. В том числе и тем, что он дважды родился. Первый раз, конечно, в 1782 году, когда его установка и торжественное открытие были приурочены к 100-летию провозглашения Петра I царём. Замысел, создание памятника Петру I неразрывно связаны с царствованием императрицы Екатерины II. Надпись, начертанная на пьедестале памятника по приказу императрицы «Петру I Екатерина II» подчёркивает продолжение ею славных дел Петровых. Автора памятника, гениального французского скульптора М.Э. Фальконе к моменту открытия монумента в Петербурге уже не было. Устав от враждебного отношения двора и отчасти самой императрицы к своему детищу и себе, Фальконе покинул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987480" y="720720"/>
            <a:ext cx="8191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Вторым рождением памятника Петру I можно поистине считать 1833 год, когда А.С, Пушкиным была создана поэма «Медный всадник». Поэт называет поэму петербургской повестью, тем самым указывая на теснейшую связь своего произведения с городом на Не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14360" y="219240"/>
            <a:ext cx="8888400" cy="603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079640" y="720720"/>
            <a:ext cx="79200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Вода в 1824 году поднялась на 4,1 метра выше ординара. Напоминание об этом сохранилось до наших дней. Черту, отмечающую уровень воды в ноябре 1824 года, можно увидеть и у Синего моста на водомерном обелиске, и на стене Невских ворот Петропавловской крепости, и на фасадах некоторых петербургских домов. При этом надо иметь ввиду, что с тех пор – без малого двести лет прошло – из-за многочисленных наслоений старые здания города будто осели в землю. И сторожевые львы у крыльца дома князя Лобанова-Ростовского, что вблизи Исаакиевского собора, тоже уже не выглядят сегодня столь высокими, как в 1824 году. Тогда на этих львах можно было спастись от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82036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1041480" y="693720"/>
            <a:ext cx="81914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62040" y="554040"/>
            <a:ext cx="86407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900000" y="687240"/>
            <a:ext cx="833292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Медный всадник словно вырвался к заливу… Следы его, оставленные на некогда пустынных берегах, - это новые высотные строения морского фасада Петербурга. Совсем маленькими, затерянными выглядят здесь низенькие башенки-кроншпицы, построенные ещё при Петре I и отмечающие вход в галерную гавань. Их видел и А.С. Пушкин. Они, как и тогда, сторожат вход в Галерную гав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15:14:40Z</dcterms:created>
  <dc:creator/>
  <dc:description>Template created by Sun Microsystems</dc:description>
  <dc:language>en-US</dc:language>
  <cp:lastModifiedBy>админ</cp:lastModifiedBy>
  <dcterms:modified xsi:type="dcterms:W3CDTF">2015-02-02T19:52:06Z</dcterms:modified>
  <cp:revision>3</cp:revision>
  <dc:subject/>
  <dc:title>Raster</dc:title>
</cp:coreProperties>
</file>