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F58C-BA2F-43FB-9E2F-EC67DCD35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рождение «Русской лапты» на уроке физ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4C7-B24F-4AC3-8061-57FED9E0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ED5-36BF-49CD-AE9D-60B4A377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06D-325F-40BB-A330-CAF79A45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3F7-489D-4DD8-BFDB-F47DF2A4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5C45-08D9-4A48-A89F-BE4A4CCD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2A4F-ED26-4EDD-A2BC-5D80A9E9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1C3-67BB-41BD-9257-208CCF6E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972D-47AD-4F3D-A1EE-32322EC7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05DA-1792-4194-ACCC-E72EF28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589F-A4ED-4227-BCA2-C09186E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D40-F528-4D10-8896-FEC43C6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D43-7CA4-404A-BA8C-1263FD9D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D978-86E0-4638-B170-69DE6EC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6FA6-A19E-4DE9-B2C9-C83DB61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3E2C-8961-4F9F-B2B8-E59D64A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9A7-FD67-4437-BFF5-868E674A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85C2-279E-4511-85A0-EA7CE11B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42A-1DA7-49CD-93C2-3C519E1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9A1-9EAC-4139-9AD8-D4D876AB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A72-E119-4CA0-9106-BA538D65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E68-4176-4BEB-A139-025B6894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CF6-94D7-430F-85C2-D9C415A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8D1-D284-4724-A82E-1DC4C3C1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D23-A7E4-4BEF-B006-0A1EDD0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9CAA-5BF0-4C06-94A0-726FF913EF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FBE-25BC-4751-8A7C-2E735BDACD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зрождение «русской лапты» на уроке физкультуры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МБОУ СОШ №49                                        Учитель физической культуры: Кузьмина Ольга Васильевна                       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. Тул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бучение удару битой по мячу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2371680" cy="1785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дар по мячу с верху, с набрасыва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дар низом, когда игрок сам подбрасывает себе мяч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дар по мячу с верху, когда игрок сам подбрасывает себе мяч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-8839080" y="-6667560"/>
            <a:ext cx="2346120" cy="17668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525680" y="2421000"/>
            <a:ext cx="2320920" cy="17478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359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ение осаливан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 перестрелка, с разными по объему мяч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38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40328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6836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0036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3200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40000" y="234936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4724280"/>
            <a:ext cx="37440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63640" y="472428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95640" y="4724280"/>
            <a:ext cx="37440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27280" y="472428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59280" y="4724280"/>
            <a:ext cx="37440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68360" y="5950080"/>
            <a:ext cx="374760" cy="3744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349360"/>
            <a:ext cx="2952720" cy="403236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71640" y="4149720"/>
            <a:ext cx="3024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42920" y="2924280"/>
            <a:ext cx="288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71640" y="5516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99640" y="5589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5805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20920" y="5969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41440" y="24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2924280"/>
            <a:ext cx="43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8000" y="4437000"/>
            <a:ext cx="241560" cy="2412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4360" y="4292640"/>
            <a:ext cx="277920" cy="277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4292640"/>
            <a:ext cx="349200" cy="3492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коменд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536840" y="2362320"/>
            <a:ext cx="2371680" cy="17859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536840" y="4300560"/>
            <a:ext cx="2371680" cy="1785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в лапту можно как на улице, так и в за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В лапту могут одновременно играть девочки и мальчи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Игра которая тренирует все физические качества и заставляет игроков мысли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442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ат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ная презентация представляет собой демонстрационную часть урока для учителей по физической культ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ю работы являлась популяризация «Русской лапты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зентация выполнена в программе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ллюстрированный материал взят из архива фотографий лице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ичество слайдов – 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ем работы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7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М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возникнов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ее тысячи лет живет эта игра в народе. Первое упоминание о лапте есть в древних русских летописях. При раскопках Древнего Новгорода было обнаружено немало мячей и сама би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ще во времена Петра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апта была любимой молодецкой забав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вая попытка создания единых официальных правил по русской лапте была предпринята в 1926 г. И только в 1957г. состоялось первое официальное соревнование по лап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ако в 60-70-х гг. развитие лапты приостановилось. И только в 1987 г. было принято постановление «О развитии бейсбола, софтбола и русской лапты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09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возникнов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1990 г. в г. Ростов состоялся первый официальный чемпионат России по лапте среди мужских коман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обой популярностью лапта пользуется в Амурской, Иркутской, Тюменской, Томской, Саратовской, Брянской, Тульской, Московской, Новгородской, Белгородской областях, Краснодарском крае, в республике Башкортоста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1997г. действует межрегиональная общественная организация – Федерация русской лапты Росс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3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вентарь: бита, мяч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ита изготавливается из цельного куска дере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лина — до 1 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иаметр — до 4 с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ес — до 1500 грам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опускается плоская бита шириной — 8см (для детей до13 лет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яч для игры в большой теннис ярко желтого цве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2805120"/>
            <a:ext cx="3770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6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лоща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ревнования могут проходить на площадк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искусственным покрыти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равяным покрыти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890800"/>
            <a:ext cx="5121360" cy="362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9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авила иг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каждой команде по 6 челове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ют 2 тайма по 20-25 ми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на команда играет в поле, другая в гор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ча игроков в поле поймать свечу или осалить соперников мяч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манда играющая в городе должна выполнить результативный удар битой по мячу и сделать перебежку. Каждый игрок приносит своей команде очк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227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ми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одьба и ее разновид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ег и его разновид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кистей рук и пальце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плечегова суста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 мышц туловищ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мышц но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на растягив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ыхательные упражн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257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бучение прием и передача меч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едача мяча по прямой, прячемся в конец своей колон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едача мяча по прямой бежать туда куда летит мяч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едача мяча по диагонали, прячемся в конец сваей колонн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286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900000" y="2637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2360" y="263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1640" y="2637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263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315" idx="6"/>
            <a:endCxn id="319" idx="2"/>
          </p:cNvCxnSpPr>
          <p:nvPr/>
        </p:nvCxnSpPr>
        <p:spPr>
          <a:xfrm>
            <a:off x="2328480" y="2811240"/>
            <a:ext cx="8038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2484360" y="2637000"/>
            <a:ext cx="266760" cy="2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3645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1928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964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1964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8000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40360" y="3645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72428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472428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19280" y="472428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472428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32000" y="587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587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587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5877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19" idx="3"/>
            <a:endCxn id="318" idx="4"/>
          </p:cNvCxnSpPr>
          <p:nvPr/>
        </p:nvCxnSpPr>
        <p:spPr>
          <a:xfrm flipH="1" rot="16200000">
            <a:off x="3758040" y="2358720"/>
            <a:ext cx="51480" cy="1204200"/>
          </a:xfrm>
          <a:prstGeom prst="bentConnector3">
            <a:avLst>
              <a:gd name="adj1" fmla="val 5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25" idx="6"/>
            <a:endCxn id="326" idx="2"/>
          </p:cNvCxnSpPr>
          <p:nvPr/>
        </p:nvCxnSpPr>
        <p:spPr>
          <a:xfrm>
            <a:off x="2328480" y="3819240"/>
            <a:ext cx="73116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2484360" y="3716280"/>
            <a:ext cx="204840" cy="2048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33" idx="5"/>
            <a:endCxn id="334" idx="2"/>
          </p:cNvCxnSpPr>
          <p:nvPr/>
        </p:nvCxnSpPr>
        <p:spPr>
          <a:xfrm>
            <a:off x="2278080" y="5022720"/>
            <a:ext cx="854640" cy="10296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4" idx="4"/>
            <a:endCxn id="337" idx="4"/>
          </p:cNvCxnSpPr>
          <p:nvPr/>
        </p:nvCxnSpPr>
        <p:spPr>
          <a:xfrm flipH="1" rot="16200000">
            <a:off x="3844800" y="5686920"/>
            <a:ext cx="2160" cy="1080360"/>
          </a:xfrm>
          <a:prstGeom prst="bentConnector3">
            <a:avLst>
              <a:gd name="adj1" fmla="val 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2484360" y="5300640"/>
            <a:ext cx="204840" cy="2048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3357720"/>
            <a:ext cx="756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4508640"/>
            <a:ext cx="756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9440" y="2276640"/>
            <a:ext cx="47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7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7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33" idx="4"/>
            <a:endCxn id="330" idx="3"/>
          </p:cNvCxnSpPr>
          <p:nvPr/>
        </p:nvCxnSpPr>
        <p:spPr>
          <a:xfrm flipV="1" rot="16200000">
            <a:off x="1526400" y="4445640"/>
            <a:ext cx="51480" cy="1204200"/>
          </a:xfrm>
          <a:prstGeom prst="bentConnector3">
            <a:avLst>
              <a:gd name="adj1" fmla="val -4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15" idx="4"/>
            <a:endCxn id="312" idx="4"/>
          </p:cNvCxnSpPr>
          <p:nvPr/>
        </p:nvCxnSpPr>
        <p:spPr>
          <a:xfrm rot="5400000">
            <a:off x="1612800" y="2446920"/>
            <a:ext cx="2160" cy="1080360"/>
          </a:xfrm>
          <a:prstGeom prst="bentConnector3">
            <a:avLst>
              <a:gd name="adj1" fmla="val 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25" idx="0"/>
            <a:endCxn id="329" idx="0"/>
          </p:cNvCxnSpPr>
          <p:nvPr/>
        </p:nvCxnSpPr>
        <p:spPr>
          <a:xfrm flipH="1" rot="16200000">
            <a:off x="3233880" y="2565360"/>
            <a:ext cx="2160" cy="2161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26" idx="4"/>
            <a:endCxn id="322" idx="4"/>
          </p:cNvCxnSpPr>
          <p:nvPr/>
        </p:nvCxnSpPr>
        <p:spPr>
          <a:xfrm rot="5400000">
            <a:off x="2152800" y="2915280"/>
            <a:ext cx="2160" cy="2160000"/>
          </a:xfrm>
          <a:prstGeom prst="bentConnector3">
            <a:avLst>
              <a:gd name="adj1" fmla="val 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4:45:30Z</dcterms:created>
  <dc:creator>juli</dc:creator>
  <dc:description/>
  <dc:language>en-US</dc:language>
  <cp:lastModifiedBy>Admin</cp:lastModifiedBy>
  <dcterms:modified xsi:type="dcterms:W3CDTF">2012-10-14T15:16:54Z</dcterms:modified>
  <cp:revision>12</cp:revision>
  <dc:subject/>
  <dc:title>Возрождение «русской лапты» на уроке физкультуры.</dc:title>
</cp:coreProperties>
</file>