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20E-A250-4EEA-8728-1343106F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0E5-1C1E-417D-91C7-8D326166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274-ECD8-487B-B2EB-64A4C304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CAA-7082-4575-9092-5D84FADF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791D-63B3-4657-AC48-2738D5A0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DBCD-DB4A-4E05-A79B-9E683B3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C9EC-5BA3-459E-A193-D5ABA834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7014-1259-4614-8255-02B3F1BF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7B56-26B4-4C3D-BD56-306D1CEE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187D-F375-4064-BB45-7CF900D5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CB37-3DAC-493C-B834-2B6AD94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A79-5E74-4529-9EA4-0D32598A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37EA-7B77-4A4B-93A1-A15B3809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C84-B314-4C03-994B-F778F6C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92E8-8A18-4BFA-A2BC-4C62229F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0D78-2393-4E17-9CD8-94F86C52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1C30-83FD-4124-AC06-6C3968C5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F9C-F51E-4F57-AC73-15245EA7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D82-7C54-4759-BD41-44557508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69E-D15A-43FE-B071-0B8C9E3B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CB9-CEF9-48C1-9733-A1A4189B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2D0-11C2-46FE-B569-C0878A3B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E75-D6AA-43BB-B693-EA1E9F55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514-C6A9-47F5-8065-C4DA260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78C5-D519-438E-9F6C-9B0038B424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D160-1455-44A0-BEDB-FE566F9E33E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Tahoma"/>
              </a:rPr>
              <a:t>My p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096400" y="5589720"/>
            <a:ext cx="1047600" cy="7920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83520 h 792000"/>
              <a:gd name="textAreaBottom" fmla="*/ 501480 h 79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Totoshka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s my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puppy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now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he is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seven month old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love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Totoshka very much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and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want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to know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everything about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him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even what he likes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For example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he was born on the 30</a:t>
            </a:r>
            <a:r>
              <a:rPr b="0" lang="en-US" sz="3200" spc="-1" strike="noStrike" baseline="30000">
                <a:solidFill>
                  <a:srgbClr val="ffcf01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 of May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his parents are dogs Djenny and  Chek. And also he likes raspberry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pea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 potatoes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 and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carrots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 love Totoshka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because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His name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is Totosh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IMG_0960"/>
          <p:cNvPicPr/>
          <p:nvPr/>
        </p:nvPicPr>
        <p:blipFill>
          <a:blip r:embed="rId1"/>
          <a:stretch/>
        </p:blipFill>
        <p:spPr>
          <a:xfrm>
            <a:off x="179280" y="0"/>
            <a:ext cx="8712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3"/>
          <p:cNvSpPr/>
          <p:nvPr/>
        </p:nvSpPr>
        <p:spPr>
          <a:xfrm>
            <a:off x="7775640" y="5661000"/>
            <a:ext cx="1368360" cy="936720"/>
          </a:xfrm>
          <a:custGeom>
            <a:avLst/>
            <a:gdLst>
              <a:gd name="textAreaLeft" fmla="*/ 318960 w 1368360"/>
              <a:gd name="textAreaRight" fmla="*/ 1049040 w 136836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619280" y="1413000"/>
            <a:ext cx="73080" cy="71280"/>
          </a:xfrm>
          <a:custGeom>
            <a:avLst/>
            <a:gdLst>
              <a:gd name="textAreaLeft" fmla="*/ 16920 w 73080"/>
              <a:gd name="textAreaRight" fmla="*/ 56160 w 73080"/>
              <a:gd name="textAreaTop" fmla="*/ 7200 h 71280"/>
              <a:gd name="textAreaBottom" fmla="*/ 45360 h 71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179280" y="333360"/>
            <a:ext cx="1441440" cy="1224000"/>
          </a:xfrm>
          <a:prstGeom prst="su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-243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66"/>
                </a:solidFill>
                <a:latin typeface="Tahoma"/>
              </a:rPr>
              <a:t>he is nice</a:t>
            </a:r>
            <a:r>
              <a:rPr b="0" lang="ru-RU" sz="4400" spc="-1" strike="noStrike">
                <a:solidFill>
                  <a:srgbClr val="99ff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IMG_0962"/>
          <p:cNvPicPr/>
          <p:nvPr/>
        </p:nvPicPr>
        <p:blipFill>
          <a:blip r:embed="rId1"/>
          <a:stretch/>
        </p:blipFill>
        <p:spPr>
          <a:xfrm>
            <a:off x="395280" y="260280"/>
            <a:ext cx="8282160" cy="62136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7093080" y="5229360"/>
            <a:ext cx="1547640" cy="136836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966ff"/>
                </a:solidFill>
                <a:latin typeface="Tahoma"/>
              </a:rPr>
              <a:t>he is sm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he is very </a:t>
            </a:r>
            <a:r>
              <a:rPr b="1" lang="ru-RU" sz="4400" spc="-1" strike="noStrike">
                <a:solidFill>
                  <a:srgbClr val="cc99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a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9" descr="IMG_0972"/>
          <p:cNvPicPr/>
          <p:nvPr/>
        </p:nvPicPr>
        <p:blipFill>
          <a:blip r:embed="rId1"/>
          <a:stretch/>
        </p:blipFill>
        <p:spPr>
          <a:xfrm>
            <a:off x="-541440" y="2133720"/>
            <a:ext cx="4897440" cy="427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2"/>
          <a:stretch/>
        </p:blipFill>
        <p:spPr>
          <a:xfrm>
            <a:off x="4282920" y="2133720"/>
            <a:ext cx="4861080" cy="41036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0"/>
          <p:cNvSpPr/>
          <p:nvPr/>
        </p:nvSpPr>
        <p:spPr>
          <a:xfrm>
            <a:off x="7993080" y="1557360"/>
            <a:ext cx="1150920" cy="1150920"/>
          </a:xfrm>
          <a:prstGeom prst="su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0" y="196920"/>
            <a:ext cx="8461440" cy="63799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8"/>
          <p:cNvSpPr/>
          <p:nvPr/>
        </p:nvSpPr>
        <p:spPr>
          <a:xfrm>
            <a:off x="971640" y="29242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692360" y="522936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987640" y="5943600"/>
            <a:ext cx="1047960" cy="914400"/>
          </a:xfrm>
          <a:custGeom>
            <a:avLst/>
            <a:gdLst>
              <a:gd name="textAreaLeft" fmla="*/ 244440 w 1047960"/>
              <a:gd name="textAreaRight" fmla="*/ 803520 w 104796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55640" y="4221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-3877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he is a very</a:t>
            </a: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good</a:t>
            </a: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But my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at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oes not think so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3" descr="IMG_0331"/>
          <p:cNvPicPr/>
          <p:nvPr/>
        </p:nvPicPr>
        <p:blipFill>
          <a:blip r:embed="rId1"/>
          <a:stretch/>
        </p:blipFill>
        <p:spPr>
          <a:xfrm>
            <a:off x="4859280" y="2060640"/>
            <a:ext cx="4713480" cy="381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MG_0995"/>
          <p:cNvPicPr/>
          <p:nvPr/>
        </p:nvPicPr>
        <p:blipFill>
          <a:blip r:embed="rId2"/>
          <a:stretch/>
        </p:blipFill>
        <p:spPr>
          <a:xfrm>
            <a:off x="-828720" y="2349360"/>
            <a:ext cx="4643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You become responsible, forever, for what you have tamed!!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Thank you for attention</a:t>
            </a:r>
            <a:r>
              <a:rPr b="1" i="1" lang="ru-RU" sz="4400" spc="-1" strike="noStrike">
                <a:solidFill>
                  <a:srgbClr val="ff00ff"/>
                </a:solidFill>
                <a:latin typeface="Tahoma"/>
              </a:rPr>
              <a:t>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09:14:03Z</dcterms:created>
  <dc:creator>Admin</dc:creator>
  <dc:description/>
  <dc:language>en-US</dc:language>
  <cp:lastModifiedBy>Владимир Обухов</cp:lastModifiedBy>
  <dcterms:modified xsi:type="dcterms:W3CDTF">2015-02-02T11:50:52Z</dcterms:modified>
  <cp:revision>22</cp:revision>
  <dc:subject/>
  <dc:title>Как я провёл лето</dc:title>
</cp:coreProperties>
</file>