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751-7451-4BB5-95F1-7BD7DA36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8D8-2A33-4005-A5DE-1FBB0ED8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779E-81FE-4818-991F-D9DC7655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945A-86E9-4CA8-AF35-B65A09BB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9DCD-2B3E-4CC4-82B4-47CFC849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44BE-BE48-4866-8388-8B90FBFD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9493-2837-48B7-8923-4CFE5337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9742-CEFC-43F0-A7FB-0AEBD09C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9A1A-23C7-450B-AFE5-74890F67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E791-E3F3-4074-80C0-25FF2253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F549-62EB-45E7-AB97-209A88BF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E3C-5DEE-487A-A2C6-6C88CAC5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D891-6C21-4B82-BCA0-7528681C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7486-5E48-4063-A62D-A342FBEA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CEDE-6484-4912-9C2B-5232F521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3D74-2663-4E3D-902E-FAEED3C3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BEF0-48A2-4DD6-8445-24B992BB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A03-F6CC-4189-9597-BCEA0A8A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44CB-3892-4E84-B464-73F93779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EA9B-047E-4889-B9B7-909B654D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1B6A-9B38-476D-AD2F-13345FE5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90C3-6DFF-4080-BF10-8866BBCB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3F8-61ED-46D0-B7AE-A3805F88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DE83-449D-4399-9D37-0A14875A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68A6-7F8D-42EB-84ED-08F89B5A73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B04E-F120-43CB-BF56-4A13E4053EA9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cc33"/>
                </a:solidFill>
                <a:latin typeface="Tahoma"/>
              </a:rPr>
              <a:t>My p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8096400" y="5589720"/>
            <a:ext cx="1047600" cy="7920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83520 h 792000"/>
              <a:gd name="textAreaBottom" fmla="*/ 501480 h 792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1c1c1c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Totoshka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is my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puppy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now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he is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seven month old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love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Totoshka very much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and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want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to know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everything about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him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even what he likes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For example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, 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he was born on the 30</a:t>
            </a:r>
            <a:r>
              <a:rPr b="0" lang="en-US" sz="3200" spc="-1" strike="noStrike" baseline="30000">
                <a:solidFill>
                  <a:srgbClr val="ffcf01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 of May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his parents are dogs Djenny and  Chek. And also he likes raspberry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pea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 potatoes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 and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carrots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I love Totoshka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because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His name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is Totosh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2" descr="IMG_0960"/>
          <p:cNvPicPr/>
          <p:nvPr/>
        </p:nvPicPr>
        <p:blipFill>
          <a:blip r:embed="rId1"/>
          <a:stretch/>
        </p:blipFill>
        <p:spPr>
          <a:xfrm>
            <a:off x="179280" y="0"/>
            <a:ext cx="871236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3"/>
          <p:cNvSpPr/>
          <p:nvPr/>
        </p:nvSpPr>
        <p:spPr>
          <a:xfrm>
            <a:off x="7775640" y="5661000"/>
            <a:ext cx="1368360" cy="936720"/>
          </a:xfrm>
          <a:custGeom>
            <a:avLst/>
            <a:gdLst>
              <a:gd name="textAreaLeft" fmla="*/ 318960 w 1368360"/>
              <a:gd name="textAreaRight" fmla="*/ 1049040 w 1368360"/>
              <a:gd name="textAreaTop" fmla="*/ 98640 h 936720"/>
              <a:gd name="textAreaBottom" fmla="*/ 593280 h 93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AutoShape 14"/>
          <p:cNvSpPr/>
          <p:nvPr/>
        </p:nvSpPr>
        <p:spPr>
          <a:xfrm>
            <a:off x="1619280" y="1413000"/>
            <a:ext cx="73080" cy="71280"/>
          </a:xfrm>
          <a:custGeom>
            <a:avLst/>
            <a:gdLst>
              <a:gd name="textAreaLeft" fmla="*/ 16920 w 73080"/>
              <a:gd name="textAreaRight" fmla="*/ 56160 w 73080"/>
              <a:gd name="textAreaTop" fmla="*/ 7200 h 71280"/>
              <a:gd name="textAreaBottom" fmla="*/ 45360 h 71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AutoShape 15"/>
          <p:cNvSpPr/>
          <p:nvPr/>
        </p:nvSpPr>
        <p:spPr>
          <a:xfrm>
            <a:off x="179280" y="333360"/>
            <a:ext cx="1441440" cy="1224000"/>
          </a:xfrm>
          <a:prstGeom prst="su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720" y="-2430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99ff66"/>
                </a:solidFill>
                <a:latin typeface="Tahoma"/>
              </a:rPr>
              <a:t>he is nice</a:t>
            </a:r>
            <a:r>
              <a:rPr b="0" lang="ru-RU" sz="4400" spc="-1" strike="noStrike">
                <a:solidFill>
                  <a:srgbClr val="99ff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1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IMG_0962"/>
          <p:cNvPicPr/>
          <p:nvPr/>
        </p:nvPicPr>
        <p:blipFill>
          <a:blip r:embed="rId1"/>
          <a:stretch/>
        </p:blipFill>
        <p:spPr>
          <a:xfrm>
            <a:off x="395280" y="260280"/>
            <a:ext cx="8282160" cy="62136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/>
          <p:cNvSpPr/>
          <p:nvPr/>
        </p:nvSpPr>
        <p:spPr>
          <a:xfrm>
            <a:off x="7093080" y="5229360"/>
            <a:ext cx="1547640" cy="1368360"/>
          </a:xfrm>
          <a:prstGeom prst="smileyFace">
            <a:avLst>
              <a:gd name="adj" fmla="val 928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9966ff"/>
                </a:solidFill>
                <a:latin typeface="Tahoma"/>
              </a:rPr>
              <a:t>he is sm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Tahoma"/>
              </a:rPr>
              <a:t>he is very </a:t>
            </a:r>
            <a:r>
              <a:rPr b="1" lang="ru-RU" sz="4400" spc="-1" strike="noStrike">
                <a:solidFill>
                  <a:srgbClr val="cc99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cc99ff"/>
                </a:solidFill>
                <a:latin typeface="Tahoma"/>
              </a:rPr>
              <a:t>a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Picture 9" descr="IMG_0972"/>
          <p:cNvPicPr/>
          <p:nvPr/>
        </p:nvPicPr>
        <p:blipFill>
          <a:blip r:embed="rId1"/>
          <a:stretch/>
        </p:blipFill>
        <p:spPr>
          <a:xfrm>
            <a:off x="-541440" y="2133720"/>
            <a:ext cx="4897440" cy="4271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2"/>
          <a:stretch/>
        </p:blipFill>
        <p:spPr>
          <a:xfrm>
            <a:off x="4282920" y="2133720"/>
            <a:ext cx="4861080" cy="41036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0"/>
          <p:cNvSpPr/>
          <p:nvPr/>
        </p:nvSpPr>
        <p:spPr>
          <a:xfrm>
            <a:off x="7993080" y="1557360"/>
            <a:ext cx="1150920" cy="1150920"/>
          </a:xfrm>
          <a:prstGeom prst="su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0" y="196920"/>
            <a:ext cx="8461440" cy="637992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8"/>
          <p:cNvSpPr/>
          <p:nvPr/>
        </p:nvSpPr>
        <p:spPr>
          <a:xfrm>
            <a:off x="971640" y="292428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1692360" y="522936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2987640" y="5943600"/>
            <a:ext cx="1047960" cy="914400"/>
          </a:xfrm>
          <a:custGeom>
            <a:avLst/>
            <a:gdLst>
              <a:gd name="textAreaLeft" fmla="*/ 244440 w 1047960"/>
              <a:gd name="textAreaRight" fmla="*/ 803520 w 104796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755640" y="4221000"/>
            <a:ext cx="1047600" cy="914400"/>
          </a:xfrm>
          <a:custGeom>
            <a:avLst/>
            <a:gdLst>
              <a:gd name="textAreaLeft" fmla="*/ 244080 w 1047600"/>
              <a:gd name="textAreaRight" fmla="*/ 803160 w 104760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920" y="-3877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fcc66"/>
                </a:solidFill>
                <a:latin typeface="Tahoma"/>
              </a:rPr>
              <a:t>he is a very</a:t>
            </a:r>
            <a:r>
              <a:rPr b="1" lang="ru-RU" sz="44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Tahoma"/>
              </a:rPr>
              <a:t>good</a:t>
            </a:r>
            <a:r>
              <a:rPr b="1" lang="ru-RU" sz="44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Tahoma"/>
              </a:rPr>
              <a:t>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But my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at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does not think so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3" descr="IMG_0331"/>
          <p:cNvPicPr/>
          <p:nvPr/>
        </p:nvPicPr>
        <p:blipFill>
          <a:blip r:embed="rId1"/>
          <a:stretch/>
        </p:blipFill>
        <p:spPr>
          <a:xfrm>
            <a:off x="4859280" y="2060640"/>
            <a:ext cx="4713480" cy="3816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IMG_0995"/>
          <p:cNvPicPr/>
          <p:nvPr/>
        </p:nvPicPr>
        <p:blipFill>
          <a:blip r:embed="rId2"/>
          <a:stretch/>
        </p:blipFill>
        <p:spPr>
          <a:xfrm>
            <a:off x="-828720" y="2349360"/>
            <a:ext cx="464364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You become responsible, forever, for what you have tamed!!!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3454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i="1" lang="en-US" sz="4400" spc="-1" strike="noStrike">
                <a:solidFill>
                  <a:srgbClr val="ff00ff"/>
                </a:solidFill>
                <a:latin typeface="Tahoma"/>
              </a:rPr>
              <a:t>Thank you for attention</a:t>
            </a:r>
            <a:r>
              <a:rPr b="1" i="1" lang="ru-RU" sz="4400" spc="-1" strike="noStrike">
                <a:solidFill>
                  <a:srgbClr val="ff00ff"/>
                </a:solidFill>
                <a:latin typeface="Tahoma"/>
              </a:rPr>
              <a:t>!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09:14:03Z</dcterms:created>
  <dc:creator>Admin</dc:creator>
  <dc:description/>
  <dc:language>en-US</dc:language>
  <cp:lastModifiedBy>Владимир Обухов</cp:lastModifiedBy>
  <dcterms:modified xsi:type="dcterms:W3CDTF">2015-02-02T11:50:52Z</dcterms:modified>
  <cp:revision>22</cp:revision>
  <dc:subject/>
  <dc:title>Как я провёл лето</dc:title>
</cp:coreProperties>
</file>