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90A-461C-4A33-A20B-82D84D0B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473-C15E-4FD7-96C4-5E4016B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AAB-7FA4-4041-8E7E-478AE554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73C-84A0-4978-A35D-06FA60D4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A4A-888E-4BE7-A321-1D7CD0D7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039-CCBE-4D62-BA16-C25B966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E80-DE51-48E4-ABD4-8AAE3CCA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C7B-8057-4A9B-A144-EAC8012D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8C8-BDF3-465A-93CC-267CB3D3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B80-1014-4C26-B516-80255E9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193-AB11-4FF6-BB94-DBD7BB0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06D-CE9D-4E61-AAD9-FA1C46B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EC99-B0A1-46E2-B765-0712CF99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69228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Употребление мягкого знака после шипящих на конце имён существительных женского 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08560" y="604044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й язык стр.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499160" cy="38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Работа с деформированным предложением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ный,  приходит,  помощ…, товарищ…,  на,  всег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99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роверь себя :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рный товарищ всегда приходит на помощ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2000" y="4508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Найдите главные члены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Покажите связь слов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Выпишите  словосоче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2000"/>
          </a:blip>
          <a:srcRect l="7280" t="8319" r="4068" b="57444"/>
          <a:stretch/>
        </p:blipFill>
        <p:spPr>
          <a:xfrm>
            <a:off x="1547640" y="189000"/>
            <a:ext cx="5977080" cy="303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4845" t="25144" r="6531" b="58109"/>
          <a:stretch/>
        </p:blipFill>
        <p:spPr>
          <a:xfrm>
            <a:off x="611280" y="404640"/>
            <a:ext cx="8137440" cy="200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547640" y="3573360"/>
          <a:ext cx="6096240" cy="2303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815480" y="35672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мяг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5080" y="36194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де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3573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казывает род 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6820" t="37185" r="60647" b="59210"/>
          <a:stretch/>
        </p:blipFill>
        <p:spPr>
          <a:xfrm>
            <a:off x="3995640" y="4869000"/>
            <a:ext cx="122400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45647" t="37171" r="44171" b="59820"/>
          <a:stretch/>
        </p:blipFill>
        <p:spPr>
          <a:xfrm>
            <a:off x="2195640" y="5373720"/>
            <a:ext cx="1081080" cy="43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62886" t="37171" r="25358" b="59820"/>
          <a:stretch/>
        </p:blipFill>
        <p:spPr>
          <a:xfrm>
            <a:off x="6156360" y="4869000"/>
            <a:ext cx="122400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12695" t="37171" r="78681" b="59223"/>
          <a:stretch/>
        </p:blipFill>
        <p:spPr>
          <a:xfrm>
            <a:off x="4067280" y="4292640"/>
            <a:ext cx="1009440" cy="43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rcRect l="20543" t="34771" r="72404" b="61012"/>
          <a:stretch/>
        </p:blipFill>
        <p:spPr>
          <a:xfrm>
            <a:off x="2124000" y="422100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rcRect l="38577" t="35368" r="51224" b="61623"/>
          <a:stretch/>
        </p:blipFill>
        <p:spPr>
          <a:xfrm>
            <a:off x="2124000" y="4869000"/>
            <a:ext cx="1152720" cy="44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rcRect l="55831" t="35368" r="35543" b="62234"/>
          <a:stretch/>
        </p:blipFill>
        <p:spPr>
          <a:xfrm>
            <a:off x="6227640" y="4292640"/>
            <a:ext cx="100836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12000"/>
          </a:blip>
          <a:srcRect l="7280" t="60136" r="4068" b="4730"/>
          <a:stretch/>
        </p:blipFill>
        <p:spPr>
          <a:xfrm>
            <a:off x="1619280" y="1268280"/>
            <a:ext cx="6121440" cy="318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3840" y="40464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845" t="7451" r="6531" b="74508"/>
          <a:stretch/>
        </p:blipFill>
        <p:spPr>
          <a:xfrm>
            <a:off x="826920" y="836640"/>
            <a:ext cx="74520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845" t="40969" r="6531" b="6897"/>
          <a:stretch/>
        </p:blipFill>
        <p:spPr>
          <a:xfrm>
            <a:off x="2124000" y="1125360"/>
            <a:ext cx="60483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12000"/>
          </a:blip>
          <a:srcRect l="7280" t="42557" r="4068" b="38948"/>
          <a:stretch/>
        </p:blipFill>
        <p:spPr>
          <a:xfrm>
            <a:off x="2124000" y="1413000"/>
            <a:ext cx="5257800" cy="143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89800" y="54936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Домашнее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6000" y="39528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rose02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ose02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324000" y="1341360"/>
            <a:ext cx="829152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Для меня на уроке самым трудным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Для меня на уроке самым интересным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Из урока я узнал(а) нов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На уроке мне понравилось</a:t>
            </a:r>
            <a:r>
              <a:rPr b="0" i="1" lang="en-US" sz="3200" spc="-1" strike="noStrike">
                <a:solidFill>
                  <a:srgbClr val="326064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4360" y="5493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6T11:52:07Z</dcterms:created>
  <dc:creator>Марина</dc:creator>
  <dc:description/>
  <dc:language>en-US</dc:language>
  <cp:lastModifiedBy>Марина</cp:lastModifiedBy>
  <dcterms:modified xsi:type="dcterms:W3CDTF">2014-10-07T12:46:30Z</dcterms:modified>
  <cp:revision>2</cp:revision>
  <dc:subject/>
  <dc:title>Слайд 1</dc:title>
</cp:coreProperties>
</file>