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301-B459-4726-AAE5-94279512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9B9-774E-4A81-BFC5-B13BEDCE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BC6-8114-495E-9672-F47D38C2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355-82C5-482B-A1CF-2611A42D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CDE-C47F-45AA-9568-4A3F0125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18D-4A21-4D79-AF03-4013A997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AC1-99BB-4F22-9547-62103211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303-388C-4651-A81E-30A559E5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13F-C710-4974-98A8-4E563968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F58-5EC0-448D-A8C5-08ECEFB4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C39-968D-46DA-8654-29BD2475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07D-1358-4070-AEE8-B1997D38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326E-D8C3-4265-8873-551839377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69228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Употребление мягкого знака после шипящих на конце имён существительных женского 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08560" y="604044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ий язык стр. 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7499160" cy="38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Работа с деформированным предложением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ный,  приходит,  помощ…, товарищ…,  на,  всег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4991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Проверь себя :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рный товарищ всегда приходит на помощ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2000" y="4508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Найдите главные члены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Покажите связь слов в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Выпишите  словосоче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2000"/>
          </a:blip>
          <a:srcRect l="7280" t="8319" r="4068" b="57444"/>
          <a:stretch/>
        </p:blipFill>
        <p:spPr>
          <a:xfrm>
            <a:off x="1547640" y="189000"/>
            <a:ext cx="5977080" cy="3030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4845" t="25144" r="6531" b="58109"/>
          <a:stretch/>
        </p:blipFill>
        <p:spPr>
          <a:xfrm>
            <a:off x="611280" y="404640"/>
            <a:ext cx="8137440" cy="200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1547640" y="3573360"/>
          <a:ext cx="6096240" cy="2303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815480" y="356724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мягч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5080" y="361944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здел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96000" y="357336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казывает род су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26820" t="37185" r="60647" b="59210"/>
          <a:stretch/>
        </p:blipFill>
        <p:spPr>
          <a:xfrm>
            <a:off x="3995640" y="4869000"/>
            <a:ext cx="1224000" cy="43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45647" t="37171" r="44171" b="59820"/>
          <a:stretch/>
        </p:blipFill>
        <p:spPr>
          <a:xfrm>
            <a:off x="2195640" y="5373720"/>
            <a:ext cx="1081080" cy="431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62886" t="37171" r="25358" b="59820"/>
          <a:stretch/>
        </p:blipFill>
        <p:spPr>
          <a:xfrm>
            <a:off x="6156360" y="4869000"/>
            <a:ext cx="122400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rcRect l="12695" t="37171" r="78681" b="59223"/>
          <a:stretch/>
        </p:blipFill>
        <p:spPr>
          <a:xfrm>
            <a:off x="4067280" y="4292640"/>
            <a:ext cx="1009440" cy="43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rcRect l="20543" t="34771" r="72404" b="61012"/>
          <a:stretch/>
        </p:blipFill>
        <p:spPr>
          <a:xfrm>
            <a:off x="2124000" y="4221000"/>
            <a:ext cx="863640" cy="505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rcRect l="38577" t="35368" r="51224" b="61623"/>
          <a:stretch/>
        </p:blipFill>
        <p:spPr>
          <a:xfrm>
            <a:off x="2124000" y="4869000"/>
            <a:ext cx="1152720" cy="442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rcRect l="55831" t="35368" r="35543" b="62234"/>
          <a:stretch/>
        </p:blipFill>
        <p:spPr>
          <a:xfrm>
            <a:off x="6227640" y="4292640"/>
            <a:ext cx="100836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contrast="12000"/>
          </a:blip>
          <a:srcRect l="7280" t="60136" r="4068" b="4730"/>
          <a:stretch/>
        </p:blipFill>
        <p:spPr>
          <a:xfrm>
            <a:off x="1619280" y="1268280"/>
            <a:ext cx="6121440" cy="318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3840" y="404640"/>
            <a:ext cx="33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амостоя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4845" t="7451" r="6531" b="74508"/>
          <a:stretch/>
        </p:blipFill>
        <p:spPr>
          <a:xfrm>
            <a:off x="826920" y="836640"/>
            <a:ext cx="74520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4845" t="40969" r="6531" b="6897"/>
          <a:stretch/>
        </p:blipFill>
        <p:spPr>
          <a:xfrm>
            <a:off x="2124000" y="1125360"/>
            <a:ext cx="60483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contrast="12000"/>
          </a:blip>
          <a:srcRect l="7280" t="42557" r="4068" b="38948"/>
          <a:stretch/>
        </p:blipFill>
        <p:spPr>
          <a:xfrm>
            <a:off x="2124000" y="1413000"/>
            <a:ext cx="5257800" cy="1439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89800" y="54936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Домашнее за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66000" y="39528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. 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rose021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rose02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Содержимое 2"/>
          <p:cNvSpPr/>
          <p:nvPr/>
        </p:nvSpPr>
        <p:spPr>
          <a:xfrm>
            <a:off x="324000" y="1341360"/>
            <a:ext cx="829152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326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6064"/>
                </a:solidFill>
                <a:latin typeface="Arial"/>
              </a:rPr>
              <a:t>Для меня на уроке самым трудным бы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326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6064"/>
                </a:solidFill>
                <a:latin typeface="Arial"/>
              </a:rPr>
              <a:t>Для меня на уроке самым интересным бы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326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6064"/>
                </a:solidFill>
                <a:latin typeface="Arial"/>
              </a:rPr>
              <a:t>Из урока я узнал(а) ново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326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26064"/>
                </a:solidFill>
                <a:latin typeface="Arial"/>
              </a:rPr>
              <a:t>На уроке мне понравилось</a:t>
            </a:r>
            <a:r>
              <a:rPr b="0" i="1" lang="en-US" sz="3200" spc="-1" strike="noStrike">
                <a:solidFill>
                  <a:srgbClr val="326064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4360" y="54936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6T11:52:07Z</dcterms:created>
  <dc:creator>Марина</dc:creator>
  <dc:description/>
  <dc:language>en-US</dc:language>
  <cp:lastModifiedBy>Марина</cp:lastModifiedBy>
  <dcterms:modified xsi:type="dcterms:W3CDTF">2014-10-07T12:46:30Z</dcterms:modified>
  <cp:revision>2</cp:revision>
  <dc:subject/>
  <dc:title>Слайд 1</dc:title>
</cp:coreProperties>
</file>