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F49-392F-4DE0-BCE6-EB6328C2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550-DBD3-4B54-809D-9575BA1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9A4-A6A2-450C-A2D3-A7CFE5EE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C65-B7E3-458C-9FB0-E4B05965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236-37C8-4E82-80C3-B07AC49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D8F-10CF-4A15-883E-FF1762E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43F-93C8-4FED-9835-6163F0C6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8B9-8A42-4F26-9101-3A46A79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B99-E2BD-403D-BD76-58D0FDE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148-0D0B-46FC-BB50-0C02B365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1D3-68B3-41E5-BBB6-AA67D2C6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1E8-1041-4181-BAF4-A2FDA11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566f"/>
            </a:gs>
            <a:gs pos="50000">
              <a:srgbClr val="8dc6ff"/>
            </a:gs>
            <a:gs pos="100000">
              <a:srgbClr val="3d56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A541-6013-4ECC-838A-1C11352C8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797640" y="2133000"/>
            <a:ext cx="37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9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28600" y="0"/>
            <a:ext cx="853452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63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У «Майская гимназия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4063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063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городского района Белгородской области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4063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0" y="3733920"/>
            <a:ext cx="8982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a1ab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Формула успеха - наша  альтернатив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a1ab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a1ab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a1ab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губным привычкам»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da1ab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ВИДЕОРОЛИКИ,ФОРМУЛА УСПЕХА\111\формула успеха\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ВИДЕОРОЛИКИ,ФОРМУЛА УСПЕХА\111\формула успеха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ВИДЕОРОЛИКИ,ФОРМУЛА УСПЕХА\111\формула успеха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:\ВИДЕОРОЛИКИ,ФОРМУЛА УСПЕХА\111\формула успеха\Слайд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ВИДЕОРОЛИКИ,ФОРМУЛА УСПЕХА\111\формула успеха\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ВИДЕОРОЛИКИ,ФОРМУЛА УСПЕХА\111\формула успеха\Слайд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ВИДЕОРОЛИКИ,ФОРМУЛА УСПЕХА\111\формула успеха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ВИДЕОРОЛИКИ,ФОРМУЛА УСПЕХА\111\формула успеха\формула успех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4767" r="0" b="0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5" descr=""/>
          <p:cNvPicPr/>
          <p:nvPr/>
        </p:nvPicPr>
        <p:blipFill>
          <a:blip r:embed="rId2"/>
          <a:stretch/>
        </p:blipFill>
        <p:spPr>
          <a:xfrm>
            <a:off x="3602160" y="-1182600"/>
            <a:ext cx="291456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-285840"/>
            <a:ext cx="91569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:\ВИДЕОРОЛИКИ,ФОРМУЛА УСПЕХА\111\формула успеха\Слайд3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:\ВИДЕОРОЛИКИ,ФОРМУЛА УСПЕХА\111\формула успеха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ВИДЕОРОЛИКИ,ФОРМУЛА УСПЕХА\111\формула успеха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ВИДЕОРОЛИКИ,ФОРМУЛА УСПЕХА\111\формула успеха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G:\ВИДЕОРОЛИКИ,ФОРМУЛА УСПЕХА\111\формула успеха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ВИДЕОРОЛИКИ,ФОРМУЛА УСПЕХА\111\формула успеха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ВИДЕОРОЛИКИ,ФОРМУЛА УСПЕХА\111\формула успеха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ВИДЕОРОЛИКИ,ФОРМУЛА УСПЕХА\111\формула успеха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</dc:creator>
  <dc:description/>
  <dc:language>en-US</dc:language>
  <cp:lastModifiedBy>Admin</cp:lastModifiedBy>
  <dcterms:modified xsi:type="dcterms:W3CDTF">2015-01-15T07:32:0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