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C5D-A3FE-4091-B5EB-FCAACB85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19F-9900-4C53-96D2-C24226E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354-E007-48E1-A2EF-47C4D71F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06D-C4E0-45F6-88E2-762D6640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730-1FBC-4457-9019-7599C3A7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606-B06E-4BA5-ADDE-FF1794B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7C7-E11B-4825-BA47-71A87640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32D-C55D-438C-B602-4D7B3382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675-9164-4982-92BE-B2FFB42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AEC-8BAD-40C5-A083-73FD606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2E4-2CBF-48C0-9BCA-44D3677F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24C-F439-4C6E-9FD8-FAC0782C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66f"/>
            </a:gs>
            <a:gs pos="50000">
              <a:srgbClr val="8dc6ff"/>
            </a:gs>
            <a:gs pos="100000">
              <a:srgbClr val="3d56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E62F-3961-4DC1-AEDF-CA10D6746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797640" y="2133000"/>
            <a:ext cx="37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9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28600" y="0"/>
            <a:ext cx="853452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63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У «Майская гимназия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4063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63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городского района Белгородской области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4063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0" y="3733920"/>
            <a:ext cx="8982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a1ab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Формула успеха - наша  альтернатив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a1ab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a1ab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a1ab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губным привычкам»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a1ab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ВИДЕОРОЛИКИ,ФОРМУЛА УСПЕХА\111\формула успеха\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ВИДЕОРОЛИКИ,ФОРМУЛА УСПЕХА\111\формула успеха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ВИДЕОРОЛИКИ,ФОРМУЛА УСПЕХА\111\формула успеха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:\ВИДЕОРОЛИКИ,ФОРМУЛА УСПЕХА\111\формула успеха\Слайд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ВИДЕОРОЛИКИ,ФОРМУЛА УСПЕХА\111\формула успеха\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ВИДЕОРОЛИКИ,ФОРМУЛА УСПЕХА\111\формула успеха\Слайд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ВИДЕОРОЛИКИ,ФОРМУЛА УСПЕХА\111\формула успеха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ВИДЕОРОЛИКИ,ФОРМУЛА УСПЕХА\111\формула успеха\формула успех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4767" r="0" b="0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5" descr=""/>
          <p:cNvPicPr/>
          <p:nvPr/>
        </p:nvPicPr>
        <p:blipFill>
          <a:blip r:embed="rId2"/>
          <a:stretch/>
        </p:blipFill>
        <p:spPr>
          <a:xfrm>
            <a:off x="3602160" y="-1182600"/>
            <a:ext cx="291456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-285840"/>
            <a:ext cx="91569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ВИДЕОРОЛИКИ,ФОРМУЛА УСПЕХА\111\формула успеха\Слайд3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ВИДЕОРОЛИКИ,ФОРМУЛА УСПЕХА\111\формула успеха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ВИДЕОРОЛИКИ,ФОРМУЛА УСПЕХА\111\формула успеха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ВИДЕОРОЛИКИ,ФОРМУЛА УСПЕХА\111\формула успеха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G:\ВИДЕОРОЛИКИ,ФОРМУЛА УСПЕХА\111\формула успеха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ВИДЕОРОЛИКИ,ФОРМУЛА УСПЕХА\111\формула успеха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ВИДЕОРОЛИКИ,ФОРМУЛА УСПЕХА\111\формула успеха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ВИДЕОРОЛИКИ,ФОРМУЛА УСПЕХА\111\формула успеха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</dc:creator>
  <dc:description/>
  <dc:language>en-US</dc:language>
  <cp:lastModifiedBy>Admin</cp:lastModifiedBy>
  <dcterms:modified xsi:type="dcterms:W3CDTF">2015-01-15T07:32:0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