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338-BE05-4FE9-94F2-162ADA2B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881-F8C6-4960-99D9-DA4A56E6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4811-D514-4F19-B5AC-4A58BBB4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5D66-A0AC-4D4B-98B0-7FFD5354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E00-CC24-4444-80D1-2898C9AA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A7ED-3360-47D3-932F-AE037D5D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443-A0B4-4210-9A95-FAEDC5C2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C30-9D08-4754-857C-2465F14D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0FB-1208-4835-951F-AEA1F84B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DF21-A352-4EE1-B73C-016565CD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7FAD-E437-4AA7-9B29-D51362B3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934-A3E1-46BA-A20C-996D0BC8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FBDA-B2AD-4695-ABC5-E169C7D6C8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9280" y="1844640"/>
            <a:ext cx="662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НЕ ЗАБУДЕМ,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НЕ ПРОСТИМ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WAR"/>
          <p:cNvPicPr/>
          <p:nvPr/>
        </p:nvPicPr>
        <p:blipFill>
          <a:blip r:embed="rId1"/>
          <a:stretch/>
        </p:blipFill>
        <p:spPr>
          <a:xfrm>
            <a:off x="0" y="0"/>
            <a:ext cx="21938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340760" cy="51134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0" y="0"/>
            <a:ext cx="9144000" cy="19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анковая графи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станковой графике относятся произведения графического искусства, имеющие самостоятельное значение. Они не связаны с литературным текстом и не имеют узкого практического назначения. Станковой эта группа графики называется по аналогии со станковой живописью, произведения которой создаются на специальном станке - мольберте. Для станковой графики характерны широта тематики и разнообразие изобразительных средств. Чтобы разносторонне раскрыть избранную тему, графики нередко создают целые серии станковых произведений. Все листы таких серий объединены не только общей темой, но и приемами исполнения. Нашему зрителю хорошо известны такие серии советских графиков, как "Это не должно повториться" Б. И. Пророкова, "Не забудем, не простим!" Д. А. Шмаринова и другие. Станковая графика представляет собой оперативный инструмент отображающий дух времен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328040" y="206064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 колючей проволо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0" y="1628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ерия "Это не должно повториться" Б. И. Прор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2200" cy="6075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288000" y="11592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89800" cy="6524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126360" y="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 Бабьего я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30040" y="404640"/>
            <a:ext cx="8663040" cy="6264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0" y="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Бабий Яр получил всемирную известность как место массовых расстрелов населения, в основном евреев, и советских пленников, проводимых немецкими войсками в 1941 году. Всего было расстреляно, по информации из разных источников, от 33 тысяч до 100 тысяч челов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абий Яр находится в северно-западной части Ки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105680" cy="5327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179280" y="3429000"/>
            <a:ext cx="5715000" cy="3238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5867280" y="549360"/>
            <a:ext cx="312444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250920" y="115920"/>
            <a:ext cx="547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нце улицы создали пропускной пункт, все что за ним происходило было невидимо со стороны. Поочередно туда отводили по 30-40 человек, где у них отбирали вещи и заставляли раздеваться. После этого полицаи с помощью палок загоняли людей к краю оврага глубиной 20-25 метров. На противоположном краю располагался пулемётчик. Выстрелы специально заглушались музыкой и шумом самолёта, кружившего над оврагом. После того как ров заполнялся 2-3 слоями трупов, сверху их засыпали землё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633096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0" y="0"/>
            <a:ext cx="913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ерия "Не забудем, не простим!" Д. А. Шмар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4284720" y="404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птали нашу землю сапог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ли танки, самоходки веренице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вались к нам в страну тогда враг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йдя через советскую гра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4284720" y="1159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было этих деревен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сожгли враги в родном краю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и погибали каждый ден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олжны они - все - быть в раю 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ш невинных унесла война 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атит, чтоб пол мира засели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ёз Россия пролила спол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икак нельзя нам их забыть 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ним вас, родные, помним всех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не все известны имена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4859280" y="3429000"/>
            <a:ext cx="4029120" cy="3200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rcRect l="0" t="2250" r="0" b="0"/>
          <a:stretch/>
        </p:blipFill>
        <p:spPr>
          <a:xfrm>
            <a:off x="0" y="189000"/>
            <a:ext cx="4172040" cy="3127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4248360" cy="3313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0" y="0"/>
            <a:ext cx="8856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, знаешь, что была вой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тебя на свете не был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колько помнила стра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ой войны на свете не бы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 был спасен от злых фашистских пу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ад в это сделали советские солдат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, как нелегок был к Победе пу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ь рождена она была огромной плато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ибо им, всем павшим и живы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на фронтах, в тылу ковал Побед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потушил в стране пожаров ды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боль утрат немерено изведал!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оды ВОВ многие художники с оружием в руках защищали нашу с вами Ро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324000" y="5229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ь художников в годы Великой Отечественной вой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611280" y="549360"/>
            <a:ext cx="777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лово «графика» — представляет собой производное от греческого слова «графо», что в переводе означает: пишу, рисую, черчу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Линия, штрих и тон являются основными изобразительными средствами графики. С помощью этих графических средств можно передать как внешние объемно-пространственные, так и внутренние качества и состояния предметов. Графика — это широкий и действенный инструмент отражения материального мира и 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Black"/>
              </a:rPr>
              <a:t>Графика подразделяется на пять основных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чебно-оформительская граф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нижная граф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Плакатная граф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омышленная (рекламная) граф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анковая граф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58040" cy="57326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0" y="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лакатная графика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ставляет собой художественное средство массовой информации, агитации, идейно-политического и нравственного воспитания.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го цель заключается в привлечении внимания широкого круга людей к определенной теме, темам.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акат должен быть доступным понятным и максимально информативн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0" y="119700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акат достиг пика политической остроты и высокого художественного уровня в период Великой Отечественной Войны, когда на смену символическим, нарочито упрощенным пришли плакаты реалистические, эмоциональные, рисовавшие доходчивый, живой образ человека с яркой психологической характеристикой. Отзываясь на главные и характерные события времени, плакаты Великой Отечественной призывали к защите Родины, убеждали в справедливости освободительной борьбы. Крупнейшими центрами массового издания плакатов в 1941-1945 годах были Московское и Ленинградское отделение государственного издательства «ИСКУССТВО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5724360" y="549360"/>
            <a:ext cx="237672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ники-плакатисты оперативно откликнулись на события первых дней войны. В течение недели массовыми тиражами было выпущено пять плакатных листов, а в издательствах готовились к печати еще свыше пятидесяти: Уже к вечеру 22 Июня 1941 года Кукрыниксы (М. Куприянов, П. Крылов, Н. Соколов) создали эскиз плаката  «Беспощадно разгромим и уничтожим врага!» в первоначальном варианте штык красноармейца пронзал руку Гитлера, поэтому плакат звучал скорее как предупреждение. Однако, 24 июня он появился на улицах Москвы и был напечатан в газете «Правда» с несколько иным сюжетом. Штык вонзался прямо в голову Фюрера, что вполне отвечало конечной цели разворачивавшихся событий. Духу времени соответствовали и удачное сочетание в сюжете плаката героического и сатирического образов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849920" cy="6524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5796000" y="1052640"/>
            <a:ext cx="22320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 числе плакатных листов Июня 1941-го — работа А. Кокорекина «Смерть Фашистской Гадине!». Сюжет плаката и его художественное решение напоминают плакат Кукрыниксов. Найдено удачная эмблематическая характеристика фашизма. Враг показан в виде мерзкого гада, в форме свастики которого пронзает штыком Воин Красной Армии. Эта работа выполнена своеобразным художественным приемом без фона с использованием только черного и красного цветов. Фигура воина представляет красный плоскостной силуэт. Такой прием, безусловно, в какой-то мере был продиктован необходимостью. Время военное, сроки сжатые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11280" y="157320"/>
            <a:ext cx="4537080" cy="647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5940360" y="1844640"/>
            <a:ext cx="1871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ой известный плакат А. Кокорекина «Бей Фашистского Гада!» — варьирует описанный выше, но нарисован он более объемно, конкретно всего же за годы войны художник выполнил не менее 35 плакатных лис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4860720" cy="6481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6372360" y="1557360"/>
            <a:ext cx="17809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устя неделю после начала войны появился один из самых известных плакатов военных лет»Родина – Мать зовет! И. Тоидзе. Он был издан миллионными тиражами на всех языках народов СССР. Художник талантливо представил исполненный романтики обобщенный образ Отчизны. Основная сила воздействия этого плаката заключена в психологическом содержании самого образа — в выражении взволнованного лица простой русской женщины, в её призывающем ж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5724360" y="404640"/>
            <a:ext cx="31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грозную битву вставайт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ики русской земл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щайте, прощайте, прощайте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ры пылают вд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5099040" cy="6481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"/>
          <p:cNvPicPr/>
          <p:nvPr/>
        </p:nvPicPr>
        <p:blipFill>
          <a:blip r:embed="rId1"/>
          <a:stretch/>
        </p:blipFill>
        <p:spPr>
          <a:xfrm>
            <a:off x="0" y="981000"/>
            <a:ext cx="5938920" cy="46087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6156360" y="1052640"/>
            <a:ext cx="2502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 первые месяцы войны сюжеты героических плакатов были насыщены сценами атак и единоборства советского воина с фашистом, причем основное внимание, как правило, обращалось на передачу движения яростного устремления на врага. Таковы плакаты : «Фашисты не пройдут!» Д. Шмаринова, «Вперед Буденовцы!» А. Полянского, «Руби ГАДОВ!» М. Авилова. Многофигурность композиции этих плакатов должна была подчеркнуть мысль о всенародном характере сопротивления врагу. Остановить нашествие любой ценой призывал плакат А. Кокоша «Боец, оказавшийся в окружении. Борись до последней капли крови!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4608360" cy="6451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684360" y="260280"/>
            <a:ext cx="4679640" cy="6451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684360" y="189000"/>
            <a:ext cx="4608360" cy="65548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79280" y="1159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каты военного времени являются не только оригинальными художественными произведениями, но и подлинно историческими докумен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670880" cy="525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5307120" y="981000"/>
            <a:ext cx="3836880" cy="554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3762360" cy="5543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15:23:29Z</dcterms:created>
  <dc:creator>Admin</dc:creator>
  <dc:description/>
  <dc:language>en-US</dc:language>
  <cp:lastModifiedBy>Admin</cp:lastModifiedBy>
  <dcterms:modified xsi:type="dcterms:W3CDTF">2015-02-02T18:54:40Z</dcterms:modified>
  <cp:revision>45</cp:revision>
  <dc:subject/>
  <dc:title>Слайд 1</dc:title>
</cp:coreProperties>
</file>