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19A3-3A3E-4DC5-B62F-6073B1AF4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727C-79E8-4D37-B094-B21B3504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641A-F4A8-4C0C-BB83-DD83927B5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A18D-D19B-4572-BD8A-D67676D85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0F17-07F2-4DB2-81D7-7EB31AFA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068C-5381-4311-BE4F-865F70E3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1E85-5E32-4582-B035-F2552F56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F392-DF17-4F76-8DB5-254CF232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7A82-9A67-4314-92C0-C00E1538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6CB1-AEFE-4D17-A711-29AD13F6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6A39-F61F-452A-B9ED-2F92ADBA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33FC-E6BF-4092-A658-52E5E750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822D-31A8-429D-AC33-D8B7C9C539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19280" y="1844640"/>
            <a:ext cx="6624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НЕ ЗАБУДЕМ,</a:t>
            </a:r>
            <a:br>
              <a:rPr sz="8000"/>
            </a:b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НЕ ПРОСТИМ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6" descr="WAR"/>
          <p:cNvPicPr/>
          <p:nvPr/>
        </p:nvPicPr>
        <p:blipFill>
          <a:blip r:embed="rId1"/>
          <a:stretch/>
        </p:blipFill>
        <p:spPr>
          <a:xfrm>
            <a:off x="0" y="0"/>
            <a:ext cx="219384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340760" cy="511344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1"/>
          <p:cNvSpPr/>
          <p:nvPr/>
        </p:nvSpPr>
        <p:spPr>
          <a:xfrm>
            <a:off x="0" y="0"/>
            <a:ext cx="9144000" cy="19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танковая графи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станковой графике относятся произведения графического искусства, имеющие самостоятельное значение. Они не связаны с литературным текстом и не имеют узкого практического назначения. Станковой эта группа графики называется по аналогии со станковой живописью, произведения которой создаются на специальном станке - мольберте. Для станковой графики характерны широта тематики и разнообразие изобразительных средств. Чтобы разносторонне раскрыть избранную тему, графики нередко создают целые серии станковых произведений. Все листы таких серий объединены не только общей темой, но и приемами исполнения. Нашему зрителю хорошо известны такие серии советских графиков, как "Это не должно повториться" Б. И. Пророкова, "Не забудем, не простим!" Д. А. Шмаринова и другие. Станковая графика представляет собой оперативный инструмент отображающий дух времени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1328040" y="2060640"/>
            <a:ext cx="29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За колючей проволо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4"/>
          <p:cNvSpPr/>
          <p:nvPr/>
        </p:nvSpPr>
        <p:spPr>
          <a:xfrm>
            <a:off x="0" y="16286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Серия "Это не должно повториться" Б. И. Проро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82200" cy="6075360"/>
          </a:xfrm>
          <a:prstGeom prst="rect">
            <a:avLst/>
          </a:prstGeom>
          <a:ln w="0">
            <a:noFill/>
          </a:ln>
        </p:spPr>
      </p:pic>
      <p:sp>
        <p:nvSpPr>
          <p:cNvPr id="70" name="TextBox 2"/>
          <p:cNvSpPr/>
          <p:nvPr/>
        </p:nvSpPr>
        <p:spPr>
          <a:xfrm>
            <a:off x="288000" y="11592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М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389800" cy="65246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2"/>
          <p:cNvSpPr/>
          <p:nvPr/>
        </p:nvSpPr>
        <p:spPr>
          <a:xfrm>
            <a:off x="126360" y="0"/>
            <a:ext cx="174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У Бабьего я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230040" y="404640"/>
            <a:ext cx="8663040" cy="62643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0" y="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Бабий Яр получил всемирную известность как место массовых расстрелов населения, в основном евреев, и советских пленников, проводимых немецкими войсками в 1941 году. Всего было расстреляно, по информации из разных источников, от 33 тысяч до 100 тысяч челове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2"/>
          <p:cNvSpPr/>
          <p:nvPr/>
        </p:nvSpPr>
        <p:spPr>
          <a:xfrm>
            <a:off x="0" y="6488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абий Яр находится в северно-западной части Ки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7105680" cy="53276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179280" y="3429000"/>
            <a:ext cx="5715000" cy="3238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5867280" y="549360"/>
            <a:ext cx="3124440" cy="45720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3"/>
          <p:cNvSpPr/>
          <p:nvPr/>
        </p:nvSpPr>
        <p:spPr>
          <a:xfrm>
            <a:off x="250920" y="115920"/>
            <a:ext cx="5473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конце улицы создали пропускной пункт, все что за ним происходило было невидимо со стороны. Поочередно туда отводили по 30-40 человек, где у них отбирали вещи и заставляли раздеваться. После этого полицаи с помощью палок загоняли людей к краю оврага глубиной 20-25 метров. На противоположном краю располагался пулемётчик. Выстрелы специально заглушались музыкой и шумом самолёта, кружившего над оврагом. После того как ров заполнялся 2-3 слоями трупов, сверху их засыпали землё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569080" cy="633096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1"/>
          <p:cNvSpPr/>
          <p:nvPr/>
        </p:nvSpPr>
        <p:spPr>
          <a:xfrm>
            <a:off x="0" y="0"/>
            <a:ext cx="913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Серия "Не забудем, не простим!" Д. А. Шмар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4"/>
          <p:cNvSpPr/>
          <p:nvPr/>
        </p:nvSpPr>
        <p:spPr>
          <a:xfrm>
            <a:off x="4284720" y="4046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птали нашу землю сапог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ли танки, самоходки вереницей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рвались к нам в страну тогда враг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йдя через советскую границ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2"/>
          <p:cNvSpPr/>
          <p:nvPr/>
        </p:nvSpPr>
        <p:spPr>
          <a:xfrm>
            <a:off x="4284720" y="11592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лько было этих деревень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сожгли враги в родном краю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ди погибали каждый день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олжны они - все - быть в раю 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уш невинных унесла война -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ватит, чтоб пол мира заселить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ёз Россия пролила сполна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никак нельзя нам их забыть 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ним вас, родные, помним всех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не все известны имена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4859280" y="3429000"/>
            <a:ext cx="4029120" cy="3200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2"/>
          <a:srcRect l="0" t="2250" r="0" b="0"/>
          <a:stretch/>
        </p:blipFill>
        <p:spPr>
          <a:xfrm>
            <a:off x="0" y="189000"/>
            <a:ext cx="4172040" cy="3127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3"/>
          <a:stretch/>
        </p:blipFill>
        <p:spPr>
          <a:xfrm>
            <a:off x="179280" y="3429000"/>
            <a:ext cx="4248360" cy="33130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0" y="0"/>
            <a:ext cx="8856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, знаешь, что была вой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тебя на свете не был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сколько помнила стра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ой войны на свете не бы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р был спасен от злых фашистских пут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ад в это сделали советские солдаты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, как нелегок был к Победе путь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дь рождена она была огромной плато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асибо им, всем павшим и живым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то на фронтах, в тылу ковал Победу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то потушил в стране пожаров ды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боль утрат немерено изведал!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оды ВОВ многие художники с оружием в руках защищали нашу с вами Род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324000" y="52293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ль художников в годы Великой Отечественной вой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3"/>
          <p:cNvSpPr/>
          <p:nvPr/>
        </p:nvSpPr>
        <p:spPr>
          <a:xfrm>
            <a:off x="611280" y="549360"/>
            <a:ext cx="7777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лово «графика» — представляет собой производное от греческого слова «графо», что в переводе означает: пишу, рисую, черчу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Линия, штрих и тон являются основными изобразительными средствами графики. С помощью этих графических средств можно передать как внешние объемно-пространственные, так и внутренние качества и состояния предметов. Графика — это широкий и действенный инструмент отражения материального мира и 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1800"/>
            </a:br>
            <a:br>
              <a:rPr sz="1800"/>
            </a:b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 Black"/>
              </a:rPr>
              <a:t>Графика подразделяется на пять основных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Учебно-оформительская граф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нижная граф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Плакатная граф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ромышленная (рекламная) граф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Станковая граф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58040" cy="573264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2"/>
          <p:cNvSpPr/>
          <p:nvPr/>
        </p:nvSpPr>
        <p:spPr>
          <a:xfrm>
            <a:off x="0" y="0"/>
            <a:ext cx="9144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лакатная графика</a:t>
            </a:r>
            <a:br>
              <a:rPr sz="12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дставляет собой художественное средство массовой информации, агитации, идейно-политического и нравственного воспитания.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Его цель заключается в привлечении внимания широкого круга людей к определенной теме, темам.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лакат должен быть доступным понятным и максимально информативн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"/>
          <p:cNvSpPr/>
          <p:nvPr/>
        </p:nvSpPr>
        <p:spPr>
          <a:xfrm>
            <a:off x="0" y="1197000"/>
            <a:ext cx="9144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лакат достиг пика политической остроты и высокого художественного уровня в период Великой Отечественной Войны, когда на смену символическим, нарочито упрощенным пришли плакаты реалистические, эмоциональные, рисовавшие доходчивый, живой образ человека с яркой психологической характеристикой. Отзываясь на главные и характерные события времени, плакаты Великой Отечественной призывали к защите Родины, убеждали в справедливости освободительной борьбы. Крупнейшими центрами массового издания плакатов в 1941-1945 годах были Московское и Ленинградское отделение государственного издательства «ИСКУССТВО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5724360" y="549360"/>
            <a:ext cx="237672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ники-плакатисты оперативно откликнулись на события первых дней войны. В течение недели массовыми тиражами было выпущено пять плакатных листов, а в издательствах готовились к печати еще свыше пятидесяти: Уже к вечеру 22 Июня 1941 года Кукрыниксы (М. Куприянов, П. Крылов, Н. Соколов) создали эскиз плаката  «Беспощадно разгромим и уничтожим врага!» в первоначальном варианте штык красноармейца пронзал руку Гитлера, поэтому плакат звучал скорее как предупреждение. Однако, 24 июня он появился на улицах Москвы и был напечатан в газете «Правда» с несколько иным сюжетом. Штык вонзался прямо в голову Фюрера, что вполне отвечало конечной цели разворачивавшихся событий. Духу времени соответствовали и удачное сочетание в сюжете плаката героического и сатирического образов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4849920" cy="65246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5796000" y="1052640"/>
            <a:ext cx="22320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 числе плакатных листов Июня 1941-го — работа А. Кокорекина «Смерть Фашистской Гадине!». Сюжет плаката и его художественное решение напоминают плакат Кукрыниксов. Найдено удачная эмблематическая характеристика фашизма. Враг показан в виде мерзкого гада, в форме свастики которого пронзает штыком Воин Красной Армии. Эта работа выполнена своеобразным художественным приемом без фона с использованием только черного и красного цветов. Фигура воина представляет красный плоскостной силуэт. Такой прием, безусловно, в какой-то мере был продиктован необходимостью. Время военное, сроки сжатые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611280" y="157320"/>
            <a:ext cx="4537080" cy="6473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5940360" y="1844640"/>
            <a:ext cx="18716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ой известный плакат А. Кокорекина «Бей Фашистского Гада!» — варьирует описанный выше, но нарисован он более объемно, конкретно всего же за годы войны художник выполнил не менее 35 плакатных лис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4860720" cy="64818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6372360" y="1557360"/>
            <a:ext cx="178092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устя неделю после начала войны появился один из самых известных плакатов военных лет»Родина – Мать зовет! И. Тоидзе. Он был издан миллионными тиражами на всех языках народов СССР. Художник талантливо представил исполненный романтики обобщенный образ Отчизны. Основная сила воздействия этого плаката заключена в психологическом содержании самого образа — в выражении взволнованного лица простой русской женщины, в её призывающем жес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5724360" y="404640"/>
            <a:ext cx="316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грозную битву вставайте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ники русской земл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щайте, прощайте, прощайте!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жары пылают вда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539640" y="115920"/>
            <a:ext cx="5099040" cy="64818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9" descr=""/>
          <p:cNvPicPr/>
          <p:nvPr/>
        </p:nvPicPr>
        <p:blipFill>
          <a:blip r:embed="rId1"/>
          <a:stretch/>
        </p:blipFill>
        <p:spPr>
          <a:xfrm>
            <a:off x="0" y="981000"/>
            <a:ext cx="5938920" cy="460872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1"/>
          <p:cNvSpPr/>
          <p:nvPr/>
        </p:nvSpPr>
        <p:spPr>
          <a:xfrm>
            <a:off x="6156360" y="1052640"/>
            <a:ext cx="250200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 первые месяцы войны сюжеты героических плакатов были насыщены сценами атак и единоборства советского воина с фашистом, причем основное внимание, как правило, обращалось на передачу движения яростного устремления на врага. Таковы плакаты : «Фашисты не пройдут!» Д. Шмаринова, «Вперед Буденовцы!» А. Полянского, «Руби ГАДОВ!» М. Авилова. Многофигурность композиции этих плакатов должна была подчеркнуть мысль о всенародном характере сопротивления врагу. Остановить нашествие любой ценой призывал плакат А. Кокоша «Боец, оказавшийся в окружении. Борись до последней капли крови!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"/>
          <p:cNvPicPr/>
          <p:nvPr/>
        </p:nvPicPr>
        <p:blipFill>
          <a:blip r:embed="rId2"/>
          <a:stretch/>
        </p:blipFill>
        <p:spPr>
          <a:xfrm>
            <a:off x="684360" y="260280"/>
            <a:ext cx="4608360" cy="6451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"/>
          <p:cNvPicPr/>
          <p:nvPr/>
        </p:nvPicPr>
        <p:blipFill>
          <a:blip r:embed="rId3"/>
          <a:stretch/>
        </p:blipFill>
        <p:spPr>
          <a:xfrm>
            <a:off x="684360" y="260280"/>
            <a:ext cx="4679640" cy="6451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4"/>
          <a:stretch/>
        </p:blipFill>
        <p:spPr>
          <a:xfrm>
            <a:off x="684360" y="189000"/>
            <a:ext cx="4608360" cy="65548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179280" y="11592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акаты военного времени являются не только оригинальными художественными произведениями, но и подлинно историческими докумен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7670880" cy="5256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2"/>
          <a:stretch/>
        </p:blipFill>
        <p:spPr>
          <a:xfrm>
            <a:off x="5307120" y="981000"/>
            <a:ext cx="3836880" cy="5543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"/>
          <p:cNvPicPr/>
          <p:nvPr/>
        </p:nvPicPr>
        <p:blipFill>
          <a:blip r:embed="rId3"/>
          <a:stretch/>
        </p:blipFill>
        <p:spPr>
          <a:xfrm>
            <a:off x="179280" y="981000"/>
            <a:ext cx="3762360" cy="55436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9T15:23:29Z</dcterms:created>
  <dc:creator>Admin</dc:creator>
  <dc:description/>
  <dc:language>en-US</dc:language>
  <cp:lastModifiedBy>Admin</cp:lastModifiedBy>
  <dcterms:modified xsi:type="dcterms:W3CDTF">2015-02-02T18:54:40Z</dcterms:modified>
  <cp:revision>45</cp:revision>
  <dc:subject/>
  <dc:title>Слайд 1</dc:title>
</cp:coreProperties>
</file>