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CB6-44FA-4305-9FB0-36C8677F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4C5-2392-48CA-A5ED-CE3C1B06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48C-9D4F-47FD-887E-AC310978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584-6C65-4B2D-A9C8-60A8AE5B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16B0-AC1D-4A10-BC2F-32D9C186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08CC-C427-4058-B674-F8B5FA45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8F0-8538-4D30-9396-335B16E9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EE8-5C83-4DB8-8CC1-32E980EC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274-B20E-4DAA-A53D-BCBB609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1E5-A2CA-40C3-ACBC-6B98867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633B-409D-46C6-B7F3-BC04593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030-EFF9-4EF0-BAC1-161F9B48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11DF-9C27-43D2-B4DC-AD58B603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6F9-157F-4729-AA1C-ACB1330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B877-1D68-41A6-ACAC-C596DD33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6C56-665F-4992-9922-D887EC03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B1A3-07CF-4911-B782-7AEA9321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E8E-94E9-42A7-9091-F2294A54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40C-872E-4EEA-8AFC-9DC83E8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5E9-60D6-4801-B248-141F92D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CD5-7802-4210-9EE9-2FEDB38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7CD-9CEB-423F-9769-AAD5BBE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F39-B617-49D8-9484-7D1EA61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ACD-786A-493D-8413-FE680FC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A3ED-4E15-4F30-946E-90D87E1D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2A2-329B-479D-8FDC-70C1AA342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«Ничто не ценится так дешево и не дается так дорого, как классное руководство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»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ff"/>
                </a:solidFill>
                <a:latin typeface="Times New Roman"/>
              </a:rPr>
              <a:t>Дети – это цветы жизни. Нельзя… требовать, чтобы все цветы одинаково пахл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ff"/>
                </a:solidFill>
                <a:latin typeface="Times New Roman"/>
              </a:rPr>
              <a:t>В. М. Дорошеви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i?id=349788227-33-72&amp;n=21"/>
          <p:cNvPicPr/>
          <p:nvPr/>
        </p:nvPicPr>
        <p:blipFill>
          <a:blip r:embed="rId1"/>
          <a:stretch/>
        </p:blipFill>
        <p:spPr>
          <a:xfrm>
            <a:off x="3492360" y="1773360"/>
            <a:ext cx="266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828800" y="457200"/>
            <a:ext cx="59436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Формы работы с класс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5791320" y="42670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0" y="2590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04920" y="419112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«Дружный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без агрессии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6400800" y="25909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Сост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ортфоли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7"/>
          <p:cNvSpPr/>
          <p:nvPr/>
        </p:nvSpPr>
        <p:spPr>
          <a:xfrm rot="3765000">
            <a:off x="4471200" y="2614680"/>
            <a:ext cx="2514600" cy="48564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8"/>
          <p:cNvSpPr/>
          <p:nvPr/>
        </p:nvSpPr>
        <p:spPr>
          <a:xfrm rot="6852600">
            <a:off x="1881000" y="2690640"/>
            <a:ext cx="2514600" cy="4860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9"/>
          <p:cNvSpPr/>
          <p:nvPr/>
        </p:nvSpPr>
        <p:spPr>
          <a:xfrm rot="8641800">
            <a:off x="1614240" y="1939680"/>
            <a:ext cx="1218960" cy="48564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10"/>
          <p:cNvSpPr/>
          <p:nvPr/>
        </p:nvSpPr>
        <p:spPr>
          <a:xfrm rot="1746000">
            <a:off x="6095520" y="1905120"/>
            <a:ext cx="1281240" cy="485640"/>
          </a:xfrm>
          <a:custGeom>
            <a:avLst/>
            <a:gdLst>
              <a:gd name="textAreaLeft" fmla="*/ 200160 w 1281240"/>
              <a:gd name="textAreaRight" fmla="*/ 1121400 w 12812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1"/>
          <p:cNvSpPr/>
          <p:nvPr/>
        </p:nvSpPr>
        <p:spPr>
          <a:xfrm rot="5400000">
            <a:off x="2833200" y="3109680"/>
            <a:ext cx="3200400" cy="485640"/>
          </a:xfrm>
          <a:custGeom>
            <a:avLst/>
            <a:gdLst>
              <a:gd name="textAreaLeft" fmla="*/ 500040 w 3200400"/>
              <a:gd name="textAreaRight" fmla="*/ 2800440 w 3200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3200400" y="5105520"/>
            <a:ext cx="23623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Диагности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едпочт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 дружб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72160" y="1251000"/>
            <a:ext cx="6045840" cy="421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От стиля руководства классом, от стиля общения классного руководителя с детьми во многом зависит то, какие взаимоотношения складываются у ребят с учителем и между собой. Демократический стиль, при котором ученик рассматривается как равноправный партнер в общении, учитывается его мнение в принятии решений, поощряется самостоятельность суждений, способствует созданию в классе непринужденной, дружелюбной, творческой атмосферы сотрудничества и взаимопомощ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i?id=169873914-31-72&amp;n=21"/>
          <p:cNvPicPr/>
          <p:nvPr/>
        </p:nvPicPr>
        <p:blipFill>
          <a:blip r:embed="rId1"/>
          <a:stretch/>
        </p:blipFill>
        <p:spPr>
          <a:xfrm>
            <a:off x="0" y="2708280"/>
            <a:ext cx="2028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500040" y="46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Наши закон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" descr="CGDA"/>
          <p:cNvPicPr/>
          <p:nvPr/>
        </p:nvPicPr>
        <p:blipFill>
          <a:blip r:embed="rId1"/>
          <a:stretch/>
        </p:blipFill>
        <p:spPr>
          <a:xfrm>
            <a:off x="0" y="10666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GB0"/>
          <p:cNvPicPr/>
          <p:nvPr/>
        </p:nvPicPr>
        <p:blipFill>
          <a:blip r:embed="rId2"/>
          <a:stretch/>
        </p:blipFill>
        <p:spPr>
          <a:xfrm>
            <a:off x="6324480" y="1219320"/>
            <a:ext cx="225288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Oval 5"/>
          <p:cNvSpPr/>
          <p:nvPr/>
        </p:nvSpPr>
        <p:spPr>
          <a:xfrm>
            <a:off x="1676520" y="3505320"/>
            <a:ext cx="2514600" cy="2133360"/>
          </a:xfrm>
          <a:prstGeom prst="ellipse">
            <a:avLst/>
          </a:prstGeom>
          <a:solidFill>
            <a:srgbClr val="ccffff">
              <a:alpha val="87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Помог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"/>
          <p:cNvSpPr/>
          <p:nvPr/>
        </p:nvSpPr>
        <p:spPr>
          <a:xfrm rot="2725200">
            <a:off x="2133720" y="3200400"/>
            <a:ext cx="762120" cy="304560"/>
          </a:xfrm>
          <a:custGeom>
            <a:avLst/>
            <a:gdLst>
              <a:gd name="textAreaLeft" fmla="*/ 95040 w 762120"/>
              <a:gd name="textAreaRight" fmla="*/ 667080 w 762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3048120" y="4724280"/>
            <a:ext cx="2514600" cy="2133720"/>
          </a:xfrm>
          <a:prstGeom prst="ellipse">
            <a:avLst/>
          </a:prstGeom>
          <a:solidFill>
            <a:srgbClr val="cc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Поддержив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4716360" y="3573360"/>
            <a:ext cx="2514600" cy="2133720"/>
          </a:xfrm>
          <a:prstGeom prst="ellipse">
            <a:avLst/>
          </a:prstGeom>
          <a:solidFill>
            <a:srgbClr val="cc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Не обиж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 rot="18455400">
            <a:off x="5638320" y="320004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 В 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6095880"/>
            <a:ext cx="8458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Ученик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85800" y="5638680"/>
            <a:ext cx="77724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Родител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066680" y="5181480"/>
            <a:ext cx="70866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57200" y="304920"/>
            <a:ext cx="8381880" cy="9903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ш клас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371600" y="1295280"/>
            <a:ext cx="662940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7"/>
          <p:cNvSpPr/>
          <p:nvPr/>
        </p:nvSpPr>
        <p:spPr>
          <a:xfrm rot="16200000">
            <a:off x="56768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Любим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4228920" y="2856960"/>
            <a:ext cx="3886200" cy="76176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Весёл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9"/>
          <p:cNvSpPr/>
          <p:nvPr/>
        </p:nvSpPr>
        <p:spPr>
          <a:xfrm rot="16200000">
            <a:off x="27050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Находчив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 rot="16200000">
            <a:off x="13334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Актив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1"/>
          <p:cNvSpPr/>
          <p:nvPr/>
        </p:nvSpPr>
        <p:spPr>
          <a:xfrm rot="16200000">
            <a:off x="-19008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Друж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2" descr="DSC_2393"/>
          <p:cNvPicPr/>
          <p:nvPr/>
        </p:nvPicPr>
        <p:blipFill>
          <a:blip r:embed="rId1"/>
          <a:stretch/>
        </p:blipFill>
        <p:spPr>
          <a:xfrm>
            <a:off x="250920" y="216000"/>
            <a:ext cx="4897440" cy="327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DSC_2230"/>
          <p:cNvPicPr/>
          <p:nvPr/>
        </p:nvPicPr>
        <p:blipFill>
          <a:blip r:embed="rId2"/>
          <a:stretch/>
        </p:blipFill>
        <p:spPr>
          <a:xfrm>
            <a:off x="4932360" y="1268280"/>
            <a:ext cx="3462480" cy="4942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SAM_9160.JPG"/>
          <p:cNvPicPr/>
          <p:nvPr/>
        </p:nvPicPr>
        <p:blipFill>
          <a:blip r:embed="rId3"/>
          <a:stretch/>
        </p:blipFill>
        <p:spPr>
          <a:xfrm>
            <a:off x="539640" y="3500280"/>
            <a:ext cx="4283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762120" y="228600"/>
            <a:ext cx="7772400" cy="6019920"/>
          </a:xfrm>
          <a:prstGeom prst="vertic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835280" y="1206000"/>
            <a:ext cx="5329080" cy="3934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Основная забота классного руководителя – создание микроклимата в классе: системы товарищеских, доброжелательных отношений одноклассников друг к другу, как в деятельности, так и в общении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Оценивать качество микроклимата класса можно по тому, насколько защищенным чувствует себя в классе каждый школьник, насколько ребята сплочены, насколько активно и какими способами каждый из них проявляет себя и свое отношение к классу.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i?id=151044333-57-72&amp;n=21"/>
          <p:cNvPicPr/>
          <p:nvPr/>
        </p:nvPicPr>
        <p:blipFill>
          <a:blip r:embed="rId1"/>
          <a:stretch/>
        </p:blipFill>
        <p:spPr>
          <a:xfrm>
            <a:off x="7696080" y="5429160"/>
            <a:ext cx="1447920" cy="1428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301680"/>
            <a:ext cx="69199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Забота классного руководител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00" y="765000"/>
            <a:ext cx="5688000" cy="3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Акценты классного руководител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77200" y="1223280"/>
            <a:ext cx="596592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Развитие благоприятного микроклимата класса обеспечивается только в том случае, если классный руководитель делает главный акцент не на организации деятельности школьников и ее результатах, а на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отношениях ребят во время взаимодействия,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на их бесконфликтном общении и создании атмосферы общей заботы о конкретных одноклассниках и других людя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i?id=658024262-43-72&amp;n=21"/>
          <p:cNvPicPr/>
          <p:nvPr/>
        </p:nvPicPr>
        <p:blipFill>
          <a:blip r:embed="rId1"/>
          <a:stretch/>
        </p:blipFill>
        <p:spPr>
          <a:xfrm>
            <a:off x="0" y="2133720"/>
            <a:ext cx="18795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4160" y="1223280"/>
            <a:ext cx="596592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Необходимые педагогические умения классного руководителя -  психолога  – это коммуникативные умения: способность понимать других, воспринимать и адекватно истолковывать состояние другого человека; умение устанавливать психологический контакт, умение работать с отношениями детей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i?id=134233469-15-72&amp;n=21"/>
          <p:cNvPicPr/>
          <p:nvPr/>
        </p:nvPicPr>
        <p:blipFill>
          <a:blip r:embed="rId1"/>
          <a:stretch/>
        </p:blipFill>
        <p:spPr>
          <a:xfrm>
            <a:off x="0" y="2924280"/>
            <a:ext cx="2340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Чтобы успешно осуществлять свои задачи, классный руководитель-психолог, прежде всего, старается понять характер межличностных и межгрупповых отношений в классе, увидеть психологические роли ребят, в частности претендующих на лидерство и наличие в классе отверженны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i?id=354380601-18-72&amp;n=21"/>
          <p:cNvPicPr/>
          <p:nvPr/>
        </p:nvPicPr>
        <p:blipFill>
          <a:blip r:embed="rId1"/>
          <a:stretch/>
        </p:blipFill>
        <p:spPr>
          <a:xfrm>
            <a:off x="0" y="3068640"/>
            <a:ext cx="18032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Основными формами организации общения и совместной деятельности классного руководителя-психолога являются формы, близкие к психологическому тренингу, психологическим и ролевым играм, но также и дискуссионные формы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i?id=414372062-18-72&amp;n=21"/>
          <p:cNvPicPr/>
          <p:nvPr/>
        </p:nvPicPr>
        <p:blipFill>
          <a:blip r:embed="rId1"/>
          <a:stretch/>
        </p:blipFill>
        <p:spPr>
          <a:xfrm>
            <a:off x="0" y="2630520"/>
            <a:ext cx="1979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Классный руководитель обязан был вникать во все жизненные события вверенного ему коллектива, следить за взаимоотношениями в нем, формировать доброжелательные отношения между детьми. Педагог должен был быть примером во всем, даже его внешний вид был образцом для подраж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i?id=218185652-13-72&amp;n=21"/>
          <p:cNvPicPr/>
          <p:nvPr/>
        </p:nvPicPr>
        <p:blipFill>
          <a:blip r:embed="rId1"/>
          <a:stretch/>
        </p:blipFill>
        <p:spPr>
          <a:xfrm>
            <a:off x="0" y="1773360"/>
            <a:ext cx="1752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Классный руководитель не столько организует учащихся, сколько оказывает им помощь в самоорганизации разнообразной деятельности: познавательной, трудовой, эстетической, а также свободного общения, являющегося частью досуга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i?id=353463503-71-72&amp;n=21"/>
          <p:cNvPicPr/>
          <p:nvPr/>
        </p:nvPicPr>
        <p:blipFill>
          <a:blip r:embed="rId1"/>
          <a:stretch/>
        </p:blipFill>
        <p:spPr>
          <a:xfrm>
            <a:off x="179280" y="2924280"/>
            <a:ext cx="17766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514600" y="2971800"/>
            <a:ext cx="41148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8600" y="1447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Судь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438280" y="3049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омощ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6372360" y="134136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Защит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181480" y="3049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Настав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39640" y="472428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Значим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зросл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562720" y="4800600"/>
            <a:ext cx="259056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торая ма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9"/>
          <p:cNvSpPr/>
          <p:nvPr/>
        </p:nvSpPr>
        <p:spPr>
          <a:xfrm rot="20118000">
            <a:off x="2937960" y="2063520"/>
            <a:ext cx="304920" cy="914400"/>
          </a:xfrm>
          <a:prstGeom prst="upDownArrow">
            <a:avLst>
              <a:gd name="adj1" fmla="val 50000"/>
              <a:gd name="adj2" fmla="val 59698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10"/>
          <p:cNvSpPr/>
          <p:nvPr/>
        </p:nvSpPr>
        <p:spPr>
          <a:xfrm rot="21105600">
            <a:off x="3998880" y="1060560"/>
            <a:ext cx="304920" cy="1757160"/>
          </a:xfrm>
          <a:prstGeom prst="upDownArrow">
            <a:avLst>
              <a:gd name="adj1" fmla="val 50000"/>
              <a:gd name="adj2" fmla="val 1147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1"/>
          <p:cNvSpPr/>
          <p:nvPr/>
        </p:nvSpPr>
        <p:spPr>
          <a:xfrm rot="2093400">
            <a:off x="5943600" y="2057400"/>
            <a:ext cx="304920" cy="920880"/>
          </a:xfrm>
          <a:prstGeom prst="upDownArrow">
            <a:avLst>
              <a:gd name="adj1" fmla="val 50000"/>
              <a:gd name="adj2" fmla="val 60122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2"/>
          <p:cNvSpPr/>
          <p:nvPr/>
        </p:nvSpPr>
        <p:spPr>
          <a:xfrm rot="685200">
            <a:off x="5132160" y="1058760"/>
            <a:ext cx="304560" cy="1684440"/>
          </a:xfrm>
          <a:prstGeom prst="upDownArrow">
            <a:avLst>
              <a:gd name="adj1" fmla="val 50000"/>
              <a:gd name="adj2" fmla="val 110102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3"/>
          <p:cNvSpPr/>
          <p:nvPr/>
        </p:nvSpPr>
        <p:spPr>
          <a:xfrm rot="1890600">
            <a:off x="2819160" y="3874680"/>
            <a:ext cx="304560" cy="924120"/>
          </a:xfrm>
          <a:prstGeom prst="upDownArrow">
            <a:avLst>
              <a:gd name="adj1" fmla="val 50000"/>
              <a:gd name="adj2" fmla="val 6040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4"/>
          <p:cNvSpPr/>
          <p:nvPr/>
        </p:nvSpPr>
        <p:spPr>
          <a:xfrm rot="19841400">
            <a:off x="5872320" y="3882600"/>
            <a:ext cx="304560" cy="849240"/>
          </a:xfrm>
          <a:prstGeom prst="upDownArrow">
            <a:avLst>
              <a:gd name="adj1" fmla="val 50000"/>
              <a:gd name="adj2" fmla="val 5551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5"/>
          <p:cNvSpPr/>
          <p:nvPr/>
        </p:nvSpPr>
        <p:spPr>
          <a:xfrm rot="5400000">
            <a:off x="4149000" y="4177440"/>
            <a:ext cx="304560" cy="1757520"/>
          </a:xfrm>
          <a:prstGeom prst="upDownArrow">
            <a:avLst>
              <a:gd name="adj1" fmla="val 50000"/>
              <a:gd name="adj2" fmla="val 11487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8:04:35Z</dcterms:created>
  <dc:creator>Brown</dc:creator>
  <dc:description/>
  <dc:language>en-US</dc:language>
  <cp:lastModifiedBy>школа28</cp:lastModifiedBy>
  <dcterms:modified xsi:type="dcterms:W3CDTF">2014-01-24T06:57:38Z</dcterms:modified>
  <cp:revision>6</cp:revision>
  <dc:subject/>
  <dc:title> «Ничто не ценится так дешево и не дается так дорого, как классное руководство». </dc:title>
</cp:coreProperties>
</file>