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18E-24E7-40FA-8B4F-2166AF9A9FF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B78-46AE-4199-87C1-24F95704B6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292-16A4-4FB9-B8E8-72FC147EE0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9E9C-5874-442A-98AC-8C7A5660F7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9B7-61A5-4570-B97F-2103421434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8F2-B1C2-4ECE-9732-D888F56742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D3E0-AEE6-4184-B865-B36AB76B06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EE5-CFB1-48FA-977A-11BDBF32FF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0A3B-C5CD-4DDC-814E-0929EFD563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CBBF-C851-43A0-B2C5-8EC188BF74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5B3A-0D34-4A2D-8808-7D34E4C69B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0CED-78F7-4B2D-BC38-536C3F0360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23BF-FF30-47CD-801A-2168F618E5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1298-8B82-4875-878C-C55713A802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6DC-7724-4F13-8E60-9BABA84FE5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D2B8-3294-447E-B1B2-BC5BA09963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7322-3528-4B9D-B215-3BDDBFBA7D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EA3-2939-4D17-BFCB-7AA067C5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A0D-53EF-4407-8CB2-4B14AE0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08B-300C-4C57-A562-366EA82C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9D3-980F-4F6B-89EE-F0047FC8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829-113B-4005-AC94-223AD07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797-C99F-4B06-AB39-E1A21234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4C2-298A-4AA8-B2FD-C6414FA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DF4-E17C-4B78-834F-3B06299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360-D6BD-4A07-9B6D-E26A716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4D3-B6F8-4D9E-8CC3-04BE64E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13E-C5C2-4553-9C1A-081F1EA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7CE-DD45-4E73-AE2E-F05A588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03F2-2B4A-4B0F-9871-404F3A0896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ОРТФОЛИО  УЧИТЕЛЯ физики Хорошиловой Н. 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941480"/>
            <a:ext cx="403380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627280" y="2128680"/>
            <a:ext cx="43927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99880" y="22147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3216240" y="243036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3432240" y="264636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8" descr="Хорошилова 3.jpg"/>
          <p:cNvPicPr/>
          <p:nvPr/>
        </p:nvPicPr>
        <p:blipFill>
          <a:blip r:embed="rId1"/>
          <a:srcRect l="0" t="5791" r="0" b="0"/>
          <a:stretch/>
        </p:blipFill>
        <p:spPr>
          <a:xfrm>
            <a:off x="2857680" y="2557440"/>
            <a:ext cx="3286080" cy="430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714680" y="192888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ОУ «СОШ№5» г. Курчат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УЧАСТИЕ В ПРОФЕССИОНАЛЬНЫХ КОНКУРСА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1714680"/>
            <a:ext cx="514332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БОУ СОШ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ошилова Наталья Викторо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российский конкурс  учителей физики, математики, химии и  биологии Фонда  Дмитрия Зимина  «Династия», победа в номинации «Наставник  будущих  ученых»  г. Москва 2012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одской  конкурс  педагогического  мастерства  «Моя  методическая  коллекция» 2010 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есто; 2013г. –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ес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с  «Презентация  к  уроку» фестиваля  педагогических идей  «Открытый урок» Издательского дома  «Первое  сентября» 2010 - 2011г.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1-2012 г.; дипломы лауреата конкурс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school10-01"/>
          <p:cNvPicPr/>
          <p:nvPr/>
        </p:nvPicPr>
        <p:blipFill>
          <a:blip r:embed="rId1"/>
          <a:stretch/>
        </p:blipFill>
        <p:spPr>
          <a:xfrm>
            <a:off x="5322960" y="2133720"/>
            <a:ext cx="356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97044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ДОСТИЖЕНИЯ МОИХ УЧЕ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school02-20"/>
          <p:cNvPicPr/>
          <p:nvPr/>
        </p:nvPicPr>
        <p:blipFill>
          <a:blip r:embed="rId1"/>
          <a:stretch/>
        </p:blipFill>
        <p:spPr>
          <a:xfrm>
            <a:off x="5076720" y="189000"/>
            <a:ext cx="3456000" cy="17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42960" y="2357280"/>
          <a:ext cx="8001000" cy="3481560"/>
        </p:xfrm>
        <a:graphic>
          <a:graphicData uri="http://schemas.openxmlformats.org/drawingml/2006/table">
            <a:tbl>
              <a:tblPr/>
              <a:tblGrid>
                <a:gridCol w="1000080"/>
                <a:gridCol w="785880"/>
                <a:gridCol w="857160"/>
                <a:gridCol w="1143000"/>
                <a:gridCol w="1500120"/>
                <a:gridCol w="1285920"/>
                <a:gridCol w="142884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-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спеваем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ысший ба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557360"/>
          <a:ext cx="8393040" cy="4397400"/>
        </p:xfrm>
        <a:graphic>
          <a:graphicData uri="http://schemas.openxmlformats.org/drawingml/2006/table">
            <a:tbl>
              <a:tblPr/>
              <a:tblGrid>
                <a:gridCol w="1463760"/>
                <a:gridCol w="923760"/>
                <a:gridCol w="1790640"/>
                <a:gridCol w="2786040"/>
                <a:gridCol w="142884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-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озеров Алекс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елозеров Алекс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Шпилев  Ив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1557360"/>
          <a:ext cx="8393040" cy="5149800"/>
        </p:xfrm>
        <a:graphic>
          <a:graphicData uri="http://schemas.openxmlformats.org/drawingml/2006/table">
            <a:tbl>
              <a:tblPr/>
              <a:tblGrid>
                <a:gridCol w="1481040"/>
                <a:gridCol w="942840"/>
                <a:gridCol w="1754280"/>
                <a:gridCol w="2714760"/>
                <a:gridCol w="1500120"/>
              </a:tblGrid>
              <a:tr h="72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вдокимов  Оле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бед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 20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ласов  Ар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валенко Анн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 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сов Арте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ый этап Всероссийской олимпиады школьников по физи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557360"/>
          <a:ext cx="8535960" cy="483408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2004840"/>
                <a:gridCol w="2571840"/>
                <a:gridCol w="157176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 «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Белозеров Алексей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Олимпиада атомных станц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енушкин Дании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Черкасов Владисла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Земба Кирил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ксова Екатери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Шпилев Иван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557360"/>
          <a:ext cx="8393040" cy="487188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714760"/>
                <a:gridCol w="15001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везов Рус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вдокимов Оле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 «В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митраков Фёд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-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нстантинова  Дарь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3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овосадов Никола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роколетов Ва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5840" y="1714680"/>
          <a:ext cx="8393040" cy="315900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714760"/>
                <a:gridCol w="150012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певаков Бори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 «А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Чаплыгина Ю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урицкая  Анастас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раслевая физико – математическая олимпиада школьников «Росат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изер 2 степ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БЕДИТЕЛИ, УЧАСТНИКИ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ОЛИМПИАД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ОНКУРС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557360"/>
          <a:ext cx="8750160" cy="4822920"/>
        </p:xfrm>
        <a:graphic>
          <a:graphicData uri="http://schemas.openxmlformats.org/drawingml/2006/table">
            <a:tbl>
              <a:tblPr/>
              <a:tblGrid>
                <a:gridCol w="1458720"/>
                <a:gridCol w="928800"/>
                <a:gridCol w="1790640"/>
                <a:gridCol w="2428920"/>
                <a:gridCol w="21430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Б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езов Рус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лимпиада  «Физтех-2012» г. 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плом третьей степе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ороколетов Вади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елозерова Тать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4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Березницкий Дмитр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5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7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ихалев Андр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бщероссийская предметная олимпиада «Олимпу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5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нчаров  Серг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городской  фестиваль  «Детство  без  границ»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рамота  от  главы  города Курчат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убков  Алекс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 конкурс  «Созвездие  молодых – 2011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диплом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степени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9 «Б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нчаров  Серг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 конкурс детского  творчества «Космос глазами  дет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диплом от  главы  города Курчат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0 «Б» 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Зубков Алекс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ой конкурс талантов «Звездный миг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и обладатель «Гран-пр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ЕКТНАЯ ДЕЯТЕ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944720"/>
          <a:ext cx="8400960" cy="4260960"/>
        </p:xfrm>
        <a:graphic>
          <a:graphicData uri="http://schemas.openxmlformats.org/drawingml/2006/table">
            <a:tbl>
              <a:tblPr/>
              <a:tblGrid>
                <a:gridCol w="1185840"/>
                <a:gridCol w="1000080"/>
                <a:gridCol w="1357560"/>
                <a:gridCol w="1785600"/>
                <a:gridCol w="1714680"/>
                <a:gridCol w="1357200"/>
              </a:tblGrid>
              <a:tr h="96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Ф. И.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Тем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ых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колова Ю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научно – практическая конференция «День наук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Что нам мешает учиться?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в номинации «Актуальность выполненной рабо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валенко Ан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Пушка Гаус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2-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Б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Соколова Юл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Апробация прибора «Коррекция осанки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бедитель в номинации «Наука  на  страже 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2013-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11 «А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валева Поли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Городская  научно-практическая  конференция «День нау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Культура и гигиена ношения наушников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ЧЕСТВО ЗНАНИЙ И УРОВЕНЬ УСПЕВАЕМОСТИ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о итогам учебного года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989000"/>
          <a:ext cx="7991280" cy="4400640"/>
        </p:xfrm>
        <a:graphic>
          <a:graphicData uri="http://schemas.openxmlformats.org/drawingml/2006/table">
            <a:tbl>
              <a:tblPr/>
              <a:tblGrid>
                <a:gridCol w="1596960"/>
                <a:gridCol w="1285920"/>
                <a:gridCol w="1847880"/>
                <a:gridCol w="1865160"/>
                <a:gridCol w="139536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сп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а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Б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«В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«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4360" y="277560"/>
            <a:ext cx="7632720" cy="378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рошилова Наталья Виктор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сш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валификационный разря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сшая катег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ж педагогической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31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ж работы в МБОУ СОШ №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21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Руководитель ШМО учителей физики и информа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ТОДИЧЕСКАЯ КОПИЛКА УЧИТЕ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00"/>
                </a:solidFill>
                <a:latin typeface="Tahoma"/>
              </a:rPr>
              <a:t>Мероприятия по предмету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4.04.2011г. Викторина  «Великие  ученые» для  обучающихся 9 классов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6.04.2012г. Дискуссионый  клуб «Сегодня ты физик, а это значит…» в 10 «А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04.2015г. Брейн – ринг «Великие физики шутят» в 10 «А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6. 04.2015 г. Игра «До–ре-ми-фа-соль-ля-си» в 7 «Б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08.04.2015 г. Брейн – ринг «Физика, вперед!» в 8 «Б» класс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«МОЕ ПЕДАГОГИЧЕСКОЕ КРЕДО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Школа  – это  ученики, уроки, звонки, переменки, детский  смех, беготня  детворы, толкотня на переменах, это взлёты  и падения, это творчество  и  фантазия, это  познание  самого себя  и  окружающего мира. Школа  - это моя 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Моё  кредо  –  сделать  изучение  такого  трудного  предмета  как  физика  легким, доступным  для  всех  учеников, интересным, эффективным  и нешаблонным, вырастить ученика нового поколения, способного реализовать  приоритетные направления  нашего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Это  требование   современной  жизни, потому что  во  всех  сферах общественной  и   производственной   деятельности  сегодня  в  первую  очередь   востребованы  специалисты, проявляющие  самостоятельность  мышления, творческую  активность, готовность  к непрерывному  образованию  и  самообразова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Цели  и  задачи  меня как учителя  физи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1) повышение  уровня  знаний  и  эрудиции  обучаемых по  физике  путём  использования  современных  педагогических   технологий  с  учетом  личностных  свойств  и  качеств  обучаю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428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2) обеспечить  развитие  творческих, учебно-исследовательских, познавательных  свойств  личности  обучаемого  путём  активного  включения  всех  в процесс самообразования  и саморазви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3) развитие  логического  мышления,  умение  сравнивать, анализировать, делать  выводы  из  собственных  наблюдений  путём  организации  научно-исследовательской  и проектной  деятельности 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4) выявление  наиболее  одаренных  детей  и  развитие  их  творческого 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5) научить  самостоятельно  пользоваться  богатством  науки  в  самых  разнообразных  жизненных ситуа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Для  достижения  этих  целей  и  решения  поставленных  задач, с учетом  личностно-ориентированного  обучения, применя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 современные  педагогические  техн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модульную  систему  организации  учебно–воспитательного процесса  с  учетом  зон  ближайшего  развития  для каждого учен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Опережающее  изучение  теоретического  материала  обеспечивает  значительную  экономию  времени, предполагая  достижение  по  схеме «всеобщее, общее, моё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зачётные  формы  контроля  знаний,  физические  диктанты   и сочи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индивидуальные  и  коррекционные  зан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использование  кратких  конспектов. В них  включаются  формулы, выводы, основные  определения  и приме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дифференциацию  обучения: индивидуальные  и  групповые   задания  разноуровневого  характер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гибкую  систему  оценивания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нестандартные  формы   проведения  уроков, игры  и  элементы  занимательного  изложения  учебного материала, привлекаю  достижения  современной науки, использую  художественную  литературу, сказания, легенды, фольклор, разбираю  предрассудки, рассматриваю примеры, взятые  из повседневной  жизни, делаю  исторические  экскурсы,  ролевые  игры  и  диспуты  по предме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широкое  использование  межпредметных связ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насыщаю  уроки  наглядными  примерами  и  демонстрациями, яркими  примерами, интересной  информацией, личными  наблюдениями  учени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применяю  графические  и  табличные  способы  систематизации  и  обобщения  материа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- большое  внимание  уделяю  практической  направленности  предм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Для  меня  важно  научить  ребенка  учиться,  решать  проблемы  в  сфере  учебной  деятельности, выбирать  необходимые  источники  информации, находить  оптимальные  способы  добиваться  поставленной  цели, оценивать полученные  результа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И когда  вижу  горящие  от  любопытства глаза  детей,  их  удивление, ожидание  открытия, которое  они  делают  вместе  со  мной. Я  понимаю:  я на  своем  месте  и  это  место  занимаю  не зря. 28 лет  я  на  этом  месте – месте учителя. Эти годы  стали  годами  поисков, раздумий, разочарований, колебаний, открыт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раньше  я   больше  своего  внимания  уделяла  содержанию  урока , его логической  последовательности, рациональности  распределения  времени, приемом  и  методам,   и считала, что  это  главное. Сейчас  я  убеждена, что  действительное  образование – это  всегда личностное  отношение  людей  и   между  людьми. И на помощь  приходит  общение. Общение – это  урок  сотрудничества, совместного  мышления, партнерства, урок свободы.  Поэтому  урок  делают, прежде  всего  не  приемы  и  методы,  а  отношение учителя, его  система  ценностей, в которую  входят: понимание  личности  ученика  как  активного  участника  педагогического  процесса; представление  об  отношениях  с учеником  как  отношениях  сотрудничества; взгляд  на  урок  как  на  инструмент  формирования  и развития  личности  ученик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Новое  осознание  своей  собственной  деятельности, использование  современных  технологий, ориентирование  на  позитивное сотрудничество, опору на  самостоятельную   познавательную  деятельность  и  активность  учащихся, использование  проблемного  обучения  дало  свои  результаты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357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Уверена, что путь  от  сердца  к  сердцу, от  души  к  душе  можно  проложить  на  основе  искренности  взаимопонимания, взаимодоверия. Убеждена, что любая  педагогическая  концепция  может  быть  воплощена в  жизнь  при  одном  главном  условии : любить  детей  и  принимать  их  такими  какие  они  есть, защищать их  любовью  просто  за то, что  они – де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Спасибо  моим  ученикам за то, что они  идут  за мной на великую  вершину познания мира,  за то что знают , что  могут  ее покорить и верят  в  мое  надежное  учительское  плеч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месте мы  сила  и в нашем  содружестве  учителей  и учеников, создается будущее Росси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ВЫШЕНИЕ КВАЛИФИК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7680" y="1989000"/>
          <a:ext cx="8645400" cy="2103480"/>
        </p:xfrm>
        <a:graphic>
          <a:graphicData uri="http://schemas.openxmlformats.org/drawingml/2006/table">
            <a:tbl>
              <a:tblPr/>
              <a:tblGrid>
                <a:gridCol w="1558800"/>
                <a:gridCol w="4284720"/>
                <a:gridCol w="917640"/>
                <a:gridCol w="18842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кур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ку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ирование  образовательного  процесса  по  обеспечению  планируемых  результатов  освоения  обучающимися  рабочей  программы  по  физике  в  соответствии  с  требованиями  Федерального  государственного  образовательного  стандарта  общего 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СТИЖЕНИЯ УЧ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грудный  зна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чётный  работник общего  образования  Российской  Федерации» 2002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ани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Ветеран труда»  2009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PC-20G_230"/>
          <p:cNvPicPr/>
          <p:nvPr/>
        </p:nvPicPr>
        <p:blipFill>
          <a:blip r:embed="rId1"/>
          <a:stretch/>
        </p:blipFill>
        <p:spPr>
          <a:xfrm>
            <a:off x="5867280" y="2205000"/>
            <a:ext cx="2108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2:23:58Z</dcterms:created>
  <dc:creator>Customer</dc:creator>
  <dc:description/>
  <dc:language>en-US</dc:language>
  <cp:lastModifiedBy>Школа</cp:lastModifiedBy>
  <dcterms:modified xsi:type="dcterms:W3CDTF">2014-12-19T05:04:32Z</dcterms:modified>
  <cp:revision>75</cp:revision>
  <dc:subject/>
  <dc:title>Слайд 1</dc:title>
</cp:coreProperties>
</file>