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F80AD-C130-43E4-B413-0D92EFA0E89C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7BAAF-76BE-4D3C-9300-63AC1C8258E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EB71A-EF46-4B77-9998-3B530772023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5ED09-6B30-4579-8F13-4688B676ABD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9DC48-D313-4596-BB29-F856F267E72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EF2C2-4934-4407-96C2-50CF312F6EE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B243B-5094-40B3-86E0-29BB4996ACE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EEB4F-CDC6-4882-9031-5456DB1D5F4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89544-F4E2-44FC-A20B-77525D517C2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73C8B-1FED-48D2-902E-556AEC43AA0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AAFD8-D144-4553-917D-F6A5DACBA70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20F3F-1857-4E20-A1A8-ECDAAADAC7B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D1DEB-EDBD-4FFC-84DC-90C1EEEAF62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A15B1-5147-49D5-B4BC-5E15CB71FC9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56D8D-D60D-49A8-9495-E116F440675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74656-C715-438A-9FCF-7649DE059D3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F8EB2-C7E7-4B38-B5BD-74C31EBEC82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E611-DA42-42F5-842D-CE23138D5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F887-79BD-4464-92E7-C8B1785DF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BE90-7B49-4AAE-9919-5810223BF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F809-06D6-4925-9BCD-8043958B3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32FD-634B-40DC-B088-835FB50C7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445A-9F09-431C-8139-D9B62EBA8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096A-6E2F-4563-8498-EBE416940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BBAC-961A-4928-AC1E-EAEFA68F6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1BB9-AD48-4AFC-97CD-79D80AE55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55C0-662A-4581-8FE4-BCF98195E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3E59-B853-44E0-B7CA-3CA2D34C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D11C-B235-4910-805F-142978BB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951F2-85B8-4569-BC78-5457AEAB1EA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Tahoma"/>
              </a:rPr>
              <a:t>ПОРТФОЛИО  УЧИТЕЛЯ физики Хорошиловой Н. В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000" y="1941480"/>
            <a:ext cx="4033800" cy="40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WordArt 11"/>
          <p:cNvSpPr txBox="1"/>
          <p:nvPr/>
        </p:nvSpPr>
        <p:spPr>
          <a:xfrm>
            <a:off x="2627280" y="2128680"/>
            <a:ext cx="4392720" cy="457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8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2999880" y="221472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ЕСТ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Rectangle 18"/>
          <p:cNvSpPr/>
          <p:nvPr/>
        </p:nvSpPr>
        <p:spPr>
          <a:xfrm>
            <a:off x="3216240" y="2430360"/>
            <a:ext cx="4038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ЕСТ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Rectangle 18"/>
          <p:cNvSpPr/>
          <p:nvPr/>
        </p:nvSpPr>
        <p:spPr>
          <a:xfrm>
            <a:off x="3432240" y="2646360"/>
            <a:ext cx="4038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" name="Рисунок 8" descr="Хорошилова 3.jpg"/>
          <p:cNvPicPr/>
          <p:nvPr/>
        </p:nvPicPr>
        <p:blipFill>
          <a:blip r:embed="rId1"/>
          <a:srcRect l="0" t="5791" r="0" b="0"/>
          <a:stretch/>
        </p:blipFill>
        <p:spPr>
          <a:xfrm>
            <a:off x="2857680" y="2557440"/>
            <a:ext cx="3286080" cy="4300560"/>
          </a:xfrm>
          <a:prstGeom prst="rect">
            <a:avLst/>
          </a:prstGeom>
          <a:ln w="0">
            <a:noFill/>
          </a:ln>
        </p:spPr>
      </p:pic>
      <p:sp>
        <p:nvSpPr>
          <p:cNvPr id="55" name="TextBox 9"/>
          <p:cNvSpPr/>
          <p:nvPr/>
        </p:nvSpPr>
        <p:spPr>
          <a:xfrm>
            <a:off x="1714680" y="1928880"/>
            <a:ext cx="5715000" cy="5205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МБОУ «СОШ№5» г. Курчато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УЧАСТИЕ В ПРОФЕССИОНАЛЬНЫХ КОНКУРСАХ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2560" y="1714680"/>
            <a:ext cx="5143320" cy="48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МБОУ СОШ №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Хорошилова Наталья Викторовн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buClr>
                <a:srgbClr val="00ccff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сероссийский конкурс  учителей физики, математики, химии и  биологии Фонда  Дмитрия Зимина  «Династия», победа в номинации «Наставник  будущих  ученых»  г. Москва 2012 г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buClr>
                <a:srgbClr val="00ccff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ородской  конкурс  педагогического  мастерства  «Моя  методическая  коллекция» 2010 -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место; 2013г. –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место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buClr>
                <a:srgbClr val="00ccff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нкурс  «Презентация  к  уроку» фестиваля  педагогических идей  «Открытый урок» Издательского дома  «Первое  сентября» 2010 - 2011г.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011-2012 г.; дипломы лауреата конкурса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4" name="Picture 7" descr="school10-01"/>
          <p:cNvPicPr/>
          <p:nvPr/>
        </p:nvPicPr>
        <p:blipFill>
          <a:blip r:embed="rId1"/>
          <a:stretch/>
        </p:blipFill>
        <p:spPr>
          <a:xfrm>
            <a:off x="5322960" y="2133720"/>
            <a:ext cx="35640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3970440" cy="16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ДОСТИЖЕНИЯ МОИХ УЧЕНИКОВ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6" name="Picture 4" descr="school02-20"/>
          <p:cNvPicPr/>
          <p:nvPr/>
        </p:nvPicPr>
        <p:blipFill>
          <a:blip r:embed="rId1"/>
          <a:stretch/>
        </p:blipFill>
        <p:spPr>
          <a:xfrm>
            <a:off x="5076720" y="189000"/>
            <a:ext cx="3456000" cy="177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"/>
          <p:cNvGraphicFramePr/>
          <p:nvPr/>
        </p:nvGraphicFramePr>
        <p:xfrm>
          <a:off x="642960" y="2357280"/>
          <a:ext cx="8001000" cy="3481560"/>
        </p:xfrm>
        <a:graphic>
          <a:graphicData uri="http://schemas.openxmlformats.org/drawingml/2006/table">
            <a:tbl>
              <a:tblPr/>
              <a:tblGrid>
                <a:gridCol w="1000080"/>
                <a:gridCol w="785880"/>
                <a:gridCol w="857160"/>
                <a:gridCol w="1143000"/>
                <a:gridCol w="1500120"/>
                <a:gridCol w="1285920"/>
                <a:gridCol w="1428840"/>
              </a:tblGrid>
              <a:tr h="872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Учебный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Клас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Кол-в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уч-с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Предме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%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успеваемос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Средний бал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Высший бал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7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10-20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ГЭ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изи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7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11-20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ГЭ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изи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6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2012-20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11 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ЕГЭ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Физи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6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9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7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2013-20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11 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ЕГЭ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Физи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7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21420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ПОБЕДИТЕЛИ, УЧАСТНИКИ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 ОЛИМПИАД</a:t>
            </a: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, </a:t>
            </a: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КОНКУРСОВ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50920" y="1557360"/>
          <a:ext cx="8393040" cy="4397400"/>
        </p:xfrm>
        <a:graphic>
          <a:graphicData uri="http://schemas.openxmlformats.org/drawingml/2006/table">
            <a:tbl>
              <a:tblPr/>
              <a:tblGrid>
                <a:gridCol w="1463760"/>
                <a:gridCol w="923760"/>
                <a:gridCol w="1790640"/>
                <a:gridCol w="2786040"/>
                <a:gridCol w="1428840"/>
              </a:tblGrid>
              <a:tr h="697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Учебный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Клас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Ф.И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учащих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Название  мероприят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Занятое мест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9-20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 «В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елозеров Алексе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униципальный этап Всероссийской олимпиады школьников по физик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изе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2010-20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11 «В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Белозеров Алексе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униципальный этап Всероссийской олимпиады школьников по физик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бедител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2010-20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10 «А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Куксова  Екатерина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униципальный этап Всероссийской олимпиады школьников по физик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изе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2011- 20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11 «А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Куксова  Екатерина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униципальный этап Всероссийской олимпиады школьников по физик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изе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75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2011-  20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11 «А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Шпилев  Ива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униципальный этап Всероссийской олимпиады школьников по физик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изе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21420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ПОБЕДИТЕЛИ, УЧАСТНИКИ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 ОЛИМПИАД</a:t>
            </a: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, </a:t>
            </a: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КОНКУРСОВ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250920" y="1557360"/>
          <a:ext cx="8393040" cy="5149800"/>
        </p:xfrm>
        <a:graphic>
          <a:graphicData uri="http://schemas.openxmlformats.org/drawingml/2006/table">
            <a:tbl>
              <a:tblPr/>
              <a:tblGrid>
                <a:gridCol w="1481040"/>
                <a:gridCol w="942840"/>
                <a:gridCol w="1754280"/>
                <a:gridCol w="2714760"/>
                <a:gridCol w="1500120"/>
              </a:tblGrid>
              <a:tr h="728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Учебный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Клас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Ф.И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учащих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Название  мероприят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Занятое мест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2011- 20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10 «Б»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Евдокимов  Олег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униципальный этап Всероссийской олимпиады школьников по физик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изе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2011- 20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10 «Б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Авезов  Русла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униципальный этап Всероссийской олимпиады школьников по физик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бедител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2011- 2012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9 «А»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Власов  Арте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униципальный этап Всероссийской олимпиады школьников по физик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изе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2012- 20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11 «Б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Авезов  Русла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униципальный этап Всероссийской олимпиады школьников по физик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изе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2012- 20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11 «Б»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Коваленко Анна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униципальный этап Всероссийской олимпиады школьников по физик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изе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2013- 20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11 «А»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ласов Артем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униципальный этап Всероссийской олимпиады школьников по физик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изе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21420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ПОБЕДИТЕЛИ, УЧАСТНИКИ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 ОЛИМПИАД</a:t>
            </a: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, </a:t>
            </a: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КОНКУРСОВ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250920" y="1557360"/>
          <a:ext cx="8535960" cy="4834080"/>
        </p:xfrm>
        <a:graphic>
          <a:graphicData uri="http://schemas.openxmlformats.org/drawingml/2006/table">
            <a:tbl>
              <a:tblPr/>
              <a:tblGrid>
                <a:gridCol w="1458720"/>
                <a:gridCol w="928800"/>
                <a:gridCol w="2004840"/>
                <a:gridCol w="2571840"/>
                <a:gridCol w="1571760"/>
              </a:tblGrid>
              <a:tr h="697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Учебный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Клас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Ф.И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учащих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Название  мероприят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Занятое мест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20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10 «В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Белозеров Алексей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«Олимпиада атомных станций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Призе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2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20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11 «Б»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Менушкин Даниил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Отраслевая физико-математическая олимпиада школьников «Росатом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Призер 3 степен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2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20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11 «Б»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Черкасов Владислав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Отраслевая физико- математическая олимпиада школьников «Росатом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Призер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3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степен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2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20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11 «А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Земба Кирилл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Отраслевая физико-математическая олимпиада школьников «Росатом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Призер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3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 степен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2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20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11 «А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Куксова Екатерина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Отраслевая физико-математическая олимпиада школьников «Росатом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Призер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3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степен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2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20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11 «А»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Шпилев Иван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Отраслевая физико-математическая олимпиада школьников «Росатом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Призер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3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 степен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21420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ПОБЕДИТЕЛИ, УЧАСТНИКИ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 ОЛИМПИАД</a:t>
            </a: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, </a:t>
            </a: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КОНКУРСОВ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250920" y="1557360"/>
          <a:ext cx="8393040" cy="4871880"/>
        </p:xfrm>
        <a:graphic>
          <a:graphicData uri="http://schemas.openxmlformats.org/drawingml/2006/table">
            <a:tbl>
              <a:tblPr/>
              <a:tblGrid>
                <a:gridCol w="1458720"/>
                <a:gridCol w="928800"/>
                <a:gridCol w="1790640"/>
                <a:gridCol w="2714760"/>
                <a:gridCol w="1500120"/>
              </a:tblGrid>
              <a:tr h="71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Учебный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Клас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Ф.И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учащих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Название  мероприят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Занятое мест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20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11 «Б»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Авезов Русла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Отраслевая физико – математическая олимпиада школьников «Росатом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Призер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2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 степен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20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11 «Б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Евдокимов Олег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Отраслевая физико-математическая олимпиада школьников «Росатом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Призер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3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 степен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20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8 «В»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Дмитраков Фёдо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Отраслевая физико-математическая олимпиада школьников «Росатом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Призер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3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 степен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20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7 «Б»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Константинова  Дарь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Отраслевая физико – математическая олимпиада школьников «Росатом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Призер 3 степен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20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9 «Б»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Новосадов Николай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Отраслевая физико – математическая олимпиада школьников «Росатом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Призер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2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степен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20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7 «Б»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Сороколетов Вади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Отраслевая физико – математическая олимпиада школьников «Росатом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Призер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2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 степен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21420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ПОБЕДИТЕЛИ, УЧАСТНИКИ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 ОЛИМПИАД</a:t>
            </a: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, </a:t>
            </a: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КОНКУРСОВ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85840" y="1714680"/>
          <a:ext cx="8393040" cy="3159000"/>
        </p:xfrm>
        <a:graphic>
          <a:graphicData uri="http://schemas.openxmlformats.org/drawingml/2006/table">
            <a:tbl>
              <a:tblPr/>
              <a:tblGrid>
                <a:gridCol w="1458720"/>
                <a:gridCol w="928800"/>
                <a:gridCol w="1790640"/>
                <a:gridCol w="2714760"/>
                <a:gridCol w="1500120"/>
              </a:tblGrid>
              <a:tr h="95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Учебный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Клас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Ф.И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учащих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Название  мероприят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Занятое мест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20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7 «Б»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Спеваков Борис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Отраслевая физико – математическая олимпиада школьников «Росатом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Призер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3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 степен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5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20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11 «А»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Чаплыгина Юли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Отраслевая физико – математическая олимпиада школьников «Росатом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Призер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3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 степен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20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7 «Б»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Курицкая  Анастаси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Отраслевая физико – математическая олимпиада школьников «Росатом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Призер 2 степен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21420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ПОБЕДИТЕЛИ, УЧАСТНИКИ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 ОЛИМПИАД</a:t>
            </a: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, </a:t>
            </a: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КОНКУРСОВ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50920" y="1557360"/>
          <a:ext cx="8750160" cy="4822920"/>
        </p:xfrm>
        <a:graphic>
          <a:graphicData uri="http://schemas.openxmlformats.org/drawingml/2006/table">
            <a:tbl>
              <a:tblPr/>
              <a:tblGrid>
                <a:gridCol w="1458720"/>
                <a:gridCol w="928800"/>
                <a:gridCol w="1790640"/>
                <a:gridCol w="2428920"/>
                <a:gridCol w="214308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Учебный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Клас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Ф.И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учащих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Название  мероприят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Занятое мест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 «Б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везов Руслан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лимпиада  «Физтех-2012» г. Москв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иплом третьей степен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201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7 «Б»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Сороколетов Вадим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Общероссийская предметная олимпиада «Олимпус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1 мест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201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7 «Б»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Белозерова Татьян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Общероссийская предметная олимпиада «Олимпус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4 мест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8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201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7 «Б»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Березницкий Дмитрий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Общероссийская предметная олимпиада «Олимпус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5 мест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8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201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7 «Б»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Михалев Андре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Общероссийская предметная олимпиада «Олимпус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5 мест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9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20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9 «Б»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Гончаров  Серге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городской  фестиваль  «Детство  без  границ»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грамота  от  главы  города Курчатов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9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20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9 «Б»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Зубков  Алексей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городской  конкурс  «Созвездие  молодых – 2011»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диплом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II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 степени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20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9 «Б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Гончаров  Сергей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городской  конкурс детского  творчества «Космос глазами  детей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диплом от  главы  города Курчатов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7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20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10 «Б» класс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Зубков Алексе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городской конкурс талантов «Звездный миг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победитель и обладатель «Гран-при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ПРОЕКТНАЯ ДЕЯТЕЛЬНОСТЬ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57200" y="1944720"/>
          <a:ext cx="8400960" cy="4260960"/>
        </p:xfrm>
        <a:graphic>
          <a:graphicData uri="http://schemas.openxmlformats.org/drawingml/2006/table">
            <a:tbl>
              <a:tblPr/>
              <a:tblGrid>
                <a:gridCol w="1185840"/>
                <a:gridCol w="1000080"/>
                <a:gridCol w="1357560"/>
                <a:gridCol w="1785600"/>
                <a:gridCol w="1714680"/>
                <a:gridCol w="1357200"/>
              </a:tblGrid>
              <a:tr h="96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Учебный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Клас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Ф. И. учащих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Конкур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Тема проек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Вых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2011-20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10 «Б»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Соколова Юл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Городская научно – практическая конференция «День науки»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«Что нам мешает учиться?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победитель в номинации «Актуальность выполненной работы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2011-20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10 «Б»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Коваленко Анна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Городская  научно-практическая  конференция «День науки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«Пушка Гауса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II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 мест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2012-20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11 «Б»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Соколова Юлия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Городская  научно-практическая  конференция «День науки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«Апробация прибора «Коррекция осанки»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победитель в номинации «Наука  на  страже  здоровья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2013-201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11 «А»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Ковалева Полина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Городская  научно-практическая  конференция «День науки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«Культура и гигиена ношения наушников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I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 мест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КАЧЕСТВО ЗНАНИЙ И УРОВЕНЬ УСПЕВАЕМОСТИ 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по итогам учебного года 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684360" y="1989000"/>
          <a:ext cx="7991280" cy="4400640"/>
        </p:xfrm>
        <a:graphic>
          <a:graphicData uri="http://schemas.openxmlformats.org/drawingml/2006/table">
            <a:tbl>
              <a:tblPr/>
              <a:tblGrid>
                <a:gridCol w="1596960"/>
                <a:gridCol w="1285920"/>
                <a:gridCol w="1847880"/>
                <a:gridCol w="1865160"/>
                <a:gridCol w="1395360"/>
              </a:tblGrid>
              <a:tr h="110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Учебный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Класс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Предм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успеваем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качест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0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11/20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 «Б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 «В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 «А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изи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0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12/20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 «Б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 «В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 «А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изи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0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13/20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 «Б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 «В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 «А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изи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684360" y="277560"/>
            <a:ext cx="7632720" cy="3781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Хорошилова Наталья Викторовн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разова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высше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валификационный разря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высшая категор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таж педагогической работ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31 го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таж работы в МБОУ СОШ № 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21 го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9900"/>
                </a:solidFill>
                <a:latin typeface="Arial"/>
              </a:rPr>
              <a:t>Руководитель ШМО учителей физики и информати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МЕТОДИЧЕСКАЯ КОПИЛКА УЧИТЕЛЯ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989000"/>
            <a:ext cx="82296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9900"/>
                </a:solidFill>
                <a:latin typeface="Tahoma"/>
              </a:rPr>
              <a:t>Мероприятия по предмету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04.04.2011г. Викторина  «Великие  ученые» для  обучающихся 9 классов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06.04.2012г. Дискуссионый  клуб «Сегодня ты физик, а это значит…» в 10 «А» классе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10.04.2015г. Брейн – ринг «Великие физики шутят» в 10 «А» классе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06. 04.2015 г. Игра «До–ре-ми-фа-соль-ля-си» в 7 «Б» классе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08.04.2015 г. Брейн – ринг «Физика, вперед!» в 8 «Б» классе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«МОЕ ПЕДАГОГИЧЕСКОЕ КРЕДО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5840" y="1714680"/>
            <a:ext cx="85723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Школа  – это  ученики, уроки, звонки, переменки, детский  смех, беготня  детворы, толкотня на переменах, это взлёты  и падения, это творчество  и  фантазия, это  познание  самого себя  и  окружающего мира. Школа  - это моя  жизн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Моё  кредо  –  сделать  изучение  такого  трудного  предмета  как  физика  легким, доступным  для  всех  учеников, интересным, эффективным  и нешаблонным, вырастить ученика нового поколения, способного реализовать  приоритетные направления  нашего времен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Это  требование   современной  жизни, потому что  во  всех  сферах общественной  и   производственной   деятельности  сегодня  в  первую  очередь   востребованы  специалисты, проявляющие  самостоятельность  мышления, творческую  активность, готовность  к непрерывному  образованию  и  самообразованию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Цели  и  задачи  меня как учителя  физик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1) повышение  уровня  знаний  и  эрудиции  обучаемых по  физике  путём  использования  современных  педагогических   технологий  с  учетом  личностных  свойств  и  качеств  обучающихс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3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00040" y="4287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2) обеспечить  развитие  творческих, учебно-исследовательских, познавательных  свойств  личности  обучаемого  путём  активного  включения  всех  в процесс самообразования  и саморазвит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3) развитие  логического  мышления,  умение  сравнивать, анализировать, делать  выводы  из  собственных  наблюдений  путём  организации  научно-исследовательской  и проектной  деятельности  учащихс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4) выявление  наиболее  одаренных  детей  и  развитие  их  творческого  потенциал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5) научить  самостоятельно  пользоваться  богатством  науки  в  самых  разнообразных  жизненных ситуациях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Для  достижения  этих  целей  и  решения  поставленных  задач, с учетом  личностно-ориентированного  обучения, применяю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-  современные  педагогические  технолог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- модульную  систему  организации  учебно–воспитательного процесса  с  учетом  зон  ближайшего  развития  для каждого ученик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Опережающее  изучение  теоретического  материала  обеспечивает  значительную  экономию  времени, предполагая  достижение  по  схеме «всеобщее, общее, моё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- зачётные  формы  контроля  знаний,  физические  диктанты   и сочин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- индивидуальные  и  коррекционные  занят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79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28760" y="357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- использование  кратких  конспектов. В них  включаются  формулы, выводы, основные  определения  и пример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- дифференциацию  обучения: индивидуальные  и  групповые   задания  разноуровневого  характера 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- гибкую  систему  оценивания знан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- нестандартные  формы   проведения  уроков, игры  и  элементы  занимательного  изложения  учебного материала, привлекаю  достижения  современной науки, использую  художественную  литературу, сказания, легенды, фольклор, разбираю  предрассудки, рассматриваю примеры, взятые  из повседневной  жизни, делаю  исторические  экскурсы,  ролевые  игры  и  диспуты  по предмет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- широкое  использование  межпредметных связе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- насыщаю  уроки  наглядными  примерами  и  демонстрациями, яркими  примерами, интересной  информацией, личными  наблюдениями  учеников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- применяю  графические  и  табличные  способы  систематизации  и  обобщения  материал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- большое  внимание  уделяю  практической  направленности  предме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Для  меня  важно  научить  ребенка  учиться,  решать  проблемы  в  сфере  учебной  деятельности, выбирать  необходимые  источники  информации, находить  оптимальные  способы  добиваться  поставленной  цели, оценивать полученные  результат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79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28760" y="357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И когда  вижу  горящие  от  любопытства глаза  детей,  их  удивление, ожидание  открытия, которое  они  делают  вместе  со  мной. Я  понимаю:  я на  своем  месте  и  это  место  занимаю  не зря. 28 лет  я  на  этом  месте – месте учителя. Эти годы  стали  годами  поисков, раздумий, разочарований, колебаний, открыти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Если раньше  я   больше  своего  внимания  уделяла  содержанию  урока , его логической  последовательности, рациональности  распределения  времени, приемом  и  методам,   и считала, что  это  главное. Сейчас  я  убеждена, что  действительное  образование – это  всегда личностное  отношение  людей  и   между  людьми. И на помощь  приходит  общение. Общение – это  урок  сотрудничества, совместного  мышления, партнерства, урок свободы.  Поэтому  урок  делают, прежде  всего  не  приемы  и  методы,  а  отношение учителя, его  система  ценностей, в которую  входят: понимание  личности  ученика  как  активного  участника  педагогического  процесса; представление  об  отношениях  с учеником  как  отношениях  сотрудничества; взгляд  на  урок  как  на  инструмент  формирования  и развития  личности  ученика 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Новое  осознание  своей  собственной  деятельности, использование  современных  технологий, ориентирование  на  позитивное сотрудничество, опору на  самостоятельную   познавательную  деятельность  и  активность  учащихся, использование  проблемного  обучения  дало  свои  результаты…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3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28760" y="357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Уверена, что путь  от  сердца  к  сердцу, от  души  к  душе  можно  проложить  на  основе  искренности  взаимопонимания, взаимодоверия. Убеждена, что любая  педагогическая  концепция  может  быть  воплощена в  жизнь  при  одном  главном  условии : любить  детей  и  принимать  их  такими  какие  они  есть, защищать их  любовью  просто  за то, что  они – де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Спасибо  моим  ученикам за то, что они  идут  за мной на великую  вершину познания мира,  за то что знают , что  могут  ее покорить и верят  в  мое  надежное  учительское  плеч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Вместе мы  сила  и в нашем  содружестве  учителей  и учеников, создается будущее России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ПОВЫШЕНИЕ КВАЛИФИКАЦИ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47680" y="1989000"/>
          <a:ext cx="8645400" cy="2103480"/>
        </p:xfrm>
        <a:graphic>
          <a:graphicData uri="http://schemas.openxmlformats.org/drawingml/2006/table">
            <a:tbl>
              <a:tblPr/>
              <a:tblGrid>
                <a:gridCol w="1558800"/>
                <a:gridCol w="4284720"/>
                <a:gridCol w="917640"/>
                <a:gridCol w="188424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Учебный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Название курс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Кол-во час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Докумен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ектирование  образовательного  процесса  по  обеспечению  планируемых  результатов  освоения  обучающимися  рабочей  программы  по  физике  в  соответствии  с  требованиями  Федерального  государственного  образовательного  стандарта  общего  образова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достоверение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ДОСТИЖЕНИЯ УЧИТЕЛ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Нагрудный  знак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Почётный  работник общего  образования  Российской  Федерации» 2002г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Звание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Ветеран труда»  2009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" name="Picture 6" descr="PC-20G_230"/>
          <p:cNvPicPr/>
          <p:nvPr/>
        </p:nvPicPr>
        <p:blipFill>
          <a:blip r:embed="rId1"/>
          <a:stretch/>
        </p:blipFill>
        <p:spPr>
          <a:xfrm>
            <a:off x="5867280" y="2205000"/>
            <a:ext cx="21081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30T12:23:58Z</dcterms:created>
  <dc:creator>Customer</dc:creator>
  <dc:description/>
  <dc:language>en-US</dc:language>
  <cp:lastModifiedBy>Школа</cp:lastModifiedBy>
  <dcterms:modified xsi:type="dcterms:W3CDTF">2014-12-19T05:04:32Z</dcterms:modified>
  <cp:revision>75</cp:revision>
  <dc:subject/>
  <dc:title>Слайд 1</dc:title>
</cp:coreProperties>
</file>