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438-59B5-4D70-BA1F-5216C0555F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90E-93D0-49EC-896B-2203C6F128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B5CC-F016-4D3B-AEDD-954CF25A3F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E1EB-C5E7-4FEC-BCBB-FC9B2156B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B46F-6756-4164-9465-18337E9BB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ADBB-056F-47A2-BACE-8A318A737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F122-497A-4580-A24D-DD83FE68F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5E6D-BB69-4E52-B831-887D889376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D59E-6D17-4BF5-8FE9-CAAC13232F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9920-75C8-48C2-B5B9-7884EC08E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78AE-D18F-43CD-A886-E4EDD816D0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50FB-FBE1-4B5A-A661-6F485C6BB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1BC7-B344-417F-96DF-DBF41469E3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40B2-3823-4016-B6AC-4CA1B4623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DA2-43FF-4753-BF4A-9175CF7E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A43A-FF8F-4E9E-B2A1-0E4D3CA0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2B51E-46E8-413F-B60B-960A60A2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71575-3D32-48FE-82A3-F253FE87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5D43E-1232-45F2-BA67-560B7EE7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43CAB-1E48-4454-9FD1-CC1A7160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31EEE-7A78-49B8-B3EB-25B6C0E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94D9E-2111-41E9-BC7F-34AE3EF7D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4302F-41F5-4A76-8C1A-4272F4D3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20D92-E20D-4C66-A436-984DAB5B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87383-CB52-435E-A167-10D011D3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6298C-4E72-4942-B158-FA849168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6A41-BE85-4D39-B992-F1AABD09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E737A-6839-4EEE-BCDE-7A5C85ED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9B504-44FD-4093-9F01-5D8FC86B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5B5A40-43DA-4D1C-9164-699CB2A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0A4014-94EC-4CDE-A276-6C069FA9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E66CC-9A7D-4E0C-BEF9-8D4BE68B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C4477-A57F-492C-8C66-4828A57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E01FF-329B-4D92-87D0-877E2DA8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51328-F4C8-4EA2-B5E9-C58B58E2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19E29-6D69-4614-B53B-FD42ADD1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D5B18-88D8-42FB-859B-C641315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CC22-129D-4603-B8DF-083FE4139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EC86C-9EE1-483B-8C73-6C49F49D9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04BE3-7EDA-4ED3-AE48-7A5BC8F5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19D2A-DBC8-4A07-AC00-423B6AB8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EFFF4-1646-4D74-A0F0-0FD0D589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5F41D-04EC-4179-91E6-4EEFBEFD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DBEC1-76CF-4EFB-9449-491E933D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25C9C-48A5-4D7B-84CF-CCFD65C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17A14-EF37-48FA-B436-3C5AF3BA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F5038-A8E4-4A1B-915A-16E0D8F0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290A-5C60-4011-85E5-A7F17064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1B05-19B7-4E34-B172-7ABD25BB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CEA6E-2DCD-4F5A-A3B4-923BDD06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73A342-1314-43B6-AD7E-03421973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D69B6-A5D0-4520-9F8C-0A9FEA23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99AAB-BC91-419E-AB84-D0E3497BA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F82DC-6FD3-4D6F-9792-5CD95A0E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BAEBE-9903-4F97-9632-BB753A71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F9DFD-CDD2-46B7-8AD3-F34E8930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F073C-F217-443B-8D89-3D07B0A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DEB72-88C6-46AF-9A27-1D8972A4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0EA10-53DF-4B94-BC31-7F5D5D1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8642-FF4E-4BAE-8337-B20A6F97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2F7A3-7C6F-4835-870F-89EE3E3F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F44F0-9D00-461B-A0F8-D341AD59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2477A8-1FBB-4ADB-8F4A-7831FDE4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FEBFAF-C571-443A-8656-F2C594C9D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53ACAD-495E-41BA-B481-3F081084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46B5-555E-4FA3-BD8E-CA8C09E1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953-9BC4-435C-991F-7B676E68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00C0-2E4A-46D2-961E-D29B62E2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3BE4-ED8C-4F5F-8C47-DF36D99C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892B-8566-41AE-A300-D0D1D250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B5B-8CE2-459F-A21B-3081CBB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CA44-3AE1-4321-A7DF-E755DD6A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4EA9-A0EB-499C-8245-F23CEB48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F2A2-F730-46DE-B6B5-8412CDEE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53F6-0135-475A-AB2F-CB1ED93B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EFD8-7450-4029-9E96-FF9C10CE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1B55-32A3-4D00-908C-C3D9851F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A53D5-CA8A-44EE-8227-9B2C3720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7CCBE-62F3-4246-A257-AAF9EE45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1FCF3-39DF-4FC7-A9BB-7A9F6D87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7B1B5-21EF-43AF-B6FB-DEE3522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8C2-1CE0-4727-A028-99BC403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B9E66-6DD1-4C48-B468-6B8725BC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0419F-D8D7-4A85-95D1-82288E82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5BE0B-4C31-4DEB-A770-9C0A9F9C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F371-5454-487C-923C-8F22999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CEDFA-4A05-4730-9C0C-D3557E11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B0EE3-26B9-4BB1-B153-378B9398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4599-9C5A-4375-8D4B-EC771338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5C1EB-51B9-416E-ABAB-C08BDE81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CD1D5-9D0D-4DF3-83EC-C5F8388A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27A96-4CEA-498A-A6F8-5C885BE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8BFB-9FFD-4370-8CF2-7FB35DE1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4002-8E62-494C-BCE0-49158B1B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F9A7-E7FC-4809-9870-6DF507DF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056EC-1901-4723-AA35-D80CCCE9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41164-604B-4C4E-877A-F47C84AB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E891-FFE7-4560-B427-09E9ECBF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8FBE-51A7-48F7-A4BE-F9AE94EC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E2D5-BA1A-4E4D-B085-6683512C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818A-423B-49BB-9D68-C8DF9F16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DF828-7D14-43AD-B4AB-B596C172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80CA1-08E1-4C1E-8042-82DBA900F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4B6-0E86-402F-AFE6-6851920E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86F0-B838-4A90-9852-0A2EF260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0D87D-327A-4D4A-9FB3-EBE6EBF2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CFE32-8F30-43E2-8AD7-C723CCD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621D4-7430-4D22-B2DE-F78CB2BA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041D9-4A9A-418A-B2FB-DA0EF4B7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A8EC4-A811-4612-844E-2613CD8E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AC477-14C5-4DDB-859B-878EDE9B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4D0FB-5EF3-44EA-8090-B2E749C9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23DD8-473F-4817-A7A5-2B6E2617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A7F94-A408-4EDE-B191-DF92BC1A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A9FD-B289-401D-96C9-58FE72EE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598A5-4D69-4408-BAFE-6D47D7EC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C848E-F2BB-4F88-A6E6-6E1A24FD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9A0C4-68E1-45E0-9A27-0022DB55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FE341-A688-426A-9800-B56DAA8E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D76FF-40AF-4BA9-82EF-3FAA2DE1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99F8A-AF9B-4490-897A-119432F4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52155-1381-47EE-B2C7-03DC325B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45FB4-4D7C-4FDB-B4B5-C25EEE4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CED68-BBE3-4D02-A35E-EAB0E195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138AF-114C-488F-A141-2710D564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B5D-A071-45EB-A8F9-5E73DE8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F7294-BE4C-484D-806F-472CE168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2E4D8-7504-4609-A729-6C15700B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A75B-A1F5-424A-AFA0-38E9C4B5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76F13-09B3-4CC0-9149-0B694AA59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66FFA-AEF6-4024-95B3-16216094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E95D3-CDE0-4B9F-A097-55F2FDBC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20A9-229C-4529-94DE-7F04F9BE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E9D75-DC5E-4F27-B24C-80B92E5A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E332D-4298-4120-A804-139F1E5B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741FD-4ABC-493D-AAB3-767D82E0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377-FE05-4396-A3FA-19CE7724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5C57A-D5D7-4E55-ACDB-69EADC36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7CBBB-8719-4FF1-8534-854EDA56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D9B98-F97F-4370-A7DA-4502BA87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28977-FA1E-40C7-9958-B777CE0F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3DB812-D2F8-4475-8A0A-BBD909DC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FADF4-D67F-470A-ADEC-050604D0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9F3E7-4E21-482C-865D-8CB81E33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09A99-3866-4B81-8146-76CB3A5D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84E7C-3660-4C22-8D47-46AE48AE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C2948-870E-4D32-A7C1-2DD8AF2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6BB-D9CC-496F-85C0-4600895B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23382-34E5-4163-87D0-8FEDD5C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813BA-021A-49DC-96E0-138F5BB4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143D-9F26-49AD-8261-46DA643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AF5D8-90E1-4868-9EFD-ABF2875C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79B6A-89EE-40C6-8BAA-716E0210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C6BE1-A8E7-4C8F-9111-C13FB8BAE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0D93B-DABC-45AC-BCC3-D91D4A30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1FFC5-F2B1-49A7-AF1B-16E833CD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D9E57-4399-43DA-BA7A-3D62BA0D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CD11F-0A4D-434B-BC31-D4D368A0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6D13-A8EB-4977-9CBD-16F940355A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6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6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7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7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7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8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8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9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9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93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794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79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96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797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8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99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0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1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2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3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04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0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BAE5-5823-4BA7-8D37-1D1827D0BE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5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5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6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6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6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6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6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6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6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7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87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81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8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83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84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5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6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7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8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89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0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1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89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8442-2610-4354-ABBC-F0195DD3C2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7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8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47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48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49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0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1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952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3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4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55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56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7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8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59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0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1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2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63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964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65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67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968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969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970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971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2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3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4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5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6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7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78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79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EC13-2441-4702-A289-D53CC3BB82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8E88-3023-48AC-83DC-0A8FF7D71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4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55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65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66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73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81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82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185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186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188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96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0D74-7A67-4B0D-BFF4-CEEBA85A5A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4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5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5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6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6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6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1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272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27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74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275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6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7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8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9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0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1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2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28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6226-D80D-40FB-99EA-43756DD4B8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3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4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4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5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5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36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36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189-4C6E-4844-9288-A9A5FAA52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1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1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2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2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3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3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44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4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45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446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4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8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49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5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4F57C-3488-475E-82A6-B24BE0087D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5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32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533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5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35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536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7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8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39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0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1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2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43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A77F-ADB2-42BA-9AEC-0AE1B8B6C2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6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9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620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6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22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623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4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5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6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7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8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9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30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1EC7-8BD5-4582-A181-1B7359C90E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703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77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8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9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0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3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4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8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8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8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9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9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9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9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0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70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04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6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707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70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09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710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1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2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3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4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5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6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17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1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5C6D-C7DC-41E9-A4D5-82E8494DE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497800" cy="146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Правописание приставок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1545840" y="4052520"/>
            <a:ext cx="5970600" cy="98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БОУ Берёзовская средняя общеобразовательная школа, учитель русского языка и литературы Охулкова Тамара Владимиро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0" name="Лондонский симф.орк. - Звоню сказать, что я люблю тебя.mp3" descr=""/>
          <p:cNvPicPr/>
          <p:nvPr/>
        </p:nvPicPr>
        <p:blipFill>
          <a:blip r:embed="rId1"/>
          <a:stretch/>
        </p:blipFill>
        <p:spPr>
          <a:xfrm>
            <a:off x="8388360" y="6922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авайте порассуждае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)Определяю, к какой группе относится пристав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вод: пишу всегда одинаково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) Определяю, перед каким согласным приставка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д глух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ишу С-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ред звонки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- пишу З-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) Определяю смысл пристав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вод: пишу в зависимости от смысла ПРЕ- или ПРИ-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Oval 4"/>
          <p:cNvSpPr/>
          <p:nvPr/>
        </p:nvSpPr>
        <p:spPr>
          <a:xfrm>
            <a:off x="4427640" y="2565360"/>
            <a:ext cx="1079280" cy="719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-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9" name="Oval 8"/>
          <p:cNvSpPr/>
          <p:nvPr/>
        </p:nvSpPr>
        <p:spPr>
          <a:xfrm>
            <a:off x="5796000" y="3645000"/>
            <a:ext cx="934920" cy="720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-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0" name="Oval 9"/>
          <p:cNvSpPr/>
          <p:nvPr/>
        </p:nvSpPr>
        <p:spPr>
          <a:xfrm>
            <a:off x="7524720" y="5229360"/>
            <a:ext cx="1079640" cy="7920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-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0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0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0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0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0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А теперь поупражняемс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данных словосочетаниях замените приставки первой группы приставками второй групп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утоны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ис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ись), яблони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з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вели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цвели), створки окна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от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рилис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ворились), соль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р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ыпалас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ыпалась). Идёт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епр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ывный дождь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рывный).Мы 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тили деньги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тили) деньги. Мебель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вили(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ра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вили).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койный человек(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ойный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к этим словам подберите антонимы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рядок-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рядок   участлив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ас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арённ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рный   корыстный–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рыс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алостлив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з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жалостный  честный-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бес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естн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0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0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0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0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0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0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Самые трудные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(приставки 3-ей группы)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Е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и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 ПРИ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почему же они трудные? По двум причинам. Во-первых, их правописание зависит от понимания их смысла в слове. Во-вторых, о правописании этих приставок есть не одно правило, а целых шесть 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о самая большая трудность заключается в том, что многие слова не попадают ни под одно из шести правил и эти слова приходится запомин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0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1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Значение приставок пре- и при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Пр…хорошеньк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Пр…град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Пр…кле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Пр…вокзальны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Пр…к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Пр..вст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лизко к пере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еполнота действ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начение оч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ближ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соедин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лиз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08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верь себя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 напоследок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тыщите слова с приставкам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ец приказал сыновьям, чтобы жили в согласии; они не слушались. Он велел принести веник и говорит: «Сломайте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колько они ни бились, не могли сломать . Тогда отец развязал веник и велел ломать по одному пруту. Они легко переломили прутья поодиночк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тец и говорит: «Так-то и вы, если в согласии жить будете, никто вас не одолеет, а если будете ссориться, вас всякий легко погубить сможет!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Comic Sans MS"/>
              </a:rPr>
              <a:t>УДАЧИ    ВАМ !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8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8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500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3» заполнить таблицу упр. 36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4» упражнение 369 (письменно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«5» написать сказку о приставка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6870600" cy="102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разных приставок- разные закон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 1-ой группе относятся приставки, которые пишутся всегда одинаково независимо от произношения. Эта группа самая большая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Text Box 7"/>
          <p:cNvSpPr/>
          <p:nvPr/>
        </p:nvSpPr>
        <p:spPr>
          <a:xfrm>
            <a:off x="2340000" y="1773360"/>
            <a:ext cx="1944720" cy="4540680"/>
          </a:xfrm>
          <a:prstGeom prst="rect">
            <a:avLst/>
          </a:prstGeom>
          <a:solidFill>
            <a:srgbClr val="ffff00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-( во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ы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 из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д-(над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-, нед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б-( об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-( от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Text Box 8"/>
          <p:cNvSpPr/>
          <p:nvPr/>
        </p:nvSpPr>
        <p:spPr>
          <a:xfrm>
            <a:off x="709308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4" name="Text Box 10"/>
          <p:cNvSpPr/>
          <p:nvPr/>
        </p:nvSpPr>
        <p:spPr>
          <a:xfrm rot="21333600">
            <a:off x="5003280" y="213336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Text Box 11"/>
          <p:cNvSpPr/>
          <p:nvPr/>
        </p:nvSpPr>
        <p:spPr>
          <a:xfrm>
            <a:off x="5148360" y="1773360"/>
            <a:ext cx="2016000" cy="4540680"/>
          </a:xfrm>
          <a:prstGeom prst="rect">
            <a:avLst/>
          </a:prstGeom>
          <a:solidFill>
            <a:srgbClr val="ffff00"/>
          </a:solidFill>
          <a:ln w="572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од-( под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а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д-(пред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о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-( со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у-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ного ли на свете приставок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е русские приставки вам хорошо известны. Каждый день вы их и слышите, и произносите, и читаете. Сколько же их? Вспомните как можно больше, запишите и пересчитайт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от тут-то оказывается, что знать и вспомнить- это не совсем одно и то ж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стати, на примере этой работы можно выяснить важный вопрос: хорошая ли у вас память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Если вам пришло в голову приставок тридцать, значит- хорошая. А если больше сорока- просто превосходная! Если же  меньше- не огорчайтесь, вы еще разовьете свою памя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i="1" lang="ru-RU" sz="2400" spc="-1" strike="noStrike">
                <a:solidFill>
                  <a:srgbClr val="3333cc"/>
                </a:solidFill>
                <a:latin typeface="Comic Sans MS"/>
              </a:rPr>
              <a:t> сейчас сверьте свой список с наши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екрет безошибочного письм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7632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 все приставки первой группы пишутся одинаково, то и секрет их правильного письма несложен. Надо просто узнавать их в слова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Под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мигнуть, 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Под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От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В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Пере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Д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Об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С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Про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,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Н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й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0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0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10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10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оварная приставка  С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сторожно! Она «ошибкоопасн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-первых, потому, что она маленькая и легко ускользает от внимания. А во-вторых, потому, что иногда оказывается перед звонким согласным звуком. Перед глухим, а тем более перед гласным, она не так опасна. Например, в словах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катился, Сумел, Стёр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опросов нет, зато перед звонкими согласными: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дать, Сби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горе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- чётко слышитс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Но мы-то с вами на эту удочку не попадёмся!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лова с буквой З-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ть маленькая группа слов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торая пишется с буквой  «З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этих словах нет приставок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ква «З» входит в их корен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Rectangle 4"/>
          <p:cNvSpPr/>
          <p:nvPr/>
        </p:nvSpPr>
        <p:spPr>
          <a:xfrm>
            <a:off x="1403280" y="3068640"/>
            <a:ext cx="1008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ЕС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Rectangle 5"/>
          <p:cNvSpPr/>
          <p:nvPr/>
        </p:nvSpPr>
        <p:spPr>
          <a:xfrm>
            <a:off x="3132000" y="3068640"/>
            <a:ext cx="1224000" cy="64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АНИ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6" name="Rectangle 6"/>
          <p:cNvSpPr/>
          <p:nvPr/>
        </p:nvSpPr>
        <p:spPr>
          <a:xfrm>
            <a:off x="5003640" y="3068640"/>
            <a:ext cx="15843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ЗДОРОВЬ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А теперь потренируемся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ставьте в слова буквы «з» или «с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…гущённое молоко, 2)прекрасное …доровье, 3)…берегательная касса, 4)…дание кинотеатра, 5)…дешние жители, 6)…горбленный человек, 7)…бритая бород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0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иставки 2-ой груп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Эти приставки живут по другим правилам: у них всё наоборо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ни прислушиваются к соседним буквам, и пишутся то с «З», то с «С». Глухие согласные действуют на них «оглушительно». А рядом со звонкими и они «озвончаютс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2843280" y="5589720"/>
            <a:ext cx="1800000" cy="1268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ез-( бе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з-(в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оз-(во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-(и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Rectangle 5"/>
          <p:cNvSpPr/>
          <p:nvPr/>
        </p:nvSpPr>
        <p:spPr>
          <a:xfrm>
            <a:off x="5364000" y="5589720"/>
            <a:ext cx="1944720" cy="1268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из-(ни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аз-(ра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Роз-(ро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Ч(е)рез-(черес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овсем не трудное правило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помнить его поможет песенка из передачи «Радионяня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Rectangle 4"/>
          <p:cNvSpPr/>
          <p:nvPr/>
        </p:nvSpPr>
        <p:spPr>
          <a:xfrm>
            <a:off x="395280" y="3141720"/>
            <a:ext cx="8317080" cy="208764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Живут на свете , людям помогая,              Глухие звуки-это непосед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иставки воз-, из-, через-, раз- и без-.   Они спокойно не желают жить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 звук глухой согласный их встречает,  Они мечтают звонкого сосед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мы их пишем только с буквой С.           Во что бы то ни стало оглуши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15:35:16Z</dcterms:created>
  <dc:creator>Администратор</dc:creator>
  <dc:description/>
  <dc:language>en-US</dc:language>
  <cp:lastModifiedBy>Admin</cp:lastModifiedBy>
  <dcterms:modified xsi:type="dcterms:W3CDTF">2015-02-02T15:27:28Z</dcterms:modified>
  <cp:revision>12</cp:revision>
  <dc:subject/>
  <dc:title>Зачетная работа по теме: Правописание приставок </dc:title>
</cp:coreProperties>
</file>