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2470-63BF-46F2-B880-10B9F92A1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0AAE-B09A-47FA-B3C8-A3017CF80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4537-B548-4A85-9C23-58F549A03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CF73-E2EC-4171-B4F2-78B9171A53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3E03-B58E-4A78-9554-E2B7AE1C7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FFA5-F29E-4232-A325-447B462649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014F-0E0F-4B07-9E72-E5797C4A38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2D33-35F9-4E76-9DE1-83F701E28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6CD8-7CE7-4F02-8AAB-FDAC12BB3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8165-A9CD-45FB-AED9-FE0076508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32CB-686F-4525-819A-A7F9BB57A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FE7E-DFDA-4FB0-960B-E21C82AD6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A09E-B97C-4A9A-93F7-4E5326349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B474-3461-4EBE-8F37-0DF45DB5D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7C4-4A6A-43F0-8186-B7F6F828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692-7EFA-4212-907E-D63610B6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CFE20-AC4F-4DDB-874F-7A86AE9B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7F95A-4E81-49A8-B0E3-2F0662A8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C1C38-F362-46BD-8837-59D08889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505B6-D51F-4CD7-BDEC-3FB2CDAC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2E7CC-833D-4E13-8B80-D95D1EDB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3DC3-B769-46D3-95C8-D55A7214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ADDEC-D32E-4E7C-A53E-EA8F5C14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47F8E-F2F3-4806-80E4-B078288B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F5BB6-AC39-498B-AE72-CD83D59A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B4A44-B3CB-4533-BEE2-BE5EF2B0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4DB-FC64-4BB1-9154-ECAFAADA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056CB-1A52-4151-989D-1C876C6E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0994F-C182-410A-BCFF-1728BFF1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0889A-2EF1-410B-9F3F-39D95A19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E9B35-E24C-431B-B48E-31186B31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4C915-B2C3-49A7-8391-A3EF67D0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185AF-EA7B-4C38-BB4F-163528A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E1AB6-B408-455F-BDE3-98A20A2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65B2D-21D0-44F7-A76F-97BBE0B9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8B220-6A55-4B90-8CAA-AF515B7B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090AE-8BCE-4D6E-9188-F6AD6A78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92A-68D7-4D84-9F62-58D7EE1C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B6BB9-74A2-4EDF-BDA6-F686B48B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4B154-A02B-4E95-AAE8-664CA72A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4015C-8DD8-497A-996B-0395367E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70069-729D-4FD8-9679-95B4C88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44CC9-4009-4571-8847-AAC5063F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34033-3ACC-45E5-96DB-93EC9987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D6E38-3AE6-4B9D-815C-753C2E2E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5929C-53AF-4928-B9E4-8CCE469E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F1648-506D-456D-BDAC-33234666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62DBA-ABC9-43B3-A48F-F093A772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E452-95B8-484D-AA37-CD6BB154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33305-CC18-4D96-9447-09C38256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F57D2-1D36-4A8A-9FB0-2AB9F83C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294A3-A755-438A-9C7B-D7E7C1D3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A48EE-CC64-4A70-BBD8-FE727ECE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7A230-E88B-4505-8DBF-761C2071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D5D61-7939-4F23-99D6-3CFB5407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69D8B-B2D1-480A-8668-0E2967E7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1340F-98B0-4EF3-A6E8-5CD2153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39BE7-3A16-402E-9F7E-E7DF8CA7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76FD9-636E-41DC-8663-DC17F5B1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B893-AAD6-4F17-A016-6524626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44C60-EB07-4891-90C0-A917B3C0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0E503-BB82-462D-834A-18B0306E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6008E-8261-475F-B9B5-EB5BA2B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4C4CB-5287-4B22-B225-C08C247C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525ED-4C5C-4190-BBBF-FC935ACF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286B-3D02-43EA-950B-B3EBDA83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149F-D440-49BA-8340-947CB75F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110-88BD-4EE2-BFCF-3136898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4F97-B165-462D-A2BB-18AAE803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959C-DEE1-4FE1-9997-A4D238D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D54-900A-41B0-B87D-09F6B8A9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8A3E-BF30-4A2E-971C-BA378CC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7D84-CE81-4145-9566-D548B34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8AD0-C219-4933-92DC-C6B32CAB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4B86-A67A-4949-9E8C-ADE74C2A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8CCE-6CE7-4C50-B7D4-9D6F29EA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87B62-4506-4267-A1E6-3FA71E66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A833-8C93-4232-948A-F136B6C0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8A9B-BC01-442A-9F06-AED374E6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42FE-DB3D-4C86-940B-278855BB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582D-D880-4319-9A0B-396EC091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CA0-80A3-4FC0-B411-88FB47C9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ED54-9C2B-43B0-8874-8067C891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7BDF-9BCB-4393-BA8D-BA76B17C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9F3BE-487E-41F5-BC76-07ED7E2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DAF6-80DF-4617-8C9C-560D58F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411F-96DC-460D-8C36-2CEFE8EF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C083-8214-47DF-B6EF-15C1C94C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4E52-277B-4C1C-B071-969219A4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E5A8-E996-47A5-BF34-C52AE630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F6A5A-2899-4E0D-8780-60A57352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4ED41-6C75-487B-9E99-5A28F348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396-25B2-4143-BCF8-9B3CE57C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C6D3-AAE6-4C34-8FA5-10B04151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34E8-CB32-42F2-8052-5FE92A1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8CC84-6205-44AE-A69B-65173D6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CB6E-74F6-4447-B490-C00468B8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8786-BAEC-41DB-9A7B-BAC75D31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351A3-04BF-44FE-B297-8F311C49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39E4-9408-46AD-B136-AB3E72DD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F6885-EAE9-4182-B08C-D7FE7E97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D6FC6-750B-4A87-9925-D7C48B9B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DDBD-ABCB-4107-A4F6-C155680D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AF6-8A93-4B62-B739-1F4283D3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D6DC-CF21-4875-82D3-EEC0A059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5E887-8404-430A-8F5B-143D88A4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36B5-B2FD-4A9F-8173-62F898FE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1F603-AF3E-433E-BC2D-370F2788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3678C-CE37-42FA-878D-DEA84DA6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FFEE-FD8D-4826-92F7-2A3C5BD6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35B6E-6592-4F0F-8D21-959D922E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58741-81CD-4D12-BC4E-FAEEC9F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57B45-F733-4EC4-A4D8-CE313A03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75879-E98F-4FDC-858D-3E5C1B62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218-55E2-40D7-9C40-40A11286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9A0BF-93E2-49E8-A185-23B21A0C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AAF15-9931-4FE8-968E-3428118A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4D54D-1991-49C9-80BD-67E04EB4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3C7A2-E9B6-4E43-91BB-CBAB1DE3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2D36B-9445-4B05-8B3E-47F00005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5B2B-83B2-4AAD-A05C-BB44D0D8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BF2D2-1E98-4AB5-B4B2-75A236B8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AB32B-36B7-4C5C-8B76-C6B7BAD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40B45-F1A2-49CF-870E-C2A158FB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A5F25-EB9F-43BE-93DA-EFFE0171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D10-C7A3-4E8C-8967-494E35C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09460-3519-470F-A66D-358E22E2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7377-DC20-45DF-8CD3-6289D527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10954-DE23-46A8-B449-68596AE0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4EE76-49C0-494E-B7EF-F97A3264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CE2B5-ACD8-4E15-BA9F-4A51172E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E9F1D-C10A-4459-BFC5-C7104A5D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93A72-7EDA-4057-A86B-47ECDE0D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08BF-8D9D-47CC-9FE7-DA6EE5A5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F9095-BD0B-4DD0-B291-F3F62AD8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882C8-CFF4-44D2-BFED-D8CE4E1E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ADB-BF16-4EB3-A9DF-DB2D257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1C2C2-64B6-468E-941F-EE7BD498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A1E07-BF9D-4BAA-BDFC-4C88E6FF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98061-A2DC-4316-937C-DAEDCD9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44B5-205A-47DF-847B-96957922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51119-516E-4EC4-B52E-815C4A2B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1DEB8-8F86-4DCC-A70F-F8EC34F5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B0FC1-1808-467B-9865-892C21A0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BA407-8F61-42F4-8C3B-34CFA756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3FF76-33E4-4C72-A171-1834F059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26C09-7F31-4128-B4C9-F21E12AD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18E-EDD0-401C-849D-6F75A26E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93EF2-33B4-437E-BCBF-2AF93028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E5F90-691D-409F-82FC-F0FEAB5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94C19-DF4F-48F7-AB96-221490BC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D9E4-4CD3-418E-981F-E8396611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32829-8539-4489-9B74-F2DA9450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E959B-2A77-46EF-A080-FE78888C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21AC7-352A-4561-860F-0C3FE39C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C5C17-FEB6-4791-9473-8E1DB3C1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C26C2-6A7C-4119-8CF9-99ECE5A9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88011-01D3-4C46-AE29-398E7121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200C-E1B9-4384-ABFF-264672D94C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17F2-B7AC-4DFB-8842-80B3B513B4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A5EA-0F23-42C3-9327-E2DC70B63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C70B-BE56-43C2-AE0F-1B2CFAE914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EAF9-26CA-48A6-BC3B-4B8537B046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A400-3FE0-4D3E-B62D-97A3FD47A9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8DE1-9725-464B-A4FA-E62751A905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D330-CFF8-40F8-9145-2817136C3C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EEB5-533C-4278-BD91-13A8106383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C618-1CFE-479F-BF6E-211DE90638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2981-6417-4A36-853B-ACD0351B76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17B7-598C-4EB5-8B56-B7F1C76527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497800" cy="1466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Правописание приставок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545840" y="4052520"/>
            <a:ext cx="59706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БОУ Берёзовская средняя общеобразовательная школа, учитель русского языка и литературы Охулкова Тамара Владими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0" name="Лондонский симф.орк. - Звоню сказать, что я люблю тебя.mp3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авайте порассужда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Определяю, к какой группе относится пристав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вод: пишу всегда одинако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 Определяю, перед каким согласным приставк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д глух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ишу С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д звонк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ишу З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 Определяю смысл приста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вод: пишу в зависимости от смысла ПРЕ- или ПРИ-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4427640" y="2565360"/>
            <a:ext cx="1079280" cy="719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-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Oval 8"/>
          <p:cNvSpPr/>
          <p:nvPr/>
        </p:nvSpPr>
        <p:spPr>
          <a:xfrm>
            <a:off x="5796000" y="3645000"/>
            <a:ext cx="9349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-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Oval 9"/>
          <p:cNvSpPr/>
          <p:nvPr/>
        </p:nvSpPr>
        <p:spPr>
          <a:xfrm>
            <a:off x="7524720" y="5229360"/>
            <a:ext cx="1079640" cy="79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-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 теперь поупражняемс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данных словосочетаниях замените приставки первой группы приставками второй групп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утоны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т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ись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ись), яблони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вели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вели), створки окна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от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рились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ворились), соль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ыпалась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ыпалась). Идёт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епр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ывный дождь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рывный).Мы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атили деньги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атили) деньги. Мебель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вили(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вили).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койный человек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койный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к этим словам подберите антоним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рядок-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рядок   участливый-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ст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арённый-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рный   корыстный–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рыст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Жалостливый-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жалостный  честный-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ст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0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0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амые трудны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приставки 3-ей группы)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и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ПР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почему же они трудные? По двум причинам. Во-первых, их правописание зависит от понимания их смысла в слове. Во-вторых, о правописании этих приставок есть не одно правило, а целых шесть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самая большая трудность заключается в том, что многие слова не попадают ни под одно из шести правил и эти слова приходится запомина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начение приставок пре- и при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Пр…хорошень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Пр…град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Пр…кле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Пр…вокзаль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Пр…кат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 Пр..вст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лизко к пере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полнота дейст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чение оч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ближ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соедин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лиз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08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рь себ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 напоследок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тыщите слова с приставка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ец приказал сыновьям, чтобы жили в согласии; они не слушались. Он велел принести веник и говорит: «Сломайте!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лько они ни бились, не могли сломать . Тогда отец развязал веник и велел ломать по одному пруту. Они легко переломили прутья поодиноч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ец и говорит: «Так-то и вы, если в согласии жить будете, никто вас не одолеет, а если будете ссориться, вас всякий легко погубить сможет!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УДАЧИ    ВАМ !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500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500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3» заполнить таблицу упр. 36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4» упражнение 369 (письменно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5» написать сказку о приставк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870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разных приставок- разные зако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1-ой группе относятся приставки, которые пишутся всегда одинаково независимо от произношения. Эта группа самая больш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Text Box 7"/>
          <p:cNvSpPr/>
          <p:nvPr/>
        </p:nvSpPr>
        <p:spPr>
          <a:xfrm>
            <a:off x="2340000" y="1773360"/>
            <a:ext cx="1944720" cy="4540680"/>
          </a:xfrm>
          <a:prstGeom prst="rect">
            <a:avLst/>
          </a:prstGeom>
          <a:solidFill>
            <a:srgbClr val="ffff00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-( во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 из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д-(над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-, нед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-( об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-( от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Text Box 8"/>
          <p:cNvSpPr/>
          <p:nvPr/>
        </p:nvSpPr>
        <p:spPr>
          <a:xfrm>
            <a:off x="709308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Text Box 10"/>
          <p:cNvSpPr/>
          <p:nvPr/>
        </p:nvSpPr>
        <p:spPr>
          <a:xfrm rot="21333600">
            <a:off x="5003280" y="213336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Text Box 11"/>
          <p:cNvSpPr/>
          <p:nvPr/>
        </p:nvSpPr>
        <p:spPr>
          <a:xfrm>
            <a:off x="5148360" y="1773360"/>
            <a:ext cx="2016000" cy="4540680"/>
          </a:xfrm>
          <a:prstGeom prst="rect">
            <a:avLst/>
          </a:prstGeom>
          <a:solidFill>
            <a:srgbClr val="ffff00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-( под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-(пред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-( с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ного ли на свете приставок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 русские приставки вам хорошо известны. Каждый день вы их и слышите, и произносите, и читаете. Сколько же их? Вспомните как можно больше, запишите и пересчитайт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от тут-то оказывается, что знать и вспомнить- это не совсем одно и то ж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стати, на примере этой работы можно выяснить важный вопрос: хорошая ли у вас память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вам пришло в голову приставок тридцать, значит- хорошая. А если больше сорока- просто превосходная! Если же  меньше- не огорчайтесь, вы еще разовьете свою памя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i="1" lang="ru-RU" sz="2400" spc="-1" strike="noStrike">
                <a:solidFill>
                  <a:srgbClr val="3333cc"/>
                </a:solidFill>
                <a:latin typeface="Comic Sans MS"/>
              </a:rPr>
              <a:t> сейчас сверьте свой список с наш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крет безошибочного письм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 все приставки первой группы пишутся одинаково, то и секрет их правильного письма несложен. Надо просто узнавать их в слов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д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игнуть,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Под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От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В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Пе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Д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б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С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Пр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Н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варная приставка  С-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торожно! Она «ошибкоопасн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-первых, потому, что она маленькая и легко ускользает от внимания. А во-вторых, потому, что иногда оказывается перед звонким согласным звуком. Перед глухим, а тем более перед гласным, она не так опасна. Например, в словах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катился, Сумел, Стё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опросов нет, зато перед звонкими согласными: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дать, Сби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гор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чётко слышитс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Но мы-то с вами на эту удочку не попадёмся!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лова с буквой З-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ть маленькая группа слов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ая пишется с буквой  «З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этих словах нет пристав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ква «З» входит в их корен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1403280" y="3068640"/>
            <a:ext cx="10080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ДЕС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3132000" y="3068640"/>
            <a:ext cx="12240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ДАН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5003640" y="3068640"/>
            <a:ext cx="158436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ДОРОВ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 теперь потренируем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тавьте в слова буквы «з» или «с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…гущённое молоко, 2)прекрасное …доровье, 3)…берегательная касса, 4)…дание кинотеатра, 5)…дешние жители, 6)…горбленный человек, 7)…бритая боро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ставки 2-ой груп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и приставки живут по другим правилам: у них всё наоборо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и прислушиваются к соседним буквам, и пишутся то с «З», то с «С». Глухие согласные действуют на них «оглушительно». А рядом со звонкими и они «озвончаются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2843280" y="5589720"/>
            <a:ext cx="1800000" cy="1268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з-( бе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з-(в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з-(во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-(и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Rectangle 5"/>
          <p:cNvSpPr/>
          <p:nvPr/>
        </p:nvSpPr>
        <p:spPr>
          <a:xfrm>
            <a:off x="5364000" y="5589720"/>
            <a:ext cx="1944720" cy="1268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з-(ни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-(ра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оз-(ро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(е)рез-(чере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всем не трудное правил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помнить его поможет песенка из передачи «Радионяня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395280" y="3141720"/>
            <a:ext cx="8317080" cy="208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ивут на свете , людям помогая,              Глухие звуки-это непосе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ставки воз-, из-, через-, раз- и без-.   Они спокойно не желают жи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 звук глухой согласный их встречает,  Они мечтают звонкого сосе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мы их пишем только с буквой С.           Во что бы то ни стало оглуши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5:35:16Z</dcterms:created>
  <dc:creator>Администратор</dc:creator>
  <dc:description/>
  <dc:language>en-US</dc:language>
  <cp:lastModifiedBy>Admin</cp:lastModifiedBy>
  <dcterms:modified xsi:type="dcterms:W3CDTF">2015-02-02T15:27:28Z</dcterms:modified>
  <cp:revision>12</cp:revision>
  <dc:subject/>
  <dc:title>Зачетная работа по теме: Правописание приставок </dc:title>
</cp:coreProperties>
</file>