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3A38-EC39-40ED-9666-E6BAB324B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3AD4-C3B5-4255-B73B-B37127A3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72BD-CCB9-4A66-9AC2-2DC089C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E287-3019-4028-983E-485FBA66C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E94-B342-4E77-8F66-D7FB234884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9C6-F287-46DB-92AE-8E1105AB31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7A5-4C24-4E18-BA93-93C8D56D41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A2A-EDC5-479A-9890-D3A0069DB2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DA0-7E14-4908-A64E-75AA54990C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0E0-DA58-49E3-AD98-7734A31884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98D-5CAC-4E24-8358-8BC10F832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2602-B4F6-444A-B983-628B29A6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96B-D811-4833-BFED-6D0BAB9AA3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ECA-F9F9-4AFA-891D-BC271861AC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513-2382-4E26-8417-B9E068ECD9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242-03F3-474E-A14E-E45FD41F6B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F1B-78C0-4B17-909E-973295EE62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C77E3-976E-4C03-B18E-A038372DF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3CDF6-44F0-4FF3-9631-F303958C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1010D-16D9-4CA8-81BC-E49028C7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2FCF0-F86D-41C2-9BEE-133B22C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9C6DD-D2A0-4033-9E3F-4FE9485C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0A07-D463-4BCA-9D9B-751BFB83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12709-3E4C-4E94-84AB-8EFDBA9F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2689A-EEA0-4F2E-BC47-89F1088F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19FD0-89CB-48EF-BCA5-86729180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9242E-6F0E-4E6A-8E29-E99051A8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F6F08-CCD2-4E71-954B-D864576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26F3E-5D95-4B1D-9A96-2420BE75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8F6B0-C79D-4E89-92D0-FDF831B26A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78554-DFE9-476C-88C2-DEDC26B95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73CD6B-CD35-4F79-9E87-8099DA01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FE469-BBCD-4BE5-87A6-6CAD8429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4B08-0002-4544-8DF5-EF4E69E9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06496-28F3-413B-A0F9-B459F1BC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47B3B-8042-4E59-BFFE-50694E9C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E9563-3619-4DE3-B92B-B8A92E3A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A41FF-8BA7-45C9-A82C-F0A695DB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BD9FF-E8A8-4E9F-81C5-240937AD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C26B5-DEF0-4E64-B79E-0B066650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A31857-BA06-4246-88E0-8B46A86A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BE3FC-5BD9-45E3-BA3B-F8551483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DA005-B9F6-47A3-9818-BA0DF4776B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6AA3-FBC6-4F80-AC78-A51D17631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538A-6CBF-495D-9891-9ADB3B4D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8F07-BE25-4CD0-B60B-8FA6F069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EA03-585A-4DC7-9F62-C5107E40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82CE-DABD-4276-BB2D-1B18FBCC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20D0-DB37-496F-A067-62CA58BE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35919-A552-4ACC-987A-76C9F8FE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D07C-3D89-4AC1-9F93-C44EA3E8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7944-7BF6-4784-BA38-1249303B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4D77-2784-495A-93EC-7998F549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EB00-F9F9-40D2-B291-629C3EA5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4517-EF7A-429E-A4AA-9E862D90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6D30-D845-49A7-AFF5-BAED9509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EA91-5A25-4DD8-91CF-4C7AAF3AD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49A7E1-35E5-4A15-AD82-14E06724C0D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0C25D-9B81-4368-9C22-006198EFBB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26437-53C6-4E0F-ADEB-B11D1E37839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43853-D645-4BBA-BEA3-1403FC3D0D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C7C25-C696-49A9-BB30-EE9BF2BD6D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8C424-468D-415F-87DB-5511C5B754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BA891-E7DC-495F-A504-20613B5C57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B716B-3325-49EE-A51C-190723D4AF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62648D-BB4A-4F44-B4A1-33B45827E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F3A4-D789-461A-AF14-1A0D1F09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188C6-279E-4892-9F38-6FBEDE99CE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096AB-8742-434C-8A04-F0EC94840B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E9EC9E-B118-4D40-AA06-133725ADF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EF40-DE95-4ED1-A73D-E45A86C1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9FC5-17B7-44CE-801F-8D2BE4AC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22320" y="1414440"/>
            <a:ext cx="209520" cy="209520"/>
          </a:xfrm>
          <a:prstGeom prst="ellipse">
            <a:avLst/>
          </a:prstGeom>
          <a:gradFill rotWithShape="0">
            <a:gsLst>
              <a:gs pos="0">
                <a:srgbClr val="daf5fe"/>
              </a:gs>
              <a:gs pos="100000">
                <a:srgbClr val="00aad4"/>
              </a:gs>
            </a:gsLst>
            <a:path path="rect">
              <a:fillToRect l="50000" t="50000" r="50000" b="50000"/>
            </a:path>
          </a:gradFill>
          <a:ln w="2160">
            <a:solidFill>
              <a:srgbClr val="308d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17f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2080" y="360000"/>
            <a:ext cx="740088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32080" y="1849320"/>
            <a:ext cx="74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Образец подзагол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8613360" y="630540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D888E-AFAA-4D0E-B87C-2625D82D58E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2492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033800" cy="360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9CB907-54CE-4AA9-81BF-3CD40EA5526D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2.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Num" idx="5"/>
          </p:nvPr>
        </p:nvSpPr>
        <p:spPr>
          <a:xfrm>
            <a:off x="8613360" y="630540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B7A9FB-92C5-4720-9FAB-D99E132BC4E3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456840" y="235080"/>
            <a:ext cx="822492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6"/>
          </p:nvPr>
        </p:nvSpPr>
        <p:spPr>
          <a:xfrm>
            <a:off x="3581280" y="63054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2.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7"/>
          </p:nvPr>
        </p:nvSpPr>
        <p:spPr>
          <a:xfrm>
            <a:off x="8613360" y="630540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1DA5A8-42AA-477F-A768-320623737481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30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34600" y="1523520"/>
            <a:ext cx="365292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"/>
          <p:cNvSpPr/>
          <p:nvPr/>
        </p:nvSpPr>
        <p:spPr>
          <a:xfrm>
            <a:off x="5276880" y="1523880"/>
            <a:ext cx="365760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363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363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8"/>
          </p:nvPr>
        </p:nvSpPr>
        <p:spPr>
          <a:xfrm>
            <a:off x="3581280" y="63054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2.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9"/>
          </p:nvPr>
        </p:nvSpPr>
        <p:spPr>
          <a:xfrm>
            <a:off x="8613360" y="630540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9FCA21-BAA9-42CB-AC83-FE350B7BCF56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2492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033800" cy="360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2A87CCB-A246-442E-908E-A272CB46C929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89440" cy="2708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42920" y="2997360"/>
            <a:ext cx="900108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ill Sans MT"/>
              </a:rPr>
              <a:t>Великая Отечественная война- </a:t>
            </a: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война Союза Советских Социалистических Республик против нацистской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ill Sans MT"/>
              </a:rPr>
              <a:t>1941-19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Война и дети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920000" cy="56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60280"/>
            <a:ext cx="9001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58d01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c58d01"/>
                </a:solidFill>
                <a:latin typeface="Tahoma"/>
              </a:rPr>
              <a:t>Дети в концентрацио́нных ла́герях </a:t>
            </a:r>
            <a:r>
              <a:rPr b="1" lang="ru-RU" sz="3600" spc="-1" strike="noStrike">
                <a:solidFill>
                  <a:srgbClr val="c58d01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c58d01"/>
                </a:solidFill>
                <a:latin typeface="Tahoma"/>
              </a:rPr>
              <a:t>концла́герь</a:t>
            </a:r>
            <a:r>
              <a:rPr b="1" lang="ru-RU" sz="3600" spc="-1" strike="noStrike">
                <a:solidFill>
                  <a:srgbClr val="c58d01"/>
                </a:solidFill>
                <a:latin typeface="Corbel"/>
              </a:rPr>
              <a:t>)</a:t>
            </a:r>
            <a:r>
              <a:rPr b="0" lang="ru-RU" sz="3600" spc="-1" strike="noStrike">
                <a:solidFill>
                  <a:srgbClr val="c58d01"/>
                </a:solidFill>
                <a:latin typeface="Corbel"/>
              </a:rPr>
              <a:t> – </a:t>
            </a:r>
            <a:r>
              <a:rPr b="0" lang="ru-RU" sz="3200" spc="-1" strike="noStrike">
                <a:solidFill>
                  <a:srgbClr val="835e01"/>
                </a:solidFill>
                <a:latin typeface="Times New Roman"/>
              </a:rPr>
              <a:t>место массового заключения людей с крайне жестокими условиями содерж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40072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5000" cy="1315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991280" cy="56894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1403280" y="260280"/>
            <a:ext cx="6823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cc"/>
                </a:solidFill>
                <a:latin typeface="Impact"/>
              </a:rPr>
              <a:t>ДЕТИ ДЛЯ ПОБЕДЫ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583160" cy="5689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1341360"/>
            <a:ext cx="392436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ёня Голиков ушёл в партизаны в 15 лет. Участвовал в 27 боевых операциях, лично уничтожил 78 вражеских солдат и офицеров. Принимал участие в подрыве 14 мостов, 9 автомашин против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98840" cy="5616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788000" y="1341360"/>
            <a:ext cx="4356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я Котик начал бороться с немецкими захватчиками в партизанском отряде в 10 лет. Участвовал в подрыве телефонного кабеля. Он также участвовал в подрыве шести железнодорожных эшелонов, скл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92600" cy="5805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716360" y="1413000"/>
            <a:ext cx="424836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2 лет стал разведчиком партизанского отряда. Будучи раненым в руку, он несколько раз ходил в атаку. Позднее десятки раз проникал во вражеские гарнизоны и доставлял командованию ценные разведывательные данные. Неоднократно участвовал в диверсиях на железных и шоссейных дор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18080" cy="5661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643280" y="1484280"/>
            <a:ext cx="4321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ина Портнова отправилась на каникулы к бабушке, где её и застала война. Она устроилась в немецкую столовую посудомойкой, и когда была возможность, отправила еду немецким захватч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35760" cy="5877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211800"/>
            <a:ext cx="9144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я Космодемьянская была отправлена к оккупантам, чтобы поджечь дома, где они располагались, конюшни. Ей это удавалось не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922222"/>
                </a:solidFill>
                <a:latin typeface="Gill Sans MT"/>
              </a:rPr>
              <a:t>Дети на фронте</a:t>
            </a:r>
            <a:br>
              <a:rPr sz="3000"/>
            </a:br>
            <a:r>
              <a:rPr b="1" lang="ru-RU" sz="3000" spc="-1" strike="noStrike">
                <a:solidFill>
                  <a:srgbClr val="922222"/>
                </a:solidFill>
                <a:latin typeface="Gill Sans MT"/>
              </a:rPr>
              <a:t>делили тяготы военного времени наравне со взрослы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413160" cy="5302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4833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