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D3E2-8226-4A81-B88C-31FD9711DA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12D8D-8BC9-4B9A-ACC0-F10ABE8E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678A-942D-497F-9F37-5BF4801C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ACE0-4739-4E6E-92A6-77F0D6DD59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AF3-4F6D-40E7-A147-5A97E23D78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3AC-EC62-451B-A8A0-8039A910BC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2E6-9F83-4198-AC18-00099DA2E8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228D-C82B-4C5D-84BB-6A829D9724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A34-E528-4873-876A-B67A6A857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717-F387-4976-945D-9F5CB68DE1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B974-B66D-4C45-B1F2-1B079AF5A2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117C7-7918-4671-A54F-5353A560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16A-E958-4A24-B23E-4A6AABCB23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1B0-E3CB-461B-81CB-0C66018BC6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D51-3BD0-45B6-82D2-DE7A1CDB8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4DD-5C57-4765-ABB6-47E2C38CBD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EDC-2064-4B45-A7A0-A9F01DD321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AACCF-61AA-413F-B23E-81393F710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61706-443D-4644-89E4-25FF396E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88FA7-4348-428B-A2C2-1D7C0ECA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98115-AF0E-4135-87D6-2FDFE6CD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473C5-74B4-4BFB-AFC4-DDD9085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0691-4971-4F8A-AAF2-0231BD61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DB251-6699-45A9-9B6A-9C074DF6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91224-0E60-44FD-9A72-EF60481C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826A-5BCC-4FF5-9834-B01AA1A4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6AF55-8E19-41AC-99CA-1C987C67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31955-89A3-40FF-920F-BA7656ED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593194-C52C-4323-B0AA-B5A8171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0FD1D-E025-41D1-9793-C1E838D4E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5688C-B049-41F0-BC3C-CF2080EF0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9B1D1-33C9-45E5-8969-2AB0C66B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00549-A121-4B9A-9ABD-B5664682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F625-D9A4-4860-AFCB-E9FB25B7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5E1FD-A001-4582-9346-8043484A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C563C-6D85-42A2-BBCE-A870D079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E070C6-C5D5-4523-8CA6-43E938E6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0633C9-1938-45DD-A2B6-B17718D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A5384A-E9F3-498C-A831-50129C91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DF823E-9CD6-414C-8519-C502844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20A3B-78D8-4DFF-A4B0-0F752A61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AB89EF-D7C2-43CF-902B-DB78B10C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AE08C-5BBD-4BEB-AA4E-CEA8B1DEDF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A528D-79F1-41E7-83A8-4487910011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829-5532-4192-932B-0557458C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FE93-5250-4C85-9BE3-92105B2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7F814-3CE2-49E5-BD03-D9E41DF4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3EF32-071D-4DFE-9D79-9AA4B15B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9F1B1-3C60-47EB-A5AF-32F0B9E5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D7E7-FEEE-44E2-AD3F-FB8DAEE0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7759-4219-413F-ACF4-B1A0365D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220CD-C522-430B-BF3B-47CA8E7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B4CEC-DB5D-4DCC-86E7-5BE84B05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A2DE-1192-43B8-88A5-BD8ECD4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1267-97D6-4907-8606-2740DD2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26591-EDF1-406F-ABBB-FF7A6A9E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1E5C-D192-4AEC-904F-8CA29E72B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37CE0-531C-4FE8-9895-62C8711173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D60CAC-1E83-42AC-80DC-0D2D10E7D89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D4CC4-FB87-44A5-8A53-D4AE7B2908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3D9146-FC90-4D92-8B91-F7FF267F61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81E8E9-D596-43C2-BF8D-F51F7BD8EF7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434600" y="188640"/>
            <a:ext cx="749484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B272B-A071-4690-A597-4FAF50D546E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AC36A1-3A48-4ADB-9974-FFA2BA08C53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EFA77-C713-48F2-B762-76D62A8DFB5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7AB154-7D47-48F2-A292-F5C6754B5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618F-B33B-484C-940E-18AEA601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765B8E-D94F-4047-B716-D63B0AC647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8F076-E068-417C-BCF6-1A585B7E124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43460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6864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02680" y="5563080"/>
            <a:ext cx="241308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4B9AF3-094A-4BE8-8B2A-3722BBDE2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75080" y="556308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21649-860C-4983-849A-BCBDDBCB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4600" y="5563080"/>
            <a:ext cx="7494840" cy="37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6691-C9A9-464A-8A2C-86D5FC86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22320" y="1414440"/>
            <a:ext cx="209520" cy="209520"/>
          </a:xfrm>
          <a:prstGeom prst="ellipse">
            <a:avLst/>
          </a:prstGeom>
          <a:gradFill rotWithShape="0">
            <a:gsLst>
              <a:gs pos="0">
                <a:srgbClr val="daf5fe"/>
              </a:gs>
              <a:gs pos="100000">
                <a:srgbClr val="00aad4"/>
              </a:gs>
            </a:gsLst>
            <a:path path="rect">
              <a:fillToRect l="50000" t="50000" r="50000" b="50000"/>
            </a:path>
          </a:gradFill>
          <a:ln w="2160">
            <a:solidFill>
              <a:srgbClr val="308d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17f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2080" y="360000"/>
            <a:ext cx="74008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432080" y="1849320"/>
            <a:ext cx="74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Образец подзаголов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ED842A-A6ED-4727-B0CB-6C4A3816684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24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380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7FDE450-003F-4DEA-B862-F3C9CC7415CA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ldNum" idx="5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A2FFD4-AB0C-4C26-97DA-E697FE0FDE00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title"/>
          </p:nvPr>
        </p:nvSpPr>
        <p:spPr>
          <a:xfrm>
            <a:off x="456840" y="235080"/>
            <a:ext cx="822492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600" y="188640"/>
            <a:ext cx="74948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78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6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7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D8BDCE-FBB2-4A8D-9729-13D6376C6719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304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434600" y="1523520"/>
            <a:ext cx="365292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"/>
          <p:cNvSpPr/>
          <p:nvPr/>
        </p:nvSpPr>
        <p:spPr>
          <a:xfrm>
            <a:off x="5276880" y="1523880"/>
            <a:ext cx="3657600" cy="46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363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363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8"/>
          </p:nvPr>
        </p:nvSpPr>
        <p:spPr>
          <a:xfrm>
            <a:off x="3581280" y="63054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2.2.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sldNum" idx="9"/>
          </p:nvPr>
        </p:nvSpPr>
        <p:spPr>
          <a:xfrm>
            <a:off x="8613360" y="630540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0EC892-81DD-4C88-9EE9-D24D7E8A3DC6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-816120" y="-816120"/>
            <a:ext cx="1638360" cy="1638360"/>
          </a:xfrm>
          <a:prstGeom prst="blockArc">
            <a:avLst>
              <a:gd name="adj1" fmla="val 0"/>
              <a:gd name="adj2" fmla="val 10800000"/>
              <a:gd name="adj3" fmla="val 50000"/>
            </a:avLst>
          </a:prstGeom>
          <a:solidFill>
            <a:srgbClr val="fcfaf4">
              <a:alpha val="33000"/>
            </a:srgbClr>
          </a:solidFill>
          <a:ln w="3240">
            <a:solidFill>
              <a:srgbClr val="d1c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4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2340000">
            <a:off x="183960" y="1050480"/>
            <a:ext cx="1125360" cy="11019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efaf6"/>
              </a:gs>
              <a:gs pos="100000">
                <a:srgbClr val="eed18e"/>
              </a:gs>
            </a:gsLst>
            <a:path path="rect">
              <a:fillToRect l="50000" t="50000" r="50000" b="50000"/>
            </a:path>
          </a:gradFill>
          <a:ln w="7200">
            <a:solidFill>
              <a:srgbClr val="c6b79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2492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4033800" cy="3608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ля правки структуры щелкните мыш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Шест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Сед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  <a:ea typeface="SimSun"/>
              </a:rPr>
              <a:t>Восьмой уровень струк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Девятый уровень структурыОбразец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2076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45000"/>
              <a:buFont typeface="Verdana"/>
              <a:buChar char="◦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  <a:ea typeface="SimSun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84400">
              <a:lnSpc>
                <a:spcPct val="100000"/>
              </a:lnSpc>
              <a:spcBef>
                <a:spcPts val="488"/>
              </a:spcBef>
              <a:buClr>
                <a:srgbClr val="feb80a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  <a:ea typeface="SimSun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4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SzPct val="75000"/>
              <a:buFont typeface="Wingdings 2" charset="2"/>
              <a:buChar char="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  <a:ea typeface="SimSun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216528-0AF1-471A-AE63-C53D179443CC}" type="slidenum">
              <a:rPr b="0" lang="ru-RU" sz="1400" spc="-1" strike="noStrike">
                <a:solidFill>
                  <a:srgbClr val="000000"/>
                </a:solidFill>
                <a:latin typeface="Gill Sans MT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689440" cy="27082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42920" y="2997360"/>
            <a:ext cx="900108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ill Sans MT"/>
              </a:rPr>
              <a:t>Великая Отечественная война- </a:t>
            </a:r>
            <a:r>
              <a:rPr b="1" lang="ru-RU" sz="3600" spc="-1" strike="noStrike">
                <a:solidFill>
                  <a:srgbClr val="000000"/>
                </a:solidFill>
                <a:latin typeface="Gill Sans MT"/>
              </a:rPr>
              <a:t>война Союза Советских Социалистических Республик против нацистской Герм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Gill Sans MT"/>
              </a:rPr>
              <a:t>1941-194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dur="indefinite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Война и дети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920000" cy="56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260280"/>
            <a:ext cx="90010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c58d01"/>
                </a:solidFill>
                <a:latin typeface="Tahoma"/>
              </a:rPr>
              <a:t>Дети в концентрацио́нных ла́герях </a:t>
            </a: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(</a:t>
            </a:r>
            <a:r>
              <a:rPr b="1" lang="ru-RU" sz="3600" spc="-1" strike="noStrike">
                <a:solidFill>
                  <a:srgbClr val="c58d01"/>
                </a:solidFill>
                <a:latin typeface="Tahoma"/>
              </a:rPr>
              <a:t>концла́герь</a:t>
            </a:r>
            <a:r>
              <a:rPr b="1" lang="ru-RU" sz="3600" spc="-1" strike="noStrike">
                <a:solidFill>
                  <a:srgbClr val="c58d01"/>
                </a:solidFill>
                <a:latin typeface="Corbel"/>
              </a:rPr>
              <a:t>)</a:t>
            </a:r>
            <a:r>
              <a:rPr b="0" lang="ru-RU" sz="3600" spc="-1" strike="noStrike">
                <a:solidFill>
                  <a:srgbClr val="c58d01"/>
                </a:solidFill>
                <a:latin typeface="Corbel"/>
              </a:rPr>
              <a:t> – </a:t>
            </a:r>
            <a:r>
              <a:rPr b="0" lang="ru-RU" sz="3200" spc="-1" strike="noStrike">
                <a:solidFill>
                  <a:srgbClr val="835e01"/>
                </a:solidFill>
                <a:latin typeface="Times New Roman"/>
              </a:rPr>
              <a:t>место массового заключения людей с крайне жестокими условиями содерж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40072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5000" cy="131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91280" cy="5689440"/>
          </a:xfrm>
          <a:prstGeom prst="rect">
            <a:avLst/>
          </a:prstGeom>
          <a:ln w="38160">
            <a:solidFill>
              <a:srgbClr val="a50021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1403280" y="260280"/>
            <a:ext cx="6823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66cc"/>
                </a:solidFill>
                <a:latin typeface="Impact"/>
              </a:rPr>
              <a:t>ДЕТИ ДЛЯ ПОБЕДЫ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583160" cy="56898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1341360"/>
            <a:ext cx="39243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ёня Голиков ушёл в партизаны в 15 лет. Участвовал в 27 боевых операциях, лично уничтожил 78 вражеских солдат и офицеров. Принимал участие в подрыве 14 мостов, 9 автомашин против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398840" cy="56167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788000" y="1341360"/>
            <a:ext cx="4356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ля Котик начал бороться с немецкими захватчиками в партизанском отряде в 10 лет. Участвовал в подрыве телефонного кабеля. Он также участвовал в подрыве шести железнодорожных эшелонов, с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92600" cy="5805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716360" y="1413000"/>
            <a:ext cx="424836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12 лет стал разведчиком партизанского отряда. Будучи раненым в руку, он несколько раз ходил в атаку. Позднее десятки раз проникал во вражеские гарнизоны и доставлял командованию ценные разведывательные данные. Неоднократно участвовал в диверсиях на железных и шоссейных доро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18080" cy="5661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4643280" y="1484280"/>
            <a:ext cx="43214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ина Портнова отправилась на каникулы к бабушке, где её и застала война. Она устроилась в немецкую столовую посудомойкой, и когда была возможность, отправила еду немецким захватчик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35760" cy="5877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211800"/>
            <a:ext cx="9144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оя Космодемьянская была отправлена к оккупантам, чтобы поджечь дома, где они располагались, конюшни. Ей это удавалось не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115560"/>
            <a:ext cx="74995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922222"/>
                </a:solidFill>
                <a:latin typeface="Gill Sans MT"/>
              </a:rPr>
              <a:t>Дети на фронте</a:t>
            </a:r>
            <a:br>
              <a:rPr sz="3000"/>
            </a:br>
            <a:r>
              <a:rPr b="1" lang="ru-RU" sz="3000" spc="-1" strike="noStrike">
                <a:solidFill>
                  <a:srgbClr val="922222"/>
                </a:solidFill>
                <a:latin typeface="Gill Sans MT"/>
              </a:rPr>
              <a:t>делили тяготы военного времени наравне со взрослы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413160" cy="53024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48337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